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A97-5FE4-4BE9-9783-6735E49E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17F-0EFE-4799-A4F3-EB9D36A3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594-EBF9-480B-A88C-209DBDFE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4A22-AB60-460E-8AF8-1A5D8769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8FEA-C37B-46CD-8B5A-7935FA90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E8E7-604D-4BA7-B2D4-94909084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2E08-E806-43C3-BC0D-DEE4F12F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73E6-1476-4A6B-ACF0-2C5D899E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FEEE-EAD2-4253-AD1F-A9337BD6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DB66-AAE3-4668-926B-8E11E960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44F7-9295-47D6-81C4-10DA3B78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10E4-A505-4A7D-A583-CD79A2C3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153A-B19D-4B5D-82FB-22C2F5FF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C2C0-D850-49B4-873F-3FD58684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40D9-3C1E-4C42-AF19-30F3D71B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4C44-E5D4-475C-87F4-F6BB8290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CF1F-62B4-4053-826F-6D8CD49C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C34-B3A2-4CB1-8CB2-7ACDF888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23ED-1C25-4BD7-9E6F-17B90C49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BAB-B929-452F-B67E-6A394B9A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188F-0D8B-4DE3-9BD3-B959B390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A7C-24B4-4FC2-8ADE-3E643449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015-AEEE-43E1-AFF2-64B7D1B0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245-BA80-4231-A11B-A8251564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1B32-F475-46A4-983F-2FE55FDBA82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D647-CCDC-4980-8858-569AC1D2770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ОРГАНИЗАЦИЯ </a:t>
            </a:r>
            <a:br>
              <a:rPr sz="4400"/>
            </a:b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ГР и ИГРОВЫХ ЗАНЯТИЙ по ФИЗКУЛЬТУРЕ </a:t>
            </a:r>
            <a:br>
              <a:rPr sz="4400"/>
            </a:b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 ДЕТСКОМ САДУ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оспитатель подготовительной группы Детского сада № 45 «ЖУРАВЛИК»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аландадзе Инна Шалвовн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 </a:t>
            </a:r>
            <a:r>
              <a:rPr b="1" lang="en-US" sz="1800" spc="-1" strike="noStrike" u="sng">
                <a:solidFill>
                  <a:srgbClr val="2a3d7a"/>
                </a:solidFill>
                <a:uFillTx/>
                <a:latin typeface="Calibri"/>
                <a:ea typeface="Calibri"/>
              </a:rPr>
              <a:t>«МЯЧ С ГОРКИ»</a:t>
            </a:r>
            <a:br>
              <a:rPr sz="1800"/>
            </a:br>
            <a:endParaRPr b="0" lang="en-US" sz="1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142640" y="1904760"/>
            <a:ext cx="6629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борудование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мячи по количеству детей, наклонная доска или   модуль, ворота или туннель, кегли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писание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дети скатывают мячи с небольшой горки, бегут за ними, поднимают, и игра повторяется. Ещё один вариант игры, когда дети скатывают мячи с горки, стараясь, чтобы они попали в ворота или туннель. Третий вариант: когда дети скатывают мячи с горки, стараясь сбить кегли, стоящие перед горкой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1" name="iCAZQ5BI8" descr=""/>
          <p:cNvPicPr/>
          <p:nvPr/>
        </p:nvPicPr>
        <p:blipFill>
          <a:blip r:embed="rId1"/>
          <a:stretch/>
        </p:blipFill>
        <p:spPr>
          <a:xfrm>
            <a:off x="6095880" y="533520"/>
            <a:ext cx="1828800" cy="1292040"/>
          </a:xfrm>
          <a:prstGeom prst="rect">
            <a:avLst/>
          </a:prstGeom>
          <a:ln w="0">
            <a:noFill/>
          </a:ln>
        </p:spPr>
      </p:pic>
      <p:pic>
        <p:nvPicPr>
          <p:cNvPr id="122" name="iCAU7Q42H" descr=""/>
          <p:cNvPicPr/>
          <p:nvPr/>
        </p:nvPicPr>
        <p:blipFill>
          <a:blip r:embed="rId2"/>
          <a:stretch/>
        </p:blipFill>
        <p:spPr>
          <a:xfrm>
            <a:off x="1676520" y="4495680"/>
            <a:ext cx="21333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Times New Roman"/>
              </a:rPr>
              <a:t>   </a:t>
            </a:r>
            <a:r>
              <a:rPr b="1" lang="ru-RU" sz="2000" spc="-1" strike="noStrike">
                <a:solidFill>
                  <a:srgbClr val="2a3d7a"/>
                </a:solidFill>
                <a:latin typeface="Times New Roman"/>
              </a:rPr>
              <a:t>1.   </a:t>
            </a:r>
            <a:r>
              <a:rPr b="1" lang="en-US" sz="2400" spc="-1" strike="noStrike">
                <a:solidFill>
                  <a:srgbClr val="2a3d7a"/>
                </a:solidFill>
                <a:latin typeface="Calibri"/>
                <a:ea typeface="Calibri"/>
              </a:rPr>
              <a:t>ИГРЫ И УПРАЖНЕНИЯ НА РАЗВИТИЕ КООРДИНАЦИИ, ЛОВКОСТИ И ТОЧНОСТИ ВЫПОЛНЕНИЯ ДВИЖЕНИЙ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       </a:t>
            </a:r>
            <a:r>
              <a:rPr b="1" lang="en-US" sz="20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«ВЕСЁЛЫЕ ПЕТРУШКИ»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борудование:</a:t>
            </a:r>
            <a:r>
              <a:rPr b="0" lang="en-US" sz="2000" spc="-1" strike="noStrike">
                <a:solidFill>
                  <a:srgbClr val="5b5249"/>
                </a:solidFill>
                <a:latin typeface="Calibri"/>
                <a:ea typeface="Calibri"/>
              </a:rPr>
              <a:t> колпачки (диаметром 20 см), обруч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писание:</a:t>
            </a:r>
            <a:r>
              <a:rPr b="0" lang="en-US" sz="2000" spc="-1" strike="noStrike">
                <a:solidFill>
                  <a:srgbClr val="5b5249"/>
                </a:solidFill>
                <a:latin typeface="Calibri"/>
                <a:ea typeface="Calibri"/>
              </a:rPr>
              <a:t> дети стоят произвольно в зале с закрытыми глазами. Воспитатель одевает им на голову колпачки. Дошкольники открывают глаза и ходят спокойно по залу, стараясь не уронить их. Необходимо перенести колпачки в обручи, которые лежат на противоположной стороне зала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668680"/>
            <a:ext cx="8381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6" name="iCANGTWQ0" descr=""/>
          <p:cNvPicPr/>
          <p:nvPr/>
        </p:nvPicPr>
        <p:blipFill>
          <a:blip r:embed="rId1"/>
          <a:stretch/>
        </p:blipFill>
        <p:spPr>
          <a:xfrm>
            <a:off x="5257800" y="4572000"/>
            <a:ext cx="21337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alibri"/>
                <a:ea typeface="Calibri"/>
              </a:rPr>
              <a:t>2.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      </a:t>
            </a:r>
            <a:r>
              <a:rPr b="1" lang="en-US" sz="2400" spc="-1" strike="noStrike">
                <a:solidFill>
                  <a:srgbClr val="2a3d7a"/>
                </a:solidFill>
                <a:latin typeface="Calibri"/>
                <a:ea typeface="Calibri"/>
              </a:rPr>
              <a:t>ИГРЫ И УПРАЖНЕНИЯ НА РАЗВИТИЕ КООРДИНАЦИИ, ЛОВКОСТИ И ТОЧНОСТИ ВЫПОЛНЕНИЯ ДВИЖЕНИЙ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6197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  </a:t>
            </a:r>
            <a:r>
              <a:rPr b="1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«ПЕРЕНЕСИ ПРЕДМЕТ»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борудование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геометрические фигурки, колечки, мешочки, платочки, два больших обруча (можно использовать строительный конструктор)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писание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на другой стороне зала разложены различные предметы. Дети берут по одному предметы и переносят на другую сторону зала, девочки – в один обруч, а мальчики – в другой. Можно переносить предметы на спине, передвигаясь на четвереньках, либо на голове – стараясь не уронить. Кто больше перенесет предметов - тот выиграл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9" name="iCA8NOBH9" descr=""/>
          <p:cNvPicPr/>
          <p:nvPr/>
        </p:nvPicPr>
        <p:blipFill>
          <a:blip r:embed="rId1"/>
          <a:stretch/>
        </p:blipFill>
        <p:spPr>
          <a:xfrm>
            <a:off x="6705720" y="1752480"/>
            <a:ext cx="1439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3.  </a:t>
            </a:r>
            <a:r>
              <a:rPr b="1" lang="en-US" sz="2400" spc="-1" strike="noStrike">
                <a:solidFill>
                  <a:srgbClr val="2a3d7a"/>
                </a:solidFill>
                <a:latin typeface="Calibri"/>
                <a:ea typeface="Calibri"/>
              </a:rPr>
              <a:t>ИГРЫ И УПРАЖНЕНИЯ НА РАЗВИТИЕ</a:t>
            </a:r>
            <a:r>
              <a:rPr b="1" lang="ru-RU" sz="2400" spc="-1" strike="noStrike">
                <a:solidFill>
                  <a:srgbClr val="2a3d7a"/>
                </a:solidFill>
                <a:latin typeface="Calibri"/>
              </a:rPr>
              <a:t> К</a:t>
            </a:r>
            <a:r>
              <a:rPr b="1" lang="en-US" sz="2400" spc="-1" strike="noStrike">
                <a:solidFill>
                  <a:srgbClr val="2a3d7a"/>
                </a:solidFill>
                <a:latin typeface="Calibri"/>
                <a:ea typeface="Calibri"/>
              </a:rPr>
              <a:t>ООРДИНАЦИИ, </a:t>
            </a:r>
            <a:r>
              <a:rPr b="1" lang="ru-RU" sz="2400" spc="-1" strike="noStrike">
                <a:solidFill>
                  <a:srgbClr val="2a3d7a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2a3d7a"/>
                </a:solidFill>
                <a:latin typeface="Calibri"/>
                <a:ea typeface="Calibri"/>
              </a:rPr>
              <a:t>ЛОВКОСТИ И ТОЧНОСТИ ВЫПОЛНЕНИЯ ДВИЖЕНИЙ</a:t>
            </a:r>
            <a:br>
              <a:rPr sz="2400"/>
            </a:b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    </a:t>
            </a:r>
            <a:r>
              <a:rPr b="1" lang="ru-RU" sz="1800" spc="-1" strike="noStrike" u="sng">
                <a:solidFill>
                  <a:srgbClr val="5b5249"/>
                </a:solidFill>
                <a:uFillTx/>
                <a:latin typeface="Calibri"/>
              </a:rPr>
              <a:t>  </a:t>
            </a:r>
            <a:r>
              <a:rPr b="1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СБЕЙ КЕГЛЮ»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борудование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: маленькие мячи, кегли, обручи разного цвета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писание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дети стоят в шеренге с мячами. Напротив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на расстоянии 2-3 м, стоят кегли. По периметру зала разложены обручи разного цвета. По сигналу воспитателя дети бросают мячи в кегли. Затем берут сбитую кеглю и ставят её в обруч такого же цвета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iCAEOJO31" descr=""/>
          <p:cNvPicPr/>
          <p:nvPr/>
        </p:nvPicPr>
        <p:blipFill>
          <a:blip r:embed="rId1"/>
          <a:stretch/>
        </p:blipFill>
        <p:spPr>
          <a:xfrm>
            <a:off x="7315200" y="1447920"/>
            <a:ext cx="151128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iCAIEXG55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2819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    </a:t>
            </a: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a3d7a"/>
                </a:solidFill>
                <a:latin typeface="Calibri"/>
                <a:ea typeface="Calibri"/>
              </a:rPr>
              <a:t>ИГРЫ И УПРАЖНЕНИЯ НА РАЗВИТИЕ КООРДИНАЦИИ, ЛОВКОСТИ И ТОЧНОСТИ ВЫПОЛНЕНИЯ ДВИЖЕНИЙ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27871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«СПАСАЕМ ИГРУШКИ»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борудование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круги, кольца и игрушки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писание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В зале разложены в ряд круги и кольца на расстоянии 40 см один от другого. На другой стороне зала стоят игрушки. В центре зала – «болото». Воспитатель говорит детям, что нужно спасти игрушки, вынести их из «болота». Идти через него нужно по «кочкам» (кругам, кольцам). Дошкольники берут игрушки и возвращаются обратно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iCACKPZD6" descr=""/>
          <p:cNvPicPr/>
          <p:nvPr/>
        </p:nvPicPr>
        <p:blipFill>
          <a:blip r:embed="rId1"/>
          <a:stretch/>
        </p:blipFill>
        <p:spPr>
          <a:xfrm>
            <a:off x="1905120" y="4876920"/>
            <a:ext cx="1676160" cy="1600200"/>
          </a:xfrm>
          <a:prstGeom prst="rect">
            <a:avLst/>
          </a:prstGeom>
          <a:ln w="0">
            <a:noFill/>
          </a:ln>
        </p:spPr>
      </p:pic>
      <p:pic>
        <p:nvPicPr>
          <p:cNvPr id="137" name="iCAE9RVTX" descr=""/>
          <p:cNvPicPr/>
          <p:nvPr/>
        </p:nvPicPr>
        <p:blipFill>
          <a:blip r:embed="rId2"/>
          <a:stretch/>
        </p:blipFill>
        <p:spPr>
          <a:xfrm>
            <a:off x="5638680" y="19810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alibri"/>
                <a:ea typeface="Calibri"/>
              </a:rPr>
              <a:t>ИГРЫ И УПРАЖНЕНИЯ НА РАЗВИТИЕ ВНИМАНИЯ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борудование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кегли, кубики и колечки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писание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дети разбиваются на три группы с разным числом участников. Каждому участнику  подгруппы даётся один из одинаковых предметов. В начале задания дети встают на свое место в зале, отмеченное таким же предметом, что и у них в руках. По первому сигналу они разбегаются по залу, делая произвольные движения с предметами; по второму сигналу возвращаются на своё место и выстраиваются в колонну. Также можно им предложить после второго сигнала закрыть глаза. Воспитатель перекладывает предметы, лежащие по залу. По третьему сигналу дошкольники открывают глаза, находят свой предмет и бегут к нему, затем выстраиваются там в колонну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0" name="iCADZQ4F4" descr=""/>
          <p:cNvPicPr/>
          <p:nvPr/>
        </p:nvPicPr>
        <p:blipFill>
          <a:blip r:embed="rId1"/>
          <a:stretch/>
        </p:blipFill>
        <p:spPr>
          <a:xfrm>
            <a:off x="5257800" y="5257800"/>
            <a:ext cx="14176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3d7a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5b524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Calibri"/>
                <a:ea typeface="Calibri"/>
              </a:rPr>
              <a:t>Основой игровых занятий должна быть целостность ситуации, объединяющая части одним игровым сюжетом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Calibri"/>
                <a:ea typeface="Calibri"/>
              </a:rPr>
              <a:t>Эти занятия дополняются тематическим материалом, который направлен на обучение детей игр с мячом и обручем, ходьбе на лыжах и т.д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5b5249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5b524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5b5249"/>
                </a:solidFill>
                <a:latin typeface="Calibri"/>
                <a:ea typeface="Calibri"/>
              </a:rPr>
              <a:t>Они проводятся на свежем воздухе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3" name="iCALANKPG" descr=""/>
          <p:cNvPicPr/>
          <p:nvPr/>
        </p:nvPicPr>
        <p:blipFill>
          <a:blip r:embed="rId1"/>
          <a:stretch/>
        </p:blipFill>
        <p:spPr>
          <a:xfrm>
            <a:off x="1295280" y="2819520"/>
            <a:ext cx="2438640" cy="1490400"/>
          </a:xfrm>
          <a:prstGeom prst="rect">
            <a:avLst/>
          </a:prstGeom>
          <a:ln w="0">
            <a:noFill/>
          </a:ln>
        </p:spPr>
      </p:pic>
      <p:pic>
        <p:nvPicPr>
          <p:cNvPr id="144" name="iCAMDJ0N2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171432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ВЕДЕНИ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9320" y="19807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b5249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Физкультурные занятия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– одна из основных форм организации двигательной деятельности ребенка в детском саду. Значительное место на занятиях отводится игре как естественной форме передачи необходимого объема знаний, усвоение двигательных умений и навыков. При построении занятий данного типа следует учитывать принципы дидактического подбора игр, состояние здоровья, уровень двигательной активности и развитие движений дошкольников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iCA1JH112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96" name="iCA9VJZRL" descr=""/>
          <p:cNvPicPr/>
          <p:nvPr/>
        </p:nvPicPr>
        <p:blipFill>
          <a:blip r:embed="rId2"/>
          <a:stretch/>
        </p:blipFill>
        <p:spPr>
          <a:xfrm>
            <a:off x="2743200" y="4572000"/>
            <a:ext cx="2971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2a3d7a"/>
                </a:solidFill>
                <a:latin typeface="Times New Roman"/>
                <a:ea typeface="Calibri"/>
              </a:rPr>
              <a:t>Движение для каждого человека не только потребность от которой зависит его здоровье, но и важное условие формирования здорового организма, здоровой личности.</a:t>
            </a:r>
            <a:r>
              <a:rPr b="0" lang="ru-RU" sz="1800" spc="-1" strike="noStrike">
                <a:solidFill>
                  <a:srgbClr val="2a3d7a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819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Для ребенка движение является способом познания мира, умением ориентироваться в нем, средством развития ребенка, как личности. При движении дети испытывают радость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Формирование у дошкольников потребности в движении в большей степени зависит от особенностей его жизни и воспитания, от желания взрослых создать им благоприятную атмосферу для своевременного развития у детей ориентации и моторики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iCA3UZLH2" descr=""/>
          <p:cNvPicPr/>
          <p:nvPr/>
        </p:nvPicPr>
        <p:blipFill>
          <a:blip r:embed="rId1"/>
          <a:stretch/>
        </p:blipFill>
        <p:spPr>
          <a:xfrm>
            <a:off x="1371600" y="5029200"/>
            <a:ext cx="1752480" cy="1295280"/>
          </a:xfrm>
          <a:prstGeom prst="rect">
            <a:avLst/>
          </a:prstGeom>
          <a:ln w="0">
            <a:noFill/>
          </a:ln>
        </p:spPr>
      </p:pic>
      <p:pic>
        <p:nvPicPr>
          <p:cNvPr id="100" name="iCA7685X1" descr=""/>
          <p:cNvPicPr/>
          <p:nvPr/>
        </p:nvPicPr>
        <p:blipFill>
          <a:blip r:embed="rId2"/>
          <a:stretch/>
        </p:blipFill>
        <p:spPr>
          <a:xfrm>
            <a:off x="7010280" y="1828800"/>
            <a:ext cx="14097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  <a:ea typeface="Calibri"/>
              </a:rPr>
              <a:t>СТРУКТУРА</a:t>
            </a:r>
            <a:r>
              <a:rPr b="1" lang="ru-RU" sz="2800" spc="-1" strike="noStrike">
                <a:solidFill>
                  <a:srgbClr val="2a3d7a"/>
                </a:solidFill>
                <a:latin typeface="Times New Roman"/>
                <a:ea typeface="Calibri"/>
              </a:rPr>
              <a:t> ЗАНЯТИЙ ПО ФИЗИЧЕСКОЙ КУЛЬТУРЕ</a:t>
            </a:r>
            <a:r>
              <a:rPr b="0" lang="en-US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23623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Вводная часть (3-5 минут)</a:t>
            </a:r>
            <a:r>
              <a:rPr b="0" lang="en-US" sz="1600" spc="-1" strike="noStrike">
                <a:solidFill>
                  <a:srgbClr val="5b5249"/>
                </a:solidFill>
                <a:latin typeface="Calibri"/>
                <a:ea typeface="Calibri"/>
              </a:rPr>
              <a:t> настраивает дошкольников на выполнение двигательных заданий, активизирует их внимание и создает положительный настрой. Она включает в себя упражнения в ходьбе (на носках, высоко поднимая колени и т.д.), беге (со сменой направления, приставным шагом, по кругу и т.д.). Дети также выполняют различные виды прыжков, бросание и ловля предметов, построение и перестроение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сновная часть (10-12 минут)</a:t>
            </a:r>
            <a:r>
              <a:rPr b="0" lang="en-US" sz="1600" spc="-1" strike="noStrike">
                <a:solidFill>
                  <a:srgbClr val="5b5249"/>
                </a:solidFill>
                <a:latin typeface="Calibri"/>
                <a:ea typeface="Calibri"/>
              </a:rPr>
              <a:t> отводится на обучение детей основным видам движений с распределением по степени сложности на весь учебный год. Необходимо проявлять индивидуальный подход к детям для успешной реализации этой программы. Для этого необходимо распределить дошкольников на </a:t>
            </a:r>
            <a:r>
              <a:rPr b="1" i="1" lang="en-US" sz="1600" spc="-1" strike="noStrike">
                <a:solidFill>
                  <a:srgbClr val="5b5249"/>
                </a:solidFill>
                <a:latin typeface="Calibri"/>
                <a:ea typeface="Calibri"/>
              </a:rPr>
              <a:t>две группы</a:t>
            </a:r>
            <a:r>
              <a:rPr b="0" lang="en-US" sz="1600" spc="-1" strike="noStrike">
                <a:solidFill>
                  <a:srgbClr val="5b5249"/>
                </a:solidFill>
                <a:latin typeface="Calibri"/>
                <a:ea typeface="Calibri"/>
              </a:rPr>
              <a:t> (с учетом состояния здоровья и уровнем двигательной активности, развития)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Заключительная часть занятия (3-4 минуты)</a:t>
            </a:r>
            <a:r>
              <a:rPr b="0" lang="en-US" sz="1600" spc="-1" strike="noStrike">
                <a:solidFill>
                  <a:srgbClr val="5b5249"/>
                </a:solidFill>
                <a:latin typeface="Calibri"/>
                <a:ea typeface="Calibri"/>
              </a:rPr>
              <a:t> состоит из постепенного перехода от высокой двигательной активности к спокойному состоянию организма (малоподвижные игры, релаксация или хоровод)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447920"/>
            <a:ext cx="7620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Calibri"/>
                <a:ea typeface="Calibri"/>
              </a:rPr>
              <a:t>Доступность содержания занятий по физической культуре определяется программным материалом, подобранным с учётом возрастных особенностей детей. Условно занятие делится на три основные части: вводную, основную и заключительную, с определенными функциями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Дошкольники распределяются по двум группам: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6858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В первую группу</a:t>
            </a:r>
            <a:r>
              <a:rPr b="0" lang="en-US" sz="1600" spc="-1" strike="noStrike">
                <a:solidFill>
                  <a:srgbClr val="5b5249"/>
                </a:solidFill>
                <a:latin typeface="Calibri"/>
                <a:ea typeface="Calibri"/>
              </a:rPr>
              <a:t> входят дети, имеющие средний показатель двигательной активности с достаточным уровнем развития движений. Им предлагается больше основных движений со средней и низкой степенью интенсивности (80%): упражнения на развитие внимания, точность, ловкость, координацию движений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Вторую группу</a:t>
            </a:r>
            <a:r>
              <a:rPr b="0" lang="en-US" sz="1600" spc="-1" strike="noStrike">
                <a:solidFill>
                  <a:srgbClr val="5b5249"/>
                </a:solidFill>
                <a:latin typeface="Calibri"/>
                <a:ea typeface="Calibri"/>
              </a:rPr>
              <a:t> составляют дети, имеющие слабое здоровье. 80% упражнений у них будет высокой и средней степени интенсивности: быстрота движений, ловкость и выносливость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3434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Каждая подгруппа занимается по своей программе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направленной на улучшение показателей развития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физической активности ребенка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7" name="iCAZSVCT0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2a3d7a"/>
                </a:solidFill>
                <a:uFillTx/>
                <a:latin typeface="Calibri"/>
                <a:ea typeface="Calibri"/>
              </a:rPr>
              <a:t>При подборе игровых упражнений необходимо обратить особое внимание на наличие спортивного и игрового оборудования:</a:t>
            </a: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09240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Calibri"/>
                <a:ea typeface="Calibri"/>
              </a:rPr>
              <a:t>- балансиры, гимнастические мячи (развитие координации движений)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Calibri"/>
                <a:ea typeface="Calibri"/>
              </a:rPr>
              <a:t>- батуты, утяжеленные мячи весом до 0.5 кг (развитие скоростно-силовых качеств)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Calibri"/>
                <a:ea typeface="Calibri"/>
              </a:rPr>
              <a:t>мячи, обручи, гимнастическая стенка</a:t>
            </a:r>
            <a:r>
              <a:rPr b="0" lang="ru-RU" sz="2000" spc="-1" strike="noStrike">
                <a:solidFill>
                  <a:srgbClr val="5b524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5b5249"/>
                </a:solidFill>
                <a:latin typeface="Calibri"/>
                <a:ea typeface="Calibri"/>
              </a:rPr>
              <a:t>азвитие ловкости и точности выполняемых действий)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" name="iCA407IUN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2819520" cy="1600200"/>
          </a:xfrm>
          <a:prstGeom prst="rect">
            <a:avLst/>
          </a:prstGeom>
          <a:ln w="0">
            <a:noFill/>
          </a:ln>
        </p:spPr>
      </p:pic>
      <p:pic>
        <p:nvPicPr>
          <p:cNvPr id="111" name="iCAVEMJXN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Calibri"/>
                <a:ea typeface="Calibri"/>
              </a:rPr>
              <a:t>ПОСТРОЕНИЕ ИГРОВЫХ ЗАНЯТИЙ</a:t>
            </a:r>
            <a:br>
              <a:rPr sz="2800"/>
            </a:b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Значительное место (60%) отводится игровым занятиям, т.к. они являются естественной формой передачи детям необходимого объема знаний и двигательных умений и навыков. Занятие состоит из 3-5 подвижных игр разной интенсивности. При построении занятий следует учитывать принципы дидактического подбора игр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5b5249"/>
                </a:solidFill>
                <a:uFillTx/>
                <a:latin typeface="Calibri"/>
              </a:rPr>
              <a:t>   </a:t>
            </a:r>
            <a:r>
              <a:rPr b="0" i="1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Вводная часть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включает в себя игры низкой и средней интенсивности, которые постепенно увеличивают физическую нагрузку на организм ребёнка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5b5249"/>
                </a:solidFill>
                <a:uFillTx/>
                <a:latin typeface="Calibri"/>
              </a:rPr>
              <a:t>   </a:t>
            </a:r>
            <a:r>
              <a:rPr b="0" i="1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сновная часть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представляет собой одну общую игру для 2-ух подгрупп, и 1-2 игры, поддерживающих объем нагрузки на оптимальном уровне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5b5249"/>
                </a:solidFill>
                <a:uFillTx/>
                <a:latin typeface="Calibri"/>
              </a:rPr>
              <a:t>   </a:t>
            </a:r>
            <a:r>
              <a:rPr b="0" i="1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Заключительная часть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включает в себя игры низкой интенсивности (ориентирование в пространстве)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243792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a3d7a"/>
                </a:solidFill>
                <a:latin typeface="Calibri"/>
                <a:ea typeface="Calibri"/>
              </a:rPr>
              <a:t>Далее представлены разнообразные игровые занятия по физической культуре с детьми младшего и среднего дошкольного возраста.</a:t>
            </a:r>
            <a:br>
              <a:rPr sz="2000"/>
            </a:b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5" name="iCA12W1OM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1752480" cy="1295280"/>
          </a:xfrm>
          <a:prstGeom prst="rect">
            <a:avLst/>
          </a:prstGeom>
          <a:ln w="0">
            <a:noFill/>
          </a:ln>
        </p:spPr>
      </p:pic>
      <p:pic>
        <p:nvPicPr>
          <p:cNvPr id="116" name="iCAADUETY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2895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Calibri"/>
                <a:ea typeface="Calibri"/>
              </a:rPr>
              <a:t>ИГРЫ И ИГРОВЫЕ УПРАЖНЕНИЯ НА РАЗВИТИЕ ЛОВКОСТИ И БЫСТРОТЫ ДВИЖЕНИЙ</a:t>
            </a:r>
            <a:br>
              <a:rPr sz="2400"/>
            </a:b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«ЗАЙКА СЕРЫЙ УМЫВАЕТСЯ»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борудование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обручи по количеству детей , мягкие модули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b5249"/>
                </a:solidFill>
                <a:uFillTx/>
                <a:latin typeface="Calibri"/>
                <a:ea typeface="Calibri"/>
              </a:rPr>
              <a:t>Описание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дети сидят в домиках, сделанных из обручей, - это «зайчики». На противоположной стороне, на мягких модулях, сидят 2 1-2 ребенка – это «волки»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В.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- Дети, наступило утро, все звери проснулись, потянулись и сделали зарядку. </a:t>
            </a:r>
            <a:r>
              <a:rPr b="0" i="1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(Дети шагают на месте, выполняют упражнения для рук: вперёд, вверх, в стороны, вниз; и приседают. «Зайки» в бодром настроении идут умываться и выполняют имитационные движения в соответствии с текстом)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В.:</a:t>
            </a: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 - Зайка серый умывается, видно в гости собирается. Вымыл носик, вымыл ротик, вымыл ушко, вытер сухо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Calibri"/>
                <a:ea typeface="Calibri"/>
              </a:rPr>
              <a:t>По сигналу «волк!» «зайчата убегают в домики, а «волк» выбегает и ловит их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6:38:08Z</dcterms:created>
  <dc:creator>Инна</dc:creator>
  <dc:description/>
  <dc:language>en-US</dc:language>
  <cp:lastModifiedBy>Инна</cp:lastModifiedBy>
  <dcterms:modified xsi:type="dcterms:W3CDTF">2011-11-06T08:58:29Z</dcterms:modified>
  <cp:revision>6</cp:revision>
  <dc:subject/>
  <dc:title>PowerPoint Presentation</dc:title>
</cp:coreProperties>
</file>