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E3D0-2700-4EBC-9CFC-49E78686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6E22-6F4D-4B8F-9BEA-E2BAE5BF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FE66-5E8A-4916-A7BB-1BDF39B6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C809-C0B6-4F30-AD2C-5653DC38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F265-1D7C-4CB4-9902-FD2F0BAC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E74D-5698-47E6-B353-6E8E9CF9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581C-43AB-4304-B987-FB939FD4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4760-F726-4C37-A498-BB6E80A3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6193-208F-4586-9C31-2116C326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C47F-7334-45D2-8271-1BAD2EAA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490E-D8B2-433F-A046-85DCB092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7735-C15C-4FE3-A1B4-5959A8FC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AF47-AB41-43E4-BA54-D29A5204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72D3-ED75-4D9F-B042-3814C2FD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E5EA-C52D-4849-B490-6FD57456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800C-855A-45A2-AC95-7F2AC951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1626-C2E3-46B9-AF07-8352E64A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6A30-E2A2-4EFA-AD7E-5B37344F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2770-99DC-47C9-A4FC-E64B5BB2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E182-E6F7-416E-8A7A-903491D4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2189-4480-4AC5-B332-E418BDCD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0D16-1FA7-4DF7-AD35-6F7271CB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20D9-6327-41E3-AFCF-3DDB1CFC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7C79-397D-437D-A536-6080180E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5CA0-8C55-4BC1-B55B-3F87EC88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4F9D-4CAC-45DE-9403-BD0D7C80D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1042920" y="1844640"/>
            <a:ext cx="6985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мятники природы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территории 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оны охраняемого природного ландшафта 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я-заповедника М.А. Шолохова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4" name=""/>
          <p:cNvSpPr/>
          <p:nvPr/>
        </p:nvSpPr>
        <p:spPr>
          <a:xfrm>
            <a:off x="1187280" y="404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Шолоховская гимназия, станица Вёш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771640" y="765000"/>
            <a:ext cx="3429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Паник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9640" y="5013360"/>
            <a:ext cx="7991640" cy="16185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стки разнотравно-злаковой песчаной степи в сочетании с берёзовыми и осиновыми колками аренных лесов. Эталон природы на второй надпойменной песчаной террасе левобережья Среднего Дона, одна из ключевых ценопопуляций с максимальной плот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1979640" y="1341360"/>
            <a:ext cx="540072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627280" y="476280"/>
            <a:ext cx="34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нтиповский бор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395280" y="1125360"/>
            <a:ext cx="3414600" cy="53978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4500720" y="1125360"/>
            <a:ext cx="4174920" cy="20142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 природы областного 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.10.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ий лесх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вый берег реки Решет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1км от х. Антип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40360" y="3789360"/>
            <a:ext cx="4752720" cy="2014200"/>
          </a:xfrm>
          <a:prstGeom prst="rect">
            <a:avLst/>
          </a:prstGeom>
          <a:solidFill>
            <a:srgbClr val="cce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ложил начало лесоразведения в степи (1905), одно из старейших насаждений сосны обыкновенной на Дону. Опыт закрепления аренных развеваемых песков (надпойменные террасы) левобережья Среднего Дона посадкой сосны обыкнов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1258920" y="836640"/>
            <a:ext cx="61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Ольшаники (Чернь)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00720" y="1341360"/>
            <a:ext cx="4032000" cy="27057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 природы областного 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.10.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ий лесх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ходятся Ольшанники в долине речки Елань, в 25 километрах к востоку от станицы Вешенской близ х. Грязнов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324000" y="1557360"/>
            <a:ext cx="3547800" cy="45370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995640" y="3645000"/>
            <a:ext cx="4562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11640" y="4292640"/>
            <a:ext cx="4535640" cy="1739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звания урочища и лесного массива подсказывают, что главная порода деревьев в них – черная ольха. Помимо нее здесь произрастают - верба, осина, дуб – кормильцы и защитники зверья и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2268360" y="1125360"/>
            <a:ext cx="4824720" cy="3618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79280" y="1773360"/>
            <a:ext cx="30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1557360"/>
            <a:ext cx="33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258920" y="549360"/>
            <a:ext cx="61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Ольшаники (Чернь)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0920" y="4869000"/>
            <a:ext cx="8569080" cy="1739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алон пойменного ольхового леса в притеррасной части р. Елань. Уникальный, крупнейший в Ростовской области сплошной массив ольшаников с рядом редких для степной зоны северных видов: телиптерис болотный, дягиль аптечный, вех ядовитый, недотрога обыкновенная, шпажник тонкий, вахта трехлистная, наумбургия кистецветная и др. Имеет большое научное и природоохранн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258920" y="620640"/>
            <a:ext cx="61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Ольшаники (Чернь)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067280" y="3284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427640" y="1773360"/>
            <a:ext cx="4238640" cy="39459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зникающее ощущение угрюмости леса – кажущееся, напускное – для человека. А животные в пойменных лесах, богатых разнообразной растительностью, чувствуют себя защищенными и сытыми. Обитатели этих лесов редки не только для степных краев. Среди них есть виды, занесенные в Красную книгу Росс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илие родников обеспечивает питание многочисленных озер, расположенных вокру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324000" y="1413000"/>
            <a:ext cx="372564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2411280" y="765000"/>
            <a:ext cx="4077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ланские озер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0920" y="5661000"/>
            <a:ext cx="8569080" cy="6426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илие родников урочища Чернь обеспечивает питание многочисленных озер, расположенных вокру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1994040" y="1665360"/>
            <a:ext cx="51577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2411280" y="765000"/>
            <a:ext cx="4077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ланские озер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4360" y="1413000"/>
            <a:ext cx="4032000" cy="25628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 природы областного 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.10.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ий лесх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 озера восточнее ст. Еланская (Ильмень, Глинка, Боковое, Крутое (Бакл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ей площадью 27,8 км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4000" y="4292640"/>
            <a:ext cx="4897440" cy="1882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родные ландшафты с высоким видовым разнообразием животного и растительного мира, занесённого в Красную книгу Ростовск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зёра являются местообитанием эндемика Европы – русской выхухо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5508720" y="4365720"/>
            <a:ext cx="2928960" cy="18651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5"/>
          <a:stretch/>
        </p:blipFill>
        <p:spPr>
          <a:xfrm>
            <a:off x="5148360" y="1341360"/>
            <a:ext cx="3627360" cy="27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547640" y="765000"/>
            <a:ext cx="568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Шолоховские озер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1280" y="1773360"/>
            <a:ext cx="3097080" cy="2980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природы областного 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.10.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ёшенский лесх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 озер левобережной поймы Дона от административной границы с Верхнедонским райо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4360" y="5013360"/>
            <a:ext cx="820872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лора и фауна представлены большим видовым разнообразием животного и растительного мира. Многие виды растений, грибов, беспозвоночных и животных, занесены в Красную книгу Ростовской области. Озёра являются местообитанием эндемика Европы – русской выхухо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4"/>
          <a:stretch/>
        </p:blipFill>
        <p:spPr>
          <a:xfrm>
            <a:off x="4427640" y="18446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47640" y="765000"/>
            <a:ext cx="568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зеро Старо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5280" y="1989000"/>
            <a:ext cx="3240000" cy="21686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 природы местног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ий лесх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йма реки Д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 х. Шебуняев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5013360"/>
            <a:ext cx="7921440" cy="91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но из любимых мест охоты и рыбалки М.А. Шолохова. Это озеро одно из самых глубоких и чистых в районе, в некоторых местах глубина достигает 9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4"/>
          <a:stretch/>
        </p:blipFill>
        <p:spPr>
          <a:xfrm>
            <a:off x="3924360" y="1628640"/>
            <a:ext cx="445608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411280" y="692280"/>
            <a:ext cx="42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бяжий яр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9280" y="1916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5280" y="1484280"/>
            <a:ext cx="3456000" cy="2980080"/>
          </a:xfrm>
          <a:prstGeom prst="rect">
            <a:avLst/>
          </a:prstGeom>
          <a:solidFill>
            <a:srgbClr val="cce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кт культурного наследия, дополнительно включаемый  в состав достопримечательного места «Шолоховский край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 природы местног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ий лесхо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2 км восточнее ст. Вешенской, вблизи х. Лебяж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4067280" y="1773360"/>
            <a:ext cx="475272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2124000" y="476280"/>
            <a:ext cx="51436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уб-великан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468360" y="1484280"/>
            <a:ext cx="3830760" cy="42498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4788000" y="1414440"/>
            <a:ext cx="3744720" cy="4483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ластного 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.10.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положен в 8 км севернее        от ст. Вёшенско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никальный объект природы, дерево-долгожитель, которому около 400 лет, невосполнимая редкость, историко-культурная научная и эстетическая ценность природного объ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уб-великан - живой свидетель исторических событий, начиная с царствования Ивана Грозного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2627280" y="692280"/>
            <a:ext cx="3754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бяжий яр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9280" y="1916280"/>
            <a:ext cx="4176720" cy="31114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на из наиболее красивых видовых точек, откуда открывается необыкновенная панорама разнообразных пейзажей урочища «Островное» – Лебяжий Я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ллионы лет назад река смыла первую террасу и обкатила песчаный обрыв высотой 38 метров. Отсюда хорошо видна излучина Дона, пойменный лес, на противоположном берегу – прекрасные меловые круг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4500720" y="2060640"/>
            <a:ext cx="43192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2843280" y="692280"/>
            <a:ext cx="31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бяжий яр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0920" y="5373720"/>
            <a:ext cx="8497800" cy="10087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юда М.А. Шолохов часто привозил гостей, чтобы они полюбовались красотой великой реки. Лебяжий яр нашёл своё отражение в работах известного художника Б.В. Щербак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4"/>
          <a:stretch/>
        </p:blipFill>
        <p:spPr>
          <a:xfrm>
            <a:off x="1403280" y="1268280"/>
            <a:ext cx="6048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2268360" y="620640"/>
            <a:ext cx="4175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дник Отрог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40360" y="1700280"/>
            <a:ext cx="475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356000" y="1916280"/>
            <a:ext cx="4464000" cy="2157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кт культурного наследия, дополнительно включаемый  в состав достопримечательного места «Шолоховский край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природы местног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ёшенский лесх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2 км к востоку от ст. Вёше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5280" y="4724280"/>
            <a:ext cx="820908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громный мощный родник с кристально чистой и превосходной на вкус водой. Место изумительное по своей красоте. Благодаря усилиям М.А.Шолохова был проложен водопровод в ст. Вёшенскую, источником воды для которого явился этот род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88908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4572000" y="2276640"/>
            <a:ext cx="4176720" cy="2944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рог берёт своё начало из огромного подземного озера глубиной 13-15 метров, длина его около километра, ширина также значительная – 120-130 метров. Поверх озера пролегает мощный слой песчаной земли. На этом озере решили выкопать шахту и там, в шахте, соорудить насосную станцию, от Отрога проложить трубы в центр станицы, построить водонапорную башню, а сам источник взять в капта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050920" y="620640"/>
            <a:ext cx="4249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дник Отрог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388908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2484360" y="620640"/>
            <a:ext cx="403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дник Отрог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394080" cy="45342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4140360" y="1413000"/>
            <a:ext cx="4752720" cy="4757400"/>
          </a:xfrm>
          <a:prstGeom prst="rect">
            <a:avLst/>
          </a:prstGeom>
          <a:solidFill>
            <a:srgbClr val="ccec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дин есаул Войска донского еще в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. в балке «Отрог» устроил пасеку и мельницу на роднике. По обету перед Богом и по собственному усердию на Крещение он приглашал к себе всё приходское духовенство со святынею, где совершал молебен с освящением воды в роднике и окроплением ульев и мельницы святой водой, а затем устраивал торжественный обед для духовенства и народа. И это строго исполнялось до конца его жизни, а после смерти его сын продолжал исполнять то же самое. Таким образом, крестный ход вошёл в обычай. И до наших дней ежегодно на этом месте происходит освящение воды духовенством церкви Михаила Арханг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1835280" y="62064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счаный курган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2421000"/>
            <a:ext cx="4032360" cy="22885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кт культурного наследия, дополнительно включаемый  в состав достопримечательного места «Шолоховский край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природы местног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гинское сельское посел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2 км севернее ст. Каргинско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1835280" y="62064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счаный курган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00000" y="5734080"/>
            <a:ext cx="7201080" cy="642600"/>
          </a:xfrm>
          <a:prstGeom prst="rect">
            <a:avLst/>
          </a:prstGeom>
          <a:solidFill>
            <a:srgbClr val="cce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рган является господствующей над станицей точкой, откуда открывается прекрасная панорама донского степного ландшаф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2050920" y="1700280"/>
            <a:ext cx="472284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1835280" y="62064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азоревая степь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26920" y="2349360"/>
            <a:ext cx="3745080" cy="22885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кт культурного наследия, дополнительно включаемый  в состав достопримечательного места «Шолоховский край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природы местног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гинское сельское посел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крестности х.  Яблоновск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708360" cy="39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1835280" y="62064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азоревая степь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59280" y="2852640"/>
            <a:ext cx="3456000" cy="19234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дин из немногих сохранившихся участков целинной донской степи с большой популяцией тюльпана Шренка и других редких степных раст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317016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4284720" y="1773360"/>
            <a:ext cx="3959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зентацию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фина Елена Петровна - учитель географии и экономики МОУ Шолоховской гимназии станицы Веше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16304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258920" y="836640"/>
            <a:ext cx="64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мятник природы "Дуб-великан"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95640" y="1916280"/>
            <a:ext cx="4932360" cy="2620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вольно восторгаешься внушительными размерами ду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 высоте груди (1,3 метра) диаметр его ствола составляет 2,4 м, окружность – 7,56 м, обхватить его смогут, взявшись за руки, не менее четырех взрослых человек.  С высоты 1,9 м ствол дерева раздваивается и образует два самостоятельных ствола. Высота первого 25 метров, диаметр – 1,4м, второго -  соответственно-25,2  м  и 1,55 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24000" y="4581360"/>
            <a:ext cx="8569080" cy="10598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щная, почти правильная шатровидная крона поперечником 25 м, летним полднем бросает на землю тень площадью 600 м2. Общий объем ствола 42 м3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042920" y="765000"/>
            <a:ext cx="6686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мятник природы "Дуб-великан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1413000"/>
            <a:ext cx="4572000" cy="4483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ждый год дуб покрывается молодой листвой. Лёгкий ветерок, гуляя между ветвями, заставляет листья ожить, и в такие минуты кажется, что дерево хочет рассказать предания и легенды далёкого прошлог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азывают, что татарский хан закопал в этих местах награбленное в русских землях добро, и, чтобы обозначить клад, посадил дуб. Много раз с того времени приходили к дубу казаки, прихватив с собой лопаты да кирки. Знали понаслышке, что до заветного места надо отсчитать от дуба пятьсот шагов. Только вот в какую сторону считать – толком не вед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3335400" cy="44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971640" y="549360"/>
            <a:ext cx="668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мятник природы "Дуб-великан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755640" y="1268280"/>
            <a:ext cx="3313080" cy="21891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tretch/>
        </p:blipFill>
        <p:spPr>
          <a:xfrm>
            <a:off x="5076720" y="1268280"/>
            <a:ext cx="2914920" cy="21891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24000" y="3645000"/>
            <a:ext cx="8424720" cy="28371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триарх стал живым свидетелем катастрофического опустынивания Вёшенской земли. Раньше, говорят, ствол дуба начинал раздваиваться на такой высоте, что казак, сидя на лошади, едва доставал до неё острием шашки. Значит, к настоящему времени 1,5-2 метра дубового ствола занесено пес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слушиваясь к шелесту листвы, можно услышать и укор нам, живущим, за то, что беспощадно истребляли леса, загрязняли воздух, почву, реки – и предупреждение: ещё не поздно остановиться, ещё есть время многое исправить, чтобы красотой донского края могли восхищаться и живущие после н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1979640" y="69228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Островно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8560" y="1690920"/>
            <a:ext cx="2763720" cy="22885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 прир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ластного 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.10.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ий лесхо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ое лесничест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в.69-71; 75,77-83;91-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95280" y="4937040"/>
            <a:ext cx="820908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чище Островное – один из замечательных уголков вешенской земли. Расположенное  восточнее станицы Вёшенской урочище общей  площадью 3670 га занимает пойму реки Дон и часть надпойменной террас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ставлены редкие виды растений, животных, многие виды ценных ры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43210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979640" y="69228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Островно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3780000" y="202392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50920" y="2492280"/>
            <a:ext cx="3457440" cy="27057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ое название урочище получило от озера Островное благодаря расположенному в нем остро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ерега озер и проток урочища низкие, в некоторых местах заболочены. Здесь до 1940-х годов находился хутор Остров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979640" y="69228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Островно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8360" y="533808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0920" y="5373720"/>
            <a:ext cx="842472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красоте и разнообразию природных условий, а также как место, отвечающее всем требованиям воспроизводства рыбы «Островное» является местом уникальным. Одно из любимых мест отдыха М.А. Шолохова, с красотой которого часто знакомил своих г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54738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2771640" y="765000"/>
            <a:ext cx="3429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Паник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779400" y="1600200"/>
            <a:ext cx="3394080" cy="4533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4572000" y="1989000"/>
            <a:ext cx="4032360" cy="37656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мятник природы областного значения № 418 19.10.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ёшенский лесхо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ожен центральной части Шолоховского района в 2-х км на восток от х. Антиповский, занимает 68 квартал 16,18,21, 49 выделы Дубровского лесни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ощадь памятника природы -15,0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427640" y="34290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8:56:51Z</dcterms:created>
  <dc:creator>Софина</dc:creator>
  <dc:description/>
  <dc:language>en-US</dc:language>
  <cp:lastModifiedBy>Admin</cp:lastModifiedBy>
  <dcterms:modified xsi:type="dcterms:W3CDTF">2011-11-27T21:07:29Z</dcterms:modified>
  <cp:revision>29</cp:revision>
  <dc:subject/>
  <dc:title>Слайд 1</dc:title>
</cp:coreProperties>
</file>