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1E08C-27B6-4302-A100-DE8AD7043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696C8-D5EE-43D1-8D13-52281818A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7D61A-3D64-4728-B281-E8EC93AC9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98B9C-E775-4FC9-BD2C-5F95CEFEC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6651C-056C-4665-A95B-084C528B9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619E3-4755-4A4F-BA63-A6AAAA946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BAE5B-FAE2-4737-83A9-0CFC0C7B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4AFF4-D743-42BD-BE4A-26453D292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CF7E6-32C9-46B3-BBE3-3E9490F3A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0A39F-4F8E-450C-AB49-38371968A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484B8-D8CD-405E-9D77-1FBE8E87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0F7C6-092A-4BB7-8041-A713AFA83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9FD98-ED33-4289-B96D-42E50D60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07F57-741C-412C-993E-C597B277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6924E-CB85-4802-B6EC-65015A7F4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DD53D-A614-45A7-AD4A-8E4A9C48B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0D62E-D659-47AD-8514-0EBC74329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C2207-43A2-4E2A-A02C-04402591C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72E98-77A7-41E5-802E-1B52FB96F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426F3-F774-4C17-9FDC-E83063A16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8EA8E-F4DD-411A-BE09-EB2ACDBE9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6DDE8-B5C0-43EF-BE8D-5708EC65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583D0-83DF-4E2C-A551-8FA20F7B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BB31A-8506-43F1-9C8B-4107305F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b6b6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64646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7070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94949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94949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717171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868686"/>
                </a:gs>
                <a:gs pos="100000">
                  <a:srgbClr val="eaeae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17171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66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66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27E9A-598F-4E2E-9FA2-E12752F24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b6b6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64646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7070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94949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94949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717171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868686"/>
                </a:gs>
                <a:gs pos="100000">
                  <a:srgbClr val="eaeae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17171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b5b5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b5b5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b5b5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5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868686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868686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b5b5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97A6-4879-4C99-882E-3D87D9270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1042920" y="1844640"/>
            <a:ext cx="698508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амятники природы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 территории 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оны охраняемого природного ландшафта 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узея-заповедника М.А. Шолохова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4" name=""/>
          <p:cNvSpPr/>
          <p:nvPr/>
        </p:nvSpPr>
        <p:spPr>
          <a:xfrm>
            <a:off x="1187280" y="40464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униципальное общеобразовательное учреждение Шолоховская гимназия, станица Вёшен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 txBox="1"/>
          <p:nvPr/>
        </p:nvSpPr>
        <p:spPr>
          <a:xfrm>
            <a:off x="2771640" y="765000"/>
            <a:ext cx="34290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Урочище Паники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39640" y="5013360"/>
            <a:ext cx="7991640" cy="161856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астки разнотравно-злаковой песчаной степи в сочетании с берёзовыми и осиновыми колками аренных лесов. Эталон природы на второй надпойменной песчаной террасе левобережья Среднего Дона, одна из ключевых ценопопуляций с максимальной плотность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4"/>
          <a:stretch/>
        </p:blipFill>
        <p:spPr>
          <a:xfrm>
            <a:off x="1979640" y="1341360"/>
            <a:ext cx="5400720" cy="360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2627280" y="476280"/>
            <a:ext cx="3409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Антиповский бор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4"/>
          <a:stretch/>
        </p:blipFill>
        <p:spPr>
          <a:xfrm>
            <a:off x="395280" y="1125360"/>
            <a:ext cx="3414600" cy="5397840"/>
          </a:xfrm>
          <a:prstGeom prst="rect">
            <a:avLst/>
          </a:prstGeom>
          <a:ln w="0">
            <a:noFill/>
          </a:ln>
        </p:spPr>
      </p:pic>
      <p:sp>
        <p:nvSpPr>
          <p:cNvPr id="549" name=""/>
          <p:cNvSpPr/>
          <p:nvPr/>
        </p:nvSpPr>
        <p:spPr>
          <a:xfrm>
            <a:off x="4500720" y="1125360"/>
            <a:ext cx="4174920" cy="201420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амятник природы областного знач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9.10.200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ёшенский лесхо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евый берег реки Решетов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1км от х. Антипов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140360" y="3789360"/>
            <a:ext cx="4752720" cy="2014200"/>
          </a:xfrm>
          <a:prstGeom prst="rect">
            <a:avLst/>
          </a:prstGeom>
          <a:solidFill>
            <a:srgbClr val="ccec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ложил начало лесоразведения в степи (1905), одно из старейших насаждений сосны обыкновенной на Дону. Опыт закрепления аренных развеваемых песков (надпойменные террасы) левобережья Среднего Дона посадкой сосны обыкновен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 txBox="1"/>
          <p:nvPr/>
        </p:nvSpPr>
        <p:spPr>
          <a:xfrm>
            <a:off x="1258920" y="836640"/>
            <a:ext cx="61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Урочище Ольшаники (Чернь)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500720" y="1341360"/>
            <a:ext cx="4032000" cy="270576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амятник природы областного знач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9.10.200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ёшенский лесхо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ходятся Ольшанники в долине речки Елань, в 25 километрах к востоку от станицы Вешенской близ х. Грязновск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4"/>
          <a:stretch/>
        </p:blipFill>
        <p:spPr>
          <a:xfrm>
            <a:off x="324000" y="1557360"/>
            <a:ext cx="3547800" cy="453708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3995640" y="3645000"/>
            <a:ext cx="4562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211640" y="4292640"/>
            <a:ext cx="4535640" cy="17398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азвания урочища и лесного массива подсказывают, что главная порода деревьев в них – черная ольха. Помимо нее здесь произрастают - верба, осина, дуб – кормильцы и защитники зверья и пт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" descr=""/>
          <p:cNvPicPr/>
          <p:nvPr/>
        </p:nvPicPr>
        <p:blipFill>
          <a:blip r:embed="rId2"/>
          <a:stretch/>
        </p:blipFill>
        <p:spPr>
          <a:xfrm>
            <a:off x="2268360" y="1125360"/>
            <a:ext cx="4824720" cy="361800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179280" y="1773360"/>
            <a:ext cx="309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0" y="1557360"/>
            <a:ext cx="33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1258920" y="549360"/>
            <a:ext cx="61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Урочище Ольшаники (Чернь)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50920" y="4869000"/>
            <a:ext cx="8569080" cy="17398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талон пойменного ольхового леса в притеррасной части р. Елань. Уникальный, крупнейший в Ростовской области сплошной массив ольшаников с рядом редких для степной зоны северных видов: телиптерис болотный, дягиль аптечный, вех ядовитый, недотрога обыкновенная, шпажник тонкий, вахта трехлистная, наумбургия кистецветная и др. Имеет большое научное и природоохранное зна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1258920" y="620640"/>
            <a:ext cx="61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Урочище Ольшаники (Чернь)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067280" y="328464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427640" y="1773360"/>
            <a:ext cx="4238640" cy="394596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озникающее ощущение угрюмости леса – кажущееся, напускное – для человека. А животные в пойменных лесах, богатых разнообразной растительностью, чувствуют себя защищенными и сытыми. Обитатели этих лесов редки не только для степных краев. Среди них есть виды, занесенные в Красную книгу России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билие родников обеспечивает питание многочисленных озер, расположенных вокру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4"/>
          <a:stretch/>
        </p:blipFill>
        <p:spPr>
          <a:xfrm>
            <a:off x="324000" y="1413000"/>
            <a:ext cx="3725640" cy="49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 txBox="1"/>
          <p:nvPr/>
        </p:nvSpPr>
        <p:spPr>
          <a:xfrm>
            <a:off x="2411280" y="765000"/>
            <a:ext cx="40770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Еланские озера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50920" y="5661000"/>
            <a:ext cx="8569080" cy="64260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билие родников урочища Чернь обеспечивает питание многочисленных озер, расположенных вокру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4"/>
          <a:stretch/>
        </p:blipFill>
        <p:spPr>
          <a:xfrm>
            <a:off x="1994040" y="1665360"/>
            <a:ext cx="5157720" cy="35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 txBox="1"/>
          <p:nvPr/>
        </p:nvSpPr>
        <p:spPr>
          <a:xfrm>
            <a:off x="2411280" y="765000"/>
            <a:ext cx="40770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Еланские озера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84360" y="1413000"/>
            <a:ext cx="4032000" cy="256284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амятник природы областного знач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9.10.200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ёшенский лесхо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 озера восточнее ст. Еланская (Ильмень, Глинка, Боковое, Крутое (Баклуш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щей площадью 27,8 км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24000" y="4292640"/>
            <a:ext cx="4897440" cy="188280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иродные ландшафты с высоким видовым разнообразием животного и растительного мира, занесённого в Красную книгу Ростовской обла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зёра являются местообитанием эндемика Европы – русской выхухо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4"/>
          <a:stretch/>
        </p:blipFill>
        <p:spPr>
          <a:xfrm>
            <a:off x="5508720" y="4365720"/>
            <a:ext cx="2928960" cy="1865160"/>
          </a:xfrm>
          <a:prstGeom prst="rect">
            <a:avLst/>
          </a:prstGeom>
          <a:ln w="0">
            <a:noFill/>
          </a:ln>
        </p:spPr>
      </p:pic>
      <p:pic>
        <p:nvPicPr>
          <p:cNvPr id="572" name="" descr=""/>
          <p:cNvPicPr/>
          <p:nvPr/>
        </p:nvPicPr>
        <p:blipFill>
          <a:blip r:embed="rId5"/>
          <a:stretch/>
        </p:blipFill>
        <p:spPr>
          <a:xfrm>
            <a:off x="5148360" y="1341360"/>
            <a:ext cx="3627360" cy="272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 txBox="1"/>
          <p:nvPr/>
        </p:nvSpPr>
        <p:spPr>
          <a:xfrm>
            <a:off x="1547640" y="765000"/>
            <a:ext cx="5688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Шолоховские озера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11280" y="1773360"/>
            <a:ext cx="3097080" cy="29800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амятник природы областного знач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9.10.200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ёшенский лесхо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5 озер левобережной поймы Дона от административной границы с Верхнедонским район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84360" y="5013360"/>
            <a:ext cx="8208720" cy="119124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Флора и фауна представлены большим видовым разнообразием животного и растительного мира. Многие виды растений, грибов, беспозвоночных и животных, занесены в Красную книгу Ростовской области. Озёра являются местообитанием эндемика Европы – русской выхухо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4"/>
          <a:stretch/>
        </p:blipFill>
        <p:spPr>
          <a:xfrm>
            <a:off x="4427640" y="184464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1547640" y="765000"/>
            <a:ext cx="5688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зеро Старое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95280" y="1989000"/>
            <a:ext cx="3240000" cy="216864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амятник природы местного зна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№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ёшенский лесхо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йма реки До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  х. Шебуняевск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84360" y="5013360"/>
            <a:ext cx="7921440" cy="91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дно из любимых мест охоты и рыбалки М.А. Шолохова. Это озеро одно из самых глубоких и чистых в районе, в некоторых местах глубина достигает 9 метр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4"/>
          <a:stretch/>
        </p:blipFill>
        <p:spPr>
          <a:xfrm>
            <a:off x="3924360" y="1628640"/>
            <a:ext cx="4456080" cy="33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 txBox="1"/>
          <p:nvPr/>
        </p:nvSpPr>
        <p:spPr>
          <a:xfrm>
            <a:off x="2411280" y="692280"/>
            <a:ext cx="424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Лебяжий яр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79280" y="191628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95280" y="1484280"/>
            <a:ext cx="3456000" cy="2980080"/>
          </a:xfrm>
          <a:prstGeom prst="rect">
            <a:avLst/>
          </a:prstGeom>
          <a:solidFill>
            <a:srgbClr val="ccec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ъект культурного наследия, дополнительно включаемый  в состав достопримечательного места «Шолоховский край»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амятник природы местного зна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ёшенский лесхоз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2 км восточнее ст. Вешенской, вблизи х. Лебяжен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4"/>
          <a:stretch/>
        </p:blipFill>
        <p:spPr>
          <a:xfrm>
            <a:off x="4067280" y="1773360"/>
            <a:ext cx="4752720" cy="317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2124000" y="476280"/>
            <a:ext cx="5143680" cy="90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Дуб-великан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4"/>
          <a:stretch/>
        </p:blipFill>
        <p:spPr>
          <a:xfrm>
            <a:off x="468360" y="1484280"/>
            <a:ext cx="3830760" cy="424980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4788000" y="1414440"/>
            <a:ext cx="3744720" cy="44830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амятник прир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бластного знач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№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9.10.200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Расположен в 8 км севернее        от ст. Вёшенской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Уникальный объект природы, дерево-долгожитель, которому около 400 лет, невосполнимая редкость, историко-культурная научная и эстетическая ценность природного объек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уб-великан - живой свидетель исторических событий, начиная с царствования Ивана Грозного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 txBox="1"/>
          <p:nvPr/>
        </p:nvSpPr>
        <p:spPr>
          <a:xfrm>
            <a:off x="2627280" y="692280"/>
            <a:ext cx="37544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Лебяжий яр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79280" y="1916280"/>
            <a:ext cx="4176720" cy="31114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дна из наиболее красивых видовых точек, откуда открывается необыкновенная панорама разнообразных пейзажей урочища «Островное» – Лебяжий Я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ллионы лет назад река смыла первую террасу и обкатила песчаный обрыв высотой 38 метров. Отсюда хорошо видна излучина Дона, пойменный лес, на противоположном берегу – прекрасные меловые круг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4"/>
          <a:stretch/>
        </p:blipFill>
        <p:spPr>
          <a:xfrm>
            <a:off x="4500720" y="2060640"/>
            <a:ext cx="431928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 txBox="1"/>
          <p:nvPr/>
        </p:nvSpPr>
        <p:spPr>
          <a:xfrm>
            <a:off x="2843280" y="692280"/>
            <a:ext cx="316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Лебяжий яр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50920" y="5373720"/>
            <a:ext cx="8497800" cy="10087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юда М.А. Шолохов часто привозил гостей, чтобы они полюбовались красотой великой реки. Лебяжий яр нашёл своё отражение в работах известного художника Б.В. Щербако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4"/>
          <a:stretch/>
        </p:blipFill>
        <p:spPr>
          <a:xfrm>
            <a:off x="1403280" y="1268280"/>
            <a:ext cx="604836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 txBox="1"/>
          <p:nvPr/>
        </p:nvSpPr>
        <p:spPr>
          <a:xfrm>
            <a:off x="2268360" y="620640"/>
            <a:ext cx="4175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3333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Родник Отрог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3333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140360" y="1700280"/>
            <a:ext cx="475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356000" y="1916280"/>
            <a:ext cx="4464000" cy="21571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бъект культурного наследия, дополнительно включаемый  в состав достопримечательного места «Шолоховский край»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амятник природы местного зна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ёшенский лесхо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2 км к востоку от ст. Вёшенс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95280" y="4724280"/>
            <a:ext cx="8209080" cy="119124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громный мощный родник с кристально чистой и превосходной на вкус водой. Место изумительное по своей красоте. Благодаря усилиям М.А.Шолохова был проложен водопровод в ст. Вёшенскую, источником воды для которого явился этот родни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2"/>
          <a:stretch/>
        </p:blipFill>
        <p:spPr>
          <a:xfrm>
            <a:off x="324000" y="1484280"/>
            <a:ext cx="3889080" cy="291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4572000" y="2276640"/>
            <a:ext cx="4176720" cy="29440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трог берёт своё начало из огромного подземного озера глубиной 13-15 метров, длина его около километра, ширина также значительная – 120-130 метров. Поверх озера пролегает мощный слой песчаной земли. На этом озере решили выкопать шахту и там, в шахте, соорудить насосную станцию, от Отрога проложить трубы в центр станицы, построить водонапорную башню, а сам источник взять в каптаж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2050920" y="620640"/>
            <a:ext cx="4249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3333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Родник Отрог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3333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2"/>
          <a:stretch/>
        </p:blipFill>
        <p:spPr>
          <a:xfrm>
            <a:off x="324000" y="2276640"/>
            <a:ext cx="3889080" cy="291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 txBox="1"/>
          <p:nvPr/>
        </p:nvSpPr>
        <p:spPr>
          <a:xfrm>
            <a:off x="2484360" y="620640"/>
            <a:ext cx="4032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3333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Родник Отрог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3333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3394080" cy="4534200"/>
          </a:xfrm>
          <a:prstGeom prst="rect">
            <a:avLst/>
          </a:prstGeom>
          <a:ln w="0">
            <a:noFill/>
          </a:ln>
        </p:spPr>
      </p:pic>
      <p:sp>
        <p:nvSpPr>
          <p:cNvPr id="601" name=""/>
          <p:cNvSpPr/>
          <p:nvPr/>
        </p:nvSpPr>
        <p:spPr>
          <a:xfrm>
            <a:off x="4140360" y="1413000"/>
            <a:ext cx="4752720" cy="4757400"/>
          </a:xfrm>
          <a:prstGeom prst="rect">
            <a:avLst/>
          </a:prstGeom>
          <a:solidFill>
            <a:srgbClr val="ccec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дин есаул Войска донского еще в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V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в. в балке «Отрог» устроил пасеку и мельницу на роднике. По обету перед Богом и по собственному усердию на Крещение он приглашал к себе всё приходское духовенство со святынею, где совершал молебен с освящением воды в роднике и окроплением ульев и мельницы святой водой, а затем устраивал торжественный обед для духовенства и народа. И это строго исполнялось до конца его жизни, а после смерти его сын продолжал исполнять то же самое. Таким образом, крестный ход вошёл в обычай. И до наших дней ежегодно на этом месте происходит освящение воды духовенством церкви Михаила Арханге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 txBox="1"/>
          <p:nvPr/>
        </p:nvSpPr>
        <p:spPr>
          <a:xfrm>
            <a:off x="1835280" y="620640"/>
            <a:ext cx="4968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3333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есчаный курган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3333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95280" y="2421000"/>
            <a:ext cx="4032360" cy="22885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бъект культурного наследия, дополнительно включаемый  в состав достопримечательного места «Шолоховский край»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амятник природы местного зна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ргинское сельское поселени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2 км севернее ст. Каргинско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2"/>
          <a:stretch/>
        </p:blipFill>
        <p:spPr>
          <a:xfrm>
            <a:off x="4716360" y="1989000"/>
            <a:ext cx="3888000" cy="29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 txBox="1"/>
          <p:nvPr/>
        </p:nvSpPr>
        <p:spPr>
          <a:xfrm>
            <a:off x="1835280" y="620640"/>
            <a:ext cx="4968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3333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есчаный курган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3333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900000" y="5734080"/>
            <a:ext cx="7201080" cy="642600"/>
          </a:xfrm>
          <a:prstGeom prst="rect">
            <a:avLst/>
          </a:prstGeom>
          <a:solidFill>
            <a:srgbClr val="ccec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урган является господствующей над станицей точкой, откуда открывается прекрасная панорама донского степного ландшаф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" descr=""/>
          <p:cNvPicPr/>
          <p:nvPr/>
        </p:nvPicPr>
        <p:blipFill>
          <a:blip r:embed="rId2"/>
          <a:stretch/>
        </p:blipFill>
        <p:spPr>
          <a:xfrm>
            <a:off x="2050920" y="1700280"/>
            <a:ext cx="4722840" cy="35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1835280" y="620640"/>
            <a:ext cx="4968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3333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Лазоревая степь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3333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826920" y="2349360"/>
            <a:ext cx="3745080" cy="22885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бъект культурного наследия, дополнительно включаемый  в состав достопримечательного места «Шолоховский край»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амятник природы местного зна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ргинское сельское поселени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крестности х.  Яблоновски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2"/>
          <a:stretch/>
        </p:blipFill>
        <p:spPr>
          <a:xfrm>
            <a:off x="4859280" y="1989000"/>
            <a:ext cx="3708360" cy="397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 txBox="1"/>
          <p:nvPr/>
        </p:nvSpPr>
        <p:spPr>
          <a:xfrm>
            <a:off x="1835280" y="620640"/>
            <a:ext cx="4968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3333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Лазоревая степь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3333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859280" y="2852640"/>
            <a:ext cx="3456000" cy="19234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дин из немногих сохранившихся участков целинной донской степи с большой популяцией тюльпана Шренка и других редких степных раст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" descr=""/>
          <p:cNvPicPr/>
          <p:nvPr/>
        </p:nvPicPr>
        <p:blipFill>
          <a:blip r:embed="rId2"/>
          <a:stretch/>
        </p:blipFill>
        <p:spPr>
          <a:xfrm>
            <a:off x="1042920" y="1557360"/>
            <a:ext cx="317016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4284720" y="1773360"/>
            <a:ext cx="39592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езентацию подготови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офина Елена Петровна - учитель географии и экономики МОУ Шолоховской гимназии станицы Вешенс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2"/>
          <a:stretch/>
        </p:blipFill>
        <p:spPr>
          <a:xfrm>
            <a:off x="1763640" y="1484280"/>
            <a:ext cx="1630440" cy="23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1258920" y="836640"/>
            <a:ext cx="6481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амятник природы "Дуб-великан"</a:t>
            </a:r>
            <a:endParaRPr b="0" lang="en-US" sz="2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995640" y="1916280"/>
            <a:ext cx="4932360" cy="26200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евольно восторгаешься внушительными размерами дуб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а высоте груди (1,3 метра) диаметр его ствола составляет 2,4 м, окружность – 7,56 м, обхватить его смогут, взявшись за руки, не менее четырех взрослых человек.  С высоты 1,9 м ствол дерева раздваивается и образует два самостоятельных ствола. Высота первого 25 метров, диаметр – 1,4м, второго -  соответственно-25,2  м  и 1,55 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4"/>
          <a:stretch/>
        </p:blipFill>
        <p:spPr>
          <a:xfrm>
            <a:off x="395280" y="1844640"/>
            <a:ext cx="3456000" cy="259236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/>
          <p:nvPr/>
        </p:nvSpPr>
        <p:spPr>
          <a:xfrm>
            <a:off x="324000" y="4581360"/>
            <a:ext cx="8569080" cy="105984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ощная, почти правильная шатровидная крона поперечником 25 м, летним полднем бросает на землю тень площадью 600 м2. Общий объем ствола 42 м3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 txBox="1"/>
          <p:nvPr/>
        </p:nvSpPr>
        <p:spPr>
          <a:xfrm>
            <a:off x="1042920" y="765000"/>
            <a:ext cx="66866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амятник природы "Дуб-великан"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95280" y="1413000"/>
            <a:ext cx="4572000" cy="44830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ждый год дуб покрывается молодой листвой. Лёгкий ветерок, гуляя между ветвями, заставляет листья ожить, и в такие минуты кажется, что дерево хочет рассказать предания и легенды далёкого прошлог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казывают, что татарский хан закопал в этих местах награбленное в русских землях добро, и, чтобы обозначить клад, посадил дуб. Много раз с того времени приходили к дубу казаки, прихватив с собой лопаты да кирки. Знали понаслышке, что до заветного места надо отсчитать от дуба пятьсот шагов. Только вот в какую сторону считать – толком не веда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4"/>
          <a:stretch/>
        </p:blipFill>
        <p:spPr>
          <a:xfrm>
            <a:off x="5292720" y="1557360"/>
            <a:ext cx="3335400" cy="444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971640" y="549360"/>
            <a:ext cx="6686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амятник природы "Дуб-великан"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4"/>
          <a:stretch/>
        </p:blipFill>
        <p:spPr>
          <a:xfrm>
            <a:off x="755640" y="1268280"/>
            <a:ext cx="3313080" cy="218916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5"/>
          <a:stretch/>
        </p:blipFill>
        <p:spPr>
          <a:xfrm>
            <a:off x="5076720" y="1268280"/>
            <a:ext cx="2914920" cy="218916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/>
          <p:nvPr/>
        </p:nvSpPr>
        <p:spPr>
          <a:xfrm>
            <a:off x="324000" y="3645000"/>
            <a:ext cx="8424720" cy="283716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атриарх стал живым свидетелем катастрофического опустынивания Вёшенской земли. Раньше, говорят, ствол дуба начинал раздваиваться на такой высоте, что казак, сидя на лошади, едва доставал до неё острием шашки. Значит, к настоящему времени 1,5-2 метра дубового ствола занесено пес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ислушиваясь к шелесту листвы, можно услышать и укор нам, живущим, за то, что беспощадно истребляли леса, загрязняли воздух, почву, реки – и предупреждение: ещё не поздно остановиться, ещё есть время многое исправить, чтобы красотой донского края могли восхищаться и живущие после нас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1979640" y="692280"/>
            <a:ext cx="4824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3333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Урочище Островное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3333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578560" y="1690920"/>
            <a:ext cx="2763720" cy="22885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амятник приро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ластного знач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9.10.200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ёшенский лесхоз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ёшенское лесничеств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в.69-71; 75,77-83;91-1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95280" y="4937040"/>
            <a:ext cx="8209080" cy="119124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рочище Островное – один из замечательных уголков вешенской земли. Расположенное  восточнее станицы Вёшенской урочище общей  площадью 3670 га занимает пойму реки Дон и часть надпойменной террасы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едставлены редкие виды растений, животных, многие виды ценных рыб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2"/>
          <a:stretch/>
        </p:blipFill>
        <p:spPr>
          <a:xfrm>
            <a:off x="611280" y="1484280"/>
            <a:ext cx="432108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 txBox="1"/>
          <p:nvPr/>
        </p:nvSpPr>
        <p:spPr>
          <a:xfrm>
            <a:off x="1979640" y="692280"/>
            <a:ext cx="4824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3333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Урочище Островное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3333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2"/>
          <a:stretch/>
        </p:blipFill>
        <p:spPr>
          <a:xfrm>
            <a:off x="3780000" y="2023920"/>
            <a:ext cx="4968720" cy="372744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250920" y="2492280"/>
            <a:ext cx="3457440" cy="270576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вое название урочище получило от озера Островное благодаря расположенному в нем остров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Берега озер и проток урочища низкие, в некоторых местах заболочены. Здесь до 1940-х годов находился хутор Остров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 txBox="1"/>
          <p:nvPr/>
        </p:nvSpPr>
        <p:spPr>
          <a:xfrm>
            <a:off x="1979640" y="692280"/>
            <a:ext cx="4824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3333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Урочище Островное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3333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68360" y="5338080"/>
            <a:ext cx="82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50920" y="5373720"/>
            <a:ext cx="8424720" cy="1191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 красоте и разнообразию природных условий, а также как место, отвечающее всем требованиям воспроизводства рыбы «Островное» является местом уникальным. Одно из любимых мест отдыха М.А. Шолохова, с красотой которого часто знакомил своих г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1619280" y="1341360"/>
            <a:ext cx="5473800" cy="378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2771640" y="765000"/>
            <a:ext cx="34290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Урочище Паники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4"/>
          <a:stretch/>
        </p:blipFill>
        <p:spPr>
          <a:xfrm>
            <a:off x="779400" y="1600200"/>
            <a:ext cx="3394080" cy="453384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4572000" y="1989000"/>
            <a:ext cx="4032360" cy="376560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амятник природы областного значения № 418 19.10.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ёшенский лесхо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сположен центральной части Шолоховского района в 2-х км на восток от х. Антиповский, занимает 68 квартал 16,18,21, 49 выделы Дубровского леснич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лощадь памятника природы -15,0г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427640" y="3429000"/>
            <a:ext cx="41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6T08:56:51Z</dcterms:created>
  <dc:creator>Софина</dc:creator>
  <dc:description/>
  <dc:language>en-US</dc:language>
  <cp:lastModifiedBy>Admin</cp:lastModifiedBy>
  <dcterms:modified xsi:type="dcterms:W3CDTF">2011-11-27T21:07:29Z</dcterms:modified>
  <cp:revision>29</cp:revision>
  <dc:subject/>
  <dc:title>Слайд 1</dc:title>
</cp:coreProperties>
</file>