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237B-6B7B-4F1A-ABE3-C085E3AC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E189-DC8E-4C81-9352-BABEB393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8C464-1194-4757-8077-7EA547B1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9F9D-D492-4482-ACC4-A99AC5CE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A9BB-3E75-4E7E-89F2-A00E3366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139F-67E6-4138-8008-87D5FD30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5A50-9A75-4F80-AFFC-7E61E293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7693-076D-47D3-B8F1-E6464BC5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2C37-FF93-4061-96DC-00F5D846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3978-2AF0-4E7E-A36B-8FC1FB3E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5FB1-7B65-42D7-96EE-3C1E4083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9E1D-0C2E-43F0-B971-EDB304B5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AA49-2E67-43B5-A759-5E3BEFAE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2686-5C5D-4F5B-A936-0C78308A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4A96-29AA-4581-98EE-26D5B5DB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62F2-BD23-45A1-B04D-38FAA0F3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6E9D-3F8F-48F5-B1CB-7340B3CB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B2FA7-FD21-4FCD-8BA2-189DE376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323A-8C9C-4D7B-B6A5-A1292E98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162E-C699-4B30-9488-64583DFF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9030-D3E7-47C6-BC74-E0A511A5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49A0-52EA-4CDD-A13A-AE24E20C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7BD9-10C4-49AD-9937-DAAB0BBE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8C2D-0E39-4738-B4D0-FB60B32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3062-DC0F-4428-A817-F3EE47F8E7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1B0F-632D-4F3A-A870-590A9AE39B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211/rodnaia2009.0/0_46ef_36354c46_L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39.radikal.ru/i086/1004/68/c545e4974974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1.fastpic.ru/big/2009/1206/36/e4eb0de566be4ab58f920554ab26e736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garoza.com/i/p/gdanov3-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1c05"/>
                </a:solidFill>
                <a:latin typeface="Constantia"/>
              </a:rPr>
              <a:t>МЕТОДИЧЕСКАЯ РАЗРАБОТКА ВНЕКЛАССНОГО </a:t>
            </a:r>
            <a:br>
              <a:rPr sz="2400"/>
            </a:br>
            <a:r>
              <a:rPr b="1" lang="en-US" sz="2400" spc="-1" strike="noStrike">
                <a:solidFill>
                  <a:srgbClr val="f91c05"/>
                </a:solidFill>
                <a:latin typeface="Constantia"/>
              </a:rPr>
              <a:t>МЕРОПРИЯТИЯ ПО ПРОФИЛАКТИКЕ УПОТРЕБЛЕНИЯ АЛКОГОЛЯ ДЛЯ УЧАЩИХСЯ</a:t>
            </a:r>
            <a:br>
              <a:rPr sz="2400"/>
            </a:br>
            <a:r>
              <a:rPr b="1" lang="en-US" sz="3600" spc="-1" strike="noStrike">
                <a:solidFill>
                  <a:srgbClr val="f91c05"/>
                </a:solidFill>
                <a:latin typeface="Constantia"/>
              </a:rPr>
              <a:t>7-9</a:t>
            </a:r>
            <a:r>
              <a:rPr b="1" lang="en-US" sz="2400" spc="-1" strike="noStrike">
                <a:solidFill>
                  <a:srgbClr val="f91c05"/>
                </a:solidFill>
                <a:latin typeface="Constantia"/>
              </a:rPr>
              <a:t> КЛАССОВ</a:t>
            </a:r>
            <a:br>
              <a:rPr sz="2400"/>
            </a:br>
            <a:r>
              <a:rPr b="1" lang="en-US" sz="3600" spc="-1" strike="noStrike">
                <a:solidFill>
                  <a:srgbClr val="f91c05"/>
                </a:solidFill>
                <a:latin typeface="Constantia"/>
              </a:rPr>
              <a:t>«ФАКТОРЫ РИСКА ПИВНОГО АЛКОГОЛИЗМА»</a:t>
            </a:r>
            <a:br>
              <a:rPr sz="2400"/>
            </a:br>
            <a:endParaRPr b="1" lang="en-US" sz="36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657600" y="480060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1c05"/>
                </a:solidFill>
                <a:latin typeface="Garamond"/>
              </a:rPr>
              <a:t>Подготовила и провела Пищенкова С.А.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1c05"/>
                </a:solidFill>
                <a:latin typeface="Garamond"/>
              </a:rPr>
              <a:t>учитель математики </a:t>
            </a:r>
            <a:r>
              <a:rPr b="1" lang="en-US" sz="2000" spc="-1" strike="noStrike">
                <a:solidFill>
                  <a:srgbClr val="f91c05"/>
                </a:solidFill>
                <a:latin typeface="Garamond"/>
              </a:rPr>
              <a:t>I </a:t>
            </a:r>
            <a:r>
              <a:rPr b="1" lang="ru-RU" sz="2000" spc="-1" strike="noStrike">
                <a:solidFill>
                  <a:srgbClr val="f91c05"/>
                </a:solidFill>
                <a:latin typeface="Garamond"/>
              </a:rPr>
              <a:t>квалификационной категории МСКОУ «Специальная (коррекционная) общеобразовательная школа </a:t>
            </a:r>
            <a:r>
              <a:rPr b="1" lang="en-US" sz="2000" spc="-1" strike="noStrike">
                <a:solidFill>
                  <a:srgbClr val="f91c05"/>
                </a:solidFill>
                <a:latin typeface="Garamond"/>
              </a:rPr>
              <a:t>VIII </a:t>
            </a:r>
            <a:r>
              <a:rPr b="1" lang="ru-RU" sz="2000" spc="-1" strike="noStrike">
                <a:solidFill>
                  <a:srgbClr val="f91c05"/>
                </a:solidFill>
                <a:latin typeface="Garamond"/>
              </a:rPr>
              <a:t>вид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1c05"/>
                </a:solidFill>
                <a:latin typeface="Constantia"/>
              </a:rPr>
              <a:t>ОПЫТ № </a:t>
            </a:r>
            <a:r>
              <a:rPr b="1" lang="en-US" sz="5400" spc="-1" strike="noStrike">
                <a:solidFill>
                  <a:srgbClr val="f91c05"/>
                </a:solidFill>
                <a:latin typeface="Constantia"/>
              </a:rPr>
              <a:t>2</a:t>
            </a:r>
            <a:endParaRPr b="1" lang="en-US" sz="5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nstantia"/>
              </a:rPr>
              <a:t>Слева молоко, добавленное в воду, справа в пив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324480" cy="39625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1c05"/>
                </a:solidFill>
                <a:latin typeface="Constantia"/>
              </a:rPr>
              <a:t>Особенности употребления алкоголя на Руси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onstantia"/>
              </a:rPr>
              <a:t>    </a:t>
            </a:r>
            <a:r>
              <a:rPr b="1" lang="ru-RU" sz="2200" spc="-1" strike="noStrike">
                <a:solidFill>
                  <a:srgbClr val="ff0066"/>
                </a:solidFill>
                <a:latin typeface="Constantia"/>
              </a:rPr>
              <a:t>Русичи употребляли лишь слабоградусные «напит-ки», приготовленные на основе мёда: брагу, медо-вуху, пиво, квас. С Х века появилось привозное вино, которое, разбавлялось водой и по крепости  не превосходило 11%.Их приём сопровождался обильной едой. Напиваться допьяна не было принято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581280" cy="426708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1c05"/>
                </a:solidFill>
                <a:latin typeface="Constantia"/>
              </a:rPr>
              <a:t>МЕДАЛЬ ЗА ПЬЯНСТВО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549760" cy="408276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1c05"/>
                </a:solidFill>
                <a:latin typeface="Constantia"/>
              </a:rPr>
              <a:t>ПИВО ВЕДЁТ К ТРАГЕДИИ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657600" cy="323676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3581640" cy="266688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952880" y="4114800"/>
            <a:ext cx="3581640" cy="249228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19699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1c05"/>
                </a:solidFill>
                <a:latin typeface="Constantia"/>
              </a:rPr>
              <a:t>ПЕЙ ПИВО!!!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37" name="" descr="Картинка 6 из 353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523880"/>
            <a:ext cx="3494160" cy="45259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  <p:pic>
        <p:nvPicPr>
          <p:cNvPr id="138" name="" descr="Реклама пива Heineken | heinekenкреатив,пиво,реклама"/>
          <p:cNvPicPr/>
          <p:nvPr/>
        </p:nvPicPr>
        <p:blipFill>
          <a:blip r:embed="rId3"/>
          <a:stretch/>
        </p:blipFill>
        <p:spPr>
          <a:xfrm>
            <a:off x="4952880" y="990720"/>
            <a:ext cx="3276720" cy="259056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952880" y="3962520"/>
            <a:ext cx="3200400" cy="256860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1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9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8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0"/>
                            </p:stCondLst>
                            <p:childTnLst>
                              <p:par>
                                <p:cTn id="4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4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0"/>
                            </p:stCondLst>
                            <p:childTnLst>
                              <p:par>
                                <p:cTn id="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23904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nstantia"/>
              </a:rPr>
              <a:t>ТЕБЕ ВЫБИРАТЬ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42" name="" descr="Картинка 39 из 14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295280"/>
            <a:ext cx="3352680" cy="2490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Содержимое 3" descr="DSCN1492.jpg"/>
          <p:cNvPicPr/>
          <p:nvPr/>
        </p:nvPicPr>
        <p:blipFill>
          <a:blip r:embed="rId3"/>
          <a:stretch/>
        </p:blipFill>
        <p:spPr>
          <a:xfrm>
            <a:off x="5105520" y="1295280"/>
            <a:ext cx="3504960" cy="2514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533520" y="4038480"/>
            <a:ext cx="335268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105520" y="4038480"/>
            <a:ext cx="3504960" cy="2514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600200" y="3144960"/>
            <a:ext cx="5943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91c05"/>
                </a:solidFill>
                <a:latin typeface="Constantia"/>
              </a:rPr>
              <a:t>РЕЗУЛЬТАТЫ ОПРОСА</a:t>
            </a:r>
            <a:endParaRPr b="1" lang="en-US" sz="42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Всего опрошено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20 учащихся 7-9 клас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Употребляли алкоголь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все 20 челове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Constantia"/>
              </a:rPr>
              <a:t>-Пиво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-17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-Алкогольные коктейли - 10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-Вино-9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-Водку-8 челове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Возраст, когда впервые попробовали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алкогол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-10-12 лет-9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-13-14 лет-8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-15 лет -1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ff0066"/>
                </a:solidFill>
                <a:latin typeface="Constantia"/>
              </a:rPr>
              <a:t>-6 лет- 1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3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4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Как часто употребляешь пиво?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en-US" sz="2600" spc="-1" strike="noStrike">
                <a:solidFill>
                  <a:srgbClr val="ff0066"/>
                </a:solidFill>
                <a:latin typeface="Constantia"/>
              </a:rPr>
              <a:t>- 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каждый день- 3 человек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  </a:t>
            </a:r>
            <a:r>
              <a:rPr b="1" i="1" lang="en-US" sz="2600" spc="-1" strike="noStrike">
                <a:solidFill>
                  <a:srgbClr val="ff0066"/>
                </a:solidFill>
                <a:latin typeface="Constantia"/>
              </a:rPr>
              <a:t>- 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1 раз в неделю- 4 человек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  </a:t>
            </a:r>
            <a:r>
              <a:rPr b="1" i="1" lang="en-US" sz="2600" spc="-1" strike="noStrike">
                <a:solidFill>
                  <a:srgbClr val="ff0066"/>
                </a:solidFill>
                <a:latin typeface="Constantia"/>
              </a:rPr>
              <a:t>- 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1 раз в месяц- 8 человек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  </a:t>
            </a:r>
            <a:r>
              <a:rPr b="1" i="1" lang="en-US" sz="2600" spc="-1" strike="noStrike">
                <a:solidFill>
                  <a:srgbClr val="ff0066"/>
                </a:solidFill>
                <a:latin typeface="Constantia"/>
              </a:rPr>
              <a:t>- 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ещё реже- 3 человек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  </a:t>
            </a:r>
            <a:r>
              <a:rPr b="1" i="1" lang="en-US" sz="2600" spc="-1" strike="noStrike">
                <a:solidFill>
                  <a:srgbClr val="ff0066"/>
                </a:solidFill>
                <a:latin typeface="Constantia"/>
              </a:rPr>
              <a:t>- 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не пью совсем- 2 человек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ля чего пьёте пиво?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Constantia"/>
              </a:rPr>
              <a:t>- 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за компанию- 8 человек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- для веселья- 5 человек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- нравится вкус- </a:t>
            </a:r>
            <a:r>
              <a:rPr b="1" i="1" lang="en-US" sz="2600" spc="-1" strike="noStrike">
                <a:solidFill>
                  <a:srgbClr val="ff0066"/>
                </a:solidFill>
                <a:latin typeface="Constantia"/>
              </a:rPr>
              <a:t>3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 человек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66"/>
                </a:solidFill>
                <a:latin typeface="Constantia"/>
              </a:rPr>
              <a:t>- 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утоляю жажду- 2 человек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784700"/>
              </a:buClr>
              <a:buSzPct val="70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Вызавает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ли  алкогольную зависимость пиво?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nstantia"/>
              </a:rPr>
              <a:t>- </a:t>
            </a: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да- 10 человек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Constantia"/>
              </a:rPr>
              <a:t>- нет – 10 человек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nstantia"/>
              </a:rPr>
              <a:t>Сегодня в России на одного человека приходится около 14 литров чистого алкоголя в год. Каждый россиянин в среднем выпивает 43 литра пива в год.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7" name="Содержимое 3" descr="7V5BXXQUwi.jpg"/>
          <p:cNvPicPr/>
          <p:nvPr/>
        </p:nvPicPr>
        <p:blipFill>
          <a:blip r:embed="rId1"/>
          <a:stretch/>
        </p:blipFill>
        <p:spPr>
          <a:xfrm>
            <a:off x="304920" y="2743200"/>
            <a:ext cx="4038480" cy="35053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038480" cy="35053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nstantia"/>
              </a:rPr>
              <a:t>Сейчас в России отмечается рост подросткового алкоголизма, преимущественно за счёт пивной зависимости. Учащаются случаи алкогольной зависимости и даже алкогольных психозов у детей 10-12 лет</a:t>
            </a:r>
            <a:endParaRPr b="1" lang="en-US" sz="26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0" name="Содержимое 3" descr="buh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0880" y="2666880"/>
            <a:ext cx="3733920" cy="37609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  <p:pic>
        <p:nvPicPr>
          <p:cNvPr id="111" name="" descr="Картинка 12 из 14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666880"/>
            <a:ext cx="4038480" cy="37339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1c05"/>
                </a:solidFill>
                <a:latin typeface="Constantia"/>
              </a:rPr>
              <a:t>Сердце человека, употребляющего пиво</a:t>
            </a:r>
            <a:endParaRPr b="1" lang="en-US" sz="36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3" name="" descr="Картинка 6 из 14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1c05"/>
                </a:solidFill>
                <a:latin typeface="Constantia"/>
              </a:rPr>
              <a:t>Печень человека, употребляющего пиво</a:t>
            </a:r>
            <a:endParaRPr b="1" lang="en-US" sz="36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400800" cy="41911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1c05"/>
                </a:solidFill>
                <a:latin typeface="Constantia"/>
              </a:rPr>
              <a:t>Мозг человека, употребляющего пиво</a:t>
            </a:r>
            <a:endParaRPr b="1" lang="en-US" sz="36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715000" cy="414360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1c05"/>
                </a:solidFill>
                <a:latin typeface="Constantia"/>
              </a:rPr>
              <a:t>ОПЫТ № </a:t>
            </a:r>
            <a:r>
              <a:rPr b="1" lang="en-US" sz="5400" spc="-1" strike="noStrike">
                <a:solidFill>
                  <a:srgbClr val="f91c05"/>
                </a:solidFill>
                <a:latin typeface="Constantia"/>
              </a:rPr>
              <a:t>1</a:t>
            </a:r>
            <a:endParaRPr b="1" lang="en-US" sz="5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7848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nstantia"/>
              </a:rPr>
              <a:t>Слева луковица, находившаяся неделю в воде, справа-в пив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248520" cy="4191120"/>
          </a:xfrm>
          <a:prstGeom prst="rect">
            <a:avLst/>
          </a:prstGeom>
          <a:ln w="38160">
            <a:solidFill>
              <a:srgbClr val="f91c0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4-27T15:56:4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