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56F-A312-479A-9F59-4A5F817A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CA7-12E9-4D71-8457-BECCE3B4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7DF-D1DE-4DC0-BFBE-06D96E0C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AA1-3F44-4029-A843-02BE49B5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10A6-8D9C-4B39-9FB4-63E108AA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53B7-384D-4441-B330-C3DB5967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5922-54BF-4B65-87A4-04656ABD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AD63-6D03-4BAB-A2DE-C9DA658D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3C43-367D-4954-BD76-407C623A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C3FD-A7BD-4507-B30F-D59790D7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D65B-158D-4838-AB3B-0AB3214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84A-9B3C-4A26-9745-49C69C0D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6270-E987-4F60-90CA-DAD0C80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C90A-DF30-434E-BA61-2F9A3B31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1D1E-12BE-4E16-9881-D51F1E0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1DA-969C-4CCA-AF8C-3BC3B8FA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9C51-5983-421E-98FF-325C7F00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A6F-2FA3-4636-82F9-B5BCBFBF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E96-ADB5-41D9-8E73-CE997DC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37E-0994-430A-9702-4BA3910F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9F2-5976-4CC8-95B3-CF9A902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113-948B-4ACA-8B97-322585EB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ED3-290F-4769-B9C4-2BA93FB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FE0-B55F-4071-BCFF-2F3CD8D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BF77-B97D-444A-82F4-B81CEA172D2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B0B0-38DC-4D35-9C05-DBB2A7152A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58/5878/587816/img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300"/>
            </a:br>
            <a:br>
              <a:rPr sz="9300"/>
            </a:br>
            <a:br>
              <a:rPr sz="9300"/>
            </a:br>
            <a:endParaRPr b="0" lang="en-US" sz="9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260280"/>
            <a:ext cx="756144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әламәтлек-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ур байлык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Чыршыдай биек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Нараттай төз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Зиректәй алсу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Кояштай сылу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Имәндәй таза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Әхлаклы һәм сау-сәламәт булыгыз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-89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600" spc="-1" strike="noStrike">
                <a:solidFill>
                  <a:srgbClr val="eaeaea"/>
                </a:solidFill>
                <a:latin typeface="Verdana"/>
              </a:rPr>
              <a:t>Сәламәт булу өчен, нишләргә кирәк?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Спорт белән шөгыльләнергә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Иртән зарядка ясарга, спорт түгәрәкләренә йөрергә, кышын тимераякта яки чаңгыда шуарга, ә җәен су коенырга, кояшта кызынырга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Көндәлек режимны сакларга, акыл хезмәтен, физик хезмәт белән аралаштырырга, авыр эштән соң ял итәргә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Дөрес тукланырга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Күбрәк яшелчә һәм җиләк-җимеш ашарга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Йокы алдыннан майлы, кызырылган, баллы ризыклар ашарга ярамый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Ел вакытына карап, дөрес киенә белү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Җәен җиңел, кышын җылы кием кияргә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ичек а</a:t>
            </a:r>
            <a:r>
              <a:rPr b="0" lang="tt-RU" sz="4000" spc="-1" strike="noStrike">
                <a:solidFill>
                  <a:srgbClr val="ffffcc"/>
                </a:solidFill>
                <a:latin typeface="Arial"/>
              </a:rPr>
              <a:t>ңлыйсыз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600" spc="-1" strike="noStrike">
                <a:solidFill>
                  <a:srgbClr val="eaeaea"/>
                </a:solidFill>
                <a:latin typeface="Verdana"/>
              </a:rPr>
              <a:t>Акыл хезмәтен, физик хезмәт белән аралаштырырга кирәк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Инфинитив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eaeaea"/>
                </a:solidFill>
                <a:latin typeface="Verdana"/>
              </a:rPr>
              <a:t>Барлык формасы –рга, -ргә, -ырга, -ергә, -арга, -әргә, -яргә, -ярга кушымчалары белән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eaeaea"/>
                </a:solidFill>
                <a:latin typeface="Verdana"/>
              </a:rPr>
              <a:t>Юклык формасы –маска,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eaeaea"/>
                </a:solidFill>
                <a:latin typeface="Verdana"/>
              </a:rPr>
              <a:t>-мәскә кушымчалары белән ясал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Күзләрне ял иттер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Картинка 174 из 1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628640"/>
            <a:ext cx="842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Мәкал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ь</a:t>
            </a: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ләр һәм әйтемнә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йлык – бер айлык,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йлыкның башы  -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ламәт тәндә,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акьлек сөйгән,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ф һава -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ламәтлек - җәүһәр,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аза булсаң,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улык  -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у булыр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улык – гомерлек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ламәт акыл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аш та ярып була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ур байлык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азалык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әнгә дәва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әкин тиз югала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Яңа сүзләр я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1000" spc="-1" strike="noStrike">
                <a:solidFill>
                  <a:srgbClr val="eaeaea"/>
                </a:solidFill>
                <a:latin typeface="Verdana"/>
              </a:rPr>
              <a:t>Сәламәтлек</a:t>
            </a:r>
            <a:endParaRPr b="0" lang="en-US" sz="1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Өй эш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eaeaea"/>
                </a:solidFill>
                <a:latin typeface="Verdana"/>
              </a:rPr>
              <a:t>Сез үзегез сәламәтлегегезне ничек саклыйсыз? 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eaeaea"/>
                </a:solidFill>
                <a:latin typeface="Verdana"/>
              </a:rPr>
              <a:t>Шул турыда хикәя язып килергә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6:59:48Z</dcterms:created>
  <dc:creator>User</dc:creator>
  <dc:description/>
  <dc:language>en-US</dc:language>
  <cp:lastModifiedBy>User</cp:lastModifiedBy>
  <dcterms:modified xsi:type="dcterms:W3CDTF">2011-11-28T17:19:28Z</dcterms:modified>
  <cp:revision>6</cp:revision>
  <dc:subject/>
  <dc:title>   </dc:title>
</cp:coreProperties>
</file>