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C3B-5705-4514-9369-33D272FD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962C-F371-4254-95FD-B2A21976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DDA-D7F1-41DC-9A68-FBE8A643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7F3-4958-4529-B4FB-185469A0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2F5A-ABCD-45DB-971E-35CA1D0D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D9DA-8165-4DE6-A323-C17E84B5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F7DC-78C9-4379-89C0-50822577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E0E7-1C3F-447E-8851-BBA13599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45B5-25B5-46F4-8282-8128D4D3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FD3A-6EFF-42BB-A02B-2A193D31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230B-102D-410E-BDE8-DF9F9B35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1CC-7C5D-40F2-AA35-9CADF213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C772-CCAA-4342-9A15-911C99DF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2334-AF50-4B86-B8D3-096D443C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60DD-7BDC-4B67-813E-F145CF2D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5C0E-A00C-4712-BE50-AECB9772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266E-53B1-4E07-864B-F130FDF6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0D1-6AAA-4811-9FAD-C7DF8E9C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991-32E8-48A1-8CB7-1F7C375F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859-E8BB-43B3-B403-707905EF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FE2-D76B-4684-9618-673AEF35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9A9-B4C3-42EE-9138-F4D91668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239-D948-4C14-85F5-9746E2DC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BE7-57CB-407B-BDE2-A5468DBE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B304-B627-4D0F-8351-0B60E8E7523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9904-548E-495A-BCC4-2DD0CD4F7E2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files/articles/58/5878/587816/img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300"/>
            </a:br>
            <a:br>
              <a:rPr sz="9300"/>
            </a:br>
            <a:br>
              <a:rPr sz="9300"/>
            </a:br>
            <a:endParaRPr b="0" lang="en-US" sz="9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260280"/>
            <a:ext cx="7561440" cy="54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әламәтлек-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ур байлык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eaeaea"/>
                </a:solidFill>
                <a:latin typeface="Verdana"/>
              </a:rPr>
              <a:t>Чыршыдай биек булыгыз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eaeaea"/>
                </a:solidFill>
                <a:latin typeface="Verdana"/>
              </a:rPr>
              <a:t>Нараттай төз булыгыз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eaeaea"/>
                </a:solidFill>
                <a:latin typeface="Verdana"/>
              </a:rPr>
              <a:t>Зиректәй алсу булыгыз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eaeaea"/>
                </a:solidFill>
                <a:latin typeface="Verdana"/>
              </a:rPr>
              <a:t>Кояштай сылу булыгыз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eaeaea"/>
                </a:solidFill>
                <a:latin typeface="Verdana"/>
              </a:rPr>
              <a:t>Имәндәй таза булыгыз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eaeaea"/>
                </a:solidFill>
                <a:latin typeface="Verdana"/>
              </a:rPr>
              <a:t>Әхлаклы һәм сау-сәламәт булыгыз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-89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600" spc="-1" strike="noStrike">
                <a:solidFill>
                  <a:srgbClr val="eaeaea"/>
                </a:solidFill>
                <a:latin typeface="Verdana"/>
              </a:rPr>
              <a:t>Сәламәт булу өчен, нишләргә кирәк?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eaeaea"/>
                </a:solidFill>
                <a:latin typeface="Verdana"/>
              </a:rPr>
              <a:t>Спорт белән шөгыльләнергә кирәк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eaeaea"/>
                </a:solidFill>
                <a:latin typeface="Verdana"/>
              </a:rPr>
              <a:t>Иртән зарядка ясарга, спорт түгәрәкләренә йөрергә, кышын тимераякта яки чаңгыда шуарга, ә җәен су коенырга, кояшта кызынырга кирәк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eaeaea"/>
                </a:solidFill>
                <a:latin typeface="Verdana"/>
              </a:rPr>
              <a:t>Көндәлек режимны сакларга, акыл хезмәтен, физик хезмәт белән аралаштырырга, авыр эштән соң ял итәргә кирәк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eaeaea"/>
                </a:solidFill>
                <a:latin typeface="Verdana"/>
              </a:rPr>
              <a:t>Дөрес тукланырга кирәк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eaeaea"/>
                </a:solidFill>
                <a:latin typeface="Verdana"/>
              </a:rPr>
              <a:t>Күбрәк яшелчә һәм җиләк-җимеш ашарга кирәк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eaeaea"/>
                </a:solidFill>
                <a:latin typeface="Verdana"/>
              </a:rPr>
              <a:t>Йокы алдыннан майлы, кызырылган, баллы ризыклар ашарга ярамый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eaeaea"/>
                </a:solidFill>
                <a:latin typeface="Verdana"/>
              </a:rPr>
              <a:t>Ел вакытына карап, дөрес киенә белү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eaeaea"/>
                </a:solidFill>
                <a:latin typeface="Verdana"/>
              </a:rPr>
              <a:t>Җәен җиңел, кышын җылы кием кияргә кирәк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ичек а</a:t>
            </a:r>
            <a:r>
              <a:rPr b="0" lang="tt-RU" sz="4000" spc="-1" strike="noStrike">
                <a:solidFill>
                  <a:srgbClr val="ffffcc"/>
                </a:solidFill>
                <a:latin typeface="Arial"/>
              </a:rPr>
              <a:t>ңлыйсыз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600" spc="-1" strike="noStrike">
                <a:solidFill>
                  <a:srgbClr val="eaeaea"/>
                </a:solidFill>
                <a:latin typeface="Verdana"/>
              </a:rPr>
              <a:t>Акыл хезмәтен, физик хезмәт белән аралаштырырга кирәк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cc"/>
                </a:solidFill>
                <a:latin typeface="Arial"/>
              </a:rPr>
              <a:t>Инфинитив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eaeaea"/>
                </a:solidFill>
                <a:latin typeface="Verdana"/>
              </a:rPr>
              <a:t>Барлык формасы –рга, -ргә, -ырга, -ергә, -арга, -әргә, -яргә, -ярга кушымчалары белән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eaeaea"/>
                </a:solidFill>
                <a:latin typeface="Verdana"/>
              </a:rPr>
              <a:t>Юклык формасы –маска,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eaeaea"/>
                </a:solidFill>
                <a:latin typeface="Verdana"/>
              </a:rPr>
              <a:t>-мәскә кушымчалары белән ясал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cc"/>
                </a:solidFill>
                <a:latin typeface="Arial"/>
              </a:rPr>
              <a:t>Күзләрне ял иттер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" descr="Картинка 174 из 1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628640"/>
            <a:ext cx="842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cc"/>
                </a:solidFill>
                <a:latin typeface="Arial"/>
              </a:rPr>
              <a:t>Мәкал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ь</a:t>
            </a:r>
            <a:r>
              <a:rPr b="0" lang="tt-RU" sz="4400" spc="-1" strike="noStrike">
                <a:solidFill>
                  <a:srgbClr val="ffffcc"/>
                </a:solidFill>
                <a:latin typeface="Arial"/>
              </a:rPr>
              <a:t>ләр һәм әйтемнә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5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айлык – бер айлык,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айлыкның башы  -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әламәт тәндә,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акьлек сөйгән,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ф һава -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әламәтлек - җәүһәр,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аза булсаң,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улык  -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у булыр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улык – гомерлек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әламәт акыл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аш та ярып була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ур байлык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азалык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әнгә дәва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ләкин тиз югала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cc"/>
                </a:solidFill>
                <a:latin typeface="Arial"/>
              </a:rPr>
              <a:t>Яңа сүзләр яс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1000" spc="-1" strike="noStrike">
                <a:solidFill>
                  <a:srgbClr val="eaeaea"/>
                </a:solidFill>
                <a:latin typeface="Verdana"/>
              </a:rPr>
              <a:t>Сәламәтлек</a:t>
            </a:r>
            <a:endParaRPr b="0" lang="en-US" sz="11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cc"/>
                </a:solidFill>
                <a:latin typeface="Arial"/>
              </a:rPr>
              <a:t>Өй эш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eaeaea"/>
                </a:solidFill>
                <a:latin typeface="Verdana"/>
              </a:rPr>
              <a:t>Сез үзегез сәламәтлегегезне ничек саклыйсыз? 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eaeaea"/>
                </a:solidFill>
                <a:latin typeface="Verdana"/>
              </a:rPr>
              <a:t>Шул турыда хикәя язып килергә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6:59:48Z</dcterms:created>
  <dc:creator>User</dc:creator>
  <dc:description/>
  <dc:language>en-US</dc:language>
  <cp:lastModifiedBy>User</cp:lastModifiedBy>
  <dcterms:modified xsi:type="dcterms:W3CDTF">2011-11-28T17:19:28Z</dcterms:modified>
  <cp:revision>6</cp:revision>
  <dc:subject/>
  <dc:title>   </dc:title>
</cp:coreProperties>
</file>