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1E5-88AB-40AC-81EB-899CD1EE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2F8-54BA-43DA-AAD4-E796EA75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649-9E93-4647-9881-04E9DB7D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0A8-CBC4-4435-90D4-18CA7C51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7F06-839B-4435-A3E8-06302CAE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2B47-CC1A-4648-A0E4-E85CC5F7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8844-3CE6-4447-A4AA-01138194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A921-5838-4E0C-97FF-85EFE59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D92E-AE36-4902-B7F0-B7C99F29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4C63-9BDA-4E46-B074-9B3B98C8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653A-2794-4698-88D3-405168C2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183-3951-4413-9F2F-C6111347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117D-75B1-4F3D-8991-720AB3C9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C11-3FC2-42F4-8517-087CBA1C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21DE-D19C-4B7C-B6A4-F49D2E6A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8E10-AFE8-4561-9E48-2E5E78A6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E26F-DFA9-49B8-95B3-6BB5ABE0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F19-6D19-4273-8F6A-2C4EEAE9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E04-F0A2-44AB-B1CF-1C17AF90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E67-9D3D-4EB8-872F-6A99D8F7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0BB-55E0-44D7-8941-164668EC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75D-C6C6-4D60-9CA6-7827DDA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9AC-56A1-4334-8AA1-FC08D14D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F02-2C9E-44F6-8B97-6E048B4C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7080-59AC-4600-A997-88D8739E120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79C1-4467-44E0-9F7F-9381B53FA8F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ikiprinciple.ru/Aikido_files/010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avos.com.ua/image/board/large/6735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lesgymnastesdegr.free.fr/autres/img549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dramaformama.files.wordpress.com/2010/11/gymnastics_117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.66.ru/doska/images/6/4/13/641311/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khabar.kz/i_data/1313770463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7558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000" spc="-1" strike="noStrike">
                <a:solidFill>
                  <a:srgbClr val="006666"/>
                </a:solidFill>
                <a:latin typeface="Tahoma"/>
              </a:rPr>
              <a:t>Спорт түгәрәкләре</a:t>
            </a: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727000" y="4279680"/>
            <a:ext cx="590868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tt-RU" sz="3200" spc="-1" strike="noStrike">
                <a:solidFill>
                  <a:srgbClr val="006699"/>
                </a:solidFill>
                <a:latin typeface="Verdana"/>
              </a:rPr>
              <a:t>10 нчы сыйныф укучылары Паранин Никита төзеде 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6666"/>
                </a:solidFill>
                <a:latin typeface="Verdana"/>
              </a:rPr>
              <a:t>Спорт түгәрәкләре бик күп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Айкидо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Гимнастик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Волейбо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Карате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6699"/>
                </a:solidFill>
                <a:latin typeface="Verdana"/>
              </a:rPr>
              <a:t>Җиңел атлетика һәм башкалар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йкид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Япон сугыш с</a:t>
            </a: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әнгате. Айкидо белән шөгыл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ь</a:t>
            </a: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ләнгән кеше физик яктан гына түгел, рухи яктан да үс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Картинка 6 из 88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141720"/>
            <a:ext cx="2525760" cy="3117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508720" y="3068640"/>
            <a:ext cx="3241440" cy="324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Картинка 39 из 890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2617920"/>
            <a:ext cx="31687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имнаст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6699"/>
                </a:solidFill>
                <a:latin typeface="Verdana"/>
              </a:rPr>
              <a:t>Бик популяр булган спорт төрләренең берсе. Аның берничә төре бар. Мәсәлән, сәламәтләндерү гимнастикасы. Аңа иртәнге зарядка, дәрестә физкул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ьтминуткалар ясау керә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229600" cy="3340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4200" y="2708280"/>
            <a:ext cx="2616120" cy="3522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15 из 1054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2997360"/>
            <a:ext cx="3240360" cy="269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2257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олейбо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Комбинациял</a:t>
            </a: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әргә нигезләнгән спорт төр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99"/>
                </a:solidFill>
                <a:latin typeface="Verdana"/>
              </a:rPr>
              <a:t>Спорт мәйданында   һәрбер уенчының үз махсус урыны бар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8360" y="2707920"/>
            <a:ext cx="8229600" cy="341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09480" y="2708280"/>
            <a:ext cx="2397240" cy="345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987640" y="3284640"/>
            <a:ext cx="3240000" cy="2419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189840" y="2637000"/>
            <a:ext cx="2719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арат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6699"/>
                </a:solidFill>
                <a:latin typeface="Verdana"/>
              </a:rPr>
              <a:t>Карате (каратэ)- япон сугыш сәнгат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229600" cy="3340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852640"/>
            <a:ext cx="3744720" cy="3108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203640" y="285264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508720" y="2708280"/>
            <a:ext cx="36352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6666"/>
                </a:solidFill>
                <a:latin typeface="Verdana"/>
              </a:rPr>
              <a:t>Җиңел атлет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орт төрләренең җыелмасы. Аңа йөгерү, йөрү, сикерү һәм башкалар керә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229600" cy="3268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Картинка 3 из 1039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068640"/>
            <a:ext cx="4176720" cy="2797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7760" y="2781360"/>
            <a:ext cx="2208240" cy="3311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413400" y="2708280"/>
            <a:ext cx="246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6666"/>
                </a:solidFill>
                <a:latin typeface="Verdana"/>
              </a:rPr>
              <a:t>Алабугада спор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" descr="Картинка 13 из 293"/>
          <p:cNvPicPr/>
          <p:nvPr/>
        </p:nvPicPr>
        <p:blipFill>
          <a:blip r:embed="rId1"/>
          <a:stretch/>
        </p:blipFill>
        <p:spPr>
          <a:xfrm>
            <a:off x="2411280" y="2708280"/>
            <a:ext cx="4286520" cy="2543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22 из 293"/>
          <p:cNvPicPr/>
          <p:nvPr/>
        </p:nvPicPr>
        <p:blipFill>
          <a:blip r:embed="rId2"/>
          <a:stretch/>
        </p:blipFill>
        <p:spPr>
          <a:xfrm>
            <a:off x="108000" y="414972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Картинка 67 из 293"/>
          <p:cNvPicPr/>
          <p:nvPr/>
        </p:nvPicPr>
        <p:blipFill>
          <a:blip r:embed="rId3"/>
          <a:stretch/>
        </p:blipFill>
        <p:spPr>
          <a:xfrm>
            <a:off x="108000" y="1557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Картинка 73 из 293"/>
          <p:cNvPicPr/>
          <p:nvPr/>
        </p:nvPicPr>
        <p:blipFill>
          <a:blip r:embed="rId4"/>
          <a:stretch/>
        </p:blipFill>
        <p:spPr>
          <a:xfrm>
            <a:off x="5867280" y="1557360"/>
            <a:ext cx="2916360" cy="251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Картинка 7 из 729"/>
          <p:cNvPicPr/>
          <p:nvPr/>
        </p:nvPicPr>
        <p:blipFill>
          <a:blip r:embed="rId5"/>
          <a:stretch/>
        </p:blipFill>
        <p:spPr>
          <a:xfrm>
            <a:off x="5867280" y="4149720"/>
            <a:ext cx="2952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5:48:04Z</dcterms:created>
  <dc:creator>User</dc:creator>
  <dc:description/>
  <dc:language>en-US</dc:language>
  <cp:lastModifiedBy>User</cp:lastModifiedBy>
  <dcterms:modified xsi:type="dcterms:W3CDTF">2011-11-28T16:59:42Z</dcterms:modified>
  <cp:revision>13</cp:revision>
  <dc:subject/>
  <dc:title>Слайд 1</dc:title>
</cp:coreProperties>
</file>