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02C-91B7-40CC-9B67-EF5ECD52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FEA-CFB3-4449-A8C5-178A7ECA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E3C-A02B-4938-83B0-C6A9B19D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CDC-C9B2-4D94-9AA4-3871F507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ACB0-DD0B-4446-A13A-FB03569C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DD88-65A2-48EF-BAE2-8CCEA4E9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BF01-A643-4601-BCC1-60133D58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A94D-A3B0-46D8-9B18-C321C755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4CDA-F0C2-4DEB-9015-D139CCF5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EAED-4DCF-45E7-B739-42F6A9CF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7330-6B8D-4BCC-A72E-8E9FB51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1A7-4630-4B3B-BE8A-C982AFCE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C7FA-32DF-4ABD-86C7-3EADFD2C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F19A-1809-4877-A090-3903D8D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A33C-19B1-4CF5-939E-D3268FEF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4D40-4FC4-415F-BEB2-BEA8B72F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B8D8-F87E-42C0-B4B4-0371A306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F6A-4B76-43B0-A43D-CB00669A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702-FCEF-4CD9-B41F-B43D5F6B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F75-53E0-48EE-8E9A-5268369C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5FF-8989-451D-BF8C-1866C8E6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D2B-2295-4CED-8779-65F083B2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9C0-8C4F-4CB0-9398-73236F2D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57C-F95E-47E1-BED3-513A1AB1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00CA-7BED-4EC6-84CC-241B6501A4E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3431-395B-45CC-90B5-9A302257B64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ikiprinciple.ru/Aikido_files/010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avos.com.ua/image/board/large/6735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lesgymnastesdegr.free.fr/autres/img549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dramaformama.files.wordpress.com/2010/11/gymnastics_117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.66.ru/doska/images/6/4/13/641311/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khabar.kz/i_data/1313770463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7558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000" spc="-1" strike="noStrike">
                <a:solidFill>
                  <a:srgbClr val="006666"/>
                </a:solidFill>
                <a:latin typeface="Tahoma"/>
              </a:rPr>
              <a:t>Спорт түгәрәкләре</a:t>
            </a: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727000" y="4279680"/>
            <a:ext cx="5908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tt-RU" sz="3200" spc="-1" strike="noStrike">
                <a:solidFill>
                  <a:srgbClr val="006699"/>
                </a:solidFill>
                <a:latin typeface="Verdana"/>
              </a:rPr>
              <a:t>10 нчы сыйныф укучылары Паранин Никита төзеде 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6666"/>
                </a:solidFill>
                <a:latin typeface="Verdana"/>
              </a:rPr>
              <a:t>Спорт түгәрәкләре бик күп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Айкидо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Гимнастик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Волейбо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Карате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Җиңел атлетика һәм башкалар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йкид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Япон сугыш с</a:t>
            </a: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әнгате. Айкидо белән шөгыл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ь</a:t>
            </a: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ләнгән кеше физик яктан гына түгел, рухи яктан да үс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Картинка 6 из 8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141720"/>
            <a:ext cx="2525760" cy="3117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508720" y="3068640"/>
            <a:ext cx="3241440" cy="324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Картинка 39 из 890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2617920"/>
            <a:ext cx="31687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имнаст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6699"/>
                </a:solidFill>
                <a:latin typeface="Verdana"/>
              </a:rPr>
              <a:t>Бик популяр булган спорт төрләренең берсе. Аның берничә төре бар. Мәсәлән, сәламәтләндерү гимнастикасы. Аңа иртәнге зарядка, дәрестә физкул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ьтминуткалар ясау керә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229600" cy="3340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4200" y="2708280"/>
            <a:ext cx="2616120" cy="3522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15 из 1054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2997360"/>
            <a:ext cx="3240360" cy="269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2257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олейбо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Комбинациял</a:t>
            </a: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әргә нигезләнгән спорт төр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Спорт мәйданында   һәрбер уенчының үз махсус урыны бар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8360" y="2707920"/>
            <a:ext cx="8229600" cy="341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09480" y="2708280"/>
            <a:ext cx="2397240" cy="345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987640" y="3284640"/>
            <a:ext cx="3240000" cy="2419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189840" y="2637000"/>
            <a:ext cx="271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арат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6699"/>
                </a:solidFill>
                <a:latin typeface="Verdana"/>
              </a:rPr>
              <a:t>Карате (каратэ)- япон сугыш сәнгат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229600" cy="3340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852640"/>
            <a:ext cx="3744720" cy="3108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203640" y="285264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508720" y="2708280"/>
            <a:ext cx="36352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6666"/>
                </a:solidFill>
                <a:latin typeface="Verdana"/>
              </a:rPr>
              <a:t>Җиңел атлет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орт төрләренең җыелмасы. Аңа йөгерү, йөрү, сикерү һәм башкалар керә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229600" cy="3268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Картинка 3 из 1039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068640"/>
            <a:ext cx="4176720" cy="2797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7760" y="2781360"/>
            <a:ext cx="2208240" cy="3311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413400" y="2708280"/>
            <a:ext cx="246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6666"/>
                </a:solidFill>
                <a:latin typeface="Verdana"/>
              </a:rPr>
              <a:t>Алабугада спор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" descr="Картинка 13 из 293"/>
          <p:cNvPicPr/>
          <p:nvPr/>
        </p:nvPicPr>
        <p:blipFill>
          <a:blip r:embed="rId1"/>
          <a:stretch/>
        </p:blipFill>
        <p:spPr>
          <a:xfrm>
            <a:off x="2411280" y="2708280"/>
            <a:ext cx="4286520" cy="2543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22 из 293"/>
          <p:cNvPicPr/>
          <p:nvPr/>
        </p:nvPicPr>
        <p:blipFill>
          <a:blip r:embed="rId2"/>
          <a:stretch/>
        </p:blipFill>
        <p:spPr>
          <a:xfrm>
            <a:off x="10800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Картинка 67 из 293"/>
          <p:cNvPicPr/>
          <p:nvPr/>
        </p:nvPicPr>
        <p:blipFill>
          <a:blip r:embed="rId3"/>
          <a:stretch/>
        </p:blipFill>
        <p:spPr>
          <a:xfrm>
            <a:off x="108000" y="1557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Картинка 73 из 293"/>
          <p:cNvPicPr/>
          <p:nvPr/>
        </p:nvPicPr>
        <p:blipFill>
          <a:blip r:embed="rId4"/>
          <a:stretch/>
        </p:blipFill>
        <p:spPr>
          <a:xfrm>
            <a:off x="5867280" y="1557360"/>
            <a:ext cx="2916360" cy="251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Картинка 7 из 729"/>
          <p:cNvPicPr/>
          <p:nvPr/>
        </p:nvPicPr>
        <p:blipFill>
          <a:blip r:embed="rId5"/>
          <a:stretch/>
        </p:blipFill>
        <p:spPr>
          <a:xfrm>
            <a:off x="5867280" y="4149720"/>
            <a:ext cx="2952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5:48:04Z</dcterms:created>
  <dc:creator>User</dc:creator>
  <dc:description/>
  <dc:language>en-US</dc:language>
  <cp:lastModifiedBy>User</cp:lastModifiedBy>
  <dcterms:modified xsi:type="dcterms:W3CDTF">2011-11-28T16:59:42Z</dcterms:modified>
  <cp:revision>13</cp:revision>
  <dc:subject/>
  <dc:title>Слайд 1</dc:title>
</cp:coreProperties>
</file>