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3.gif" ContentType="image/gif"/>
  <Override PartName="/ppt/media/image33.gif" ContentType="image/gif"/>
  <Override PartName="/ppt/media/image25.png" ContentType="image/png"/>
  <Override PartName="/ppt/media/image32.gif" ContentType="image/gi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41.png" ContentType="image/png"/>
  <Override PartName="/ppt/media/image6.png" ContentType="image/png"/>
  <Override PartName="/ppt/media/image31.png" ContentType="image/png"/>
  <Override PartName="/ppt/media/image36.gif" ContentType="image/gif"/>
  <Override PartName="/ppt/media/image29.png" ContentType="image/png"/>
  <Override PartName="/ppt/media/image11.png" ContentType="image/png"/>
  <Override PartName="/ppt/media/image9.png" ContentType="image/png"/>
  <Override PartName="/ppt/media/image40.jpeg" ContentType="image/jpeg"/>
  <Override PartName="/ppt/media/image13.png" ContentType="image/png"/>
  <Override PartName="/ppt/media/image37.jpeg" ContentType="image/jpeg"/>
  <Override PartName="/ppt/media/image30.jpeg" ContentType="image/jpeg"/>
  <Override PartName="/ppt/media/image15.png" ContentType="image/png"/>
  <Override PartName="/ppt/media/image39.gif" ContentType="image/gif"/>
  <Override PartName="/ppt/media/image8.gif" ContentType="image/gif"/>
  <Override PartName="/ppt/media/image38.gif" ContentType="image/gif"/>
  <Override PartName="/ppt/media/image4.png" ContentType="image/png"/>
  <Override PartName="/ppt/media/image27.png" ContentType="image/png"/>
  <Override PartName="/ppt/media/image12.png" ContentType="image/png"/>
  <Override PartName="/ppt/media/image18.png" ContentType="image/png"/>
  <Override PartName="/ppt/media/image34.jpeg" ContentType="image/jpeg"/>
  <Override PartName="/ppt/media/image7.png" ContentType="image/png"/>
  <Override PartName="/ppt/media/image5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20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318E-922F-4A2E-9F0C-B9D35EBA26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09B7-448A-48CF-8EBA-DD576CEA76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001A-CABE-4D4B-B42E-46F577411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C452-A7AA-4F22-8EFC-5862C25B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CE26-B286-47C5-9EF8-A217A1A4A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BF31-B48E-41CE-ACB5-6B15851E4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15B8-7C55-4E63-8353-59A61ECF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F3AD-78F0-49D9-B9B6-16C9D6F2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1C71-B1FB-4F8F-BF06-F951B137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24BF-EB3D-4215-8CBF-A3F08AB2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6DC6-F232-4449-9540-F4D228FE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C5D5-AFC3-4B26-974D-D5F5C9AD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7822-A6D9-47F3-B70A-0B075912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3A9F-615B-4AC6-A502-C0176936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9FF6-FB69-4239-AF27-B3C681470B7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image" Target="../media/image36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9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Admin\Рабочий стол\Ирина\анимация\анимации\backgrounds_100012.gif"/>
          <p:cNvPicPr/>
          <p:nvPr/>
        </p:nvPicPr>
        <p:blipFill>
          <a:blip r:embed="rId2"/>
          <a:stretch/>
        </p:blipFill>
        <p:spPr>
          <a:xfrm>
            <a:off x="428760" y="85680"/>
            <a:ext cx="8358120" cy="648648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4" descr=""/>
          <p:cNvPicPr/>
          <p:nvPr/>
        </p:nvPicPr>
        <p:blipFill>
          <a:blip r:embed="rId3"/>
          <a:stretch/>
        </p:blipFill>
        <p:spPr>
          <a:xfrm>
            <a:off x="304920" y="585720"/>
            <a:ext cx="86072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5"/>
          <p:cNvSpPr/>
          <p:nvPr/>
        </p:nvSpPr>
        <p:spPr>
          <a:xfrm>
            <a:off x="1285920" y="5214960"/>
            <a:ext cx="65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Физкультурные минутк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Box 4"/>
          <p:cNvSpPr/>
          <p:nvPr/>
        </p:nvSpPr>
        <p:spPr>
          <a:xfrm>
            <a:off x="1285920" y="4286160"/>
            <a:ext cx="67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Дыхательна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1214280" y="3143160"/>
            <a:ext cx="69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Пальчиковая гимнастика</a:t>
            </a:r>
            <a:r>
              <a:rPr b="1" lang="ru-RU" sz="3600" spc="-1" strike="noStrike">
                <a:solidFill>
                  <a:srgbClr val="4f6228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Box 2"/>
          <p:cNvSpPr/>
          <p:nvPr/>
        </p:nvSpPr>
        <p:spPr>
          <a:xfrm>
            <a:off x="1143000" y="192888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Гимнастика для глаз</a:t>
            </a:r>
            <a:r>
              <a:rPr b="0" lang="ru-RU" sz="36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Box 1"/>
          <p:cNvSpPr/>
          <p:nvPr/>
        </p:nvSpPr>
        <p:spPr>
          <a:xfrm>
            <a:off x="1071720" y="928800"/>
            <a:ext cx="71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Оздоровительная гимнасти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Солнце 8"/>
          <p:cNvSpPr/>
          <p:nvPr/>
        </p:nvSpPr>
        <p:spPr>
          <a:xfrm>
            <a:off x="500040" y="3214800"/>
            <a:ext cx="571680" cy="557280"/>
          </a:xfrm>
          <a:prstGeom prst="sun">
            <a:avLst>
              <a:gd name="adj" fmla="val 25000"/>
            </a:avLst>
          </a:prstGeom>
          <a:solidFill>
            <a:srgbClr val="00ff00"/>
          </a:solidFill>
          <a:ln w="1908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Группа 17"/>
          <p:cNvGrpSpPr/>
          <p:nvPr/>
        </p:nvGrpSpPr>
        <p:grpSpPr>
          <a:xfrm>
            <a:off x="500040" y="1000080"/>
            <a:ext cx="571680" cy="4843440"/>
            <a:chOff x="500040" y="1000080"/>
            <a:chExt cx="571680" cy="4843440"/>
          </a:xfrm>
        </p:grpSpPr>
        <p:sp>
          <p:nvSpPr>
            <p:cNvPr id="160" name="Солнце 7"/>
            <p:cNvSpPr/>
            <p:nvPr/>
          </p:nvSpPr>
          <p:spPr>
            <a:xfrm>
              <a:off x="500040" y="4357800"/>
              <a:ext cx="571680" cy="556920"/>
            </a:xfrm>
            <a:prstGeom prst="sun">
              <a:avLst>
                <a:gd name="adj" fmla="val 25000"/>
              </a:avLst>
            </a:prstGeom>
            <a:solidFill>
              <a:srgbClr val="00ff00"/>
            </a:solidFill>
            <a:ln w="1908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Солнце 6"/>
            <p:cNvSpPr/>
            <p:nvPr/>
          </p:nvSpPr>
          <p:spPr>
            <a:xfrm>
              <a:off x="500040" y="5286600"/>
              <a:ext cx="571680" cy="556920"/>
            </a:xfrm>
            <a:prstGeom prst="sun">
              <a:avLst>
                <a:gd name="adj" fmla="val 25000"/>
              </a:avLst>
            </a:prstGeom>
            <a:solidFill>
              <a:srgbClr val="00ff00"/>
            </a:solidFill>
            <a:ln w="1908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Солнце 9"/>
            <p:cNvSpPr/>
            <p:nvPr/>
          </p:nvSpPr>
          <p:spPr>
            <a:xfrm>
              <a:off x="500040" y="2000160"/>
              <a:ext cx="571680" cy="556920"/>
            </a:xfrm>
            <a:prstGeom prst="sun">
              <a:avLst>
                <a:gd name="adj" fmla="val 25000"/>
              </a:avLst>
            </a:prstGeom>
            <a:solidFill>
              <a:srgbClr val="00ff00"/>
            </a:solidFill>
            <a:ln w="1908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Солнце 10"/>
            <p:cNvSpPr/>
            <p:nvPr/>
          </p:nvSpPr>
          <p:spPr>
            <a:xfrm>
              <a:off x="500040" y="1000080"/>
              <a:ext cx="571680" cy="556920"/>
            </a:xfrm>
            <a:prstGeom prst="sun">
              <a:avLst>
                <a:gd name="adj" fmla="val 25000"/>
              </a:avLst>
            </a:prstGeom>
            <a:solidFill>
              <a:srgbClr val="00ff00"/>
            </a:solidFill>
            <a:ln w="1908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C:\Documents and Settings\Admin\Рабочий стол\ляга.gif"/>
          <p:cNvPicPr/>
          <p:nvPr/>
        </p:nvPicPr>
        <p:blipFill>
          <a:blip r:embed="rId2"/>
          <a:stretch/>
        </p:blipFill>
        <p:spPr>
          <a:xfrm>
            <a:off x="2000160" y="1285920"/>
            <a:ext cx="2714760" cy="2714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C:\Documents and Settings\Admin\Рабочий стол\ляга.gif"/>
          <p:cNvPicPr/>
          <p:nvPr/>
        </p:nvPicPr>
        <p:blipFill>
          <a:blip r:embed="rId3"/>
          <a:stretch/>
        </p:blipFill>
        <p:spPr>
          <a:xfrm>
            <a:off x="6215040" y="3119400"/>
            <a:ext cx="235764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843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1067 -0.018 -0.02133 -0.023 -0.02133 C -0.054 -0.02133 -0.086 0.14534 -0.086 0.312 C -0.086 0.228 -0.102 0.14533 -0.117 0.14533 C -0.133 0.14533 -0.148 0.22933 -0.148 0.312 C -0.148 0.27067 -0.156 0.228 -0.164 0.228 C -0.172 0.228 -0.18 0.26933 -0.18 0.312 C -0.18 0.29067 -0.184 0.27067 -0.188 0.27067 C -0.192 0.27067 -0.196 0.292 -0.196 0.312 C -0.196 0.30133 -0.198 0.29067 -0.2 0.29067 C -0.201 0.29067 -0.204 0.30134 -0.204 0.312 C -0.204 0.30667 -0.205 0.30133 -0.206 0.30133 C -0.206 0.3 -0.208 0.30666 -0.208 0.312 C -0.208 0.30933 -0.208 0.30667 -0.209 0.30667 C -0.209 0.308 -0.21 0.30934 -0.21 0.312 C -0.21 0.31067 -0.21 0.30933 -0.21 0.308 C -0.211 0.308 -0.211 0.30933 -0.211 0.31067 C -0.212 0.31067 -0.212 0.30934 -0.212 0.308 C -0.213 0.308 -0.213 0.30933 -0.213 0.31067 E">
                                      <p:cBhvr>
                                        <p:cTn id="847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path" presetID="2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3 0.00133 0.042 0.012 0.052 0.028 L 0.075 0.06533 C 0.08 0.07333 0.088 0.07733 0.098 0.07733 C 0.112 0.07733 0.124 0.06667 0.125 0.05067 C 0.124 0.03733 0.112 0.02533 0.098 0.02533 C 0.088 0.02533 0.08 0.03067 0.075 0.03733 L 0.052 0.07467 C 0.042 0.09067 0.023 0.10133 0 0.10267 C -0.023 0.10133 -0.042 0.09067 -0.052 0.07467 L -0.075 0.03733 C -0.08 0.03067 -0.088 0.02533 -0.098 0.02533 C -0.112 0.02533 -0.124 0.03733 -0.125 0.05067 C -0.124 0.06667 -0.112 0.07733 -0.098 0.07733 C -0.088 0.07733 -0.08 0.07333 -0.075 0.06533 L -0.052 0.028 C -0.042 0.012 -0.023 0.00133 0 0 Z">
                                      <p:cBhvr>
                                        <p:cTn id="8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img7"/>
          <p:cNvPicPr/>
          <p:nvPr/>
        </p:nvPicPr>
        <p:blipFill>
          <a:blip r:embed="rId1"/>
          <a:stretch/>
        </p:blipFill>
        <p:spPr>
          <a:xfrm>
            <a:off x="0" y="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1763640" y="404640"/>
            <a:ext cx="676908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Monotype Corsiva"/>
              </a:rPr>
              <a:t> </a:t>
            </a:r>
            <a:r>
              <a:rPr b="1" lang="ru-RU" sz="4400" spc="-1" strike="noStrike">
                <a:solidFill>
                  <a:srgbClr val="17375e"/>
                </a:solidFill>
                <a:latin typeface="Monotype Corsiva"/>
              </a:rPr>
              <a:t>Руки подняли и покачали -</a:t>
            </a:r>
            <a:br>
              <a:rPr sz="4400"/>
            </a:br>
            <a:r>
              <a:rPr b="1" lang="ru-RU" sz="4400" spc="-1" strike="noStrike">
                <a:solidFill>
                  <a:srgbClr val="17375e"/>
                </a:solidFill>
                <a:latin typeface="Monotype Corsiva"/>
              </a:rPr>
              <a:t>Это </a:t>
            </a:r>
            <a:r>
              <a:rPr b="1" lang="ru-RU" sz="4800" spc="-1" strike="noStrike">
                <a:solidFill>
                  <a:srgbClr val="17375e"/>
                </a:solidFill>
                <a:latin typeface="Monotype Corsiva"/>
              </a:rPr>
              <a:t>деревья</a:t>
            </a:r>
            <a:r>
              <a:rPr b="1" lang="ru-RU" sz="4400" spc="-1" strike="noStrike">
                <a:solidFill>
                  <a:srgbClr val="17375e"/>
                </a:solidFill>
                <a:latin typeface="Monotype Corsiva"/>
              </a:rPr>
              <a:t> в лесу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88560" y="2060640"/>
            <a:ext cx="10028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Monotype Corsiva"/>
              </a:rPr>
              <a:t>Руки согнули, кисти встряхнули -</a:t>
            </a:r>
            <a:br>
              <a:rPr sz="4400"/>
            </a:br>
            <a:r>
              <a:rPr b="1" lang="ru-RU" sz="4400" spc="-1" strike="noStrike">
                <a:solidFill>
                  <a:srgbClr val="17375e"/>
                </a:solidFill>
                <a:latin typeface="Monotype Corsiva"/>
              </a:rPr>
              <a:t>Ветер сбивает росу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1258920" y="3500280"/>
            <a:ext cx="75610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Monotype Corsiva"/>
              </a:rPr>
              <a:t>В стороны </a:t>
            </a:r>
            <a:r>
              <a:rPr b="1" lang="ru-RU" sz="4800" spc="-1" strike="noStrike">
                <a:solidFill>
                  <a:srgbClr val="17375e"/>
                </a:solidFill>
                <a:latin typeface="Monotype Corsiva"/>
              </a:rPr>
              <a:t>руки</a:t>
            </a:r>
            <a:r>
              <a:rPr b="1" lang="ru-RU" sz="4400" spc="-1" strike="noStrike">
                <a:solidFill>
                  <a:srgbClr val="17375e"/>
                </a:solidFill>
                <a:latin typeface="Monotype Corsiva"/>
              </a:rPr>
              <a:t>, плавно помашем-</a:t>
            </a:r>
            <a:br>
              <a:rPr sz="4400"/>
            </a:br>
            <a:r>
              <a:rPr b="1" lang="ru-RU" sz="4400" spc="-1" strike="noStrike">
                <a:solidFill>
                  <a:srgbClr val="17375e"/>
                </a:solidFill>
                <a:latin typeface="Monotype Corsiva"/>
              </a:rPr>
              <a:t>Это к нам птицы летят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444240" y="5157720"/>
            <a:ext cx="9605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Monotype Corsiva"/>
              </a:rPr>
              <a:t>Как они тихо садятся, покажем-</a:t>
            </a:r>
            <a:br>
              <a:rPr sz="4400"/>
            </a:br>
            <a:r>
              <a:rPr b="1" lang="ru-RU" sz="4400" spc="-1" strike="noStrike">
                <a:solidFill>
                  <a:srgbClr val="17375e"/>
                </a:solidFill>
                <a:latin typeface="Monotype Corsiva"/>
              </a:rPr>
              <a:t>Крылья сложили назад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11" descr="http://www.gifchik.boom.ru/pic/gif/flower/a1.gif"/>
          <p:cNvPicPr/>
          <p:nvPr/>
        </p:nvPicPr>
        <p:blipFill>
          <a:blip r:embed="rId2"/>
          <a:stretch/>
        </p:blipFill>
        <p:spPr>
          <a:xfrm>
            <a:off x="0" y="4552920"/>
            <a:ext cx="1428840" cy="2305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http://www.gifchik.boom.ru/pic/gif/baterflay/32.gif"/>
          <p:cNvPicPr/>
          <p:nvPr/>
        </p:nvPicPr>
        <p:blipFill>
          <a:blip r:embed="rId3"/>
          <a:stretch/>
        </p:blipFill>
        <p:spPr>
          <a:xfrm>
            <a:off x="7620120" y="0"/>
            <a:ext cx="152388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0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2000"/>
                            </p:stCondLst>
                            <p:childTnLst>
                              <p:par>
                                <p:cTn id="86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4000"/>
                            </p:stCondLst>
                            <p:childTnLst>
                              <p:par>
                                <p:cTn id="86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0" dur="1000" autoRev="1" fill="hold"/>
                                        <p:tgtEl>
                                          <p:spTgt spid="1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6000"/>
                            </p:stCondLst>
                            <p:childTnLst>
                              <p:par>
                                <p:cTn id="8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6000"/>
                            </p:stCondLst>
                            <p:childTnLst>
                              <p:par>
                                <p:cTn id="87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9000"/>
                            </p:stCondLst>
                            <p:childTnLst>
                              <p:par>
                                <p:cTn id="8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9500"/>
                            </p:stCondLst>
                            <p:childTnLst>
                              <p:par>
                                <p:cTn id="88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6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4500"/>
                            </p:stCondLst>
                            <p:childTnLst>
                              <p:par>
                                <p:cTn id="8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15000"/>
                            </p:stCondLst>
                            <p:childTnLst>
                              <p:par>
                                <p:cTn id="89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4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20000"/>
                            </p:stCondLst>
                            <p:childTnLst>
                              <p:par>
                                <p:cTn id="8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20500"/>
                            </p:stCondLst>
                            <p:childTnLst>
                              <p:par>
                                <p:cTn id="9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2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25500"/>
                            </p:stCondLst>
                            <p:childTnLst>
                              <p:par>
                                <p:cTn id="9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26000"/>
                            </p:stCondLst>
                            <p:childTnLst>
                              <p:par>
                                <p:cTn id="90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0" dur="5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TextBox 1" descr=""/>
          <p:cNvPicPr/>
          <p:nvPr/>
        </p:nvPicPr>
        <p:blipFill>
          <a:blip r:embed="rId2"/>
          <a:stretch/>
        </p:blipFill>
        <p:spPr>
          <a:xfrm>
            <a:off x="-268200" y="414360"/>
            <a:ext cx="9509040" cy="3541680"/>
          </a:xfrm>
          <a:prstGeom prst="rect">
            <a:avLst/>
          </a:prstGeom>
          <a:ln w="0">
            <a:noFill/>
          </a:ln>
        </p:spPr>
      </p:pic>
      <p:sp>
        <p:nvSpPr>
          <p:cNvPr id="174" name="TextBox 2"/>
          <p:cNvSpPr/>
          <p:nvPr/>
        </p:nvSpPr>
        <p:spPr>
          <a:xfrm>
            <a:off x="500040" y="1928880"/>
            <a:ext cx="8286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ff0000"/>
                </a:solidFill>
                <a:latin typeface="Impact"/>
              </a:rPr>
              <a:t>Без духовного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ff0000"/>
                </a:solidFill>
                <a:latin typeface="Impact"/>
              </a:rPr>
              <a:t>не может быть здорового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2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428760" y="192888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15968"/>
                </a:solidFill>
                <a:latin typeface="Arial"/>
              </a:rPr>
              <a:t>Дошкольники</a:t>
            </a:r>
            <a:r>
              <a:rPr b="1" lang="ru-RU" sz="3600" spc="-1" strike="noStrike">
                <a:solidFill>
                  <a:srgbClr val="215968"/>
                </a:solidFill>
                <a:latin typeface="Arial"/>
              </a:rPr>
              <a:t> –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25 – 30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285840" y="2714760"/>
            <a:ext cx="84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15968"/>
                </a:solidFill>
                <a:latin typeface="Arial"/>
              </a:rPr>
              <a:t>Школьники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-  в 4 раза уменьшается     число здоровых дете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214200" y="4000680"/>
            <a:ext cx="87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15968"/>
                </a:solidFill>
                <a:latin typeface="Arial"/>
              </a:rPr>
              <a:t>Близорукость(1–11 класс)-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с 3,9%  до 12,3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214200" y="5357880"/>
            <a:ext cx="87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15968"/>
                </a:solidFill>
                <a:latin typeface="Arial"/>
              </a:rPr>
              <a:t>Нарушение остроты зрения </a:t>
            </a:r>
            <a:r>
              <a:rPr b="0" i="1" lang="ru-RU" sz="3600" spc="-1" strike="noStrike">
                <a:solidFill>
                  <a:srgbClr val="215968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до 30– 40%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TextBox 7" descr=""/>
          <p:cNvPicPr/>
          <p:nvPr/>
        </p:nvPicPr>
        <p:blipFill>
          <a:blip r:embed="rId2"/>
          <a:stretch/>
        </p:blipFill>
        <p:spPr>
          <a:xfrm>
            <a:off x="420840" y="165240"/>
            <a:ext cx="8016840" cy="98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extBox 1" descr=""/>
          <p:cNvPicPr/>
          <p:nvPr/>
        </p:nvPicPr>
        <p:blipFill>
          <a:blip r:embed="rId1"/>
          <a:stretch/>
        </p:blipFill>
        <p:spPr>
          <a:xfrm>
            <a:off x="208080" y="6480"/>
            <a:ext cx="7583400" cy="3754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Documents and Settings\Admin\Рабочий стол\Ирина\анимация\картинки1\glitt053.gif"/>
          <p:cNvPicPr/>
          <p:nvPr/>
        </p:nvPicPr>
        <p:blipFill>
          <a:blip r:embed="rId2"/>
          <a:stretch/>
        </p:blipFill>
        <p:spPr>
          <a:xfrm>
            <a:off x="4286160" y="1857240"/>
            <a:ext cx="46674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3132000" y="3429000"/>
            <a:ext cx="2695680" cy="2676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3"/>
          <a:stretch/>
        </p:blipFill>
        <p:spPr>
          <a:xfrm rot="3538800">
            <a:off x="1739520" y="1004760"/>
            <a:ext cx="1352520" cy="260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4"/>
          <a:stretch/>
        </p:blipFill>
        <p:spPr>
          <a:xfrm rot="18765600">
            <a:off x="6165720" y="1258560"/>
            <a:ext cx="1419120" cy="2590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5"/>
          <a:stretch/>
        </p:blipFill>
        <p:spPr>
          <a:xfrm>
            <a:off x="3203640" y="692280"/>
            <a:ext cx="2695680" cy="2676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6"/>
          <a:stretch/>
        </p:blipFill>
        <p:spPr>
          <a:xfrm rot="7660200">
            <a:off x="1104840" y="4806720"/>
            <a:ext cx="1145880" cy="1270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7"/>
          <a:stretch/>
        </p:blipFill>
        <p:spPr>
          <a:xfrm rot="7660200">
            <a:off x="7370280" y="1279440"/>
            <a:ext cx="1146240" cy="1270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8"/>
          <a:stretch/>
        </p:blipFill>
        <p:spPr>
          <a:xfrm rot="7660200">
            <a:off x="7657560" y="3222360"/>
            <a:ext cx="1146240" cy="1269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9"/>
          <a:stretch/>
        </p:blipFill>
        <p:spPr>
          <a:xfrm rot="7660200">
            <a:off x="7009920" y="5095800"/>
            <a:ext cx="1146240" cy="1270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10"/>
          <a:stretch/>
        </p:blipFill>
        <p:spPr>
          <a:xfrm rot="7660200">
            <a:off x="5209920" y="5383080"/>
            <a:ext cx="1146240" cy="1270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"/>
          <p:cNvPicPr/>
          <p:nvPr/>
        </p:nvPicPr>
        <p:blipFill>
          <a:blip r:embed="rId11"/>
          <a:stretch/>
        </p:blipFill>
        <p:spPr>
          <a:xfrm rot="7660200">
            <a:off x="2761920" y="5454720"/>
            <a:ext cx="1146240" cy="1270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12"/>
          <a:stretch/>
        </p:blipFill>
        <p:spPr>
          <a:xfrm rot="7660200">
            <a:off x="2688840" y="271440"/>
            <a:ext cx="1146240" cy="1270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"/>
          <p:cNvPicPr/>
          <p:nvPr/>
        </p:nvPicPr>
        <p:blipFill>
          <a:blip r:embed="rId13"/>
          <a:stretch/>
        </p:blipFill>
        <p:spPr>
          <a:xfrm rot="7660200">
            <a:off x="5425560" y="342720"/>
            <a:ext cx="1146240" cy="1270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"/>
          <p:cNvPicPr/>
          <p:nvPr/>
        </p:nvPicPr>
        <p:blipFill>
          <a:blip r:embed="rId14"/>
          <a:stretch/>
        </p:blipFill>
        <p:spPr>
          <a:xfrm rot="7660200">
            <a:off x="601200" y="1206360"/>
            <a:ext cx="1146240" cy="1270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" descr=""/>
          <p:cNvPicPr/>
          <p:nvPr/>
        </p:nvPicPr>
        <p:blipFill>
          <a:blip r:embed="rId15"/>
          <a:stretch/>
        </p:blipFill>
        <p:spPr>
          <a:xfrm rot="7660200">
            <a:off x="312480" y="3151080"/>
            <a:ext cx="1146240" cy="127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500"/>
                            </p:stCondLst>
                            <p:childTnLst>
                              <p:par>
                                <p:cTn id="8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79191E-006 C 0.02344 -0.00069 0.04705 -0.00023 0.07048 -0.00208 C 0.07986 -0.00277 0.08784 -0.01248 0.0967 -0.01526 C 0.1026 -0.02058 0.10798 -0.02173 0.11475 -0.02405 C 0.12587 -0.03399 0.1118 -0.02289 0.12951 -0.03052 C 0.13142 -0.03144 0.13264 -0.03376 0.13437 -0.03491 C 0.13889 -0.03815 0.14444 -0.03838 0.14913 -0.04139 C 0.15607 -0.04601 0.16319 -0.05156 0.17048 -0.05457 C 0.17569 -0.05942 0.17986 -0.0652 0.18524 -0.06983 C 0.19409 -0.08879 0.1901 -0.0948 0.1901 -0.12439 E">
                                      <p:cBhvr>
                                        <p:cTn id="83" dur="1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0.00046 C -0.04253 0.00555 -0.07986 0.00301 -0.12431 0.00185 C -0.13472 -0.00809 -0.14514 -0.01664 -0.15503 -0.02797 C -0.16059 -0.03445 -0.15972 -0.03005 -0.16458 -0.0393 C -0.17153 -0.05318 -0.16424 -0.04347 -0.17101 -0.05549 C -0.1724 -0.0578 -0.17448 -0.05965 -0.17587 -0.06219 C -0.17813 -0.06659 -0.18229 -0.07607 -0.18229 -0.07584 C -0.18281 -0.07907 -0.18316 -0.08231 -0.18403 -0.08508 C -0.1849 -0.08763 -0.18646 -0.08925 -0.18715 -0.09202 C -0.19184 -0.11075 -0.1967 -0.13549 -0.1967 -0.15584 E">
                                      <p:cBhvr>
                                        <p:cTn id="85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500"/>
                            </p:stCondLst>
                            <p:childTnLst>
                              <p:par>
                                <p:cTn id="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39306E-006 C -0.00955 0.00115 -0.01806 0.0037 -0.02743 0.00531 C -0.0375 0.01734 -0.02899 0.00948 -0.0533 0.01271 C -0.06007 0.01364 -0.06476 0.01872 -0.07101 0.02034 C -0.07639 0.02173 -0.08194 0.0215 -0.08715 0.02219 C -0.09132 0.02265 -0.09583 0.02312 -0.10017 0.02381 C -0.10608 0.02497 -0.11788 0.02774 -0.11788 0.02797 C -0.12847 0.03352 -0.13837 0.03722 -0.14983 0.03884 C -0.16059 0.043 -0.1533 0.04046 -0.17274 0.04462 C -0.18316 0.04647 -0.17118 0.04624 -0.18403 0.04994 C -0.1875 0.05109 -0.19149 0.05109 -0.19531 0.05156 C -0.20278 0.05526 -0.21007 0.05664 -0.21771 0.05919 C -0.22118 0.06034 -0.22413 0.06358 -0.2276 0.06474 C -0.2375 0.06797 -0.23854 0.0652 -0.24687 0.06867 C -0.25243 0.07075 -0.26215 0.07422 -0.26788 0.07976 C -0.27309 0.08485 -0.27569 0.08832 -0.28229 0.09109 C -0.28941 0.10335 -0.28056 0.09063 -0.29184 0.09803 C -0.29653 0.10127 -0.30052 0.10566 -0.30486 0.10936 C -0.31198 0.11583 -0.3125 0.12624 -0.32083 0.12994 C -0.32413 0.13549 -0.32587 0.14104 -0.32917 0.14659 C -0.33229 0.16208 -0.3283 0.14682 -0.33385 0.15976 C -0.33646 0.16531 -0.33628 0.17225 -0.33871 0.17803 C -0.34566 0.19445 -0.33889 0.17387 -0.34358 0.18913 C -0.34687 0.21456 -0.34427 0.24 -0.34201 0.26543 C -0.34184 0.26843 -0.34323 0.30265 -0.33715 0.3119 C -0.33038 0.32208 -0.32118 0.32971 -0.31285 0.3378 C -0.30417 0.34635 -0.31146 0.34057 -0.30486 0.3489 C -0.29618 0.36023 -0.28576 0.37202 -0.27413 0.37872 C -0.26771 0.38659 -0.25937 0.39167 -0.25 0.39398 C -0.22153 0.4104 -0.19809 0.42335 -0.16615 0.42728 C -0.13177 0.43676 -0.16684 0.42751 -0.07431 0.43098 C -0.04653 0.4319 -0.02014 0.44046 0.00816 0.44046 E">
                                      <p:cBhvr>
                                        <p:cTn id="98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7 0.04625 C 0.04028 0.04925 0.05486 0.05272 0.06945 0.05434 C 0.09601 0.0622 0.11372 0.05804 0.1441 0.05688 C 0.16875 0.05272 0.19184 0.04602 0.21563 0.03862 C 0.22222 0.03422 0.22847 0.03284 0.2349 0.03006 C 0.24115 0.02752 0.2467 0.02382 0.25295 0.02197 C 0.2599 0.01596 0.26893 0.01318 0.27709 0.00925 C 0.28316 0.00255 0.28906 0.0007 0.2967 -0.00254 C 0.29965 -0.00508 0.30365 -0.00601 0.30643 -0.00855 C 0.31632 -0.01896 0.30261 -0.01179 0.31441 -0.01687 C 0.33021 -0.02982 0.33715 -0.05456 0.34705 -0.07398 C 0.34757 -0.07676 0.34792 -0.0793 0.34861 -0.08208 C 0.34948 -0.08462 0.35139 -0.08739 0.35191 -0.0904 C 0.35399 -0.10081 0.35399 -0.1119 0.35556 -0.12277 C 0.35469 -0.14358 0.35556 -0.16393 0.3533 -0.18427 C 0.35278 -0.1919 0.34462 -0.21711 0.34045 -0.2245 C 0.33889 -0.22774 0.33611 -0.22982 0.33403 -0.23283 C 0.32222 -0.25133 0.3316 -0.23884 0.32431 -0.25341 C 0.31424 -0.27306 0.29028 -0.31098 0.27222 -0.31884 C 0.27136 -0.32069 0.27084 -0.32346 0.26893 -0.32485 C 0.26719 -0.32647 0.26476 -0.32578 0.2625 -0.3267 C 0.2474 -0.33664 0.26493 -0.32994 0.24965 -0.33711 C 0.24323 -0.34011 0.23004 -0.34543 0.23004 -0.3452 C 0.21563 -0.35907 0.23264 -0.34497 0.20243 -0.35699 C 0.14045 -0.38335 0.10347 -0.37641 0.02709 -0.3778 C 0.02292 -0.37942 0.01771 -0.37988 0.01476 -0.38335 E">
                                      <p:cBhvr>
                                        <p:cTn id="100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9000"/>
                            </p:stCondLst>
                            <p:childTnLst>
                              <p:par>
                                <p:cTn id="102" nodeType="after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8.67052E-007 C 0.02032 0.0007 0.04046 0.00116 0.06077 0.00231 C 0.06667 0.00278 0.08699 0.00786 0.09028 0.00879 C 0.09306 0.00948 0.09844 0.01087 0.09844 0.01087 C 0.10469 0.01503 0.10973 0.01757 0.1165 0.01965 C 0.12622 0.02636 0.13525 0.02775 0.14601 0.03052 C 0.16719 0.0363 0.18872 0.03908 0.2099 0.04578 C 0.21962 0.05434 0.22952 0.06127 0.23942 0.06983 C 0.24532 0.07491 0.24584 0.0726 0.25087 0.07861 C 0.25087 0.07861 0.2632 0.09503 0.26563 0.09827 C 0.27535 0.11122 0.28039 0.13364 0.29185 0.14405 C 0.29393 0.15607 0.29758 0.16393 0.30504 0.17041 C 0.30678 0.17757 0.3132 0.19006 0.3132 0.19006 C 0.32414 0.23561 0.31615 0.2 0.3132 0.32093 C 0.31303 0.32694 0.31094 0.33179 0.30817 0.33619 C 0.30365 0.34335 0.30105 0.3533 0.29515 0.35815 C 0.28733 0.36463 0.27987 0.37087 0.27223 0.37781 C 0.27032 0.37965 0.2691 0.38243 0.26719 0.38428 C 0.26407 0.38752 0.26077 0.39006 0.25747 0.39307 C 0.25574 0.39445 0.25244 0.39746 0.25244 0.39746 C 0.24289 0.41411 0.22987 0.4185 0.21476 0.4215 C 0.20122 0.42728 0.21581 0.42174 0.18525 0.42567 C 0.15574 0.4296 0.13004 0.43491 0.10001 0.43676 C 0.0724 0.44278 0.11719 0.43353 0.05747 0.44093 C 0.03369 0.44393 0.01285 0.44971 -0.01145 0.44971 E">
                                      <p:cBhvr>
                                        <p:cTn id="103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67362E-019 -3.46821E-007 C -0.00903 -0.0037 -0.01719 -0.00787 -0.02639 -0.01087 C -0.07917 -0.00879 -0.08455 -0.00671 -0.14097 -0.01318 C -0.14965 -0.01411 -0.16007 -0.01989 -0.16892 -0.02174 C -0.17552 -0.02313 -0.18854 -0.02613 -0.18854 -0.02613 C -0.19514 -0.03191 -0.20226 -0.03815 -0.2099 -0.04139 C -0.21146 -0.04278 -0.21302 -0.04463 -0.21476 -0.04578 C -0.21788 -0.04763 -0.22465 -0.05018 -0.22465 -0.05018 C -0.22795 -0.05318 -0.23073 -0.05781 -0.23455 -0.05896 C -0.24149 -0.06128 -0.25139 -0.06289 -0.25746 -0.06775 C -0.26146 -0.07099 -0.26458 -0.0763 -0.26892 -0.07862 C -0.27604 -0.08255 -0.28281 -0.08486 -0.29028 -0.0874 C -0.29358 -0.09018 -0.2967 -0.09318 -0.3 -0.09596 C -0.30729 -0.10243 -0.30868 -0.11977 -0.31319 -0.12879 C -0.31545 -0.14174 -0.31371 -0.13341 -0.31649 -0.14405 C -0.31753 -0.14844 -0.31979 -0.15723 -0.31979 -0.15723 C -0.32274 -0.18104 -0.32726 -0.20532 -0.33125 -0.22914 C -0.33125 -0.23006 -0.32986 -0.2881 -0.32465 -0.29688 C -0.3217 -0.30174 -0.31736 -0.30498 -0.31476 -0.31006 C -0.31267 -0.31446 -0.30972 -0.31815 -0.30833 -0.32301 C -0.30729 -0.32671 -0.30694 -0.3311 -0.30503 -0.33411 C -0.30382 -0.33596 -0.30174 -0.3355 -0.3 -0.33619 C -0.29462 -0.34729 -0.28524 -0.35515 -0.27708 -0.36232 C -0.27031 -0.3681 -0.26996 -0.36509 -0.26406 -0.36902 C -0.25642 -0.37411 -0.24948 -0.3792 -0.24097 -0.38197 C -0.23819 -0.39353 -0.22951 -0.39399 -0.22135 -0.39746 C -0.20451 -0.40486 -0.18785 -0.40925 -0.17049 -0.4148 C -0.10573 -0.43515 -0.03906 -0.42128 0.02778 -0.42128 E">
                                      <p:cBhvr>
                                        <p:cTn id="105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4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6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8500"/>
                            </p:stCondLst>
                            <p:childTnLst>
                              <p:par>
                                <p:cTn id="1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9000"/>
                            </p:stCondLst>
                            <p:childTnLst>
                              <p:par>
                                <p:cTn id="17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9500"/>
                            </p:stCondLst>
                            <p:childTnLst>
                              <p:par>
                                <p:cTn id="1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8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1000"/>
                            </p:stCondLst>
                            <p:childTnLst>
                              <p:par>
                                <p:cTn id="1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1500"/>
                            </p:stCondLst>
                            <p:childTnLst>
                              <p:par>
                                <p:cTn id="1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2000"/>
                            </p:stCondLst>
                            <p:childTnLst>
                              <p:par>
                                <p:cTn id="1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25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30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35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40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45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5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6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6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7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7500"/>
                            </p:stCondLst>
                            <p:childTnLst>
                              <p:par>
                                <p:cTn id="2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8000"/>
                            </p:stCondLst>
                            <p:childTnLst>
                              <p:par>
                                <p:cTn id="24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8500"/>
                            </p:stCondLst>
                            <p:childTnLst>
                              <p:par>
                                <p:cTn id="2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9000"/>
                            </p:stCondLst>
                            <p:childTnLst>
                              <p:par>
                                <p:cTn id="2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9500"/>
                            </p:stCondLst>
                            <p:childTnLst>
                              <p:par>
                                <p:cTn id="2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0000"/>
                            </p:stCondLst>
                            <p:childTnLst>
                              <p:par>
                                <p:cTn id="2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500"/>
                            </p:stCondLst>
                            <p:childTnLst>
                              <p:par>
                                <p:cTn id="26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1000"/>
                            </p:stCondLst>
                            <p:childTnLst>
                              <p:par>
                                <p:cTn id="2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1500"/>
                            </p:stCondLst>
                            <p:childTnLst>
                              <p:par>
                                <p:cTn id="27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2000"/>
                            </p:stCondLst>
                            <p:childTnLst>
                              <p:par>
                                <p:cTn id="2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2"/>
          <p:cNvGrpSpPr/>
          <p:nvPr/>
        </p:nvGrpSpPr>
        <p:grpSpPr>
          <a:xfrm>
            <a:off x="2124000" y="260280"/>
            <a:ext cx="742680" cy="1000080"/>
            <a:chOff x="2124000" y="260280"/>
            <a:chExt cx="742680" cy="1000080"/>
          </a:xfrm>
        </p:grpSpPr>
        <p:pic>
          <p:nvPicPr>
            <p:cNvPr id="72" name="Picture 3" descr=""/>
            <p:cNvPicPr/>
            <p:nvPr/>
          </p:nvPicPr>
          <p:blipFill>
            <a:blip r:embed="rId2"/>
            <a:stretch/>
          </p:blipFill>
          <p:spPr>
            <a:xfrm>
              <a:off x="2124000" y="26028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AutoShape 4"/>
            <p:cNvSpPr/>
            <p:nvPr/>
          </p:nvSpPr>
          <p:spPr>
            <a:xfrm>
              <a:off x="2195280" y="62064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Group 5"/>
          <p:cNvGrpSpPr/>
          <p:nvPr/>
        </p:nvGrpSpPr>
        <p:grpSpPr>
          <a:xfrm>
            <a:off x="250920" y="260280"/>
            <a:ext cx="742680" cy="1000080"/>
            <a:chOff x="250920" y="260280"/>
            <a:chExt cx="742680" cy="1000080"/>
          </a:xfrm>
        </p:grpSpPr>
        <p:pic>
          <p:nvPicPr>
            <p:cNvPr id="75" name="Picture 6" descr=""/>
            <p:cNvPicPr/>
            <p:nvPr/>
          </p:nvPicPr>
          <p:blipFill>
            <a:blip r:embed="rId3"/>
            <a:stretch/>
          </p:blipFill>
          <p:spPr>
            <a:xfrm>
              <a:off x="250920" y="26028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AutoShape 7"/>
            <p:cNvSpPr/>
            <p:nvPr/>
          </p:nvSpPr>
          <p:spPr>
            <a:xfrm>
              <a:off x="322200" y="62064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Group 8"/>
          <p:cNvGrpSpPr/>
          <p:nvPr/>
        </p:nvGrpSpPr>
        <p:grpSpPr>
          <a:xfrm>
            <a:off x="6372360" y="260280"/>
            <a:ext cx="742680" cy="1000080"/>
            <a:chOff x="6372360" y="260280"/>
            <a:chExt cx="742680" cy="1000080"/>
          </a:xfrm>
        </p:grpSpPr>
        <p:pic>
          <p:nvPicPr>
            <p:cNvPr id="78" name="Picture 9" descr=""/>
            <p:cNvPicPr/>
            <p:nvPr/>
          </p:nvPicPr>
          <p:blipFill>
            <a:blip r:embed="rId4"/>
            <a:stretch/>
          </p:blipFill>
          <p:spPr>
            <a:xfrm>
              <a:off x="6372360" y="26028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AutoShape 10"/>
            <p:cNvSpPr/>
            <p:nvPr/>
          </p:nvSpPr>
          <p:spPr>
            <a:xfrm>
              <a:off x="6443640" y="62064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Group 11"/>
          <p:cNvGrpSpPr/>
          <p:nvPr/>
        </p:nvGrpSpPr>
        <p:grpSpPr>
          <a:xfrm>
            <a:off x="4356000" y="260280"/>
            <a:ext cx="742680" cy="1000080"/>
            <a:chOff x="4356000" y="260280"/>
            <a:chExt cx="742680" cy="1000080"/>
          </a:xfrm>
        </p:grpSpPr>
        <p:pic>
          <p:nvPicPr>
            <p:cNvPr id="81" name="Picture 12" descr=""/>
            <p:cNvPicPr/>
            <p:nvPr/>
          </p:nvPicPr>
          <p:blipFill>
            <a:blip r:embed="rId5"/>
            <a:stretch/>
          </p:blipFill>
          <p:spPr>
            <a:xfrm>
              <a:off x="4356000" y="26028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AutoShape 13"/>
            <p:cNvSpPr/>
            <p:nvPr/>
          </p:nvSpPr>
          <p:spPr>
            <a:xfrm>
              <a:off x="4427280" y="62064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14"/>
          <p:cNvGrpSpPr/>
          <p:nvPr/>
        </p:nvGrpSpPr>
        <p:grpSpPr>
          <a:xfrm>
            <a:off x="179280" y="3645000"/>
            <a:ext cx="742680" cy="1000080"/>
            <a:chOff x="179280" y="3645000"/>
            <a:chExt cx="742680" cy="1000080"/>
          </a:xfrm>
        </p:grpSpPr>
        <p:pic>
          <p:nvPicPr>
            <p:cNvPr id="84" name="Picture 15" descr=""/>
            <p:cNvPicPr/>
            <p:nvPr/>
          </p:nvPicPr>
          <p:blipFill>
            <a:blip r:embed="rId6"/>
            <a:stretch/>
          </p:blipFill>
          <p:spPr>
            <a:xfrm>
              <a:off x="179280" y="364500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AutoShape 16"/>
            <p:cNvSpPr/>
            <p:nvPr/>
          </p:nvSpPr>
          <p:spPr>
            <a:xfrm>
              <a:off x="250560" y="400536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Group 17"/>
          <p:cNvGrpSpPr/>
          <p:nvPr/>
        </p:nvGrpSpPr>
        <p:grpSpPr>
          <a:xfrm>
            <a:off x="3203640" y="1916280"/>
            <a:ext cx="742680" cy="1000080"/>
            <a:chOff x="3203640" y="1916280"/>
            <a:chExt cx="742680" cy="1000080"/>
          </a:xfrm>
        </p:grpSpPr>
        <p:pic>
          <p:nvPicPr>
            <p:cNvPr id="87" name="Picture 18" descr=""/>
            <p:cNvPicPr/>
            <p:nvPr/>
          </p:nvPicPr>
          <p:blipFill>
            <a:blip r:embed="rId7"/>
            <a:stretch/>
          </p:blipFill>
          <p:spPr>
            <a:xfrm>
              <a:off x="3203640" y="191628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AutoShape 19"/>
            <p:cNvSpPr/>
            <p:nvPr/>
          </p:nvSpPr>
          <p:spPr>
            <a:xfrm>
              <a:off x="3274920" y="227664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Group 20"/>
          <p:cNvGrpSpPr/>
          <p:nvPr/>
        </p:nvGrpSpPr>
        <p:grpSpPr>
          <a:xfrm>
            <a:off x="2195640" y="3645000"/>
            <a:ext cx="742680" cy="1000080"/>
            <a:chOff x="2195640" y="3645000"/>
            <a:chExt cx="742680" cy="1000080"/>
          </a:xfrm>
        </p:grpSpPr>
        <p:pic>
          <p:nvPicPr>
            <p:cNvPr id="90" name="Picture 21" descr=""/>
            <p:cNvPicPr/>
            <p:nvPr/>
          </p:nvPicPr>
          <p:blipFill>
            <a:blip r:embed="rId8"/>
            <a:stretch/>
          </p:blipFill>
          <p:spPr>
            <a:xfrm>
              <a:off x="2195640" y="364500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AutoShape 22"/>
            <p:cNvSpPr/>
            <p:nvPr/>
          </p:nvSpPr>
          <p:spPr>
            <a:xfrm>
              <a:off x="2266920" y="400536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Group 23"/>
          <p:cNvGrpSpPr/>
          <p:nvPr/>
        </p:nvGrpSpPr>
        <p:grpSpPr>
          <a:xfrm>
            <a:off x="7667640" y="1916280"/>
            <a:ext cx="742680" cy="1000080"/>
            <a:chOff x="7667640" y="1916280"/>
            <a:chExt cx="742680" cy="1000080"/>
          </a:xfrm>
        </p:grpSpPr>
        <p:pic>
          <p:nvPicPr>
            <p:cNvPr id="93" name="Picture 24" descr=""/>
            <p:cNvPicPr/>
            <p:nvPr/>
          </p:nvPicPr>
          <p:blipFill>
            <a:blip r:embed="rId9"/>
            <a:stretch/>
          </p:blipFill>
          <p:spPr>
            <a:xfrm>
              <a:off x="7667640" y="191628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AutoShape 25"/>
            <p:cNvSpPr/>
            <p:nvPr/>
          </p:nvSpPr>
          <p:spPr>
            <a:xfrm>
              <a:off x="7738920" y="227664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Group 26"/>
          <p:cNvGrpSpPr/>
          <p:nvPr/>
        </p:nvGrpSpPr>
        <p:grpSpPr>
          <a:xfrm>
            <a:off x="5580000" y="1916280"/>
            <a:ext cx="742680" cy="1000080"/>
            <a:chOff x="5580000" y="1916280"/>
            <a:chExt cx="742680" cy="1000080"/>
          </a:xfrm>
        </p:grpSpPr>
        <p:pic>
          <p:nvPicPr>
            <p:cNvPr id="96" name="Picture 27" descr=""/>
            <p:cNvPicPr/>
            <p:nvPr/>
          </p:nvPicPr>
          <p:blipFill>
            <a:blip r:embed="rId10"/>
            <a:stretch/>
          </p:blipFill>
          <p:spPr>
            <a:xfrm>
              <a:off x="5580000" y="191628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AutoShape 28"/>
            <p:cNvSpPr/>
            <p:nvPr/>
          </p:nvSpPr>
          <p:spPr>
            <a:xfrm>
              <a:off x="5651280" y="227664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Group 29"/>
          <p:cNvGrpSpPr/>
          <p:nvPr/>
        </p:nvGrpSpPr>
        <p:grpSpPr>
          <a:xfrm>
            <a:off x="1187280" y="1916280"/>
            <a:ext cx="742680" cy="1000080"/>
            <a:chOff x="1187280" y="1916280"/>
            <a:chExt cx="742680" cy="1000080"/>
          </a:xfrm>
        </p:grpSpPr>
        <p:pic>
          <p:nvPicPr>
            <p:cNvPr id="99" name="Picture 30" descr=""/>
            <p:cNvPicPr/>
            <p:nvPr/>
          </p:nvPicPr>
          <p:blipFill>
            <a:blip r:embed="rId11"/>
            <a:stretch/>
          </p:blipFill>
          <p:spPr>
            <a:xfrm>
              <a:off x="1187280" y="191628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AutoShape 31"/>
            <p:cNvSpPr/>
            <p:nvPr/>
          </p:nvSpPr>
          <p:spPr>
            <a:xfrm>
              <a:off x="1258560" y="227664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32"/>
          <p:cNvGrpSpPr/>
          <p:nvPr/>
        </p:nvGrpSpPr>
        <p:grpSpPr>
          <a:xfrm>
            <a:off x="8400960" y="260280"/>
            <a:ext cx="742680" cy="1000080"/>
            <a:chOff x="8400960" y="260280"/>
            <a:chExt cx="742680" cy="1000080"/>
          </a:xfrm>
        </p:grpSpPr>
        <p:pic>
          <p:nvPicPr>
            <p:cNvPr id="102" name="Picture 33" descr=""/>
            <p:cNvPicPr/>
            <p:nvPr/>
          </p:nvPicPr>
          <p:blipFill>
            <a:blip r:embed="rId12"/>
            <a:stretch/>
          </p:blipFill>
          <p:spPr>
            <a:xfrm>
              <a:off x="8400960" y="26028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AutoShape 34"/>
            <p:cNvSpPr/>
            <p:nvPr/>
          </p:nvSpPr>
          <p:spPr>
            <a:xfrm>
              <a:off x="8472240" y="62064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35"/>
          <p:cNvGrpSpPr/>
          <p:nvPr/>
        </p:nvGrpSpPr>
        <p:grpSpPr>
          <a:xfrm>
            <a:off x="6659640" y="3645000"/>
            <a:ext cx="742680" cy="1000080"/>
            <a:chOff x="6659640" y="3645000"/>
            <a:chExt cx="742680" cy="1000080"/>
          </a:xfrm>
        </p:grpSpPr>
        <p:pic>
          <p:nvPicPr>
            <p:cNvPr id="105" name="Picture 36" descr=""/>
            <p:cNvPicPr/>
            <p:nvPr/>
          </p:nvPicPr>
          <p:blipFill>
            <a:blip r:embed="rId13"/>
            <a:stretch/>
          </p:blipFill>
          <p:spPr>
            <a:xfrm>
              <a:off x="6659640" y="364500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AutoShape 37"/>
            <p:cNvSpPr/>
            <p:nvPr/>
          </p:nvSpPr>
          <p:spPr>
            <a:xfrm>
              <a:off x="6730920" y="400536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Group 38"/>
          <p:cNvGrpSpPr/>
          <p:nvPr/>
        </p:nvGrpSpPr>
        <p:grpSpPr>
          <a:xfrm>
            <a:off x="4356000" y="3645000"/>
            <a:ext cx="742680" cy="1000080"/>
            <a:chOff x="4356000" y="3645000"/>
            <a:chExt cx="742680" cy="1000080"/>
          </a:xfrm>
        </p:grpSpPr>
        <p:pic>
          <p:nvPicPr>
            <p:cNvPr id="108" name="Picture 39" descr=""/>
            <p:cNvPicPr/>
            <p:nvPr/>
          </p:nvPicPr>
          <p:blipFill>
            <a:blip r:embed="rId14"/>
            <a:stretch/>
          </p:blipFill>
          <p:spPr>
            <a:xfrm>
              <a:off x="4356000" y="364500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AutoShape 40"/>
            <p:cNvSpPr/>
            <p:nvPr/>
          </p:nvSpPr>
          <p:spPr>
            <a:xfrm>
              <a:off x="4427280" y="400536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Group 41"/>
          <p:cNvGrpSpPr/>
          <p:nvPr/>
        </p:nvGrpSpPr>
        <p:grpSpPr>
          <a:xfrm>
            <a:off x="8400960" y="3645000"/>
            <a:ext cx="742680" cy="1000080"/>
            <a:chOff x="8400960" y="3645000"/>
            <a:chExt cx="742680" cy="1000080"/>
          </a:xfrm>
        </p:grpSpPr>
        <p:pic>
          <p:nvPicPr>
            <p:cNvPr id="111" name="Picture 42" descr=""/>
            <p:cNvPicPr/>
            <p:nvPr/>
          </p:nvPicPr>
          <p:blipFill>
            <a:blip r:embed="rId15"/>
            <a:stretch/>
          </p:blipFill>
          <p:spPr>
            <a:xfrm>
              <a:off x="8400960" y="364500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AutoShape 43"/>
            <p:cNvSpPr/>
            <p:nvPr/>
          </p:nvSpPr>
          <p:spPr>
            <a:xfrm>
              <a:off x="8472240" y="400536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44"/>
          <p:cNvGrpSpPr/>
          <p:nvPr/>
        </p:nvGrpSpPr>
        <p:grpSpPr>
          <a:xfrm>
            <a:off x="1116000" y="5300640"/>
            <a:ext cx="742680" cy="1000080"/>
            <a:chOff x="1116000" y="5300640"/>
            <a:chExt cx="742680" cy="1000080"/>
          </a:xfrm>
        </p:grpSpPr>
        <p:pic>
          <p:nvPicPr>
            <p:cNvPr id="114" name="Picture 45" descr=""/>
            <p:cNvPicPr/>
            <p:nvPr/>
          </p:nvPicPr>
          <p:blipFill>
            <a:blip r:embed="rId16"/>
            <a:stretch/>
          </p:blipFill>
          <p:spPr>
            <a:xfrm>
              <a:off x="1116000" y="530064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AutoShape 46"/>
            <p:cNvSpPr/>
            <p:nvPr/>
          </p:nvSpPr>
          <p:spPr>
            <a:xfrm>
              <a:off x="1187280" y="566100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Group 47"/>
          <p:cNvGrpSpPr/>
          <p:nvPr/>
        </p:nvGrpSpPr>
        <p:grpSpPr>
          <a:xfrm>
            <a:off x="7524720" y="5373720"/>
            <a:ext cx="742680" cy="1000080"/>
            <a:chOff x="7524720" y="5373720"/>
            <a:chExt cx="742680" cy="1000080"/>
          </a:xfrm>
        </p:grpSpPr>
        <p:pic>
          <p:nvPicPr>
            <p:cNvPr id="117" name="Picture 48" descr=""/>
            <p:cNvPicPr/>
            <p:nvPr/>
          </p:nvPicPr>
          <p:blipFill>
            <a:blip r:embed="rId17"/>
            <a:stretch/>
          </p:blipFill>
          <p:spPr>
            <a:xfrm>
              <a:off x="7524720" y="537372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AutoShape 49"/>
            <p:cNvSpPr/>
            <p:nvPr/>
          </p:nvSpPr>
          <p:spPr>
            <a:xfrm>
              <a:off x="7596000" y="573408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Group 50"/>
          <p:cNvGrpSpPr/>
          <p:nvPr/>
        </p:nvGrpSpPr>
        <p:grpSpPr>
          <a:xfrm>
            <a:off x="5508720" y="5373720"/>
            <a:ext cx="742680" cy="1000080"/>
            <a:chOff x="5508720" y="5373720"/>
            <a:chExt cx="742680" cy="1000080"/>
          </a:xfrm>
        </p:grpSpPr>
        <p:pic>
          <p:nvPicPr>
            <p:cNvPr id="120" name="Picture 51" descr=""/>
            <p:cNvPicPr/>
            <p:nvPr/>
          </p:nvPicPr>
          <p:blipFill>
            <a:blip r:embed="rId18"/>
            <a:stretch/>
          </p:blipFill>
          <p:spPr>
            <a:xfrm>
              <a:off x="5508720" y="537372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AutoShape 52"/>
            <p:cNvSpPr/>
            <p:nvPr/>
          </p:nvSpPr>
          <p:spPr>
            <a:xfrm>
              <a:off x="5580000" y="573408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Group 53"/>
          <p:cNvGrpSpPr/>
          <p:nvPr/>
        </p:nvGrpSpPr>
        <p:grpSpPr>
          <a:xfrm>
            <a:off x="3203640" y="5300640"/>
            <a:ext cx="742680" cy="1000080"/>
            <a:chOff x="3203640" y="5300640"/>
            <a:chExt cx="742680" cy="1000080"/>
          </a:xfrm>
        </p:grpSpPr>
        <p:pic>
          <p:nvPicPr>
            <p:cNvPr id="123" name="Picture 54" descr=""/>
            <p:cNvPicPr/>
            <p:nvPr/>
          </p:nvPicPr>
          <p:blipFill>
            <a:blip r:embed="rId19"/>
            <a:stretch/>
          </p:blipFill>
          <p:spPr>
            <a:xfrm>
              <a:off x="3203640" y="530064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AutoShape 55"/>
            <p:cNvSpPr/>
            <p:nvPr/>
          </p:nvSpPr>
          <p:spPr>
            <a:xfrm>
              <a:off x="3274920" y="566100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500"/>
                            </p:stCondLst>
                            <p:childTnLst>
                              <p:par>
                                <p:cTn id="3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4000"/>
                            </p:stCondLst>
                            <p:childTnLst>
                              <p:par>
                                <p:cTn id="3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500"/>
                            </p:stCondLst>
                            <p:childTnLst>
                              <p:par>
                                <p:cTn id="3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6000"/>
                            </p:stCondLst>
                            <p:childTnLst>
                              <p:par>
                                <p:cTn id="3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6500"/>
                            </p:stCondLst>
                            <p:childTnLst>
                              <p:par>
                                <p:cTn id="3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000"/>
                            </p:stCondLst>
                            <p:childTnLst>
                              <p:par>
                                <p:cTn id="3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7500"/>
                            </p:stCondLst>
                            <p:childTnLst>
                              <p:par>
                                <p:cTn id="3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8000"/>
                            </p:stCondLst>
                            <p:childTnLst>
                              <p:par>
                                <p:cTn id="3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8500"/>
                            </p:stCondLst>
                            <p:childTnLst>
                              <p:par>
                                <p:cTn id="3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9000"/>
                            </p:stCondLst>
                            <p:childTnLst>
                              <p:par>
                                <p:cTn id="3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9500"/>
                            </p:stCondLst>
                            <p:childTnLst>
                              <p:par>
                                <p:cTn id="38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2500"/>
                            </p:stCondLst>
                            <p:childTnLst>
                              <p:par>
                                <p:cTn id="426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8" dur="50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9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50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2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4" dur="50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5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500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0" dur="50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1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3" dur="500" autoRev="1" fill="hold"/>
                                        <p:tgtEl>
                                          <p:spTgt spid="1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6" dur="50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9" dur="500" autoRev="1" fill="hold"/>
                                        <p:tgtEl>
                                          <p:spTgt spid="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2" dur="500" autoRev="1" fill="hold"/>
                                        <p:tgtEl>
                                          <p:spTgt spid="1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5500"/>
                            </p:stCondLst>
                            <p:childTnLst>
                              <p:par>
                                <p:cTn id="45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5" dur="1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7" dur="1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5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9" dur="1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1" dur="1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3" dur="1000" fill="hold"/>
                                        <p:tgtEl>
                                          <p:spTgt spid="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5" dur="1000" fill="hold"/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7" dur="1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9" dur="1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6500"/>
                            </p:stCondLst>
                            <p:childTnLst>
                              <p:par>
                                <p:cTn id="47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7500"/>
                            </p:stCondLst>
                            <p:childTnLst>
                              <p:par>
                                <p:cTn id="4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8000"/>
                            </p:stCondLst>
                            <p:childTnLst>
                              <p:par>
                                <p:cTn id="48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8500"/>
                            </p:stCondLst>
                            <p:childTnLst>
                              <p:par>
                                <p:cTn id="4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9000"/>
                            </p:stCondLst>
                            <p:childTnLst>
                              <p:par>
                                <p:cTn id="49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9500"/>
                            </p:stCondLst>
                            <p:childTnLst>
                              <p:par>
                                <p:cTn id="4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0000"/>
                            </p:stCondLst>
                            <p:childTnLst>
                              <p:par>
                                <p:cTn id="49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500"/>
                            </p:stCondLst>
                            <p:childTnLst>
                              <p:par>
                                <p:cTn id="50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1000"/>
                            </p:stCondLst>
                            <p:childTnLst>
                              <p:par>
                                <p:cTn id="5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1500"/>
                            </p:stCondLst>
                            <p:childTnLst>
                              <p:par>
                                <p:cTn id="51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51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2500"/>
                            </p:stCondLst>
                            <p:childTnLst>
                              <p:par>
                                <p:cTn id="51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3000"/>
                            </p:stCondLst>
                            <p:childTnLst>
                              <p:par>
                                <p:cTn id="5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3500"/>
                            </p:stCondLst>
                            <p:childTnLst>
                              <p:par>
                                <p:cTn id="52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4000"/>
                            </p:stCondLst>
                            <p:childTnLst>
                              <p:par>
                                <p:cTn id="53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4500"/>
                            </p:stCondLst>
                            <p:childTnLst>
                              <p:par>
                                <p:cTn id="53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5000"/>
                            </p:stCondLst>
                            <p:childTnLst>
                              <p:par>
                                <p:cTn id="53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d5b5"/>
            </a:gs>
            <a:gs pos="100000">
              <a:srgbClr val="96ab94">
                <a:alpha val="26274"/>
              </a:srgbClr>
            </a:gs>
          </a:gsLst>
          <a:lin ang="1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3492360" y="2421000"/>
            <a:ext cx="1944720" cy="1774800"/>
            <a:chOff x="3492360" y="2421000"/>
            <a:chExt cx="1944720" cy="1774800"/>
          </a:xfrm>
        </p:grpSpPr>
        <p:pic>
          <p:nvPicPr>
            <p:cNvPr id="126" name="Picture 3" descr=""/>
            <p:cNvPicPr/>
            <p:nvPr/>
          </p:nvPicPr>
          <p:blipFill>
            <a:blip r:embed="rId1"/>
            <a:stretch/>
          </p:blipFill>
          <p:spPr>
            <a:xfrm>
              <a:off x="3492360" y="2421000"/>
              <a:ext cx="1944720" cy="177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4" descr=""/>
            <p:cNvPicPr/>
            <p:nvPr/>
          </p:nvPicPr>
          <p:blipFill>
            <a:blip r:embed="rId2"/>
            <a:stretch/>
          </p:blipFill>
          <p:spPr>
            <a:xfrm>
              <a:off x="3636720" y="2710080"/>
              <a:ext cx="1219320" cy="1181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" name="Picture 5" descr=""/>
          <p:cNvPicPr/>
          <p:nvPr/>
        </p:nvPicPr>
        <p:blipFill>
          <a:blip r:embed="rId3"/>
          <a:stretch/>
        </p:blipFill>
        <p:spPr>
          <a:xfrm>
            <a:off x="4067280" y="907920"/>
            <a:ext cx="581040" cy="1667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4"/>
          <a:stretch/>
        </p:blipFill>
        <p:spPr>
          <a:xfrm>
            <a:off x="1908000" y="2997360"/>
            <a:ext cx="1667160" cy="581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5"/>
          <a:stretch/>
        </p:blipFill>
        <p:spPr>
          <a:xfrm>
            <a:off x="3995640" y="4149720"/>
            <a:ext cx="581040" cy="1666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"/>
          <p:cNvPicPr/>
          <p:nvPr/>
        </p:nvPicPr>
        <p:blipFill>
          <a:blip r:embed="rId6"/>
          <a:stretch/>
        </p:blipFill>
        <p:spPr>
          <a:xfrm>
            <a:off x="5076720" y="2997360"/>
            <a:ext cx="1667160" cy="581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"/>
          <p:cNvPicPr/>
          <p:nvPr/>
        </p:nvPicPr>
        <p:blipFill>
          <a:blip r:embed="rId7"/>
          <a:stretch/>
        </p:blipFill>
        <p:spPr>
          <a:xfrm rot="19560000">
            <a:off x="3058920" y="1341000"/>
            <a:ext cx="580680" cy="1666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"/>
          <p:cNvPicPr/>
          <p:nvPr/>
        </p:nvPicPr>
        <p:blipFill>
          <a:blip r:embed="rId8"/>
          <a:stretch/>
        </p:blipFill>
        <p:spPr>
          <a:xfrm rot="13592400">
            <a:off x="2811240" y="3606480"/>
            <a:ext cx="581040" cy="1667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"/>
          <p:cNvPicPr/>
          <p:nvPr/>
        </p:nvPicPr>
        <p:blipFill>
          <a:blip r:embed="rId9"/>
          <a:stretch/>
        </p:blipFill>
        <p:spPr>
          <a:xfrm rot="2698800">
            <a:off x="5148360" y="1412640"/>
            <a:ext cx="581040" cy="1666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"/>
          <p:cNvPicPr/>
          <p:nvPr/>
        </p:nvPicPr>
        <p:blipFill>
          <a:blip r:embed="rId10"/>
          <a:stretch/>
        </p:blipFill>
        <p:spPr>
          <a:xfrm rot="8356200">
            <a:off x="5148000" y="3716280"/>
            <a:ext cx="581040" cy="1666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"/>
          <p:cNvPicPr/>
          <p:nvPr/>
        </p:nvPicPr>
        <p:blipFill>
          <a:blip r:embed="rId11"/>
          <a:stretch/>
        </p:blipFill>
        <p:spPr>
          <a:xfrm rot="1538400">
            <a:off x="4649760" y="1477800"/>
            <a:ext cx="446040" cy="1114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"/>
          <p:cNvPicPr/>
          <p:nvPr/>
        </p:nvPicPr>
        <p:blipFill>
          <a:blip r:embed="rId12"/>
          <a:stretch/>
        </p:blipFill>
        <p:spPr>
          <a:xfrm rot="4084200">
            <a:off x="5439960" y="2201760"/>
            <a:ext cx="507960" cy="1235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5" descr=""/>
          <p:cNvPicPr/>
          <p:nvPr/>
        </p:nvPicPr>
        <p:blipFill>
          <a:blip r:embed="rId13"/>
          <a:stretch/>
        </p:blipFill>
        <p:spPr>
          <a:xfrm rot="6795600">
            <a:off x="5333040" y="3315240"/>
            <a:ext cx="565200" cy="1224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6" descr=""/>
          <p:cNvPicPr/>
          <p:nvPr/>
        </p:nvPicPr>
        <p:blipFill>
          <a:blip r:embed="rId14"/>
          <a:stretch/>
        </p:blipFill>
        <p:spPr>
          <a:xfrm rot="9633600">
            <a:off x="4599000" y="4069800"/>
            <a:ext cx="425520" cy="1152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7" descr=""/>
          <p:cNvPicPr/>
          <p:nvPr/>
        </p:nvPicPr>
        <p:blipFill>
          <a:blip r:embed="rId15"/>
          <a:stretch/>
        </p:blipFill>
        <p:spPr>
          <a:xfrm rot="12583800">
            <a:off x="3419280" y="4004640"/>
            <a:ext cx="438120" cy="1150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8" descr=""/>
          <p:cNvPicPr/>
          <p:nvPr/>
        </p:nvPicPr>
        <p:blipFill>
          <a:blip r:embed="rId16"/>
          <a:stretch/>
        </p:blipFill>
        <p:spPr>
          <a:xfrm rot="18286200">
            <a:off x="2792160" y="2127240"/>
            <a:ext cx="496800" cy="1208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9" descr=""/>
          <p:cNvPicPr/>
          <p:nvPr/>
        </p:nvPicPr>
        <p:blipFill>
          <a:blip r:embed="rId17"/>
          <a:stretch/>
        </p:blipFill>
        <p:spPr>
          <a:xfrm rot="15212400">
            <a:off x="2667240" y="3100680"/>
            <a:ext cx="487440" cy="1285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0" descr=""/>
          <p:cNvPicPr/>
          <p:nvPr/>
        </p:nvPicPr>
        <p:blipFill>
          <a:blip r:embed="rId18"/>
          <a:stretch/>
        </p:blipFill>
        <p:spPr>
          <a:xfrm rot="20364600">
            <a:off x="3695760" y="1485720"/>
            <a:ext cx="455400" cy="113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2500"/>
                            </p:stCondLst>
                            <p:childTnLst>
                              <p:par>
                                <p:cTn id="5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3500"/>
                            </p:stCondLst>
                            <p:childTnLst>
                              <p:par>
                                <p:cTn id="5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4000"/>
                            </p:stCondLst>
                            <p:childTnLst>
                              <p:par>
                                <p:cTn id="5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4500"/>
                            </p:stCondLst>
                            <p:childTnLst>
                              <p:par>
                                <p:cTn id="5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0"/>
                            </p:stCondLst>
                            <p:childTnLst>
                              <p:par>
                                <p:cTn id="6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500"/>
                            </p:stCondLst>
                            <p:childTnLst>
                              <p:par>
                                <p:cTn id="6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6000"/>
                            </p:stCondLst>
                            <p:childTnLst>
                              <p:par>
                                <p:cTn id="6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6500"/>
                            </p:stCondLst>
                            <p:childTnLst>
                              <p:par>
                                <p:cTn id="6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7000"/>
                            </p:stCondLst>
                            <p:childTnLst>
                              <p:par>
                                <p:cTn id="6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7500"/>
                            </p:stCondLst>
                            <p:childTnLst>
                              <p:par>
                                <p:cTn id="6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8500"/>
                            </p:stCondLst>
                            <p:childTnLst>
                              <p:par>
                                <p:cTn id="6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9000"/>
                            </p:stCondLst>
                            <p:childTnLst>
                              <p:par>
                                <p:cTn id="64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66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66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6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67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67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67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67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68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4" dur="1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6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Группа 62" descr=""/>
          <p:cNvPicPr/>
          <p:nvPr/>
        </p:nvPicPr>
        <p:blipFill>
          <a:blip r:embed="rId2"/>
          <a:stretch/>
        </p:blipFill>
        <p:spPr>
          <a:xfrm>
            <a:off x="-23760" y="189000"/>
            <a:ext cx="9198000" cy="6572160"/>
          </a:xfrm>
          <a:prstGeom prst="rect">
            <a:avLst/>
          </a:prstGeom>
          <a:ln w="0">
            <a:noFill/>
          </a:ln>
        </p:spPr>
      </p:pic>
      <p:sp>
        <p:nvSpPr>
          <p:cNvPr id="145" name="Овал 63"/>
          <p:cNvSpPr/>
          <p:nvPr/>
        </p:nvSpPr>
        <p:spPr>
          <a:xfrm>
            <a:off x="0" y="6000840"/>
            <a:ext cx="642960" cy="642960"/>
          </a:xfrm>
          <a:prstGeom prst="ellipse">
            <a:avLst/>
          </a:prstGeom>
          <a:solidFill>
            <a:srgbClr val="c000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007 L -0.00035 -0.85255 L 0.9375 -0.85255 L 0.9375 -0.0007 L -0.00035 -0.0007 Z">
                                      <p:cBhvr>
                                        <p:cTn id="742" dur="10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4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-0.00069 L 0.92101 -0.85301 E">
                                      <p:cBhvr>
                                        <p:cTn id="745" dur="5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74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92101 -0.85301 L 0.00035 -0.85232 E">
                                      <p:cBhvr>
                                        <p:cTn id="748" dur="5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20000"/>
                            </p:stCondLst>
                            <p:childTnLst>
                              <p:par>
                                <p:cTn id="750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85232 L 0.91371 -0.00185 E">
                                      <p:cBhvr>
                                        <p:cTn id="751" dur="5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25000"/>
                            </p:stCondLst>
                            <p:childTnLst>
                              <p:par>
                                <p:cTn id="75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91371 -0.00185 L 0.00035 -0.00185 E">
                                      <p:cBhvr>
                                        <p:cTn id="754" dur="5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C:\Documents and Settings\Admin\Рабочий стол\Рисунок1.jpg"/>
          <p:cNvPicPr/>
          <p:nvPr/>
        </p:nvPicPr>
        <p:blipFill>
          <a:blip r:embed="rId1"/>
          <a:stretch/>
        </p:blipFill>
        <p:spPr>
          <a:xfrm>
            <a:off x="357120" y="357120"/>
            <a:ext cx="84297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cddd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CE1D-19E3-4E51-9364-2598B9FF3C4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Rectangle 2" descr=""/>
          <p:cNvPicPr/>
          <p:nvPr/>
        </p:nvPicPr>
        <p:blipFill>
          <a:blip r:embed="rId1"/>
          <a:stretch/>
        </p:blipFill>
        <p:spPr>
          <a:xfrm>
            <a:off x="633240" y="353880"/>
            <a:ext cx="7560000" cy="1303560"/>
          </a:xfrm>
          <a:prstGeom prst="rect">
            <a:avLst/>
          </a:prstGeom>
          <a:ln w="0">
            <a:noFill/>
          </a:ln>
        </p:spPr>
      </p:pic>
      <p:sp>
        <p:nvSpPr>
          <p:cNvPr id="149" name="Oval 3"/>
          <p:cNvSpPr/>
          <p:nvPr/>
        </p:nvSpPr>
        <p:spPr>
          <a:xfrm>
            <a:off x="500040" y="3214800"/>
            <a:ext cx="4103640" cy="265572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4500720" y="3643200"/>
            <a:ext cx="4249440" cy="259092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5" descr="J0076220"/>
          <p:cNvPicPr/>
          <p:nvPr/>
        </p:nvPicPr>
        <p:blipFill>
          <a:blip r:embed="rId2"/>
          <a:stretch/>
        </p:blipFill>
        <p:spPr>
          <a:xfrm>
            <a:off x="7929720" y="3500280"/>
            <a:ext cx="1050840" cy="1079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J0076221"/>
          <p:cNvPicPr/>
          <p:nvPr/>
        </p:nvPicPr>
        <p:blipFill>
          <a:blip r:embed="rId3"/>
          <a:stretch/>
        </p:blipFill>
        <p:spPr>
          <a:xfrm>
            <a:off x="0" y="3573360"/>
            <a:ext cx="1152360" cy="11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86 0.05625 C -0.00399 0.05277 -0.00191 0.04074 0.00139 0.03726 C 0.00451 0.03379 0.00903 0.03356 0.0125 0.03101 C 0.02066 0.025 0.0276 0.01574 0.03646 0.01203 C 0.04097 0.00578 0.04774 3.70370000000011E-006 0.05382 -0.00278 C 0.08281 -0.04352 0.15972 -0.03936 0.18871 -0.04098 C 0.21094 -0.05047 0.23264 -0.04561 0.25538 -0.04306 C 0.27708 -0.0375 0.29844 -0.03588 0.32049 -0.03449 C 0.32674 -0.03172 0.33698 -0.03033 0.34271 -0.02616 C 0.34601 -0.02361 0.34861 -0.01945 0.35226 -0.0176 C 0.35486 -0.01621 0.35764 -0.01505 0.36024 -0.01343 C 0.36198 -0.01227 0.36354 -0.01088 0.36493 -0.00926 C 0.36614 -0.00787 0.36667 -0.00579 0.36805 -0.00486 C 0.37101 -0.00278 0.3776 -0.0007 0.3776 -0.00047 C 0.38715 0.01134 0.37396 -0.00394 0.38559 0.00555 C 0.38819 0.00764 0.38958 0.0118 0.39201 0.01412 C 0.39913 0.02106 0.40955 0.02685 0.4158 0.03518 C 0.42257 0.04421 0.41441 0.03518 0.42535 0.04375 C 0.42864 0.04629 0.43472 0.05185 0.43472 0.05208 C 0.43854 0.07106 0.44236 0.08842 0.45069 0.10486 C 0.45174 0.10694 0.45226 0.10972 0.45382 0.11111 C 0.45694 0.11389 0.46024 0.11689 0.46337 0.11967 C 0.46649 0.12245 0.46805 0.12801 0.47135 0.13032 C 0.47344 0.13171 0.47552 0.1331 0.4776 0.13449 C 0.48489 0.14838 0.49462 0.15185 0.50625 0.15555 C 0.51424 0.16319 0.52535 0.16412 0.53472 0.16828 C 0.53941 0.17453 0.56111 0.18426 0.56805 0.18518 C 0.57864 0.18657 0.59983 0.18958 0.59983 0.18981 C 0.64132 0.1875 0.67569 0.19027 0.71424 0.18101 C 0.725 0.17847 0.7342 0.17222 0.74427 0.16828 C 0.76892 0.15879 0.79323 0.15439 0.81892 0.15139 C 0.8276 0.14676 0.83299 0.13981 0.84114 0.13449 C 0.84462 0.12476 0.85208 0.11064 0.86024 0.10694 C 0.86753 0.1037 0.88246 0.09861 0.88246 0.09884 C 0.89028 0.08773 0.88976 0.07824 0.89201 0.0625 C 0.89288 0.05625 0.89253 0.04583 0.89826 0.04583 E">
                                      <p:cBhvr>
                                        <p:cTn id="767" dur="8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8000"/>
                            </p:stCondLst>
                            <p:childTnLst>
                              <p:par>
                                <p:cTn id="7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8000"/>
                            </p:stCondLst>
                            <p:childTnLst>
                              <p:par>
                                <p:cTn id="7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8000"/>
                            </p:stCondLst>
                            <p:childTnLst>
                              <p:par>
                                <p:cTn id="7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62 0.07685 C 0.03733 0.05231 0.02535 0.03981 0.00972 0.02407 C 0.00938 0.02384 -0.00069 0.00856 -0.00469 0.00694 C -0.02864 -0.00255 -0.05347 -0.00903 -0.0776 -0.01829 C -0.09288 -0.02408 -0.1092 -0.0338 -0.12517 -0.03519 C -0.14271 -0.03658 -0.16007 -0.0382 -0.1776 -0.03958 C -0.23281 -0.03796 -0.23837 -0.04468 -0.27448 -0.02894 C -0.28507 -0.02431 -0.29566 -0.02083 -0.30625 -0.0162 C -0.30937 -0.01482 -0.31267 -0.01343 -0.3158 -0.01204 C -0.31736 -0.01134 -0.32049 -0.00995 -0.32049 -0.00972 C -0.32795 -0.00278 -0.33559 -0.00232 -0.34427 0.00069 C -0.34757 0.00185 -0.35069 0.00347 -0.35382 0.00486 C -0.35538 0.00555 -0.35851 0.00694 -0.35851 0.00717 C -0.36719 0.01481 -0.37847 0.01829 -0.38871 0.02176 C -0.39358 0.0287 -0.3993 0.02731 -0.40469 0.03449 C -0.41684 0.05069 -0.4026 0.03704 -0.41406 0.04722 C -0.41597 0.0537 -0.4191 0.05949 -0.42049 0.0662 C -0.42187 0.07315 -0.42205 0.08055 -0.42361 0.0875 C -0.42587 0.09745 -0.43281 0.10579 -0.43802 0.11273 C -0.43871 0.11366 -0.44861 0.13055 -0.45069 0.1338 C -0.45746 0.14491 -0.45851 0.15555 -0.46962 0.15926 C -0.48281 0.17639 -0.46701 0.15787 -0.47917 0.16759 C -0.48055 0.16875 -0.48108 0.17106 -0.48246 0.17199 C -0.48542 0.17407 -0.49184 0.17616 -0.49184 0.17639 C -0.49705 0.18264 -0.50087 0.18217 -0.50781 0.18449 C -0.52049 0.18889 -0.53299 0.19514 -0.54583 0.1993 C -0.55069 0.20579 -0.55677 0.20787 -0.56337 0.20995 C -0.57049 0.21227 -0.5783 0.21759 -0.58559 0.21852 C -0.5941 0.21967 -0.60243 0.21991 -0.61094 0.2206 C -0.65278 0.21921 -0.69462 0.21898 -0.73628 0.21643 C -0.73958 0.2162 -0.74253 0.21319 -0.74583 0.21204 C -0.77899 0.19977 -0.79427 0.1875 -0.82205 0.16342 C -0.8309 0.15579 -0.83646 0.14444 -0.84583 0.13796 C -0.8526 0.12523 -0.86163 0.11505 -0.86805 0.10208 C -0.86649 0.07546 -0.86649 0.08542 -0.86649 0.07268 E">
                                      <p:cBhvr>
                                        <p:cTn id="776" dur="8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6000"/>
                            </p:stCondLst>
                            <p:childTnLst>
                              <p:par>
                                <p:cTn id="7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16000"/>
                            </p:stCondLst>
                            <p:childTnLst>
                              <p:par>
                                <p:cTn id="7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6000"/>
                            </p:stCondLst>
                            <p:childTnLst>
                              <p:par>
                                <p:cTn id="7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7037E-007 C 0.00573 -0.02014 0.01649 -0.02986 0.02378 -0.04792 C 0.02812 -0.08866 0.04826 -0.08056 0.06354 -0.08472 C 0.07274 -0.0919 0.08733 -0.10162 0.09514 -0.11412 C 0.09965 -0.12106 0.10799 -0.13634 0.10799 -0.13588 C 0.15469 -0.13264 0.18437 -0.13102 0.23333 -0.13634 C 0.25712 -0.1544 0.2809 -0.13727 0.30469 -0.12917 C 0.31215 -0.12662 0.31944 -0.12431 0.32691 -0.12176 C 0.33437 -0.11944 0.34913 -0.11412 0.34913 -0.11366 C 0.35226 -0.11181 0.35555 -0.10926 0.35868 -0.10694 C 0.36354 -0.10324 0.36319 -0.09838 0.36667 -0.0919 C 0.37083 -0.0838 0.37135 -0.08472 0.37621 -0.08102 C 0.37778 -0.0787 0.37951 -0.07662 0.3809 -0.07384 C 0.38212 -0.0713 0.38281 -0.06806 0.38403 -0.0662 C 0.38854 -0.0581 0.39444 -0.05393 0.39844 -0.04421 C 0.40243 -0.03495 0.40555 -0.02361 0.40955 -0.01435 C 0.41719 0.00324 0.42778 0.02153 0.43646 0.03681 C 0.43837 0.04977 0.44219 0.0537 0.44444 0.06644 C 0.44774 0.0838 0.44687 0.09468 0.45243 0.10671 C 0.45538 0.12732 0.45573 0.13588 0.46354 0.14745 C 0.46458 0.15116 0.46528 0.15556 0.46667 0.15833 C 0.4691 0.16366 0.48646 0.19236 0.49045 0.1956 C 0.49358 0.19792 0.49687 0.20046 0.5 0.20278 C 0.50156 0.20394 0.50469 0.20648 0.50469 0.20671 C 0.51233 0.22292 0.52639 0.22824 0.53646 0.23588 C 0.55087 0.24676 0.5658 0.25 0.5809 0.2544 C 0.6 0.26019 0.61892 0.26829 0.63802 0.27315 C 0.67292 0.2706 0.70799 0.27153 0.74288 0.26528 C 0.75052 0.26412 0.77517 0.24514 0.78246 0.23588 C 0.78924 0.22732 0.79549 0.21204 0.80312 0.20648 C 0.82014 0.19352 0.83819 0.17986 0.85555 0.16968 C 0.86128 0.15556 0.85729 0.16412 0.86823 0.14745 C 0.86979 0.14514 0.87292 0.14028 0.87292 0.14051 C 0.8776 0.12454 0.88646 0.11042 0.89358 0.09954 C 0.89514 0.08519 0.89826 0.07639 0.9 0.06273 C 0.90052 0.05787 0.90104 0.05255 0.90156 0.04769 C 0.90208 0.04421 0.90312 0.03681 0.90312 0.03727 E">
                                      <p:cBhvr>
                                        <p:cTn id="785" dur="5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21000"/>
                            </p:stCondLst>
                            <p:childTnLst>
                              <p:par>
                                <p:cTn id="7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1000"/>
                            </p:stCondLst>
                            <p:childTnLst>
                              <p:par>
                                <p:cTn id="7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1000"/>
                            </p:stCondLst>
                            <p:childTnLst>
                              <p:par>
                                <p:cTn id="7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91 0.03861 C 0.00243 0.03098 -0.00191 0.02983 -0.00625 0.02381 C -0.01319 0.01387 -0.0217 0.00624 -0.03021 -0.00162 C -0.04236 -0.01318 -0.03298 -0.00786 -0.04219 -0.01226 C -0.06024 -0.03075 -0.08524 -0.03399 -0.10659 -0.03769 C -0.12309 -0.05249 -0.13923 -0.04509 -0.1592 -0.04393 C -0.17587 -0.0363 -0.19583 -0.03584 -0.21319 -0.0333 C -0.23507 -0.0259 -0.21111 -0.0333 -0.26562 -0.02913 C -0.27187 -0.02867 -0.2776 -0.02428 -0.28368 -0.02289 C -0.29653 -0.01989 -0.30642 -0.01827 -0.31823 -0.01434 C -0.33194 -0.00994 -0.34531 -0.00578 -0.35868 0.00046 C -0.36024 0.00116 -0.3618 0.00185 -0.36337 0.00254 C -0.36475 0.00324 -0.36632 0.00393 -0.36771 0.00462 C -0.36944 0.00532 -0.37239 0.0067 -0.37239 0.00694 C -0.37899 0.01642 -0.37083 0.00601 -0.38125 0.01318 C -0.38871 0.0185 -0.37969 0.01665 -0.38732 0.02381 C -0.38923 0.02543 -0.39166 0.0252 -0.3934 0.0259 C -0.4033 0.0363 -0.41389 0.04994 -0.42482 0.05757 C -0.42691 0.06173 -0.42882 0.06613 -0.4309 0.07029 C -0.43177 0.07237 -0.43385 0.07653 -0.43385 0.07676 C -0.43472 0.09618 -0.43455 0.1163 -0.43698 0.13572 C -0.43698 0.13595 -0.44896 0.15607 -0.45034 0.15699 C -0.45312 0.15907 -0.45937 0.16116 -0.45937 0.16139 C -0.47448 0.17503 -0.49184 0.18196 -0.50903 0.18867 C -0.52153 0.19376 -0.50469 0.18705 -0.51788 0.19491 C -0.52482 0.19907 -0.53472 0.20023 -0.54201 0.20139 C -0.5585 0.20925 -0.57552 0.21272 -0.59305 0.21618 C -0.59982 0.21757 -0.60555 0.22058 -0.6125 0.22243 C -0.62291 0.22543 -0.63333 0.22659 -0.64392 0.22867 C -0.65295 0.22728 -0.66198 0.22659 -0.671 0.22451 C -0.68003 0.22243 -0.68923 0.21503 -0.69809 0.21179 C -0.7125 0.2067 -0.72743 0.20601 -0.74149 0.19907 C -0.75781 0.19098 -0.76892 0.18243 -0.78646 0.17803 C -0.79479 0.17248 -0.80486 0.16994 -0.81198 0.16116 C -0.81788 0.15399 -0.82239 0.14613 -0.82847 0.13988 C -0.83559 0.12532 -0.83159 0.1304 -0.83906 0.123 C -0.84236 0.11584 -0.84653 0.11468 -0.84948 0.10821 C -0.85069 0.10566 -0.85139 0.10243 -0.8526 0.09988 C -0.85469 0.09549 -0.8585 0.09318 -0.8585 0.08717 E">
                                      <p:cBhvr>
                                        <p:cTn id="794" dur="5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26000"/>
                            </p:stCondLst>
                            <p:childTnLst>
                              <p:par>
                                <p:cTn id="79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3:55:52Z</dcterms:created>
  <dc:creator>Admin</dc:creator>
  <dc:description/>
  <dc:language>en-US</dc:language>
  <cp:lastModifiedBy>Admin</cp:lastModifiedBy>
  <dcterms:modified xsi:type="dcterms:W3CDTF">2009-04-01T15:41:47Z</dcterms:modified>
  <cp:revision>33</cp:revision>
  <dc:subject/>
  <dc:title>Слайд 1</dc:title>
</cp:coreProperties>
</file>