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1.gif" ContentType="image/gif"/>
  <Override PartName="/ppt/media/image14.png" ContentType="image/png"/>
  <Override PartName="/ppt/media/image19.gif" ContentType="image/gif"/>
  <Override PartName="/ppt/media/image4.png" ContentType="image/png"/>
  <Override PartName="/ppt/media/image24.gif" ContentType="image/gif"/>
  <Override PartName="/ppt/media/image26.gif" ContentType="image/gif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30.gif" ContentType="image/gif"/>
  <Override PartName="/ppt/media/image8.png" ContentType="image/png"/>
  <Override PartName="/ppt/media/image29.gif" ContentType="image/gif"/>
  <Override PartName="/ppt/media/image9.png" ContentType="image/png"/>
  <Override PartName="/ppt/media/image1.gif" ContentType="image/gif"/>
  <Override PartName="/ppt/media/image31.gif" ContentType="image/gif"/>
  <Override PartName="/ppt/media/chimes.wav" ContentType="audio/x-wav"/>
  <Override PartName="/ppt/media/image3.png" ContentType="image/png"/>
  <Override PartName="/ppt/media/image23.gif" ContentType="image/gif"/>
  <Override PartName="/ppt/media/image32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22.gif" ContentType="image/gif"/>
  <Override PartName="/ppt/media/image15.png" ContentType="image/png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4532-7D23-4BF0-ABAE-514401551D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0192-A681-4C02-AFE8-714785BDB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бята, волшебная шкатулка, что-то говорит, сообщ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тайт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вы думаете, какое задание предлагает выполнить шкатул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делите слова на три группы по определённому признаку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и слова можно разделить на группы по частям ре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C75-DBF7-4DB3-934D-451823D25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одим курсор на слово. На каждой группой слов наведите курсор – появится название группы. Под группой – характер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ти на следующий слайд по ссылке  «голубой кр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F4E0-663D-45F6-85F7-508A601CA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чему эти слова никуда не включи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не знаем, к какой группе их отнести, они не подходят к данным частям ре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тайте их ещё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б эти словах? - Как их можно назв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одим курсор на слово. На каждой группой слов наведите курсор – появится название группы. Под группой – характер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0752-1108-4B57-92A4-988C6F41D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, как определить  какой частью речи является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C61D-B7C8-412A-A6B2-D5DBD022B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мы делали для того, чтобы определить в какую группу записать сл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6AA-1F3C-4CB9-B28A-B583B36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764-303F-4FBA-BF2E-E463F308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637E-41AE-4385-8820-3905F42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6C6C-9A9B-4070-89A9-0D7ACE77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7A81-95A3-4EE5-876C-5C91E1EB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653E-1923-464E-8ECC-FD78ED8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AA24-BCDB-416F-A5E7-1ACA21F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58D2-1B57-4F7C-AC82-516215D2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C78C-9E1B-4EFC-A1D8-D808B5A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57FF-76F3-4E01-9F98-D01C00D6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9032-5B7A-4BBA-9E0B-4A06C825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74B-43AE-4A4A-8156-CB60470F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49F-C4AD-4C52-B2C3-F885386E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293-20F7-4ADD-98BB-0F993D7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9B9-B3A3-4BAE-B61D-D87CDF30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A1D-5FEF-4DE4-83B2-2ED74E0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016-6D27-42F7-A1F2-DB3C76E1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4D1-C4F9-4943-8E2E-FA930A3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06D-2F31-4C55-8B76-FAE3D19C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982-BF7E-4590-8ECE-66EA5A0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9E4-48A0-44DF-88C6-DB4B5D8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6092-5EFC-4CFF-84F0-24DC905E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534B-D0E6-459E-95A7-E9A4340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24D4-E936-445C-AE26-CBC2790E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8346-DD38-403E-812E-C1834238D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АРТИНКИ\Природа\Погода\Времена года\Зима\648.gif"/>
          <p:cNvPicPr/>
          <p:nvPr/>
        </p:nvPicPr>
        <p:blipFill>
          <a:blip r:embed="rId12"/>
          <a:stretch/>
        </p:blipFill>
        <p:spPr>
          <a:xfrm>
            <a:off x="285840" y="285840"/>
            <a:ext cx="8358120" cy="635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F:\вика3\Новая папка\bg20.gif"/>
          <p:cNvPicPr/>
          <p:nvPr/>
        </p:nvPicPr>
        <p:blipFill>
          <a:blip r:embed="rId13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F:\вика3\Новая папка\bg20.gif"/>
          <p:cNvPicPr/>
          <p:nvPr/>
        </p:nvPicPr>
        <p:blipFill>
          <a:blip r:embed="rId14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вика3\Новая папка\bg20.gif"/>
          <p:cNvPicPr/>
          <p:nvPr/>
        </p:nvPicPr>
        <p:blipFill>
          <a:blip r:embed="rId15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вика3\Новая папка\bg20.gif"/>
          <p:cNvPicPr/>
          <p:nvPr/>
        </p:nvPicPr>
        <p:blipFill>
          <a:blip r:embed="rId16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вика3\Новая папка\bg20.gif"/>
          <p:cNvPicPr/>
          <p:nvPr/>
        </p:nvPicPr>
        <p:blipFill>
          <a:blip r:embed="rId17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вика3\Новая папка\bg20.gif"/>
          <p:cNvPicPr/>
          <p:nvPr/>
        </p:nvPicPr>
        <p:blipFill>
          <a:blip r:embed="rId18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вика3\Новая папка\bg20.gif"/>
          <p:cNvPicPr/>
          <p:nvPr/>
        </p:nvPicPr>
        <p:blipFill>
          <a:blip r:embed="rId19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вика3\Новая папка\bg20.gif"/>
          <p:cNvPicPr/>
          <p:nvPr/>
        </p:nvPicPr>
        <p:blipFill>
          <a:blip r:embed="rId20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вика3\Новая папка\bg20.gif"/>
          <p:cNvPicPr/>
          <p:nvPr/>
        </p:nvPicPr>
        <p:blipFill>
          <a:blip r:embed="rId21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вика3\Новая папка\bg20.gif"/>
          <p:cNvPicPr/>
          <p:nvPr/>
        </p:nvPicPr>
        <p:blipFill>
          <a:blip r:embed="rId22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угадай\Синий.gif"/>
          <p:cNvPicPr/>
          <p:nvPr/>
        </p:nvPicPr>
        <p:blipFill>
          <a:blip r:embed="rId23"/>
          <a:stretch/>
        </p:blipFill>
        <p:spPr>
          <a:xfrm>
            <a:off x="8001000" y="6500880"/>
            <a:ext cx="1012680" cy="21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"Образовательный портал Мой университет - www.moi-universitet.ru. факультет "Реформа образования"www.edu-reforma.ru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4DFE-330F-49EF-BBF2-5668A7947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.png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hyperlink" Target="http://smiles.33b.ru/smile.105806.html" TargetMode="External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Прямоугольник 3" descr=""/>
          <p:cNvPicPr/>
          <p:nvPr/>
        </p:nvPicPr>
        <p:blipFill>
          <a:blip r:embed="rId1"/>
          <a:stretch/>
        </p:blipFill>
        <p:spPr>
          <a:xfrm>
            <a:off x="2249640" y="1238400"/>
            <a:ext cx="51879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5" descr="lares"/>
          <p:cNvPicPr/>
          <p:nvPr/>
        </p:nvPicPr>
        <p:blipFill>
          <a:blip r:embed="rId1"/>
          <a:stretch/>
        </p:blipFill>
        <p:spPr>
          <a:xfrm>
            <a:off x="611280" y="162000"/>
            <a:ext cx="7561080" cy="6696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6"/>
          <p:cNvSpPr/>
          <p:nvPr/>
        </p:nvSpPr>
        <p:spPr>
          <a:xfrm>
            <a:off x="2843280" y="393372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 rot="21138600">
            <a:off x="3492000" y="422064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 rot="19483800">
            <a:off x="4716720" y="335736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 rot="1445400">
            <a:off x="3131280" y="3644640"/>
            <a:ext cx="151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5364000" y="357336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3924360" y="335772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3059280" y="4149720"/>
            <a:ext cx="25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3274920" y="4365720"/>
            <a:ext cx="187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62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500" fill="hold"/>
                                        <p:tgtEl>
                                          <p:spTgt spid="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8385E-006 L 0.03542 -0.33149 E">
                                      <p:cBhvr>
                                        <p:cTn id="168" dur="5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5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2191E-006 L 4.44444E-006 -0.41545 E">
                                      <p:cBhvr>
                                        <p:cTn id="172" dur="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495E-006 L -0.31111 0.06731 E">
                                      <p:cBhvr>
                                        <p:cTn id="176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5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739E-006 L 0.18906 0.25607 E">
                                      <p:cBhvr>
                                        <p:cTn id="180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5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2191E-006 L -0.29531 -0.25816 E">
                                      <p:cBhvr>
                                        <p:cTn id="184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02174E-006 L 0.21666 -0.17419 E">
                                      <p:cBhvr>
                                        <p:cTn id="188" dur="1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0" fill="hold"/>
                                        <p:tgtEl>
                                          <p:spTgt spid="5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528 0.14689 E">
                                      <p:cBhvr>
                                        <p:cTn id="192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Oval 34"/>
          <p:cNvSpPr/>
          <p:nvPr/>
        </p:nvSpPr>
        <p:spPr>
          <a:xfrm>
            <a:off x="0" y="6021360"/>
            <a:ext cx="395280" cy="405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lares"/>
          <p:cNvPicPr/>
          <p:nvPr/>
        </p:nvPicPr>
        <p:blipFill>
          <a:blip r:embed="rId1"/>
          <a:stretch/>
        </p:blipFill>
        <p:spPr>
          <a:xfrm>
            <a:off x="3564000" y="4308480"/>
            <a:ext cx="2879640" cy="25495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4500720" y="443700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4211640" y="573408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093080" y="616572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395280" y="494172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1979640" y="5661000"/>
            <a:ext cx="180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1332000" y="4437000"/>
            <a:ext cx="252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877080" y="4724280"/>
            <a:ext cx="187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586728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2916360" y="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0" y="0"/>
            <a:ext cx="28432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2771640" y="0"/>
            <a:ext cx="28432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5940360" y="0"/>
            <a:ext cx="284328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6227640" y="4221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0" y="3645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0" y="3716280"/>
            <a:ext cx="284328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6300720" y="4149720"/>
            <a:ext cx="2843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2"/>
          <p:cNvSpPr/>
          <p:nvPr/>
        </p:nvSpPr>
        <p:spPr>
          <a:xfrm>
            <a:off x="179280" y="2060640"/>
            <a:ext cx="14292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23"/>
          <p:cNvSpPr/>
          <p:nvPr/>
        </p:nvSpPr>
        <p:spPr>
          <a:xfrm>
            <a:off x="2771640" y="1989000"/>
            <a:ext cx="14292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24"/>
          <p:cNvSpPr/>
          <p:nvPr/>
        </p:nvSpPr>
        <p:spPr>
          <a:xfrm>
            <a:off x="5508720" y="1989000"/>
            <a:ext cx="14292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179280" y="220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179280" y="28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298764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298764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6084720" y="2276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0"/>
          <p:cNvSpPr/>
          <p:nvPr/>
        </p:nvSpPr>
        <p:spPr>
          <a:xfrm>
            <a:off x="594036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08000" y="2276640"/>
            <a:ext cx="2484360" cy="15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2987640" y="2349360"/>
            <a:ext cx="230508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6012000" y="2421000"/>
            <a:ext cx="194292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7667640" y="335772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67 -0.04835 L 0.49218 -0.53088 E">
                                      <p:cBhvr>
                                        <p:cTn id="198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-0.04812 L -0.46858 -0.54129 E">
                                      <p:cBhvr>
                                        <p:cTn id="20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4812 L -0.20087 -0.60421 E">
                                      <p:cBhvr>
                                        <p:cTn id="208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4835 L 0.14566 -0.6255 E">
                                      <p:cBhvr>
                                        <p:cTn id="21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4812 L -0.47257 -0.41545 E">
                                      <p:cBhvr>
                                        <p:cTn id="224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4835 L -0.44097 -0.68842 E">
                                      <p:cBhvr>
                                        <p:cTn id="22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3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6" dur="3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3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9" dur="1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lares"/>
          <p:cNvPicPr/>
          <p:nvPr/>
        </p:nvPicPr>
        <p:blipFill>
          <a:blip r:embed="rId1"/>
          <a:stretch/>
        </p:blipFill>
        <p:spPr>
          <a:xfrm>
            <a:off x="3708360" y="505764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611280" y="83664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5867280" y="148428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92360" y="141300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395280" y="479736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851280" y="83664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468360" y="148428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6084720" y="836640"/>
            <a:ext cx="252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6877080" y="4724280"/>
            <a:ext cx="187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0" y="645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79600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2916360" y="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6227640" y="4292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0" y="39337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0" y="4005360"/>
            <a:ext cx="28432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6156360" y="4221000"/>
            <a:ext cx="28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7"/>
          <p:cNvSpPr/>
          <p:nvPr/>
        </p:nvSpPr>
        <p:spPr>
          <a:xfrm>
            <a:off x="658800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179280" y="28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1"/>
          <p:cNvSpPr/>
          <p:nvPr/>
        </p:nvSpPr>
        <p:spPr>
          <a:xfrm>
            <a:off x="6084720" y="2276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2"/>
          <p:cNvSpPr/>
          <p:nvPr/>
        </p:nvSpPr>
        <p:spPr>
          <a:xfrm>
            <a:off x="6012000" y="278136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3"/>
          <p:cNvSpPr/>
          <p:nvPr/>
        </p:nvSpPr>
        <p:spPr>
          <a:xfrm>
            <a:off x="298764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4"/>
          <p:cNvSpPr/>
          <p:nvPr/>
        </p:nvSpPr>
        <p:spPr>
          <a:xfrm>
            <a:off x="298764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действ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5"/>
          <p:cNvSpPr/>
          <p:nvPr/>
        </p:nvSpPr>
        <p:spPr>
          <a:xfrm>
            <a:off x="17928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ор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6"/>
          <p:cNvSpPr/>
          <p:nvPr/>
        </p:nvSpPr>
        <p:spPr>
          <a:xfrm>
            <a:off x="324000" y="220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7"/>
          <p:cNvSpPr/>
          <p:nvPr/>
        </p:nvSpPr>
        <p:spPr>
          <a:xfrm>
            <a:off x="5580000" y="558972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0" y="558972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орядок при счё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9"/>
          <p:cNvSpPr/>
          <p:nvPr/>
        </p:nvSpPr>
        <p:spPr>
          <a:xfrm>
            <a:off x="108000" y="5300640"/>
            <a:ext cx="35272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0"/>
          <p:cNvSpPr/>
          <p:nvPr/>
        </p:nvSpPr>
        <p:spPr>
          <a:xfrm>
            <a:off x="5867280" y="5229360"/>
            <a:ext cx="3276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642960" y="500040"/>
          <a:ext cx="7786800" cy="478620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78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асти речи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г      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357120" y="714240"/>
          <a:ext cx="8501040" cy="557244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557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,  РОТ,  РАЗЕВАЙ,  ЧУЖОЙ,  ШИРОКО, 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АВАЙ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и 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 и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прилагательному подберите однокоренное слово, которое являлось бы существитель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lares"/>
          <p:cNvPicPr/>
          <p:nvPr/>
        </p:nvPicPr>
        <p:blipFill>
          <a:blip r:embed="rId1"/>
          <a:stretch/>
        </p:blipFill>
        <p:spPr>
          <a:xfrm>
            <a:off x="2771640" y="3541680"/>
            <a:ext cx="3745080" cy="33163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>
            <a:off x="684360" y="0"/>
            <a:ext cx="7273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403280" y="692280"/>
            <a:ext cx="67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755640" y="189000"/>
            <a:ext cx="7273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чтобы узнать, какой частью речи является слово, надо поставить к нему вопрос и определить, что обозначает слово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 rot="1077000">
            <a:off x="3851280" y="5157720"/>
            <a:ext cx="172872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5" descr="lares"/>
          <p:cNvPicPr/>
          <p:nvPr/>
        </p:nvPicPr>
        <p:blipFill>
          <a:blip r:embed="rId1"/>
          <a:stretch/>
        </p:blipFill>
        <p:spPr>
          <a:xfrm>
            <a:off x="2771640" y="3541680"/>
            <a:ext cx="3745080" cy="33163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6"/>
          <p:cNvSpPr/>
          <p:nvPr/>
        </p:nvSpPr>
        <p:spPr>
          <a:xfrm>
            <a:off x="1476360" y="1268280"/>
            <a:ext cx="676908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1692360" y="1052640"/>
            <a:ext cx="67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задай к слову вопр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определи, что обозначает сл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 назови часть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3851280" y="5013360"/>
            <a:ext cx="172872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0"/>
          <p:cNvSpPr/>
          <p:nvPr/>
        </p:nvSpPr>
        <p:spPr>
          <a:xfrm>
            <a:off x="2701080" y="0"/>
            <a:ext cx="41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</a:rPr>
              <a:t>алгорит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чист"/>
          <p:cNvPicPr/>
          <p:nvPr/>
        </p:nvPicPr>
        <p:blipFill>
          <a:blip r:embed="rId1"/>
          <a:stretch/>
        </p:blipFill>
        <p:spPr>
          <a:xfrm>
            <a:off x="1116000" y="1341360"/>
            <a:ext cx="6095880" cy="3657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karanda16"/>
          <p:cNvPicPr/>
          <p:nvPr/>
        </p:nvPicPr>
        <p:blipFill>
          <a:blip r:embed="rId2"/>
          <a:stretch/>
        </p:blipFill>
        <p:spPr>
          <a:xfrm flipH="1" rot="20668200">
            <a:off x="6227280" y="4580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-0.42013 L -0.09045 0.00463 E">
                                      <p:cBhvr>
                                        <p:cTn id="6" dur="5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87 -0.43518 C -0.10278 -0.43263 -0.0882 -0.46782 -0.11233 -0.42037 C -0.13646 -0.37291 -0.22205 -0.20463 -0.24618 -0.14976 C -0.27032 -0.0949 -0.25556 -0.10069 -0.25712 -0.09143 C -0.25868 -0.08217 -0.25782 -0.09375 -0.25556 -0.09351 C -0.2533 -0.09328 -0.24688 -0.08703 -0.24306 -0.08935 C -0.23924 -0.09166 -0.23438 -0.10231 -0.23212 -0.1081 C -0.22986 -0.11388 -0.23021 -0.11921 -0.229 -0.12476 C -0.22778 -0.13032 -0.22674 -0.13356 -0.22431 -0.14143 C -0.22188 -0.1493 -0.21858 -0.15787 -0.21441 -0.17245 C -0.21025 -0.18703 -0.20348 -0.21296 -0.19931 -0.22893 C -0.19514 -0.2449 -0.19289 -0.25578 -0.18976 -0.26782 C -0.18664 -0.27986 -0.18212 -0.29351 -0.18004 -0.30185 C -0.17795 -0.31018 -0.17882 -0.31157 -0.17743 -0.31851 C -0.17605 -0.32546 -0.17309 -0.33426 -0.17118 -0.34351 C -0.16927 -0.35277 -0.16789 -0.36527 -0.16632 -0.37407 C -0.16476 -0.38287 -0.16337 -0.38819 -0.16164 -0.39699 C -0.1599 -0.40578 -0.15782 -0.41851 -0.15573 -0.42708 C -0.15365 -0.43564 -0.14844 -0.44953 -0.14948 -0.44791 C -0.15052 -0.44629 -0.15782 -0.42569 -0.16198 -0.41666 C -0.16615 -0.40763 -0.16945 -0.40277 -0.17448 -0.39375 C -0.17952 -0.38472 -0.18664 -0.37314 -0.19254 -0.36226 C -0.19844 -0.35138 -0.20417 -0.34097 -0.21025 -0.32893 C -0.21632 -0.31689 -0.22327 -0.30046 -0.22848 -0.28935 C -0.23368 -0.27824 -0.23733 -0.26851 -0.24098 -0.26203 C -0.24462 -0.25555 -0.24618 -0.25717 -0.25035 -0.24953 C -0.25452 -0.24189 -0.25868 -0.23032 -0.26598 -0.2162 C -0.27327 -0.20277 -0.28664 -0.18217 -0.2941 -0.16828 C -0.30157 -0.15439 -0.30747 -0.14282 -0.31129 -0.13287 C -0.31511 -0.12291 -0.31684 -0.11736 -0.31754 -0.10787 C -0.31823 -0.10115 -0.31875 -0.09652 -0.31598 -0.0912 C -0.3132 -0.08773 -0.30504 -0.07939 -0.30035 -0.08703 C -0.29566 -0.09652 -0.29514 -0.1125 -0.28785 -0.13703 C -0.28056 -0.16157 -0.26268 -0.21365 -0.25608 -0.23495 C -0.24948 -0.25625 -0.25087 -0.2574 -0.24861 -0.26458 C -0.24636 -0.27176 -0.24462 -0.27199 -0.24289 -0.27824 C -0.24115 -0.28449 -0.23941 -0.29421 -0.23768 -0.30208 C -0.23594 -0.30995 -0.23334 -0.31782 -0.23195 -0.32615 C -0.23056 -0.33449 -0.23091 -0.34375 -0.22952 -0.35162 C -0.22813 -0.35949 -0.22587 -0.36226 -0.22361 -0.37291 C -0.22136 -0.38356 -0.21684 -0.41134 -0.21598 -0.41643 C -0.21511 -0.42152 -0.2191 -0.39676 -0.21789 -0.40324 C -0.21667 -0.40972 -0.21059 -0.4456 -0.20851 -0.45532 C -0.20643 -0.46504 -0.20608 -0.46018 -0.20539 -0.46157 E">
                                      <p:cBhvr>
                                        <p:cTn id="10" dur="5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5" descr="1EC08131">
            <a:hlinkClick r:id="rId1" action="ppaction://hlinksldjump"/>
          </p:cNvPr>
          <p:cNvPicPr/>
          <p:nvPr/>
        </p:nvPicPr>
        <p:blipFill>
          <a:blip r:embed="rId2"/>
          <a:srcRect l="63708" t="63247" r="0" b="0"/>
          <a:stretch/>
        </p:blipFill>
        <p:spPr>
          <a:xfrm>
            <a:off x="642960" y="2000160"/>
            <a:ext cx="2476440" cy="3861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9DFA0E56">
            <a:hlinkClick r:id="rId3" action="ppaction://hlinksldjump"/>
          </p:cNvPr>
          <p:cNvPicPr/>
          <p:nvPr/>
        </p:nvPicPr>
        <p:blipFill>
          <a:blip r:embed="rId4"/>
          <a:srcRect l="52592" t="61796" r="0" b="0"/>
          <a:stretch/>
        </p:blipFill>
        <p:spPr>
          <a:xfrm>
            <a:off x="2890800" y="1916280"/>
            <a:ext cx="2625840" cy="3889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B3B7EE04">
            <a:hlinkClick r:id="rId5" action="ppaction://hlinksldjump"/>
          </p:cNvPr>
          <p:cNvPicPr/>
          <p:nvPr/>
        </p:nvPicPr>
        <p:blipFill>
          <a:blip r:embed="rId6"/>
          <a:srcRect l="51163" t="62183" r="0" b="0"/>
          <a:stretch/>
        </p:blipFill>
        <p:spPr>
          <a:xfrm>
            <a:off x="5724360" y="1844640"/>
            <a:ext cx="2624400" cy="3933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karanda16"/>
          <p:cNvPicPr/>
          <p:nvPr/>
        </p:nvPicPr>
        <p:blipFill>
          <a:blip r:embed="rId7"/>
          <a:stretch/>
        </p:blipFill>
        <p:spPr>
          <a:xfrm flipH="1" rot="20486400">
            <a:off x="2410560" y="6020640"/>
            <a:ext cx="1081080" cy="284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karanda16"/>
          <p:cNvPicPr/>
          <p:nvPr/>
        </p:nvPicPr>
        <p:blipFill>
          <a:blip r:embed="rId8"/>
          <a:stretch/>
        </p:blipFill>
        <p:spPr>
          <a:xfrm flipH="1" rot="20715600">
            <a:off x="4487040" y="5369400"/>
            <a:ext cx="1349640" cy="353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karanda16"/>
          <p:cNvPicPr/>
          <p:nvPr/>
        </p:nvPicPr>
        <p:blipFill>
          <a:blip r:embed="rId9"/>
          <a:stretch/>
        </p:blipFill>
        <p:spPr>
          <a:xfrm flipH="1" rot="20658000">
            <a:off x="7380360" y="5299920"/>
            <a:ext cx="139680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2061 L -0.0507 -0.5757 E">
                                      <p:cBhvr>
                                        <p:cTn id="1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69 -0.57569 C -0.05121 -0.58055 -0.05191 -0.58518 -0.05503 -0.58958 C -0.05816 -0.59375 -0.0625 -0.59977 -0.06927 -0.60208 C -0.07586 -0.60417 -0.08836 -0.60509 -0.09566 -0.60347 C -0.10295 -0.60185 -0.10573 -0.6 -0.11319 -0.59236 C -0.12066 -0.58449 -0.13246 -0.57083 -0.1408 -0.55764 C -0.14896 -0.54491 -0.15694 -0.52824 -0.16267 -0.51366 C -0.1684 -0.49884 -0.17152 -0.48403 -0.17482 -0.46898 C -0.17812 -0.4544 -0.18159 -0.43773 -0.18246 -0.425 C -0.1835 -0.41227 -0.18281 -0.40255 -0.18021 -0.39305 C -0.17777 -0.38356 -0.17378 -0.37361 -0.16701 -0.36829 C -0.16041 -0.36319 -0.14896 -0.35764 -0.13958 -0.36111 C -0.13038 -0.36505 -0.121 -0.37847 -0.11215 -0.39051 C -0.10347 -0.40208 -0.09496 -0.41551 -0.08698 -0.43194 C -0.07882 -0.44838 -0.07014 -0.47083 -0.06389 -0.48889 C -0.05746 -0.50648 -0.05555 -0.51898 -0.04861 -0.53958 C -0.04149 -0.56065 -0.02413 -0.60949 -0.02187 -0.61435 C -0.01961 -0.61921 -0.02413 -0.60347 -0.03524 -0.57014 C -0.04652 -0.5368 -0.07569 -0.45486 -0.08923 -0.41412 C -0.10277 -0.37315 -0.10677 -0.35486 -0.11649 -0.32546 C -0.12621 -0.29606 -0.13871 -0.26319 -0.14843 -0.23704 C -0.15833 -0.21065 -0.16771 -0.1868 -0.17586 -0.16759 C -0.18385 -0.14861 -0.19236 -0.13217 -0.19774 -0.12222 C -0.2033 -0.11204 -0.2059 -0.1088 -0.20885 -0.10694 C -0.2118 -0.10463 -0.21354 -0.1088 -0.21545 -0.11111 C -0.21718 -0.11319 -0.2184 -0.11458 -0.21996 -0.12083 C -0.22135 -0.12685 -0.22396 -0.13981 -0.2243 -0.14838 C -0.2243 -0.15717 -0.2243 -0.16342 -0.22205 -0.17338 C -0.21979 -0.18333 -0.21666 -0.19676 -0.21093 -0.2081 C -0.20555 -0.21921 -0.19687 -0.2294 -0.18906 -0.2412 C -0.18142 -0.25301 -0.17465 -0.26505 -0.16475 -0.27847 C -0.15486 -0.29167 -0.14097 -0.30949 -0.12986 -0.32268 C -0.11857 -0.33565 -0.11371 -0.34005 -0.09791 -0.35717 C -0.08211 -0.37454 -0.05868 -0.40046 -0.03524 -0.42616 E">
                                      <p:cBhvr>
                                        <p:cTn id="20" dur="5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834 L -0.08837 -0.44745 E">
                                      <p:cBhvr>
                                        <p:cTn id="25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37 -0.44745 C -0.08628 -0.45185 -0.0842 -0.45648 -0.07881 -0.46319 C -0.07344 -0.47013 -0.06232 -0.48194 -0.05607 -0.48842 C -0.05 -0.4949 -0.04723 -0.49722 -0.04167 -0.50092 C -0.03612 -0.50486 -0.029 -0.50926 -0.02257 -0.51203 C -0.01598 -0.51458 -0.00868 -0.5162 -0.00208 -0.51689 C 0.00452 -0.51736 0.01112 -0.51713 0.01702 -0.51504 C 0.0231 -0.51319 0.029 -0.51134 0.03386 -0.50578 C 0.03872 -0.50023 0.04341 -0.49004 0.04584 -0.48194 C 0.04827 -0.47407 0.04879 -0.46782 0.04827 -0.45833 C 0.04775 -0.44884 0.04671 -0.43703 0.04341 -0.42523 C 0.04011 -0.41342 0.0349 -0.39745 0.02917 -0.3875 C 0.02327 -0.37731 0.01546 -0.37199 0.00869 -0.36551 C 0.00191 -0.35879 -0.00382 -0.35347 -0.01163 -0.34791 C -0.01944 -0.34236 -0.02934 -0.33588 -0.03803 -0.3324 C -0.04688 -0.32893 -0.05798 -0.3287 -0.0644 -0.32754 C -0.07065 -0.32615 -0.07552 -0.325 -0.07639 -0.32453 C -0.07725 -0.32407 -0.07344 -0.32476 -0.06927 -0.32453 C -0.0651 -0.3243 -0.05746 -0.32476 -0.05122 -0.32268 C -0.04513 -0.32083 -0.03749 -0.31759 -0.03212 -0.31342 C -0.02673 -0.30902 -0.02239 -0.30416 -0.01893 -0.29745 C -0.01545 -0.29097 -0.01285 -0.28263 -0.01163 -0.27384 C -0.01041 -0.26504 -0.01145 -0.25648 -0.01163 -0.24537 C -0.01181 -0.23426 -0.01112 -0.22037 -0.01285 -0.20763 C -0.01476 -0.19513 -0.01788 -0.18472 -0.02257 -0.1699 C -0.02725 -0.15509 -0.03473 -0.13518 -0.04167 -0.11944 C -0.04862 -0.1037 -0.0559 -0.08865 -0.0644 -0.07523 C -0.07274 -0.0618 -0.0835 -0.0493 -0.09201 -0.03888 C -0.10035 -0.0287 -0.10851 -0.01967 -0.11494 -0.01388 C -0.12119 -0.0081 -0.12605 -0.00578 -0.13039 -0.00439 C -0.1349 -0.00301 -0.13855 -0.00416 -0.14115 -0.00578 C -0.14375 -0.00763 -0.14514 -0.01041 -0.14601 -0.01527 C -0.14688 -0.02013 -0.14757 -0.02685 -0.14601 -0.03588 C -0.14445 -0.04467 -0.14046 -0.05787 -0.13629 -0.06898 C -0.13212 -0.08009 -0.12709 -0.08981 -0.12066 -0.10208 C -0.11441 -0.11412 -0.10573 -0.12939 -0.09791 -0.14143 C -0.09027 -0.15393 -0.08281 -0.16319 -0.07395 -0.17453 C -0.06527 -0.18611 -0.0552 -0.19861 -0.04532 -0.20949 C -0.03542 -0.22037 -0.02552 -0.22824 -0.01407 -0.23935 C -0.0026 -0.25046 0.01337 -0.2662 0.02431 -0.27546 C 0.03507 -0.28495 0.0415 -0.28888 0.0507 -0.29606 C 0.0599 -0.30324 0.07448 -0.3162 0.07952 -0.31967 E">
                                      <p:cBhvr>
                                        <p:cTn id="29" dur="5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6997 -0.52755 E">
                                      <p:cBhvr>
                                        <p:cTn id="34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97 -0.52755 C -0.07413 -0.51042 -0.0783 -0.49352 -0.08507 -0.4713 C -0.09184 -0.44907 -0.10295 -0.41852 -0.11094 -0.39468 C -0.11892 -0.37037 -0.12865 -0.34352 -0.13299 -0.32685 C -0.13733 -0.31019 -0.13854 -0.30394 -0.13698 -0.29398 C -0.13542 -0.28403 -0.13073 -0.27153 -0.12326 -0.26667 C -0.1158 -0.26227 -0.10399 -0.26065 -0.09184 -0.26667 C -0.07969 -0.27269 -0.06441 -0.28588 -0.05069 -0.30324 C -0.03698 -0.3206 -0.02083 -0.34838 -0.00972 -0.37083 C 0.00139 -0.39329 0.00694 -0.4125 0.01632 -0.43843 C 0.02569 -0.46435 0.04271 -0.51574 0.04653 -0.52569 C 0.05035 -0.53565 0.04635 -0.51968 0.03976 -0.49861 C 0.03316 -0.47732 0.02031 -0.43796 0.00677 -0.39838 C -0.00677 -0.35833 -0.02604 -0.30394 -0.04115 -0.25949 C -0.05625 -0.21482 -0.07083 -0.1669 -0.08368 -0.12986 C -0.09653 -0.09306 -0.10781 -0.06088 -0.11788 -0.03866 C -0.12795 -0.01644 -0.13646 -0.0044 -0.14392 0.00324 C -0.15139 0.01088 -0.15885 0.00995 -0.16302 0.0088 C -0.16719 0.00764 -0.16701 0.00069 -0.16858 -0.00394 C -0.17014 -0.00857 -0.17187 -0.01273 -0.17257 -0.01852 C -0.17326 -0.02431 -0.17292 -0.03056 -0.17257 -0.03866 C -0.17222 -0.04676 -0.17292 -0.05648 -0.16997 -0.06782 C -0.16701 -0.07917 -0.16198 -0.09259 -0.15486 -0.10625 C -0.14774 -0.11991 -0.13698 -0.13611 -0.12743 -0.15023 C -0.11788 -0.16412 -0.10764 -0.17824 -0.0974 -0.19051 C -0.08715 -0.20301 -0.07517 -0.21389 -0.0658 -0.22315 C -0.05642 -0.23264 -0.05087 -0.23657 -0.04115 -0.24676 C -0.03142 -0.25741 -0.01788 -0.27523 -0.00694 -0.28681 C 0.00399 -0.29838 0.01806 -0.30926 0.02465 -0.31597 C 0.03125 -0.32269 0.03194 -0.32477 0.03281 -0.32685 E">
                                      <p:cBhvr>
                                        <p:cTn id="38" dur="7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714240" y="373320"/>
            <a:ext cx="564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гадайте загад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стол среди бер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открытым не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щает он в мор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тиц зерном и хлеб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"/>
          <p:cNvSpPr/>
          <p:nvPr/>
        </p:nvSpPr>
        <p:spPr>
          <a:xfrm>
            <a:off x="5000760" y="2714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М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0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5972040" cy="4976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"/>
          <p:cNvPicPr/>
          <p:nvPr/>
        </p:nvPicPr>
        <p:blipFill>
          <a:blip r:embed="rId2"/>
          <a:stretch/>
        </p:blipFill>
        <p:spPr>
          <a:xfrm>
            <a:off x="928800" y="335772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3"/>
          <a:srcRect l="14421" t="2456" r="-1008" b="0"/>
          <a:stretch/>
        </p:blipFill>
        <p:spPr>
          <a:xfrm rot="17576400">
            <a:off x="5317560" y="173160"/>
            <a:ext cx="1485720" cy="167184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10" descr=""/>
          <p:cNvPicPr/>
          <p:nvPr/>
        </p:nvPicPr>
        <p:blipFill>
          <a:blip r:embed="rId4"/>
          <a:srcRect l="15743" t="0" r="20655" b="0"/>
          <a:stretch/>
        </p:blipFill>
        <p:spPr>
          <a:xfrm>
            <a:off x="6429240" y="3071880"/>
            <a:ext cx="1000440" cy="15714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000680" y="486468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я 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1"/>
          <p:cNvSpPr/>
          <p:nvPr/>
        </p:nvSpPr>
        <p:spPr>
          <a:xfrm>
            <a:off x="1428840" y="285840"/>
            <a:ext cx="45720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1" descr="8"/>
          <p:cNvPicPr/>
          <p:nvPr/>
        </p:nvPicPr>
        <p:blipFill>
          <a:blip r:embed="rId1"/>
          <a:stretch/>
        </p:blipFill>
        <p:spPr>
          <a:xfrm>
            <a:off x="428760" y="2286000"/>
            <a:ext cx="2592360" cy="1494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8" descr="2"/>
          <p:cNvPicPr/>
          <p:nvPr/>
        </p:nvPicPr>
        <p:blipFill>
          <a:blip r:embed="rId2"/>
          <a:stretch/>
        </p:blipFill>
        <p:spPr>
          <a:xfrm>
            <a:off x="4357800" y="2081160"/>
            <a:ext cx="1500120" cy="1874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" descr="0129c77b338f822a93d5c9540c35c8a6"/>
          <p:cNvPicPr/>
          <p:nvPr/>
        </p:nvPicPr>
        <p:blipFill>
          <a:blip r:embed="rId3"/>
          <a:stretch/>
        </p:blipFill>
        <p:spPr>
          <a:xfrm>
            <a:off x="7215120" y="314316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7" descr="a17cb1a412eb1792e60c984d535e4cde"/>
          <p:cNvPicPr/>
          <p:nvPr/>
        </p:nvPicPr>
        <p:blipFill>
          <a:blip r:embed="rId4"/>
          <a:stretch/>
        </p:blipFill>
        <p:spPr>
          <a:xfrm>
            <a:off x="7358040" y="357120"/>
            <a:ext cx="1495440" cy="25005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1" descr="fb8d00d7f44134da8dc886627e55ade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71720" y="4071960"/>
            <a:ext cx="2357280" cy="2571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animal75"/>
          <p:cNvPicPr/>
          <p:nvPr/>
        </p:nvPicPr>
        <p:blipFill>
          <a:blip r:embed="rId7"/>
          <a:stretch/>
        </p:blipFill>
        <p:spPr>
          <a:xfrm>
            <a:off x="4929120" y="4572000"/>
            <a:ext cx="1857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1285920" y="357120"/>
          <a:ext cx="6858000" cy="18925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Имя 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? Какая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2" name="Picture 8" descr="4c5b8f986382f15f91973cdd776a138c"/>
          <p:cNvPicPr/>
          <p:nvPr/>
        </p:nvPicPr>
        <p:blipFill>
          <a:blip r:embed="rId1"/>
          <a:stretch/>
        </p:blipFill>
        <p:spPr>
          <a:xfrm>
            <a:off x="785880" y="257184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521245980fcf8191c0082378ba038394"/>
          <p:cNvPicPr/>
          <p:nvPr/>
        </p:nvPicPr>
        <p:blipFill>
          <a:blip r:embed="rId2"/>
          <a:stretch/>
        </p:blipFill>
        <p:spPr>
          <a:xfrm>
            <a:off x="1214280" y="46432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2ed289bfe88d1f4c332b5e9791f4305b"/>
          <p:cNvPicPr/>
          <p:nvPr/>
        </p:nvPicPr>
        <p:blipFill>
          <a:blip r:embed="rId3"/>
          <a:stretch/>
        </p:blipFill>
        <p:spPr>
          <a:xfrm>
            <a:off x="4071960" y="3786120"/>
            <a:ext cx="1333440" cy="130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33b44212315acfbd4949c2cba89ef4fb"/>
          <p:cNvPicPr/>
          <p:nvPr/>
        </p:nvPicPr>
        <p:blipFill>
          <a:blip r:embed="rId4"/>
          <a:stretch/>
        </p:blipFill>
        <p:spPr>
          <a:xfrm>
            <a:off x="7215120" y="4929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c09015259d45d2768413ee4edd7a8743"/>
          <p:cNvPicPr/>
          <p:nvPr/>
        </p:nvPicPr>
        <p:blipFill>
          <a:blip r:embed="rId5"/>
          <a:stretch/>
        </p:blipFill>
        <p:spPr>
          <a:xfrm>
            <a:off x="6143760" y="271476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785880" y="357120"/>
          <a:ext cx="7643880" cy="228600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делать? Что сделать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е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8" name="Picture 5" descr="1300f1f15dd4f5a23d5d5cf40879c350"/>
          <p:cNvPicPr/>
          <p:nvPr/>
        </p:nvPicPr>
        <p:blipFill>
          <a:blip r:embed="rId1"/>
          <a:stretch/>
        </p:blipFill>
        <p:spPr>
          <a:xfrm>
            <a:off x="571680" y="3071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4" descr="bbede0006c530d485ca772fc67e59d7f"/>
          <p:cNvPicPr/>
          <p:nvPr/>
        </p:nvPicPr>
        <p:blipFill>
          <a:blip r:embed="rId2"/>
          <a:stretch/>
        </p:blipFill>
        <p:spPr>
          <a:xfrm>
            <a:off x="3214800" y="3357720"/>
            <a:ext cx="1089000" cy="1814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9" descr="15a4"/>
          <p:cNvPicPr/>
          <p:nvPr/>
        </p:nvPicPr>
        <p:blipFill>
          <a:blip r:embed="rId3"/>
          <a:stretch/>
        </p:blipFill>
        <p:spPr>
          <a:xfrm>
            <a:off x="6858000" y="3357720"/>
            <a:ext cx="1209600" cy="733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3" descr="sailboat"/>
          <p:cNvPicPr/>
          <p:nvPr/>
        </p:nvPicPr>
        <p:blipFill>
          <a:blip r:embed="rId4"/>
          <a:stretch/>
        </p:blipFill>
        <p:spPr>
          <a:xfrm flipH="1">
            <a:off x="785880" y="4572000"/>
            <a:ext cx="1719360" cy="1336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3" descr="j0354669"/>
          <p:cNvPicPr/>
          <p:nvPr/>
        </p:nvPicPr>
        <p:blipFill>
          <a:blip r:embed="rId5"/>
          <a:stretch/>
        </p:blipFill>
        <p:spPr>
          <a:xfrm>
            <a:off x="5286240" y="4286160"/>
            <a:ext cx="1123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1071720" y="428760"/>
          <a:ext cx="6715080" cy="567828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662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асти реч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              Предло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  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15:50Z</dcterms:created>
  <dc:creator>User</dc:creator>
  <dc:description/>
  <dc:language>en-US</dc:language>
  <cp:lastModifiedBy>user</cp:lastModifiedBy>
  <dcterms:modified xsi:type="dcterms:W3CDTF">2011-11-14T19:15:32Z</dcterms:modified>
  <cp:revision>22</cp:revision>
  <dc:subject/>
  <dc:title>Слайд 1</dc:title>
</cp:coreProperties>
</file>