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3C670-BBDC-49F9-87DB-DE4F0353F7C5}"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A636-6583-4502-9EB4-9F77D78AFE7C}"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5BB11-3F36-46CD-A314-1F87E1DE3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E847D-4446-4C7B-A172-4969F1711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1E028-9F5B-4F22-999A-22B737915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6163F-8B78-470E-BEF2-DFD13F29A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70A1C-F1E0-401B-8D53-40B027846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0DEE2-C369-49EA-8F6F-51B21FC53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17F60-66A1-4689-B93B-4D46D46AD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4FE24-039A-4EC3-9579-16B383ED8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9DCC6-3DD9-499C-8610-6D8455BE8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87772-2D04-44A1-ACA7-C6B33645C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CD048-84F5-4A38-8DDA-329B2220D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A600A-1521-4257-8024-0F25E2DD1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F710-23D0-449B-8D83-115ECAAC887A}"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Рисунок 3" descr="k_009i.bmp"/>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714240" y="1714320"/>
            <a:ext cx="7429680" cy="25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Monotype Corsiva"/>
              </a:rPr>
              <a:t>  </a:t>
            </a:r>
            <a:r>
              <a:rPr b="0" lang="ru-RU" sz="7200" spc="-1" strike="noStrike">
                <a:solidFill>
                  <a:srgbClr val="000000"/>
                </a:solidFill>
                <a:latin typeface="Monotype Corsiva"/>
              </a:rPr>
              <a:t>Декабристы          на Кавказе</a:t>
            </a:r>
            <a:endParaRPr b="0" lang="en-US" sz="72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dcd8"/>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643120" y="285840"/>
            <a:ext cx="6500880" cy="657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юхельбекер</a:t>
            </a:r>
            <a:r>
              <a:rPr b="0" lang="ru-RU" sz="1800" spc="-1" strike="noStrike">
                <a:solidFill>
                  <a:srgbClr val="000000"/>
                </a:solidFill>
                <a:latin typeface="Calibri"/>
              </a:rPr>
              <a:t> </a:t>
            </a:r>
            <a:r>
              <a:rPr b="1" lang="ru-RU" sz="1800" spc="-1" strike="noStrike">
                <a:solidFill>
                  <a:srgbClr val="000000"/>
                </a:solidFill>
                <a:latin typeface="Calibri"/>
              </a:rPr>
              <a:t>Вильгельм Карлович</a:t>
            </a:r>
            <a:r>
              <a:rPr b="0" lang="ru-RU" sz="1800" spc="-1" strike="noStrike">
                <a:solidFill>
                  <a:srgbClr val="000000"/>
                </a:solidFill>
                <a:latin typeface="Calibri"/>
              </a:rPr>
              <a:t> </a:t>
            </a:r>
            <a:r>
              <a:rPr b="1" lang="ru-RU" sz="1800" spc="-1" strike="noStrike">
                <a:solidFill>
                  <a:srgbClr val="000000"/>
                </a:solidFill>
                <a:latin typeface="Calibri"/>
              </a:rPr>
              <a:t>(1797 — 1846).                                                                                           </a:t>
            </a:r>
            <a:r>
              <a:rPr b="0" lang="ru-RU" sz="1800" spc="-1" strike="noStrike">
                <a:solidFill>
                  <a:srgbClr val="000000"/>
                </a:solidFill>
                <a:latin typeface="Calibri"/>
              </a:rPr>
              <a:t>В.К.Кюхельбекер родился в Петербурге 10 июня 1797 года. Отец его, саксонский дворянин, переселился в Россию в 70-х годах XVIII века. В Петербурге он управлял Каменным островом, принадлежавшим великому князю, позже императору Павлу I, и был первым директором и устроителем Павловска.</a:t>
            </a:r>
            <a:br>
              <a:rPr sz="1800"/>
            </a:br>
            <a:r>
              <a:rPr b="0" lang="ru-RU" sz="1800" spc="-1" strike="noStrike">
                <a:solidFill>
                  <a:srgbClr val="000000"/>
                </a:solidFill>
                <a:latin typeface="Calibri"/>
              </a:rPr>
              <a:t>Мать поэта - Юстина Яковлевна фон Ломен, была очень дружна с сыном. Именно она с детских лет поощряла его занятия поэзией.</a:t>
            </a:r>
            <a:br>
              <a:rPr sz="1800"/>
            </a:br>
            <a:r>
              <a:rPr b="0" lang="ru-RU" sz="1800" spc="-1" strike="noStrike">
                <a:solidFill>
                  <a:srgbClr val="000000"/>
                </a:solidFill>
                <a:latin typeface="Calibri"/>
              </a:rPr>
              <a:t>Кюхельбекер был принят в Лицей по рекомендации Барклая де Толли - родственника матери. Но на первых порах ему пришлось не легко. Неуклюжий, рассеянный, к тому же глуховатый, он поначалу служил предметом ежедневных насмешек товарищей, подчас вовсе не беззлобных.                                                           Кюхельбекер хорошо учился. В его оценочном листе сплошные отличные оценки, только по математике, физике, рисованию и фехтованию он не блистал. Его стихи и поэмы встречаются почти в каждом номере  рукописного журнала "Лицейский мудрец".                                                                                                                            Его лучшими друзьями были Пушкин и Дельвиг.                                                                         Всем лицеистам выписывалась специальная литература. Кюхельбекер мечтал об учительстве, поэтому для него выписывались словари, книги по педагогике и психологии. 9 июня 1817 года в Лицее прошёл первый выпуск. Вильгельм Кюхельбекер был удостоен серебряной медали.</a:t>
            </a:r>
            <a:br>
              <a:rPr sz="1800"/>
            </a:br>
            <a:endParaRPr b="0" lang="en-US" sz="1800" spc="-1" strike="noStrike">
              <a:solidFill>
                <a:srgbClr val="000000"/>
              </a:solidFill>
              <a:latin typeface="Calibri"/>
            </a:endParaRPr>
          </a:p>
        </p:txBody>
      </p:sp>
      <p:pic>
        <p:nvPicPr>
          <p:cNvPr id="63" name="Рисунок 2" descr="Кюхельбекер.JPG"/>
          <p:cNvPicPr/>
          <p:nvPr/>
        </p:nvPicPr>
        <p:blipFill>
          <a:blip r:embed="rId1"/>
          <a:stretch/>
        </p:blipFill>
        <p:spPr>
          <a:xfrm>
            <a:off x="142920" y="214200"/>
            <a:ext cx="2428920" cy="27147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d3e4"/>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571840" y="213840"/>
            <a:ext cx="6572160" cy="664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С 1815 г. стихотворения К. стали появляться в «Вестнике Европы» (за подписью </a:t>
            </a:r>
            <a:r>
              <a:rPr b="0" i="1" lang="ru-RU" sz="1600" spc="-1" strike="noStrike">
                <a:solidFill>
                  <a:srgbClr val="000000"/>
                </a:solidFill>
                <a:latin typeface="Calibri"/>
              </a:rPr>
              <a:t>Вильгельм</a:t>
            </a:r>
            <a:r>
              <a:rPr b="0" lang="ru-RU" sz="1600" spc="-1" strike="noStrike">
                <a:solidFill>
                  <a:srgbClr val="000000"/>
                </a:solidFill>
                <a:latin typeface="Calibri"/>
              </a:rPr>
              <a:t>), «Сыне Отечества», «Благонамеренном». В 1817 — 20 гг. К. служил в министерстве иностранных дел.                                                          В 1820 г. он поехал за границу и читал в парижском Атенее лекции о славянской литературе, приостановленные по требованию русского посольства, как слишком либеральные.                                                                            В 1822 г. К. служил на Кавказе, при Ермолове; близко сошелся там с Грибоедовым.                                                                                                                           В 1823 — 1825 гг. он жил в Москве, где, вместе с кн. Одоевским, издал четыре книжки сборника «Мнемозина».                                                                     К. участвовал в заговоре декабристов и стрелял, на Сенатской площади, в вел. кн. Михаила Павловича.                                                                              Кюхельбекер единственный из всех декабристов попытался бежать и удачно добрался до самой Варшавы. Но царская полиция хорошо знала его приметы: "Росту высокого, сухощав, глаза навыкате, волосы коричневые, рот при разговоре кривится, бакенбарды не растут, борода мало зарастает, сутуловат«.В Варшаве поэт был арестован .                                                                                          Приговоренный к смертной казни, он был помилован и осужден на вечные каторжные работы, замененные одиночным заключением в Шлиссельбурге . Поэта продержали в одиночном заключении около десяти лет.                                                                                                           В 1836 году поэта выслали в Забайкалье, где он и жил долгие годы. В середине июня 1845 года Вильгельм Карлович тяжело заболел.</a:t>
            </a:r>
            <a:br>
              <a:rPr sz="1600"/>
            </a:br>
            <a:r>
              <a:rPr b="0" lang="ru-RU" sz="1600" spc="-1" strike="noStrike">
                <a:solidFill>
                  <a:srgbClr val="000000"/>
                </a:solidFill>
                <a:latin typeface="Calibri"/>
              </a:rPr>
              <a:t>Друзья  добились разрешения на переезд поэта в Тобольск, где бы он мог получить медицинскую помощь. Но поправить здоровье оказалось уже невозможно. 11 августа 1846 года поэт-декабрист умер от чахотки.</a:t>
            </a:r>
            <a:br>
              <a:rPr sz="1600"/>
            </a:br>
            <a:endParaRPr b="0" lang="en-US" sz="1600" spc="-1" strike="noStrike">
              <a:solidFill>
                <a:srgbClr val="000000"/>
              </a:solidFill>
              <a:latin typeface="Calibri"/>
            </a:endParaRPr>
          </a:p>
        </p:txBody>
      </p:sp>
      <p:pic>
        <p:nvPicPr>
          <p:cNvPr id="65" name="Рисунок 2" descr="Кюхель.jpg"/>
          <p:cNvPicPr/>
          <p:nvPr/>
        </p:nvPicPr>
        <p:blipFill>
          <a:blip r:embed="rId1"/>
          <a:stretch/>
        </p:blipFill>
        <p:spPr>
          <a:xfrm>
            <a:off x="214200" y="214200"/>
            <a:ext cx="2332080" cy="2786040"/>
          </a:xfrm>
          <a:prstGeom prst="rect">
            <a:avLst/>
          </a:prstGeom>
          <a:ln w="0">
            <a:noFill/>
          </a:ln>
        </p:spPr>
      </p:pic>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9d94">
            <a:alpha val="73000"/>
          </a:srgbClr>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499840" y="0"/>
            <a:ext cx="6643800" cy="785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ЕЛЬВИГ Антон Антонович (1798-1831), русский поэт.                              Происходил из обрусевшего немецкого рода . Учился в царскосельском лицее, вместе с Пушкиным, считавшим его в числе самых близких друзей. Позднее был связан тесной дружбой с Баратынским, Плетневым. Довольно неудачно служил (в департаменте горных и соляных дел, в министерстве финансов, в Публичной библиотеке — помощником библиотекаря, под началом баснописца Крылова, и т. д.).</a:t>
            </a:r>
            <a:br>
              <a:rPr sz="1800"/>
            </a:br>
            <a:r>
              <a:rPr b="0" lang="ru-RU" sz="1800" spc="-1" strike="noStrike">
                <a:solidFill>
                  <a:srgbClr val="000000"/>
                </a:solidFill>
                <a:latin typeface="Calibri"/>
              </a:rPr>
              <a:t>Печатать свои стихи Д. начал еще на лицейской скамье. Первое стихотворение  помещено в «Вестнике Европы» в 1814 году на месяц раньше первого стихотворения Пушкина. Издание с 1825 ежегодного альманаха «Северные цветы» ставит Д. в центр литературной деятельности пушкинской группы, в качестве объединителя всех ее основных творческих сил, пестуна и наставника поэтического молодняка, наконец хозяина одного из самых утонченных литературных салонов эпохи.</a:t>
            </a:r>
            <a:br>
              <a:rPr sz="1800"/>
            </a:br>
            <a:r>
              <a:rPr b="0" lang="ru-RU" sz="1800" spc="-1" strike="noStrike">
                <a:solidFill>
                  <a:srgbClr val="000000"/>
                </a:solidFill>
                <a:latin typeface="Calibri"/>
              </a:rPr>
              <a:t>В 1830 Д. издает при ближайшем участии Пушкина и кн. Вяземского «Литературную газету» — боевой орган «литературной аристократии», деятелей «чистого искусства» — поэтов-дворян. Д. был отстранен Бенкендорфом от издания газеты, обратившей на себя неблагосклонное внимание николаевского правительства. Чрезвычайно грубое обхождение Бенкендорфа с Д., вызванным им для объяснений,  послужило одной из причин болезни и преждевременной смерти поэта.</a:t>
            </a:r>
            <a:br>
              <a:rPr sz="1800"/>
            </a:br>
            <a:br>
              <a:rPr sz="1800"/>
            </a:br>
            <a:r>
              <a:rPr b="0" lang="ru-RU" sz="1800" spc="-1" strike="noStrike">
                <a:solidFill>
                  <a:srgbClr val="000000"/>
                </a:solidFill>
                <a:latin typeface="Calibri"/>
              </a:rPr>
              <a:t> </a:t>
            </a:r>
            <a:br>
              <a:rPr sz="1400"/>
            </a:br>
            <a:r>
              <a:rPr b="0" lang="ru-RU" sz="1400" spc="-1" strike="noStrike">
                <a:solidFill>
                  <a:srgbClr val="000000"/>
                </a:solidFill>
                <a:latin typeface="Calibri"/>
              </a:rPr>
              <a:t> </a:t>
            </a:r>
            <a:br>
              <a:rPr sz="1400"/>
            </a:br>
            <a:r>
              <a:rPr b="0" lang="ru-RU" sz="1400" spc="-1" strike="noStrike">
                <a:solidFill>
                  <a:srgbClr val="000000"/>
                </a:solidFill>
                <a:latin typeface="Calibri"/>
              </a:rPr>
              <a:t> </a:t>
            </a:r>
            <a:br>
              <a:rPr sz="1400"/>
            </a:br>
            <a:endParaRPr b="0" lang="en-US" sz="1400" spc="-1" strike="noStrike">
              <a:solidFill>
                <a:srgbClr val="000000"/>
              </a:solidFill>
              <a:latin typeface="Calibri"/>
            </a:endParaRPr>
          </a:p>
        </p:txBody>
      </p:sp>
      <p:pic>
        <p:nvPicPr>
          <p:cNvPr id="67" name="Рисунок 2" descr="Дельвиг.bmp"/>
          <p:cNvPicPr/>
          <p:nvPr/>
        </p:nvPicPr>
        <p:blipFill>
          <a:blip r:embed="rId1"/>
          <a:stretch/>
        </p:blipFill>
        <p:spPr>
          <a:xfrm>
            <a:off x="142920" y="428760"/>
            <a:ext cx="2286000" cy="242892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285720" y="274680"/>
            <a:ext cx="5715000" cy="515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УЩИН Иван Иванович (1798-1859), декабрист, судья Московского надворного суда, друг А. С. Пушкина. Член «Союза благоденствия» и Северного общества. Участник восстания декабристов. После провала отказался бежать за границу. Суд  приговорил его к смертной казни, которая позже была заменена  вечной каторгой. С 1826 в Шлиссельбургской крепости, с 1828 в Нерчинских рудниках, в 1839-56 на поселении в Туринске. В 1856 году Пущину  позволили вернуться. Он поселился в Подмосковье возле Бронниц со  своею женой, вдовой декабриста  Фонвизина. Автор «Записок о Пушкине».  3 апреля 1859 года Иван Пущин умер.</a:t>
            </a:r>
            <a:br>
              <a:rPr sz="2000"/>
            </a:br>
            <a:r>
              <a:rPr b="0" lang="ru-RU" sz="2000" spc="-1" strike="noStrike">
                <a:solidFill>
                  <a:srgbClr val="000000"/>
                </a:solidFill>
                <a:latin typeface="Calibri"/>
              </a:rPr>
              <a:t> </a:t>
            </a:r>
            <a:br>
              <a:rPr sz="2000"/>
            </a:br>
            <a:endParaRPr b="0" lang="en-US" sz="2000" spc="-1" strike="noStrike">
              <a:solidFill>
                <a:srgbClr val="000000"/>
              </a:solidFill>
              <a:latin typeface="Calibri"/>
            </a:endParaRPr>
          </a:p>
        </p:txBody>
      </p:sp>
      <p:pic>
        <p:nvPicPr>
          <p:cNvPr id="69" name="Рисунок 2" descr="Пущин.bmp"/>
          <p:cNvPicPr/>
          <p:nvPr/>
        </p:nvPicPr>
        <p:blipFill>
          <a:blip r:embed="rId1"/>
          <a:stretch/>
        </p:blipFill>
        <p:spPr>
          <a:xfrm>
            <a:off x="285840" y="357120"/>
            <a:ext cx="2714400" cy="3049560"/>
          </a:xfrm>
          <a:prstGeom prst="rect">
            <a:avLst/>
          </a:prstGeom>
          <a:ln w="0">
            <a:noFill/>
          </a:ln>
        </p:spPr>
      </p:pic>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 name="Рисунок 3" descr="d_303i.bmp"/>
          <p:cNvPicPr/>
          <p:nvPr/>
        </p:nvPicPr>
        <p:blipFill>
          <a:blip r:embed="rId1"/>
          <a:stretch/>
        </p:blipFill>
        <p:spPr>
          <a:xfrm>
            <a:off x="-14400" y="-14400"/>
            <a:ext cx="9158400" cy="6880320"/>
          </a:xfrm>
          <a:prstGeom prst="rect">
            <a:avLst/>
          </a:prstGeom>
          <a:ln w="0">
            <a:noFill/>
          </a:ln>
        </p:spPr>
      </p:pic>
      <p:sp>
        <p:nvSpPr>
          <p:cNvPr id="51" name="PlaceHolder 1"/>
          <p:cNvSpPr>
            <a:spLocks noGrp="1"/>
          </p:cNvSpPr>
          <p:nvPr>
            <p:ph type="title"/>
          </p:nvPr>
        </p:nvSpPr>
        <p:spPr>
          <a:xfrm>
            <a:off x="813960" y="357120"/>
            <a:ext cx="7829640" cy="3214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istral"/>
              </a:rPr>
              <a:t>...Люди 14 декабря, фаланга героев, вскормленная, как Ромул и Рем, молоком дикого зверя... Это какие - то богатыри, кованные из чистой стали с головы до ног, воины - сподвижники, вышедшие сознательно на явную гибель, чтоб разбудить к новой жизни молодое поколение и очистить детей, рожденных в среде палачества и раболепия.</a:t>
            </a:r>
            <a:br>
              <a:rPr sz="2800"/>
            </a:br>
            <a:r>
              <a:rPr b="0" lang="ru-RU" sz="2800" spc="-1" strike="noStrike">
                <a:solidFill>
                  <a:srgbClr val="000000"/>
                </a:solidFill>
                <a:latin typeface="Mistral"/>
              </a:rPr>
              <a:t>                                                                       А.И.Герцен</a:t>
            </a:r>
            <a:br>
              <a:rPr sz="2200"/>
            </a:br>
            <a:endParaRPr b="0" lang="en-US" sz="2800" spc="-1" strike="noStrike">
              <a:solidFill>
                <a:srgbClr val="000000"/>
              </a:solidFill>
              <a:latin typeface="Calibri"/>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af72">
            <a:alpha val="71000"/>
          </a:srgbClr>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13840" y="928800"/>
            <a:ext cx="8929800" cy="592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ень 9 февраля 1816 года станет памятным в истории России. Группа молодых офицеров создала свое первое тайное общество </a:t>
            </a:r>
            <a:r>
              <a:rPr b="0" lang="ru-RU" sz="1600" spc="-1" strike="noStrike" baseline="30000">
                <a:solidFill>
                  <a:srgbClr val="000000"/>
                </a:solidFill>
                <a:latin typeface="Calibri"/>
              </a:rPr>
              <a:t>1</a:t>
            </a:r>
            <a:r>
              <a:rPr b="0" lang="ru-RU" sz="1600" spc="-1" strike="noStrike">
                <a:solidFill>
                  <a:srgbClr val="000000"/>
                </a:solidFill>
                <a:latin typeface="Calibri"/>
              </a:rPr>
              <a:t>, которое они назовут " Союзом спасения", а несколько позже -  «Обществом истинных и верных сынов отечества». Около 30 молодых людей, преимущественно гвардейских офицеров, поклянутся, что единственной целью и жизни будет борьба против крепостного права, за введение в России конституционных законов, ограничивающих абсолютизм.                                                                                                                                                                         Через несколько лет образовалось два тайных революционных общества - "Северное" с центром в Петербурге и   "Южное"  на  Украине. </a:t>
            </a:r>
            <a:br>
              <a:rPr sz="1600"/>
            </a:br>
            <a:r>
              <a:rPr b="0" lang="ru-RU" sz="1600" spc="-1" strike="noStrike">
                <a:solidFill>
                  <a:srgbClr val="000000"/>
                </a:solidFill>
                <a:latin typeface="Calibri"/>
              </a:rPr>
              <a:t> Было решено   выступить  в  момент  смены  императора  на престоле 14 декабря 1825 года. </a:t>
            </a:r>
            <a:br>
              <a:rPr sz="1600"/>
            </a:br>
            <a:r>
              <a:rPr b="0" lang="ru-RU" sz="1600" spc="-1" strike="noStrike">
                <a:solidFill>
                  <a:srgbClr val="000000"/>
                </a:solidFill>
                <a:latin typeface="Calibri"/>
              </a:rPr>
              <a:t>Восстание было жестоко подавлено. Над декабристами начался суд.                                                                                                                                                                                                                  Результатом работы следственной комиссии стал список, состоящий из ста двадцати одного "государственного преступника", разделенных на одиннадцать разрядов, по степени виновности. Вне разрядов были поставлены П. И. Пестель, К. Ф. Рылеев, С. И. Муравьев-Апостол, М. П. Бестужев-Рюмин и П. Г. Каховский, "осуждаемые к смертной казни четвертованием», но Николай заменил четвертование повешением.</a:t>
            </a:r>
            <a:br>
              <a:rPr sz="1600"/>
            </a:br>
            <a:r>
              <a:rPr b="0" lang="ru-RU" sz="1600" spc="-1" strike="noStrike">
                <a:solidFill>
                  <a:srgbClr val="000000"/>
                </a:solidFill>
                <a:latin typeface="Calibri"/>
              </a:rPr>
              <a:t> В число тридцати одного "государственного преступника первого разряда, осуждаемых к смертной казни отсечением головы", вошли декабристы-северяне: С. П. Трубецкой, Е. П. Оболенский, В. К. Кюхельбекер,  Н. М. Муравьев, И. И. Пущин, И. Д. Якушкин, южане - М. И. Муравьев-Апостол, В. Л. Давыдов, С. Г. Волконский и другие члены тайных обществ, дававшие личное согласие на цареубийство, а также проявившие наибольшую активность в период восстания как в Петербурге, так и на Юге. Чуть позже для первого разряда смертная казнь была заменена вечной каторгой .                                                                                                                                                   Свыше 120 человек декабристов было сослано на разные сроки в Сибирь, на каторгу или поселение. Разжалованные в рядовые были сосланы на Кавказ. Были декабристы, побывавшие и в Сибири, и на Кавказе (Лорер, Одоевский и др.): по отбытии известного срока наказания в Сибири они в качестве “милости” были определены рядовыми в Кавказскую армию, где производились военные действия. Их посылали под пули.</a:t>
            </a:r>
            <a:br>
              <a:rPr sz="1600"/>
            </a:br>
            <a:br>
              <a:rPr sz="1600"/>
            </a:br>
            <a:br>
              <a:rPr sz="1600"/>
            </a:br>
            <a:br>
              <a:rPr sz="1600"/>
            </a:br>
            <a:endParaRPr b="0" lang="en-US" sz="1600" spc="-1" strike="noStrike">
              <a:solidFill>
                <a:srgbClr val="000000"/>
              </a:solidFill>
              <a:latin typeface="Calibri"/>
            </a:endParaRP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b391"/>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714400" y="274320"/>
            <a:ext cx="6429240" cy="658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Александр Александрович Бестужев (1797-1837)</a:t>
            </a:r>
            <a:br>
              <a:rPr sz="1800"/>
            </a:br>
            <a:r>
              <a:rPr b="0" lang="uk-UA" sz="1800" spc="-1" strike="noStrike">
                <a:solidFill>
                  <a:srgbClr val="000000"/>
                </a:solidFill>
                <a:latin typeface="Calibri"/>
              </a:rPr>
              <a:t>Выдающийся писатель и критик, один из зачинателей русской романтической прозы</a:t>
            </a:r>
            <a:br>
              <a:rPr sz="1800"/>
            </a:br>
            <a:r>
              <a:rPr b="0" lang="uk-UA" sz="1800" spc="-1" strike="noStrike">
                <a:solidFill>
                  <a:srgbClr val="000000"/>
                </a:solidFill>
                <a:latin typeface="Calibri"/>
              </a:rPr>
              <a:t>В 1824 г. Бестужев был принят Рылеевым в тайное общество .     В восстании 14 декабря принимал самое деятельное участие . </a:t>
            </a:r>
            <a:br>
              <a:rPr sz="1800"/>
            </a:br>
            <a:r>
              <a:rPr b="0" lang="uk-UA" sz="1800" spc="-1" strike="noStrike">
                <a:solidFill>
                  <a:srgbClr val="000000"/>
                </a:solidFill>
                <a:latin typeface="Calibri"/>
              </a:rPr>
              <a:t>Был осужден по первому разряду на 20 лет каторжных работ, с лишением чинов и дворянства, затем (после "смягчения" приговора Николаем) - на 15 лет, а в 1827 г. был отправлен на поселение в Якутск. </a:t>
            </a:r>
            <a:br>
              <a:rPr sz="1800"/>
            </a:br>
            <a:r>
              <a:rPr b="0" lang="uk-UA" sz="1800" spc="-1" strike="noStrike">
                <a:solidFill>
                  <a:srgbClr val="000000"/>
                </a:solidFill>
                <a:latin typeface="Calibri"/>
              </a:rPr>
              <a:t>В феврале 1829 г. обратился к графу Дибичу с просьбой вступить рядовым в Отдельный Кавказский корпус. Перевод в действующую армию давал надежду  за проявленную храбрость получить офицерский чин. Бестужев не мог знать, что "высочайшая воля" исключала такую возможность.Несмотря на чудеса храбрости, которые проявлял Бестужев, только 4 июня 1835 года он получил унтер-офицерский чин, а 3 мая 1836 г. был "за отличие в сражениях" произведен в прапорщики. </a:t>
            </a:r>
            <a:br>
              <a:rPr sz="1800"/>
            </a:br>
            <a:r>
              <a:rPr b="0" lang="uk-UA" sz="1800" spc="-1" strike="noStrike">
                <a:solidFill>
                  <a:srgbClr val="000000"/>
                </a:solidFill>
                <a:latin typeface="Calibri"/>
              </a:rPr>
              <a:t>7 июня 1837 г. он был убит в бою у мыса Адлер. Он вызвался в передовую десантную цепь. Командовал операцией друг Пушкина генерал В. Д. Вальховский. Попытка  удержать Бестужева была безуспешной. Перед боем Бестужев думал о смерти, первый раз он написал завещание, которое кончалось словами: "Прошу благословения у матери, целую родных, всем добрым людям привет русского". </a:t>
            </a:r>
            <a:br>
              <a:rPr sz="1800"/>
            </a:br>
            <a:endParaRPr b="0" lang="en-US" sz="1800" spc="-1" strike="noStrike">
              <a:solidFill>
                <a:srgbClr val="000000"/>
              </a:solidFill>
              <a:latin typeface="Calibri"/>
            </a:endParaRPr>
          </a:p>
        </p:txBody>
      </p:sp>
      <p:pic>
        <p:nvPicPr>
          <p:cNvPr id="54" name="Рисунок 2" descr="бестуж.jpg"/>
          <p:cNvPicPr/>
          <p:nvPr/>
        </p:nvPicPr>
        <p:blipFill>
          <a:blip r:embed="rId1"/>
          <a:stretch/>
        </p:blipFill>
        <p:spPr>
          <a:xfrm>
            <a:off x="214200" y="114480"/>
            <a:ext cx="2428920" cy="2743200"/>
          </a:xfrm>
          <a:prstGeom prst="rect">
            <a:avLst/>
          </a:prstGeom>
          <a:ln w="0">
            <a:noFill/>
          </a:ln>
        </p:spPr>
      </p:pic>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0cac4"/>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142560"/>
            <a:ext cx="9001080" cy="700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Бестужеву  было  разрешено  выступать в печати,  но "без указания имени сочинителя". С 1830 г. в журналах начали появляться повести, подписанные "А. М." и "Александр Марлинский". В литературу вошел писатель, сразу ставший популярным. </a:t>
            </a:r>
            <a:br>
              <a:rPr sz="2000"/>
            </a:br>
            <a:r>
              <a:rPr b="0" lang="uk-UA" sz="2000" spc="-1" strike="noStrike">
                <a:solidFill>
                  <a:srgbClr val="000000"/>
                </a:solidFill>
                <a:latin typeface="Calibri"/>
              </a:rPr>
              <a:t>В 1832 г. в типографии Н. И. Греча вышли первые пять частей "Русских повестей и рассказов" Бестужева (без имени и без псевдонима), весь тираж разошелся в несколько дней. "Все были перед ним на коленях", - вспоминал В. Г. Белинский.                                                                                                                                                                </a:t>
            </a:r>
            <a:br>
              <a:rPr sz="2000"/>
            </a:br>
            <a:r>
              <a:rPr b="0" lang="uk-UA" sz="2000" spc="-1" strike="noStrike">
                <a:solidFill>
                  <a:srgbClr val="000000"/>
                </a:solidFill>
                <a:latin typeface="Calibri"/>
              </a:rPr>
              <a:t>Бестужев-прозаик начал с обращения к историческим темам ("Роман и Ольга", 1823,"Замок Нейгаузен", 1824; "Ревельский турнир", 1824, "Кровь за кровь", 1825 и др.). В эти же годы делаются попытки создания повестей на материале, взятом из светской жизни. Так, повесть "Вечер на бивуаке" многими сюжетными деталями напоминает "Горе от ума" и, так же как "Роман в семи письмах" (1824), рассматривает конфликт незаурядного героя со светским обществом. </a:t>
            </a:r>
            <a:br>
              <a:rPr sz="2000"/>
            </a:br>
            <a:r>
              <a:rPr b="0" lang="uk-UA" sz="2000" spc="-1" strike="noStrike">
                <a:solidFill>
                  <a:srgbClr val="000000"/>
                </a:solidFill>
                <a:latin typeface="Calibri"/>
              </a:rPr>
              <a:t>В годы службы на Кавказе Бестужев обращается к сюжетам, окрашенным кавказской экзотикой ("Аммалат-Бек", 1832; "Мулла Нур", 1836) и связанным с современной армейской и светской жизнью ("Испытание", 1830; "Вечер на Кавказских водах в 1824 году", 1830; "Страшное гаданье", 1830 и др.). </a:t>
            </a:r>
            <a:br>
              <a:rPr sz="2000"/>
            </a:br>
            <a:r>
              <a:rPr b="0" lang="uk-UA" sz="2000" spc="-1" strike="noStrike">
                <a:solidFill>
                  <a:srgbClr val="000000"/>
                </a:solidFill>
                <a:latin typeface="Calibri"/>
              </a:rPr>
              <a:t>Характерное для декабризма увлечение национальной самобытностью отчетливо проявляется в бестужевской фантастике. В своих повестях он использовал фольклорные фабулы, народную сказку, крестьянские поверья. Реальные картины переплетались с фантастическими, которые, в конечном счете, получали реальное объяснение. </a:t>
            </a:r>
            <a:br>
              <a:rPr sz="2000"/>
            </a:br>
            <a:br>
              <a:rPr sz="1800"/>
            </a:br>
            <a:endParaRPr b="0" lang="en-US" sz="2000" spc="-1" strike="noStrike">
              <a:solidFill>
                <a:srgbClr val="000000"/>
              </a:solidFill>
              <a:latin typeface="Calibri"/>
            </a:endParaRPr>
          </a:p>
        </p:txBody>
      </p:sp>
    </p:spTree>
  </p:cSld>
  <p:transition>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d1d1"/>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28560" y="0"/>
            <a:ext cx="671508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доевский, Александр Иванович(1802-1839)</a:t>
            </a:r>
            <a:br>
              <a:rPr sz="2400"/>
            </a:br>
            <a:r>
              <a:rPr b="0" lang="ru-RU" sz="2000" spc="-1" strike="noStrike">
                <a:solidFill>
                  <a:srgbClr val="000000"/>
                </a:solidFill>
                <a:latin typeface="Calibri"/>
              </a:rPr>
              <a:t>— поэт-декабрист, происходил из древней княжеской фамилии. Служа в Петербурге, он сблизился с кружком декабристов. Красивый, умный от природы и прекрасно образованный, благородный, кроткий и добрый в душе, но энтузиаст  с пылким воображением. Он имел много друзей, но теснее всего был привязан к Грибоедову, которому приходился дальним родственником. Когда же Одоевский попал в Сибирь, Грибоедов глубоко страдал,  хлопотал об облегчении его участи, старался утешить его нежными письмами и посылал ему книги.                                                         Верховным уголовным судом Одоевский признан был виновным в том, что участвовал в бунте,принял в тайное общество одного члена и лично действовал во время мятежа с пистолетом в руках. Одоевского приговорили к ссылке на каторжные работу на 15 лет, а по окончании их на вечное поселение в Сибири. В 1837 году участь декабристов была смягчена. Одоевский попал в число тех, которые переводились из Сибири на Кавказ рядовыми. На пути, в Казани, произошло трогательное свидание Одоевского с семидесятилетним отцом . </a:t>
            </a:r>
            <a:endParaRPr b="0" lang="en-US" sz="2000" spc="-1" strike="noStrike">
              <a:solidFill>
                <a:srgbClr val="000000"/>
              </a:solidFill>
              <a:latin typeface="Calibri"/>
            </a:endParaRPr>
          </a:p>
        </p:txBody>
      </p:sp>
      <p:pic>
        <p:nvPicPr>
          <p:cNvPr id="57" name="Рисунок 2" descr="одоевский.jpg"/>
          <p:cNvPicPr/>
          <p:nvPr/>
        </p:nvPicPr>
        <p:blipFill>
          <a:blip r:embed="rId1"/>
          <a:stretch/>
        </p:blipFill>
        <p:spPr>
          <a:xfrm>
            <a:off x="142920" y="214200"/>
            <a:ext cx="2214360" cy="2786040"/>
          </a:xfrm>
          <a:prstGeom prst="rect">
            <a:avLst/>
          </a:prstGeom>
          <a:ln w="0">
            <a:noFill/>
          </a:ln>
        </p:spPr>
      </p:pic>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26000"/>
          </a:srgbClr>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3840" y="0"/>
            <a:ext cx="89298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оевский зачислен был в Нижегородский драгунский полк, находившийся  в ста верстах от Тифлиса. Сослуживцами Одоевского  оказались Л. С. Пушкин и Лермонтов. В первом из них он нашел приятного собеседника, во втором — близкого друга, «делившего с ним тоску изгнания .Кроме Пятигорска, Железноводска и Ставрополя, он несколько раз приезжал в Тифлис на могилу своего друга Грибоедова.                                                                                                       В 1839 году предпринята была под начальством генерала Н. Н. Раевского экспедиция на берег Черного моря, с целью укрепления Лазаревского форта. В ней приняли участие почти все декабристы, отбывавшие наказание на Кавказе.Одоевский не раз подвергался опасности быть убитым, но сражен был не оружием, а местной жестокой лихорадкой. Умер он в Псезуане 15 августа 1839 года. Похоронили его у самого моря. На могиле поставили простой деревянный крест, окрашенный в красную краску. Вскоре укрепление перешло к горцам. Когда же оно стало опять нашим,  один из друзей поэта увидел, что могила была разрыта. Так без следа исчезло место погребения Одоевского.</a:t>
            </a:r>
            <a:br>
              <a:rPr sz="2000"/>
            </a:br>
            <a:r>
              <a:rPr b="0" lang="ru-RU" sz="2000" spc="-1" strike="noStrike">
                <a:solidFill>
                  <a:srgbClr val="000000"/>
                </a:solidFill>
                <a:latin typeface="Calibri"/>
              </a:rPr>
              <a:t>Поэзия Одоевского так же могла исчезнуть для потомства, если бы друзья поэта не записывали его произведении, чего он сам почти никогда не делал. При жизни Одоевского напечатано было лишь одно его стихотворение («Сен-Бернар»), да и то без его ведома.Только в 1883 году вышел небольшой сборник стихов, изданный одним из оставшихся в живых друзей поэта — декабристом Розеном.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alpha val="33000"/>
          </a:srgbClr>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501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Лицейские друзья Пушкина</a:t>
            </a:r>
            <a:endParaRPr b="0" lang="en-US" sz="4400" spc="-1" strike="noStrike">
              <a:solidFill>
                <a:srgbClr val="000000"/>
              </a:solidFill>
              <a:latin typeface="Calibri"/>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286080" y="285840"/>
            <a:ext cx="5500800" cy="4929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rPr>
              <a:t>Друзья мои, прекрасен наш союз!          Он ,как  душа, неразделим и вечен-Неколебим, свободен  и беспечен, Срастался он под сенью дружных муз. Куда бы нас ни бросила судьбина </a:t>
            </a:r>
            <a:br>
              <a:rPr sz="2800"/>
            </a:br>
            <a:r>
              <a:rPr b="0" lang="ru-RU" sz="2800" spc="-1" strike="noStrike">
                <a:solidFill>
                  <a:srgbClr val="000000"/>
                </a:solidFill>
                <a:latin typeface="Monotype Corsiva"/>
              </a:rPr>
              <a:t>И счастие куда б ни повело,</a:t>
            </a:r>
            <a:br>
              <a:rPr sz="2800"/>
            </a:br>
            <a:r>
              <a:rPr b="0" lang="ru-RU" sz="2800" spc="-1" strike="noStrike">
                <a:solidFill>
                  <a:srgbClr val="000000"/>
                </a:solidFill>
                <a:latin typeface="Monotype Corsiva"/>
              </a:rPr>
              <a:t>Все те же мы: нам целый мир чужбина;</a:t>
            </a:r>
            <a:br>
              <a:rPr sz="2800"/>
            </a:br>
            <a:r>
              <a:rPr b="0" lang="ru-RU" sz="2800" spc="-1" strike="noStrike">
                <a:solidFill>
                  <a:srgbClr val="000000"/>
                </a:solidFill>
                <a:latin typeface="Monotype Corsiva"/>
              </a:rPr>
              <a:t>Отечество нам Царское Село.</a:t>
            </a:r>
            <a:endParaRPr b="0" lang="en-US" sz="2800" spc="-1" strike="noStrike">
              <a:solidFill>
                <a:srgbClr val="000000"/>
              </a:solidFill>
              <a:latin typeface="Calibri"/>
            </a:endParaRPr>
          </a:p>
        </p:txBody>
      </p:sp>
      <p:pic>
        <p:nvPicPr>
          <p:cNvPr id="61" name="Рисунок 2" descr="лицей.jpg"/>
          <p:cNvPicPr/>
          <p:nvPr/>
        </p:nvPicPr>
        <p:blipFill>
          <a:blip r:embed="rId1"/>
          <a:stretch/>
        </p:blipFill>
        <p:spPr>
          <a:xfrm>
            <a:off x="214200" y="571680"/>
            <a:ext cx="3000600" cy="5357520"/>
          </a:xfrm>
          <a:prstGeom prst="rect">
            <a:avLst/>
          </a:prstGeom>
          <a:ln w="0">
            <a:noFill/>
          </a:ln>
        </p:spPr>
      </p:pic>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05:59:05Z</dcterms:created>
  <dc:creator>Георгий</dc:creator>
  <dc:description/>
  <dc:language>en-US</dc:language>
  <cp:lastModifiedBy>Георгий</cp:lastModifiedBy>
  <dcterms:modified xsi:type="dcterms:W3CDTF">2008-11-27T18:47:32Z</dcterms:modified>
  <cp:revision>51</cp:revision>
  <dc:subject/>
  <dc:title>Декабристы на Кавказе</dc:title>
</cp:coreProperties>
</file>