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AFB-EC3A-4F91-B97B-36D0CF0E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3A3-E54C-490B-BD7C-283E9580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C0A-9354-4ACB-8D74-09F7742D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B9C-4B72-4BF7-86CB-F89A4D70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485-BFD0-4DC3-86F9-C14E717E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0190-D3DA-4259-826E-5BB1B3D0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9C1B-6250-4519-BD8B-AA8E0663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5C3-EC23-4EBA-9E4F-854FEDC2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23E0-840F-4837-8DAF-6A9F0939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CBE5-AD8C-42FF-8D6C-00CDE6E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907C-84FB-4ACE-AD9B-8BE1DEF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939-480A-4FC4-897E-B7465228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14C3-66CB-4FE6-A7D2-0F1FCDF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8128-1661-4138-9BBD-EA5D42D5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0171-7168-4F66-930F-FFEE9293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8A28-76A6-42D7-B342-BBD0FC8A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F9AA-D7E6-40F1-8743-399BF7E8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A927-37FC-4F0D-AA15-43C75222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64F9-0586-44B0-9E51-EF52DC54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FD36-3180-4BFF-83DD-06094D06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CFC7-5A2F-436B-BF62-7818766E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C097-9C1D-4A9A-A369-3CEF2C31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01A-D046-4F70-B51B-1DAA63F9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D645-FC40-4F2D-A3F7-9A8BCADA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61613-D773-4B41-A887-C5BE3CF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C0A6-CBFA-4D74-9119-E7E40BB1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45743-DB9B-4544-8E35-A2C5FF5F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3633-4880-44B5-876D-4D4E7793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1D7D-5FA4-48C1-A449-40A7ADC2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DA425-CD05-44D9-AAA8-3B46A5F6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823A-46EB-4920-A3B2-CD3F4239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AA1B-C228-4B5A-9C9F-DB115587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577F-4EA8-422E-9F66-7B103A22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4A9-08C6-4069-98C8-4A48F695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5D23-3A2B-42D2-80E1-34308E2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41E87-A24D-475E-8FA3-8DF9A008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9334-546C-4725-B82B-2AF29FBF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3D43-3C9E-466B-A4E9-7E2837C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67CDE-9A43-421E-A605-A1A4D04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CBDF-8EA9-47C2-BF2E-51D01ED9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39566-A4B4-4A8B-90EF-6D07CF69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0EA8-C1AB-430C-959E-3EF9A4A0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B162-9961-4D77-A6B8-88E620A2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573-704C-449C-B495-79DD9FE0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965-030B-4191-A158-7804ED3D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115-6DBE-4344-81CC-219831B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99B-62F5-4DC9-88CF-CEA6FF63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082-4D0B-4184-88F8-CB0E480B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9CF5-2127-427B-BE25-C07CFEE62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0787-1C9E-42A8-A28E-4C1099108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FBA-CDBF-45B6-A6ED-95F37A964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8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FD72-9443-440B-BB76-91582A4B6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3.xm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752472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08472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464328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3203640" y="981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>
            <a:lum bright="36000"/>
          </a:blip>
          <a:stretch/>
        </p:blipFill>
        <p:spPr>
          <a:xfrm>
            <a:off x="176364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>
            <a:lum bright="42000"/>
          </a:blip>
          <a:stretch/>
        </p:blipFill>
        <p:spPr>
          <a:xfrm>
            <a:off x="324000" y="98100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18920" y="3284640"/>
            <a:ext cx="6048360" cy="226224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5856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айдите  соответствующу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формулу  цв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76360" y="1341360"/>
            <a:ext cx="66675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89400"/>
                </a:solidFill>
                <a:latin typeface="Arial"/>
              </a:rPr>
              <a:t>КЛАСС  ДВУДОЛЬНЫЕ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9894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6"/>
          <a:srcRect l="0" t="0" r="18036" b="0"/>
          <a:stretch/>
        </p:blipFill>
        <p:spPr>
          <a:xfrm>
            <a:off x="1403280" y="47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rcRect l="0" t="0" r="18036" b="0"/>
          <a:stretch/>
        </p:blipFill>
        <p:spPr>
          <a:xfrm>
            <a:off x="1403280" y="47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4f6a2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232416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 rot="16200000">
            <a:off x="3130200" y="2925720"/>
            <a:ext cx="2810160" cy="936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 rot="17470800">
            <a:off x="3334320" y="3093120"/>
            <a:ext cx="2462400" cy="733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 rot="15639600">
            <a:off x="2946960" y="2845080"/>
            <a:ext cx="2124000" cy="681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de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3" action="ppaction://hlinksldjump"/>
              </a:rPr>
              <a:t>Ч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4" action="ppaction://hlinksldjump"/>
              </a:rPr>
              <a:t>5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5" action="ppaction://hlinksldjump"/>
              </a:rPr>
              <a:t>Т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6" action="ppaction://hlinksldjump"/>
              </a:rPr>
              <a:t>00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7" action="ppaction://hlinksldjump"/>
              </a:rPr>
              <a:t>П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8" action="ppaction://hlinksldjump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0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1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971640" y="620640"/>
            <a:ext cx="3128760" cy="2346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 rot="14246400">
            <a:off x="2329920" y="3055320"/>
            <a:ext cx="2212920" cy="749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 rot="18922800">
            <a:off x="4125600" y="3009960"/>
            <a:ext cx="2427120" cy="7016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 rot="16200000">
            <a:off x="3201120" y="2566080"/>
            <a:ext cx="2413080" cy="680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de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4700600">
            <a:off x="1773720" y="2770920"/>
            <a:ext cx="2900160" cy="749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 rot="18658800">
            <a:off x="4179600" y="2884680"/>
            <a:ext cx="2533680" cy="755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 rot="17470800">
            <a:off x="3137760" y="2646720"/>
            <a:ext cx="3305160" cy="6811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 rot="16200000">
            <a:off x="2913120" y="2566800"/>
            <a:ext cx="2557440" cy="681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de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 rot="14246400">
            <a:off x="1961280" y="2859480"/>
            <a:ext cx="2679480" cy="747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 rot="18922800">
            <a:off x="4038480" y="2812680"/>
            <a:ext cx="3036960" cy="700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15321600">
            <a:off x="2590560" y="2414520"/>
            <a:ext cx="2462400" cy="595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 rot="17470800">
            <a:off x="3346200" y="2739960"/>
            <a:ext cx="3106800" cy="680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 rot="16200000">
            <a:off x="3057480" y="2422440"/>
            <a:ext cx="2700360" cy="6807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4f6a2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116000" y="836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1116000" y="836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1042920" y="549360"/>
            <a:ext cx="2984400" cy="22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042920" y="549360"/>
            <a:ext cx="2984400" cy="22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1042920" y="549360"/>
            <a:ext cx="2984400" cy="22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6"/>
          <a:srcRect l="0" t="0" r="18036" b="0"/>
          <a:stretch/>
        </p:blipFill>
        <p:spPr>
          <a:xfrm>
            <a:off x="1403280" y="47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rcRect l="0" t="0" r="18036" b="0"/>
          <a:stretch/>
        </p:blipFill>
        <p:spPr>
          <a:xfrm>
            <a:off x="1403280" y="47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1:16:53Z</dcterms:created>
  <dc:creator>1</dc:creator>
  <dc:description/>
  <dc:language>en-US</dc:language>
  <cp:lastModifiedBy>1</cp:lastModifiedBy>
  <dcterms:modified xsi:type="dcterms:W3CDTF">2008-12-19T14:00:43Z</dcterms:modified>
  <cp:revision>6</cp:revision>
  <dc:subject/>
  <dc:title>формулы</dc:title>
</cp:coreProperties>
</file>