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7B4B-9514-46AB-AAE9-86A95695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54D7-8163-40ED-866B-702A94BC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E7A3-E70A-48C6-AE45-0106EA98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4C1-21B1-45EC-B16B-A248F27B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42CF-1FB6-44A1-9AA2-867D3C45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C53B-4E9D-4851-8959-44710A7D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8316-B78C-443F-AD3A-B763CB07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8BF6-B336-4B9A-A9C7-35532022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8FF6-5E64-40B1-BF83-FF09E566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D5C5-B2E3-4A39-BF12-EF052027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710F-C780-429A-9143-C733FE69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C514-1CFC-4110-A68D-13387FC4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723E-DDD0-4B04-8748-AF84E7F8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C538-F25B-4FC3-BD12-DD126B30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2CCC-A744-4CF8-8750-F8F2D915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AC5C-9BC2-472F-B3C8-B07A7C6F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7897-97CB-4E93-88CE-26655FD9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24E66-BF1D-4C4E-8394-71DBCD67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FA5DF-9776-4B65-A749-8DADA1F2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1B956-EE48-40EB-AAFE-72A05703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23445-7F07-4BB2-9366-F50B9F3C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DB257-A488-4718-8786-BFF72FB8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96EB-02F1-4E4E-992B-EBD5DCC1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EACC3-2DE1-4CD3-8962-CD25CAF2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99A08-B4FB-4AD3-879E-621B799E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EE339-6D94-40DF-ABBE-1FF68909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8E85E-6CAB-44C4-BAA3-10F77169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FCE15-BE82-4FFE-9F2B-C2022FBA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C9348-634A-4A22-BD14-73A01BE6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75474-1F57-4559-8B2C-6BF9BE3F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CD175-03AF-4D3F-968B-91DD3492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D33D4-BA15-4DC6-83BE-C89C5C99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3D5C8-8425-49C5-9DB5-1C398992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1533-2884-4DB4-B7DB-01174E04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87AC1-63F6-4369-B8D5-F5CE60D3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14505-92D6-4CEF-AE20-94064EE3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88B4F-5E31-4F6C-A659-AA45AFE1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4E1AE-1484-4B9A-93A2-023E3AF9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4E9C0-BC1D-4F69-BE3F-5EF5708D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2032D-D126-49DD-A3B1-82C3C39A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1DB9E-D5C8-4238-8BC1-C01CDE07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BE2C3-1521-46D2-9813-8FCC547D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A408B-9BAB-4BC5-9A66-55644E9F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55E-B24F-448F-A469-DEDE1138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EB31-28BF-4B47-A685-C4D0CCEF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192-7539-472B-B341-C69F94C2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C0C3-1D05-4E14-A247-D6BFC643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658-3313-416C-9FA7-006600D9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E4E4-01A8-4F11-9BAD-1C257F5D1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0DD6-A501-4EA4-B136-219B4A7D7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0201-041B-404F-86C7-09F84CE57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88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11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2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8695-2D82-41D5-B513-C09440FA3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3.xm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7524720" y="981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084720" y="981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4643280" y="981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>
            <a:lum bright="36000"/>
          </a:blip>
          <a:stretch/>
        </p:blipFill>
        <p:spPr>
          <a:xfrm>
            <a:off x="3203640" y="98100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>
            <a:lum bright="36000"/>
          </a:blip>
          <a:stretch/>
        </p:blipFill>
        <p:spPr>
          <a:xfrm>
            <a:off x="1763640" y="981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>
            <a:lum bright="42000"/>
          </a:blip>
          <a:stretch/>
        </p:blipFill>
        <p:spPr>
          <a:xfrm>
            <a:off x="324000" y="98100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18920" y="3284640"/>
            <a:ext cx="6048360" cy="226224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txBody>
          <a:bodyPr lIns="118440" rIns="11844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258560" y="34290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Найдите  соответствующу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формулу  цве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76360" y="1341360"/>
            <a:ext cx="666756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89400"/>
                </a:solidFill>
                <a:latin typeface="Arial"/>
              </a:rPr>
              <a:t>КЛАСС  ДВУДОЛЬНЫЕ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9894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3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rId5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6"/>
          <a:srcRect l="0" t="0" r="18036" b="0"/>
          <a:stretch/>
        </p:blipFill>
        <p:spPr>
          <a:xfrm>
            <a:off x="1403280" y="476280"/>
            <a:ext cx="273528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3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4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5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6"/>
          <a:srcRect l="0" t="0" r="18036" b="0"/>
          <a:stretch/>
        </p:blipFill>
        <p:spPr>
          <a:xfrm>
            <a:off x="1403280" y="476280"/>
            <a:ext cx="273528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4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5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6"/>
          <a:srcRect l="13474" t="0" r="19748" b="23752"/>
          <a:stretch/>
        </p:blipFill>
        <p:spPr>
          <a:xfrm>
            <a:off x="1476360" y="692280"/>
            <a:ext cx="251928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3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rId4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5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rcRect l="13474" t="0" r="19748" b="23752"/>
          <a:stretch/>
        </p:blipFill>
        <p:spPr>
          <a:xfrm>
            <a:off x="1476360" y="692280"/>
            <a:ext cx="251928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3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4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5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6"/>
          <a:srcRect l="13474" t="0" r="19748" b="23752"/>
          <a:stretch/>
        </p:blipFill>
        <p:spPr>
          <a:xfrm>
            <a:off x="1476360" y="692280"/>
            <a:ext cx="251928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rcRect l="13474" t="0" r="19748" b="23752"/>
          <a:stretch/>
        </p:blipFill>
        <p:spPr>
          <a:xfrm>
            <a:off x="1476360" y="692280"/>
            <a:ext cx="251928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13474" t="0" r="19748" b="23752"/>
          <a:stretch/>
        </p:blipFill>
        <p:spPr>
          <a:xfrm>
            <a:off x="1476360" y="692280"/>
            <a:ext cx="251928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4f6a2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203640" y="3860640"/>
            <a:ext cx="2448000" cy="1729080"/>
          </a:xfrm>
          <a:custGeom>
            <a:avLst/>
            <a:gdLst>
              <a:gd name="textAreaLeft" fmla="*/ 538200 w 2448000"/>
              <a:gd name="textAreaRight" fmla="*/ 1909800 w 2448000"/>
              <a:gd name="textAreaTop" fmla="*/ 380160 h 1729080"/>
              <a:gd name="textAreaBottom" fmla="*/ 134892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08360" y="4221000"/>
            <a:ext cx="1368360" cy="1258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БАЛЛЫ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348000" y="1557360"/>
            <a:ext cx="232416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 rot="16200000">
            <a:off x="3130200" y="2925720"/>
            <a:ext cx="2810160" cy="9363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203640" y="3860640"/>
            <a:ext cx="2448000" cy="1729080"/>
          </a:xfrm>
          <a:custGeom>
            <a:avLst/>
            <a:gdLst>
              <a:gd name="textAreaLeft" fmla="*/ 538200 w 2448000"/>
              <a:gd name="textAreaRight" fmla="*/ 1909800 w 2448000"/>
              <a:gd name="textAreaTop" fmla="*/ 380160 h 1729080"/>
              <a:gd name="textAreaBottom" fmla="*/ 134892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08360" y="4221000"/>
            <a:ext cx="136836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БАЛЛЫ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 rot="17470800">
            <a:off x="3334320" y="3093120"/>
            <a:ext cx="2462400" cy="7333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 rot="15639600">
            <a:off x="2946960" y="2845080"/>
            <a:ext cx="2124000" cy="6811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203640" y="3860640"/>
            <a:ext cx="2448000" cy="1729080"/>
          </a:xfrm>
          <a:custGeom>
            <a:avLst/>
            <a:gdLst>
              <a:gd name="textAreaLeft" fmla="*/ 538200 w 2448000"/>
              <a:gd name="textAreaRight" fmla="*/ 1909800 w 2448000"/>
              <a:gd name="textAreaTop" fmla="*/ 380160 h 1729080"/>
              <a:gd name="textAreaBottom" fmla="*/ 134892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ede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08360" y="4221000"/>
            <a:ext cx="136836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БАЛЛЫ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Bradley Hand ITC"/>
                <a:hlinkClick r:id="rId3" action="ppaction://hlinksldjump"/>
              </a:rPr>
              <a:t>Ч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Bradley Hand ITC"/>
                <a:hlinkClick r:id="rId4" action="ppaction://hlinksldjump"/>
              </a:rPr>
              <a:t>5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Bradley Hand ITC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Bradley Hand ITC"/>
                <a:hlinkClick r:id="rId5" action="ppaction://hlinksldjump"/>
              </a:rPr>
              <a:t>Т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Bradley Hand ITC"/>
                <a:hlinkClick r:id="rId6" action="ppaction://hlinksldjump"/>
              </a:rPr>
              <a:t>00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Bradley Hand ITC"/>
                <a:hlinkClick r:id="rId7" action="ppaction://hlinksldjump"/>
              </a:rPr>
              <a:t>П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Bradley Hand ITC"/>
                <a:hlinkClick r:id="rId8" action="ppaction://hlinksldjump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9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0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11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2"/>
          <a:stretch/>
        </p:blipFill>
        <p:spPr>
          <a:xfrm>
            <a:off x="971640" y="620640"/>
            <a:ext cx="3128760" cy="2346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 rot="14246400">
            <a:off x="2329920" y="3055320"/>
            <a:ext cx="2212920" cy="7495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 rot="18922800">
            <a:off x="4125600" y="3009960"/>
            <a:ext cx="2427120" cy="7016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 rot="16200000">
            <a:off x="3201120" y="2566080"/>
            <a:ext cx="2413080" cy="6807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203640" y="3860640"/>
            <a:ext cx="2448000" cy="1729080"/>
          </a:xfrm>
          <a:custGeom>
            <a:avLst/>
            <a:gdLst>
              <a:gd name="textAreaLeft" fmla="*/ 538200 w 2448000"/>
              <a:gd name="textAreaRight" fmla="*/ 1909800 w 2448000"/>
              <a:gd name="textAreaTop" fmla="*/ 380160 h 1729080"/>
              <a:gd name="textAreaBottom" fmla="*/ 134892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ede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08360" y="4221000"/>
            <a:ext cx="136836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БАЛЛЫ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 rot="14700600">
            <a:off x="1773720" y="2770920"/>
            <a:ext cx="2900160" cy="7495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 rot="18658800">
            <a:off x="4179600" y="2884680"/>
            <a:ext cx="2533680" cy="7556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 rot="17470800">
            <a:off x="3137760" y="2646720"/>
            <a:ext cx="3305160" cy="6811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 rot="16200000">
            <a:off x="2913120" y="2566800"/>
            <a:ext cx="2557440" cy="681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203640" y="3860640"/>
            <a:ext cx="2448000" cy="1729080"/>
          </a:xfrm>
          <a:custGeom>
            <a:avLst/>
            <a:gdLst>
              <a:gd name="textAreaLeft" fmla="*/ 538200 w 2448000"/>
              <a:gd name="textAreaRight" fmla="*/ 1909800 w 2448000"/>
              <a:gd name="textAreaTop" fmla="*/ 380160 h 1729080"/>
              <a:gd name="textAreaBottom" fmla="*/ 134892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ede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4221000"/>
            <a:ext cx="136836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БАЛЛЫ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 rot="14246400">
            <a:off x="1961280" y="2859480"/>
            <a:ext cx="2679480" cy="7477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 rot="18922800">
            <a:off x="4038480" y="2812680"/>
            <a:ext cx="3036960" cy="700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 rot="15321600">
            <a:off x="2590560" y="2414520"/>
            <a:ext cx="2462400" cy="5950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 rot="17470800">
            <a:off x="3346200" y="2739960"/>
            <a:ext cx="3106800" cy="680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5"/>
          <a:stretch/>
        </p:blipFill>
        <p:spPr>
          <a:xfrm rot="16200000">
            <a:off x="3057480" y="2422440"/>
            <a:ext cx="2700360" cy="6807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203640" y="3860640"/>
            <a:ext cx="2448000" cy="1729080"/>
          </a:xfrm>
          <a:custGeom>
            <a:avLst/>
            <a:gdLst>
              <a:gd name="textAreaLeft" fmla="*/ 538200 w 2448000"/>
              <a:gd name="textAreaRight" fmla="*/ 1909800 w 2448000"/>
              <a:gd name="textAreaTop" fmla="*/ 380160 h 1729080"/>
              <a:gd name="textAreaBottom" fmla="*/ 134892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4f6a2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08360" y="4221000"/>
            <a:ext cx="136836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БАЛЛЫ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3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4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5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1116000" y="836640"/>
            <a:ext cx="3024360" cy="22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4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5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1116000" y="836640"/>
            <a:ext cx="3024360" cy="22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3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4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5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1042920" y="549360"/>
            <a:ext cx="2984400" cy="22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3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4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5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1042920" y="549360"/>
            <a:ext cx="2984400" cy="22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3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4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5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1042920" y="549360"/>
            <a:ext cx="2984400" cy="22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3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4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5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6"/>
          <a:srcRect l="0" t="0" r="18036" b="0"/>
          <a:stretch/>
        </p:blipFill>
        <p:spPr>
          <a:xfrm>
            <a:off x="1403280" y="476280"/>
            <a:ext cx="273528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>
            <a:hlinkClick r:id="rId1" action="ppaction://hlinksldjump"/>
          </p:cNvPr>
          <p:cNvSpPr/>
          <p:nvPr/>
        </p:nvSpPr>
        <p:spPr>
          <a:xfrm rot="10800000">
            <a:off x="5651640" y="2565000"/>
            <a:ext cx="3241440" cy="515880"/>
          </a:xfrm>
          <a:prstGeom prst="wedgeRoundRectCallout">
            <a:avLst>
              <a:gd name="adj1" fmla="val 96078"/>
              <a:gd name="adj2" fmla="val 20661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 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2" action="ppaction://hlinksldjump"/>
          </p:cNvPr>
          <p:cNvSpPr/>
          <p:nvPr/>
        </p:nvSpPr>
        <p:spPr>
          <a:xfrm rot="10800000">
            <a:off x="4572000" y="5157720"/>
            <a:ext cx="2897280" cy="658800"/>
          </a:xfrm>
          <a:prstGeom prst="wedgeRoundRectCallout">
            <a:avLst>
              <a:gd name="adj1" fmla="val 107092"/>
              <a:gd name="adj2" fmla="val 382768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5 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00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 rot="10800000">
            <a:off x="468000" y="4508640"/>
            <a:ext cx="3754440" cy="658800"/>
          </a:xfrm>
          <a:prstGeom prst="wedgeRoundRectCallout">
            <a:avLst>
              <a:gd name="adj1" fmla="val 2342"/>
              <a:gd name="adj2" fmla="val 285180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5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1+2+2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(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9)+1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4" action="ppaction://hlinksldjump"/>
          </p:cNvPr>
          <p:cNvSpPr/>
          <p:nvPr/>
        </p:nvSpPr>
        <p:spPr>
          <a:xfrm rot="10800000">
            <a:off x="5796000" y="3716280"/>
            <a:ext cx="2897280" cy="658800"/>
          </a:xfrm>
          <a:prstGeom prst="wedgeRoundRectCallout">
            <a:avLst>
              <a:gd name="adj1" fmla="val 109337"/>
              <a:gd name="adj2" fmla="val 181805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 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О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(5)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5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 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5" action="ppaction://hlinksldjump"/>
          </p:cNvPr>
          <p:cNvSpPr/>
          <p:nvPr/>
        </p:nvSpPr>
        <p:spPr>
          <a:xfrm rot="10800000">
            <a:off x="5292720" y="1341000"/>
            <a:ext cx="3456000" cy="658800"/>
          </a:xfrm>
          <a:prstGeom prst="wedgeRoundRectCallout">
            <a:avLst>
              <a:gd name="adj1" fmla="val 85782"/>
              <a:gd name="adj2" fmla="val 108791"/>
              <a:gd name="adj3" fmla="val 16667"/>
            </a:avLst>
          </a:prstGeom>
          <a:solidFill>
            <a:srgbClr val="edeee2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Bradley Hand ITC"/>
              </a:rPr>
              <a:t>Ч</a:t>
            </a:r>
            <a:r>
              <a:rPr b="1" lang="en-US" sz="1800" spc="-1" strike="noStrike">
                <a:solidFill>
                  <a:srgbClr val="008000"/>
                </a:solidFill>
                <a:latin typeface="Bradley Hand ITC"/>
              </a:rPr>
              <a:t> 2+2 </a:t>
            </a:r>
            <a:r>
              <a:rPr b="1" lang="en-US" sz="2800" spc="-1" strike="noStrike">
                <a:solidFill>
                  <a:srgbClr val="ff3399"/>
                </a:solidFill>
                <a:latin typeface="Bradley Hand ITC"/>
              </a:rPr>
              <a:t>Л </a:t>
            </a:r>
            <a:r>
              <a:rPr b="1" lang="en-US" sz="1800" spc="-1" strike="noStrike">
                <a:solidFill>
                  <a:srgbClr val="ff3399"/>
                </a:solidFill>
                <a:latin typeface="Bradley Hand ITC"/>
              </a:rPr>
              <a:t>4</a:t>
            </a:r>
            <a:r>
              <a:rPr b="1" lang="en-US" sz="2800" spc="-1" strike="noStrike">
                <a:solidFill>
                  <a:srgbClr val="ff9933"/>
                </a:solidFill>
                <a:latin typeface="Bradley Hand ITC"/>
              </a:rPr>
              <a:t>Т</a:t>
            </a:r>
            <a:r>
              <a:rPr b="1" lang="en-US" sz="1800" spc="-1" strike="noStrike">
                <a:solidFill>
                  <a:srgbClr val="ff9933"/>
                </a:solidFill>
                <a:latin typeface="Bradley Hand ITC"/>
              </a:rPr>
              <a:t>2+4</a:t>
            </a:r>
            <a:r>
              <a:rPr b="1" lang="en-US" sz="2800" spc="-1" strike="noStrike">
                <a:solidFill>
                  <a:srgbClr val="33cc33"/>
                </a:solidFill>
                <a:latin typeface="Bradley Hand ITC"/>
              </a:rPr>
              <a:t>П</a:t>
            </a:r>
            <a:r>
              <a:rPr b="1" lang="en-US" sz="1800" spc="-1" strike="noStrike">
                <a:solidFill>
                  <a:srgbClr val="33cc33"/>
                </a:solidFill>
                <a:latin typeface="Bradley Hand ITC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42920" y="5300640"/>
            <a:ext cx="2808360" cy="129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aa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Б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6"/>
          <a:srcRect l="0" t="0" r="18036" b="0"/>
          <a:stretch/>
        </p:blipFill>
        <p:spPr>
          <a:xfrm>
            <a:off x="1403280" y="476280"/>
            <a:ext cx="2735280" cy="250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1:16:53Z</dcterms:created>
  <dc:creator>1</dc:creator>
  <dc:description/>
  <dc:language>en-US</dc:language>
  <cp:lastModifiedBy>1</cp:lastModifiedBy>
  <dcterms:modified xsi:type="dcterms:W3CDTF">2008-12-19T14:00:43Z</dcterms:modified>
  <cp:revision>6</cp:revision>
  <dc:subject/>
  <dc:title>формулы</dc:title>
</cp:coreProperties>
</file>