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A5E-0C00-47CD-84D1-B8A2C27B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16D-360E-4AD5-88B5-A441EED7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863-F51C-4A05-A0DC-EA7BA660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9EB-68EB-4F4E-A88F-AF24360D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2880-19CF-4A0E-9054-FAA03552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C8973-74F2-40F7-BE2E-1978375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389F5-41E0-480E-8572-14603D49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9020D-9B80-47E5-8306-5FAFA8D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5CA54-8287-4710-992C-26AC3B1A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52F93-86DC-47BC-A62A-91150C14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27A47-0280-49C4-9671-4A3C286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F5A-A8AD-4ECE-B3E9-793DE25C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B2D34-ECB4-463C-95F5-4195A1F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A5F33-D64E-4576-9197-A3FF42F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BE8B8-AF64-4946-BC3D-D11A2CDD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D0A4B-2736-47B5-93FD-FF41A27D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297EB-DB48-4BC5-BA42-8830DFFF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E78-F6AC-4039-BD4B-71C438B4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B2C-788D-4B75-A304-4BEE852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5F3-070F-46D1-B97D-81FCC28D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A73-2892-430D-B91C-72DC3C0F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4C9-B503-4DCD-8C4D-430667E1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131-6333-45B9-94DD-D222400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C99-C586-4D91-8053-ABD0BC0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4875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6920" cy="855720"/>
            <a:chOff x="0" y="6019920"/>
            <a:chExt cx="7846920" cy="85572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1880" cy="849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0240" cy="855720"/>
              <a:chOff x="3946680" y="6019920"/>
              <a:chExt cx="3900240" cy="85572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79320" cy="84456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3760" cy="6253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598680" cy="42876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480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0440" cy="847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A9B585-F9FE-4944-BBF8-AD76A5BC335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2560" cy="19796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2560" cy="4875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1880" cy="849600"/>
            <a:chOff x="-1440" y="6033960"/>
            <a:chExt cx="7841880" cy="84960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1880" cy="8496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5560" cy="849600"/>
              <a:chOff x="3944880" y="6033960"/>
              <a:chExt cx="3895560" cy="849600"/>
            </a:xfrm>
          </p:grpSpPr>
          <p:sp>
            <p:nvSpPr>
              <p:cNvPr id="68" name=""/>
              <p:cNvSpPr/>
              <p:nvPr/>
            </p:nvSpPr>
            <p:spPr>
              <a:xfrm>
                <a:off x="6264720" y="6045120"/>
                <a:ext cx="1575720" cy="83844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3400" cy="6256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8160" y="6194520"/>
                <a:ext cx="598320" cy="4284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680"/>
                <a:ext cx="244080" cy="1159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520"/>
                <a:ext cx="64800" cy="1270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0080" cy="8478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3320" cy="847800"/>
            <a:chOff x="627120" y="6021360"/>
            <a:chExt cx="5683320" cy="84780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7800" cy="46044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5960" cy="7905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08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4160" cy="2588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2160" cy="954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7360" cy="32724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C4EB7B-A04C-426E-972E-05A0D828C5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.С.Пушкин </a:t>
            </a:r>
            <a:br>
              <a:rPr sz="40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(1799 – 1837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776760" cy="449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12920" y="5969160"/>
            <a:ext cx="729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подготовлена Казанцевой Н.Н., учителем МОУ «Ру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полянская СОШ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724120" cy="3810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5077080" cy="3343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5076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256360" cy="5256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524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бойник или освободитель, Пугачев был народным героем. Только такого героя и мог породить в то время российский народ.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54640" cy="525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1364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семейственных преданий известно, что он был освобожден от заключения в конце 1774 года, по именному повелению; что он присутствовал при казни Пугачева, который узнал его в толпе и кивнул ему головою, которая через минуту, мертвая и окровавленная, показана была народу.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тюшка сказал мне: "Прощай, Петр. Служи верно, кому присягнешь; слушайся начальников; за их лаской не гоняйся; на службу не напрашивайся; от службы не отговаривайся; и помни пословицу: береги платье снову, а честь смолоду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4578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859280" y="404280"/>
            <a:ext cx="38275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позора и ссылки Гринева спасает Маша, которая едет к царице «просить милости». Прогуливаясь по саду Царского Села, Маша повстречала даму средних лет. В этой даме все «невольно привлекало сердце и внушало доверенность». Узнав, кто такая Маша, она предложила свою помощь, и Маша искренне поведала даме всю историю. Дама оказалась императрицей, которая помиловала Гринева так же, как Пугачев в свое время помиловал и Машу, и Гри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79872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12144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а рома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романа лежат мемуары пятидесятилетнего дворянина Петра Андреевича Гринева, написанные им во времена царствования императора Александра и посвященные «пугачевщине», в которой семнадцатилетний офицер Петр Гринев по «странному сцеплению обстоятельств» принял невольное учас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52600" cy="3810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2343240" cy="381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56000" y="260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867280" y="2852640"/>
            <a:ext cx="29718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932000" y="475920"/>
            <a:ext cx="375444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был произведен в офицеры. Служба меня не отягощала. В богоспасаемой крепости не было ни смотров, ни учений, ни караулов. Комендант по собственной охоте учил иногда своих солдат; но еще не мог добиться, чтобы все они знали, которая сторона правая, которая левая, хотя многие из них, дабы в том не ошибиться, перед каждым оборотом клали на себя знамение крес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2336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4365360"/>
            <a:ext cx="807552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у минуту раздался женский крик. Несколько разбойников вытащили на крыльцо Василису Егоровну, растрепанную и раздетую донага. Один из них успел уже нарядиться в ее душегрейку. Другие таскали перины, сундуки, чайную посуду, белье и всю рухлядь. "Батюшки мои! -- кричала бедная старушка.-- Отпустите душу на покаяние. Отцы родные, отведите меня к Ивану Кузьмичу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5016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пера «Капитанская дочка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2616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84720" y="333000"/>
            <a:ext cx="44020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устясь по крутой тропинке, мы остановились у самой реки и обнажили шпаги. Швабрин был искуснее меня, но я сильнее и смелее, и monsieur Бопре, бывший некогда солдатом, дал мне несколько уроков в фехтовании, которыми я и воспользовался. Швабрин не ожидал найти во мне столь опасного противника. Долго мы не могли сделать друг другу никакого вреда; наконец, приметя, что Швабрин ослабевает, я стал с живостию на него наступать и загнал его почти в самую реку. Вдруг услышал я свое имя, громко произнесенное. Я оглянулся и увидел Савельича, сбегающего ко мне по нагорной тропинке... В это самое время меня сильно кольнуло в грудь пониже правого плеча; я упал и лишился чув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86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ыкновенная картина мне представилась: за столом, накрытым скатертью и установленным штофами и стаканами, Пугачев и человек десять казацких старшин сидели, в шапках и цветных рубашках, разгоряченные вином, с красными рожами и блистающими глазами. Между ими не было ни Швабрина, ни нашего урядника, новобраных изменников. "А, ваше благородие!-- сказал Пугачев, увидя меня.-- Добро пожаловать; честь и место, милости просим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260280"/>
            <a:ext cx="41720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гачев сидел в креслах на крыльце комендантского дома. На нем был красный казацкий кафтан, обшитый галунами. Высокая соболья шапка с золотыми кистями была надвинута на его сверкающие глаза. Лицо его показалось мне знакомо. Казацкие старшины окружали его. Отец Герасим, бледный и дрожащий, стоял у крыльца, с крестом в руках, и, казалось, молча умолял его за предстоящие жертвы. На площади ставили наскоро виселиц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656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4:17:47Z</dcterms:created>
  <dc:creator>учебный</dc:creator>
  <dc:description/>
  <dc:language>en-US</dc:language>
  <cp:lastModifiedBy>учебный</cp:lastModifiedBy>
  <dcterms:modified xsi:type="dcterms:W3CDTF">2010-09-18T04:54:16Z</dcterms:modified>
  <cp:revision>26</cp:revision>
  <dc:subject/>
  <dc:title>Слайд 1</dc:title>
</cp:coreProperties>
</file>