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982-EBF1-4E1C-8E29-C723CB39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9EA-76E7-49F4-90FC-F83B41B5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0F6-F33E-4B43-B6C1-80E0E509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B7D-6218-4918-9717-0E751796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384E2-E5CF-463A-A904-8353983E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94D86-58BC-475B-AFE2-AEDF852B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69032-2292-4881-B3A9-5CD74C5F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D365E-8B33-442A-9EC4-3164C837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FDAFD-3E0C-4807-A3D7-6BCE42DB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824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AEC27-B5D3-4B31-B45B-422FCBC4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981AE-5860-420A-B717-5FE5FE2C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F33-10BE-4A32-AFBB-CFFA24CB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DBFEB-877B-4B59-BD93-15056FBC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C71A9-7646-440B-84F5-82BA65F4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444D8-CB92-448C-9EE1-0D22B479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D4343-F437-4B0A-87B9-818A410E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8BDC7-7CC8-4804-9140-3223A783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738-FB32-42F1-A090-CB84F829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72B-6AFF-492F-80C8-A659C2FC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B80-2D18-48AF-9B03-52B3C648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824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715-DB81-4FEE-85D0-11A6C302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71D-1BC6-4121-BF69-EA49A77A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3A1C-57E6-4EBA-9403-64D29E92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D0B-A2B2-4C00-96E1-FDAD3B97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2560" cy="197964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48751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6920" cy="855720"/>
            <a:chOff x="0" y="6019920"/>
            <a:chExt cx="7846920" cy="85572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1880" cy="8492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0240" cy="855720"/>
              <a:chOff x="3946680" y="6019920"/>
              <a:chExt cx="3900240" cy="85572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79320" cy="84456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3760" cy="6253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598680" cy="42876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4800" cy="1159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4800" cy="1270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0440" cy="8474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3320" cy="847800"/>
            <a:chOff x="627120" y="6021360"/>
            <a:chExt cx="5683320" cy="84780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7800" cy="4604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5960" cy="7905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08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4160" cy="2588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2160" cy="9540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7360" cy="32724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7EBC87-C47F-4C3B-88DB-B0ED30050BC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2560" cy="6856560"/>
            <a:chOff x="-6480" y="20520"/>
            <a:chExt cx="9142560" cy="685656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2560" cy="197964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2560" cy="48754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1880" cy="849600"/>
            <a:chOff x="-1440" y="6033960"/>
            <a:chExt cx="7841880" cy="84960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1880" cy="8496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5560" cy="849600"/>
              <a:chOff x="3944880" y="6033960"/>
              <a:chExt cx="3895560" cy="849600"/>
            </a:xfrm>
          </p:grpSpPr>
          <p:sp>
            <p:nvSpPr>
              <p:cNvPr id="68" name=""/>
              <p:cNvSpPr/>
              <p:nvPr/>
            </p:nvSpPr>
            <p:spPr>
              <a:xfrm>
                <a:off x="6264720" y="6045120"/>
                <a:ext cx="1575720" cy="83844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3400" cy="6256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8160" y="6194520"/>
                <a:ext cx="598320" cy="4284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680"/>
                <a:ext cx="244080" cy="1159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520"/>
                <a:ext cx="64800" cy="1270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0080" cy="8478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3320" cy="847800"/>
            <a:chOff x="627120" y="6021360"/>
            <a:chExt cx="5683320" cy="84780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7800" cy="4604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5960" cy="7905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08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4160" cy="2588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2160" cy="9540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7360" cy="32724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B95C06-D513-4F03-88F3-A41148407F0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.С.Пушкин </a:t>
            </a:r>
            <a:br>
              <a:rPr sz="40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(1799 – 1837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3776760" cy="4495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12920" y="5969160"/>
            <a:ext cx="729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я подготовлена Казанцевой Н.Н., учителем МОУ «Рус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полянская СОШ №2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724120" cy="3810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492360" y="404640"/>
            <a:ext cx="5077080" cy="3343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059280" y="3213000"/>
            <a:ext cx="50767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7920000" cy="47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256360" cy="5256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35244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бойник или освободитель, Пугачев был народным героем. Только такого героя и мог породить в то время российский народ.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454640" cy="5256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4000" y="13644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 семейственных преданий известно, что он был освобожден от заключения в конце 1774 года, по именному повелению; что он присутствовал при казни Пугачева, который узнал его в толпе и кивнул ему головою, которая через минуту, мертвая и окровавленная, показана была народу.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тюшка сказал мне: "Прощай, Петр. Служи верно, кому присягнешь; слушайся начальников; за их лаской не гоняйся; на службу не напрашивайся; от службы не отговаривайся; и помни пословицу: береги платье снову, а честь смолоду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0" y="333360"/>
            <a:ext cx="44578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859280" y="404280"/>
            <a:ext cx="38275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позора и ссылки Гринева спасает Маша, которая едет к царице «просить милости». Прогуливаясь по саду Царского Села, Маша повстречала даму средних лет. В этой даме все «невольно привлекало сердце и внушало доверенность». Узнав, кто такая Маша, она предложила свою помощь, и Маша искренне поведала даме всю историю. Дама оказалась императрицей, которая помиловала Гринева так же, как Пугачев в свое время помиловал и Машу, и Грине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379872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121440" cy="55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а рома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снове романа лежат мемуары пятидесятилетнего дворянина Петра Андреевича Гринева, написанные им во времена царствования императора Александра и посвященные «пугачевщине», в которой семнадцатилетний офицер Петр Гринев по «странному сцеплению обстоятельств» принял невольное участ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352600" cy="3810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340000" y="1341360"/>
            <a:ext cx="2343240" cy="3810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356000" y="26028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867280" y="2852640"/>
            <a:ext cx="29718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932000" y="475920"/>
            <a:ext cx="375444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был произведен в офицеры. Служба меня не отягощала. В богоспасаемой крепости не было ни смотров, ни учений, ни караулов. Комендант по собственной охоте учил иногда своих солдат; но еще не мог добиться, чтобы все они знали, которая сторона правая, которая левая, хотя многие из них, дабы в том не ошибиться, перед каждым оборотом клали на себя знамение крес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233600" cy="57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11280" y="4365360"/>
            <a:ext cx="807552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эту минуту раздался женский крик. Несколько разбойников вытащили на крыльцо Василису Егоровну, растрепанную и раздетую донага. Один из них успел уже нарядиться в ее душегрейку. Другие таскали перины, сундуки, чайную посуду, белье и всю рухлядь. "Батюшки мои! -- кричала бедная старушка.-- Отпустите душу на покаяние. Отцы родные, отведите меня к Ивану Кузьмичу"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050160" cy="37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пера «Капитанская дочка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4826160" cy="48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284720" y="333000"/>
            <a:ext cx="44020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устясь по крутой тропинке, мы остановились у самой реки и обнажили шпаги. Швабрин был искуснее меня, но я сильнее и смелее, и monsieur Бопре, бывший некогда солдатом, дал мне несколько уроков в фехтовании, которыми я и воспользовался. Швабрин не ожидал найти во мне столь опасного противника. Долго мы не могли сделать друг другу никакого вреда; наконец, приметя, что Швабрин ослабевает, я стал с живостию на него наступать и загнал его почти в самую реку. Вдруг услышал я свое имя, громко произнесенное. Я оглянулся и увидел Савельича, сбегающего ко мне по нагорной тропинке... В это самое время меня сильно кольнуло в грудь пониже правого плеча; я упал и лишился чувст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0860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ыкновенная картина мне представилась: за столом, накрытым скатертью и установленным штофами и стаканами, Пугачев и человек десять казацких старшин сидели, в шапках и цветных рубашках, разгоряченные вином, с красными рожами и блистающими глазами. Между ими не было ни Швабрина, ни нашего урядника, новобраных изменников. "А, ваше благородие!-- сказал Пугачев, увидя меня.-- Добро пожаловать; честь и место, милости просим"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260280"/>
            <a:ext cx="41720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гачев сидел в креслах на крыльце комендантского дома. На нем был красный казацкий кафтан, обшитый галунами. Высокая соболья шапка с золотыми кистями была надвинута на его сверкающие глаза. Лицо его показалось мне знакомо. Казацкие старшины окружали его. Отец Герасим, бледный и дрожащий, стоял у крыльца, с крестом в руках, и, казалось, молча умолял его за предстоящие жертвы. На площади ставили наскоро виселиц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427640" y="404640"/>
            <a:ext cx="4265640" cy="561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1T04:17:47Z</dcterms:created>
  <dc:creator>учебный</dc:creator>
  <dc:description/>
  <dc:language>en-US</dc:language>
  <cp:lastModifiedBy>учебный</cp:lastModifiedBy>
  <dcterms:modified xsi:type="dcterms:W3CDTF">2010-09-18T04:54:16Z</dcterms:modified>
  <cp:revision>26</cp:revision>
  <dc:subject/>
  <dc:title>Слайд 1</dc:title>
</cp:coreProperties>
</file>