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F37-D976-4025-9CD2-0FB355A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3C1-EFD5-4CF2-9F41-781812BB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738-7256-44AA-BAB6-07098A14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19E-F655-459A-B18D-9C8C6741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0AB6-728C-412C-BE27-D9660F29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4E72-02C6-4734-8B77-F4D2177A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315-92F3-4C74-8AE6-9524DCB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CA1F-96BE-4E32-AA40-5CA1919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2E0-258E-43CB-9390-71B0F933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FD76-E28C-4C7B-8C9C-3D0BFF4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3C8A-16B1-450F-A64E-492E725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702-F90A-431E-8467-663DFA39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5C52-5AAA-40DF-8D00-133F285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632-1B1D-4CD2-A799-336DAAB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975D-6072-4565-B047-545C6361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2CDA-ED86-4FD5-8088-EA1A2046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A68-0649-41DB-A9AF-9CD8FBCD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142-4A47-448C-B882-82C1E3BA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3B3-4436-46FD-9DB6-44F5B85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E67-29EA-4587-8714-4EA6ADE4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D1F-DD19-42D7-AE98-F784511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206-9BF3-4A88-AD61-6D6E6BD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67C-5080-42AE-9F70-2DB9E152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932-FC49-46EA-9EFE-4494B21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25C-94C5-4794-A93E-EF35A1262A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45EE-26E6-468B-8984-E3194E0D87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152280" y="3352680"/>
            <a:ext cx="3886200" cy="381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886200" cy="382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05120" y="0"/>
            <a:ext cx="4857480" cy="404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sp>
        <p:nvSpPr>
          <p:cNvPr id="214" name=""/>
          <p:cNvSpPr txBox="1"/>
          <p:nvPr/>
        </p:nvSpPr>
        <p:spPr>
          <a:xfrm>
            <a:off x="380880" y="2514600"/>
            <a:ext cx="8610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9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здействие человека на клим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3d4a8">
                      <a:alpha val="9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1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743200" cy="18766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3430440"/>
            <a:ext cx="4572000" cy="3427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72000" y="-152280"/>
            <a:ext cx="4572000" cy="35719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2666880" cy="19288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sp>
        <p:nvSpPr>
          <p:cNvPr id="219" name=""/>
          <p:cNvSpPr/>
          <p:nvPr/>
        </p:nvSpPr>
        <p:spPr>
          <a:xfrm>
            <a:off x="1752480" y="3124080"/>
            <a:ext cx="6324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не хотим, чтобы наши города выглядели та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торг</cp:lastModifiedBy>
  <dcterms:modified xsi:type="dcterms:W3CDTF">2011-11-29T17:12:1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