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314-AD51-4535-8A9D-E2EFBB8F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B0C-B94E-4780-90E5-739C0163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7C5-346B-4F55-8F2A-9FD13495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A30-2557-48EC-A2EC-C1EEA996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44A5-9FE3-4506-8BDA-118C9699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C1A-31C9-4B58-93FD-1D4AC688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F777-3220-49F3-95BB-3CDAD20B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6970-1615-4A87-9130-12293AA5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F680-2784-4DA9-8E8A-583D5A1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3A2-E950-44B8-9D39-C8BD7411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0051-AB34-4886-A00C-06039C5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CAD-35B9-4A17-B446-7A2A5FD6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7B44-D41D-478C-9008-1338C10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284C-08BC-40B2-BBA3-B63B2B1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57C0-CE8D-4BAE-9406-776B62A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B686-3BCE-4D58-AA52-CDCAA872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29E8-E994-484D-9154-721D1021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FD3-56BC-4774-9171-2E5E08D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037-F8F5-463C-8AB3-A69F76B1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040-3D46-4CD9-85F0-F8230F78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698-537F-46D3-B42A-3D0E9A12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51E-7DF0-41A3-8F2D-BBE2A0E3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7E8-90D7-43E8-82ED-256E04CB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208-111F-4C89-8C70-7357B68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C01A-98DC-44D1-8263-D5A8167A8E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08B3-4BCC-42CC-81DD-BD73CCCDAB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152280" y="3352680"/>
            <a:ext cx="3886200" cy="381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886200" cy="382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05120" y="0"/>
            <a:ext cx="4857480" cy="404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ff33"/>
            </a:outerShdw>
          </a:effectLst>
        </p:spPr>
      </p:pic>
      <p:sp>
        <p:nvSpPr>
          <p:cNvPr id="214" name=""/>
          <p:cNvSpPr txBox="1"/>
          <p:nvPr/>
        </p:nvSpPr>
        <p:spPr>
          <a:xfrm>
            <a:off x="380880" y="2514600"/>
            <a:ext cx="8610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3d4a8">
                        <a:alpha val="90196"/>
                      </a:srgbClr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здействие человека на клима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3d4a8">
                      <a:alpha val="90196"/>
                    </a:srgbClr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1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743200" cy="18766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3430440"/>
            <a:ext cx="4572000" cy="34275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572000" y="-152280"/>
            <a:ext cx="4572000" cy="357192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2666880" cy="19288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9ff99">
                <a:alpha val="50000"/>
              </a:srgbClr>
            </a:outerShdw>
          </a:effectLst>
        </p:spPr>
      </p:pic>
      <p:sp>
        <p:nvSpPr>
          <p:cNvPr id="219" name=""/>
          <p:cNvSpPr/>
          <p:nvPr/>
        </p:nvSpPr>
        <p:spPr>
          <a:xfrm>
            <a:off x="1752480" y="3124080"/>
            <a:ext cx="6324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не хотим, чтобы наши города выглядели та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торг</cp:lastModifiedBy>
  <dcterms:modified xsi:type="dcterms:W3CDTF">2011-11-29T17:12:1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