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799-9466-4948-878E-8B6EB009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6FE-ABDF-476E-BF1E-4BD8D46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E5A-0C6F-4B6B-A9D3-D57FB0BF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CC3-B4AF-443B-B03A-E607124D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E0B-26FD-4125-BA42-466EC94C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EDB-463D-40C4-9AD6-CA7962C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FB2-D458-42A3-9DE9-1DB23B4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8DE-EA0F-4837-A635-D76539D8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616-89F0-4DA3-9367-A392D1B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44F-906C-4117-99B9-9A29664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CA9-FF51-4A23-B183-8BDE1F3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CA6-B5BB-4812-B53D-10B1A8B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2A8-F865-4556-ABA7-3B5490F8F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1440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Критический реализм в творчестве П.А. Федотова и В.Г.Пе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тройка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5818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20040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Тро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ход"/>
          <p:cNvPicPr/>
          <p:nvPr/>
        </p:nvPicPr>
        <p:blipFill>
          <a:blip r:embed="rId1"/>
          <a:srcRect l="0" t="0" r="1043" b="0"/>
          <a:stretch/>
        </p:blipFill>
        <p:spPr>
          <a:xfrm>
            <a:off x="990720" y="228600"/>
            <a:ext cx="7238880" cy="5722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9480" y="6172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ельский крестный ход на Пасх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чаепитие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83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09680" y="6172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Чаепитие в Мытищ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федотов"/>
          <p:cNvPicPr/>
          <p:nvPr/>
        </p:nvPicPr>
        <p:blipFill>
          <a:blip r:embed="rId1"/>
          <a:srcRect l="13223" t="0" r="7497" b="0"/>
          <a:stretch/>
        </p:blipFill>
        <p:spPr>
          <a:xfrm>
            <a:off x="720720" y="533520"/>
            <a:ext cx="41562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257800" y="2049480"/>
            <a:ext cx="3733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авел Андреевич ФЕДО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(1815 – 18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сватовство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956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828800" y="6172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Сватовство   майо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аристократ"/>
          <p:cNvPicPr/>
          <p:nvPr/>
        </p:nvPicPr>
        <p:blipFill>
          <a:blip r:embed="rId1"/>
          <a:stretch/>
        </p:blipFill>
        <p:spPr>
          <a:xfrm>
            <a:off x="2057400" y="152280"/>
            <a:ext cx="5041800" cy="5867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828800" y="63165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Завтрак   аристокр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анкор"/>
          <p:cNvPicPr/>
          <p:nvPr/>
        </p:nvPicPr>
        <p:blipFill>
          <a:blip r:embed="rId1"/>
          <a:stretch/>
        </p:blipFill>
        <p:spPr>
          <a:xfrm>
            <a:off x="695160" y="228600"/>
            <a:ext cx="77536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4479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Анкор,  ещё  анко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молодая вдова"/>
          <p:cNvPicPr/>
          <p:nvPr/>
        </p:nvPicPr>
        <p:blipFill>
          <a:blip r:embed="rId1"/>
          <a:stretch/>
        </p:blipFill>
        <p:spPr>
          <a:xfrm>
            <a:off x="2884320" y="152280"/>
            <a:ext cx="4888080" cy="647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04920" y="5630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дов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невеста"/>
          <p:cNvPicPr/>
          <p:nvPr/>
        </p:nvPicPr>
        <p:blipFill>
          <a:blip r:embed="rId1"/>
          <a:stretch/>
        </p:blipFill>
        <p:spPr>
          <a:xfrm>
            <a:off x="762120" y="152280"/>
            <a:ext cx="7467480" cy="610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066680" y="6248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Разборчивая   неве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утро"/>
          <p:cNvPicPr/>
          <p:nvPr/>
        </p:nvPicPr>
        <p:blipFill>
          <a:blip r:embed="rId1"/>
          <a:stretch/>
        </p:blipFill>
        <p:spPr>
          <a:xfrm>
            <a:off x="1905120" y="228600"/>
            <a:ext cx="54180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228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Свежий  кавал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перов"/>
          <p:cNvPicPr/>
          <p:nvPr/>
        </p:nvPicPr>
        <p:blipFill>
          <a:blip r:embed="rId1"/>
          <a:stretch/>
        </p:blipFill>
        <p:spPr>
          <a:xfrm>
            <a:off x="838080" y="576360"/>
            <a:ext cx="4572000" cy="5705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943600" y="1973160"/>
            <a:ext cx="2895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асилий Григорьевич П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(1833 - 18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4T22:54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