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DCE-8EAA-4C76-8E42-B5F1B527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340-21CC-47C3-AC7C-200D5E2A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44A-5289-4AB1-8DCE-FDDAC9A9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F81-D682-47E0-8215-B09AFBDD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2C7-71A7-4655-9779-6B56AD0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3DE-29CE-479B-9261-B682E04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2BE-3829-4444-94B6-97300C5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3CF-178F-4027-82FD-3F34B066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E3E-036F-4682-8E7F-6F1454C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D80-89FA-4B65-8AFB-2D698657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D9A-0B0A-40D1-AC20-F812D50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189-7A49-4F1B-9467-80E3CCD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5FE9-1AE8-45DA-8AA3-68C6950AF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1440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eorgia"/>
              </a:rPr>
              <a:t>Критический реализм в творчестве П.А. Федотова и В.Г.Пе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тройка"/>
          <p:cNvPicPr/>
          <p:nvPr/>
        </p:nvPicPr>
        <p:blipFill>
          <a:blip r:embed="rId1"/>
          <a:stretch/>
        </p:blipFill>
        <p:spPr>
          <a:xfrm>
            <a:off x="1066680" y="228600"/>
            <a:ext cx="7010640" cy="5818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20040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Тро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ход"/>
          <p:cNvPicPr/>
          <p:nvPr/>
        </p:nvPicPr>
        <p:blipFill>
          <a:blip r:embed="rId1"/>
          <a:srcRect l="0" t="0" r="1043" b="0"/>
          <a:stretch/>
        </p:blipFill>
        <p:spPr>
          <a:xfrm>
            <a:off x="990720" y="228600"/>
            <a:ext cx="7238880" cy="5722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09480" y="6172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ельский крестный ход на Пасх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чаепитие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83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09680" y="61722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Чаепитие в Мытищ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федотов"/>
          <p:cNvPicPr/>
          <p:nvPr/>
        </p:nvPicPr>
        <p:blipFill>
          <a:blip r:embed="rId1"/>
          <a:srcRect l="13223" t="0" r="7497" b="0"/>
          <a:stretch/>
        </p:blipFill>
        <p:spPr>
          <a:xfrm>
            <a:off x="720720" y="533520"/>
            <a:ext cx="41562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257800" y="2049480"/>
            <a:ext cx="3733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авел Андреевич ФЕДО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(1815 – 18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сватовство"/>
          <p:cNvPicPr/>
          <p:nvPr/>
        </p:nvPicPr>
        <p:blipFill>
          <a:blip r:embed="rId1"/>
          <a:stretch/>
        </p:blipFill>
        <p:spPr>
          <a:xfrm>
            <a:off x="762120" y="152280"/>
            <a:ext cx="7696080" cy="5956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828800" y="6172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Сватовство   майо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аристократ"/>
          <p:cNvPicPr/>
          <p:nvPr/>
        </p:nvPicPr>
        <p:blipFill>
          <a:blip r:embed="rId1"/>
          <a:stretch/>
        </p:blipFill>
        <p:spPr>
          <a:xfrm>
            <a:off x="2057400" y="152280"/>
            <a:ext cx="5041800" cy="5867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828800" y="63165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Завтрак   аристокра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анкор"/>
          <p:cNvPicPr/>
          <p:nvPr/>
        </p:nvPicPr>
        <p:blipFill>
          <a:blip r:embed="rId1"/>
          <a:stretch/>
        </p:blipFill>
        <p:spPr>
          <a:xfrm>
            <a:off x="695160" y="228600"/>
            <a:ext cx="77536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447920" y="61722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Анкор,  ещё  анкор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молодая вдова"/>
          <p:cNvPicPr/>
          <p:nvPr/>
        </p:nvPicPr>
        <p:blipFill>
          <a:blip r:embed="rId1"/>
          <a:stretch/>
        </p:blipFill>
        <p:spPr>
          <a:xfrm>
            <a:off x="2884320" y="152280"/>
            <a:ext cx="4888080" cy="647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04920" y="5630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дов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невеста"/>
          <p:cNvPicPr/>
          <p:nvPr/>
        </p:nvPicPr>
        <p:blipFill>
          <a:blip r:embed="rId1"/>
          <a:stretch/>
        </p:blipFill>
        <p:spPr>
          <a:xfrm>
            <a:off x="762120" y="152280"/>
            <a:ext cx="7467480" cy="610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066680" y="6248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Разборчивая   неве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утро"/>
          <p:cNvPicPr/>
          <p:nvPr/>
        </p:nvPicPr>
        <p:blipFill>
          <a:blip r:embed="rId1"/>
          <a:stretch/>
        </p:blipFill>
        <p:spPr>
          <a:xfrm>
            <a:off x="1905120" y="228600"/>
            <a:ext cx="541800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228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«Свежий  кавал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перов"/>
          <p:cNvPicPr/>
          <p:nvPr/>
        </p:nvPicPr>
        <p:blipFill>
          <a:blip r:embed="rId1"/>
          <a:stretch/>
        </p:blipFill>
        <p:spPr>
          <a:xfrm>
            <a:off x="838080" y="576360"/>
            <a:ext cx="4572000" cy="5705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943600" y="1973160"/>
            <a:ext cx="2895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асилий Григорьевич П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(1833 - 18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4T22:54:0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