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click.wav" ContentType="audio/x-wav"/>
  <Override PartName="/ppt/media/image10.png" ContentType="image/png"/>
  <Override PartName="/ppt/media/image5.png" ContentType="image/png"/>
  <Override PartName="/ppt/media/applause.wav" ContentType="audio/x-wav"/>
  <Override PartName="/ppt/media/image7.jpeg" ContentType="image/jpeg"/>
  <Override PartName="/ppt/media/image6.jpeg" ContentType="image/jpeg"/>
  <Override PartName="/ppt/media/image18.png" ContentType="image/png"/>
  <Override PartName="/ppt/media/type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wind.wav" ContentType="audio/x-wav"/>
  <Override PartName="/ppt/media/drumroll.wav" ContentType="audio/x-wav"/>
  <Override PartName="/ppt/media/explode.wav" ContentType="audio/x-wav"/>
  <Override PartName="/ppt/media/laser.wav" ContentType="audio/x-wav"/>
  <Override PartName="/ppt/media/image4.jpeg" ContentType="image/jpeg"/>
  <Override PartName="/ppt/media/suction.wav" ContentType="audio/x-wav"/>
  <Override PartName="/ppt/media/image3.png" ContentType="image/png"/>
  <Override PartName="/ppt/media/image17.jpeg" ContentType="image/jpeg"/>
  <Override PartName="/ppt/media/hammer.wav" ContentType="audio/x-wav"/>
  <Override PartName="/ppt/media/image2.jpeg" ContentType="image/jpeg"/>
  <Override PartName="/ppt/media/push.wav" ContentType="audio/x-wav"/>
  <Override PartName="/ppt/media/image1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13.jpeg" ContentType="image/jpeg"/>
  <Override PartName="/ppt/media/camera.wav" ContentType="audio/x-wav"/>
  <Override PartName="/ppt/media/image14.png" ContentType="image/png"/>
  <Override PartName="/ppt/media/image1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9FE-4896-4F01-A5E6-85369D9A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942-6407-4897-9ABE-3A752A6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C5B-56CF-4B3E-94ED-E79542D8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C6B-22E8-4EB9-96D2-1753A523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4114-47A1-4902-8E27-51232613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A34-0E12-4061-80B5-A33A91EF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FD00-4393-4C91-98AE-9A46CBF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3F22-469C-4E3E-9251-928DF600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D450-596A-45AE-874D-4C596900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9EE5-BD85-47FF-88A7-DCED4152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046B-DF22-413D-84D9-1D3068F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88E-E3E7-420D-9660-81C98FA9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EF13-82F4-47DD-A598-BF6B78B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F31-6580-4984-8713-8EBF487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47C9-3EEF-4A19-9915-1F873B24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8CD-BAD0-4F7C-A6E1-24D29D8C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7FD-6725-4215-AD7E-5DF5CDE8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62FD-E435-483B-928C-CA04B678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0A66-269E-460E-829B-2655C5B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0A23-ECD7-4993-8870-0DC2D9E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DBE17-2866-40E0-B5E1-7BF4F3FD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CBF2-E0FE-4EA1-925E-E6E3BF4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D5E-E505-4DAC-B268-802D68B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8665-EDEE-4A5A-854F-38B2234D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75FF-32AB-4997-875C-1E9CEDD1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1F64-6B92-47B4-A469-7C48EE0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FFFC-25EF-4FF8-A7C5-2A6022D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C68C-2312-480A-9030-39B7A45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001E-33CE-417A-B842-3A109C87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A8CD-51B6-4507-AC64-D1457E39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6E0A-764E-4472-9095-DD04F862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1062-730D-4192-AE04-0B910FB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6890-04CC-4F83-9BE1-892D511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8A7-4A76-486A-BDAE-043C274A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E56C-8B16-4A45-A39D-652B3038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2C4F-A648-4F8C-AA06-BFB3853C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D071-FAFD-49A7-95EF-ED934CE9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06D41-61E6-4744-809A-6AB50F7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5BC1-A8B2-4051-9B03-2CE5206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13B2-810D-433B-BBBE-8199332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18A5-0F1F-4304-B613-30910F06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D2F6-3F93-4A09-A0FB-0210777B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00E7-AB75-447B-A7B2-35FB847C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4FEF-8994-4D17-B737-484660F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710-4016-4185-9C2F-00DA3B7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1D0D-7A16-4353-968E-475E1909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CB64-4826-4826-8CC6-DA0B2513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9736-E403-461C-8131-36EAC3F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06774-B769-49EF-B7E3-4B851A0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5134-8470-4466-BF27-7708CFD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7B15-0797-41A9-95CD-947305BC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7F5A-1D19-4AD5-BAEF-7A3F659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3A6E-0E9B-4B02-AFBF-2258310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3856-9919-4E52-88C8-136C3467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99DC-B448-442D-9DEA-EE53F88B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B94-5995-4247-A1CA-9D9FD9D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7E41-AF3E-4D3E-BED7-08347343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E71-1ED7-4A1C-AF1A-FFD5FDB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051-9316-4A51-81A0-11227D4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E16-DBBA-45AA-BFF1-98F1F1B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E567-ECCF-4636-8024-DD08EFF94F39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B62-13B9-475B-B3CD-755949D6030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32C1-2E30-43C5-BAE9-D17703B6AC05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e9e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D750-3352-4C15-BD13-18BFA202F935}" type="slidenum">
              <a:rPr b="0" lang="ru-RU" sz="11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ada7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ada7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ada7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CBC-1853-452F-AD0C-0C31DF96F104}" type="slidenum">
              <a:rPr b="0" lang="ru-RU" sz="11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еличайший пейзажист, мастер лирического пейзажа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928800"/>
            <a:ext cx="723888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пейзажей Левитана выделяется группа произведений, где настроение переводится в план раздумий о судьбе человека, судьбе России. Такова знаменитая «Владимирка» (1892) — картина, изображающая дорогу, по которой издавна гнали ссыльных в Сибирь. Грустная поэзия русских дорог, многократно воспетая в народных песнях и стихах, нашла у Левитана глубокое живописное претворение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вла.jpg"/>
          <p:cNvPicPr/>
          <p:nvPr/>
        </p:nvPicPr>
        <p:blipFill>
          <a:blip r:embed="rId2"/>
          <a:stretch/>
        </p:blipFill>
        <p:spPr>
          <a:xfrm>
            <a:off x="457200" y="1722600"/>
            <a:ext cx="7238880" cy="462096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учший друг-Чех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ончался  после вторичного перенесения тиф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ньше чем за четверть века написал около тысячи картин, этюдов, рисунков, эскиз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частье художника, пропевшего свою песню, сумевшего поговорить с пейзажем наедине, осталось с ним и отдано людям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2071800"/>
            <a:ext cx="72388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До такой изумительной простоты и                   ясности мотива, до которых дошел в последнее время Левитан, никто не доходил, да и не знаю, дойдет ли кто и посл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А.П. Чехов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6" descr="левитан1.jpg"/>
          <p:cNvPicPr/>
          <p:nvPr/>
        </p:nvPicPr>
        <p:blipFill>
          <a:blip r:embed="rId1"/>
          <a:stretch/>
        </p:blipFill>
        <p:spPr>
          <a:xfrm>
            <a:off x="857160" y="1214280"/>
            <a:ext cx="3051360" cy="4357800"/>
          </a:xfrm>
          <a:prstGeom prst="rect">
            <a:avLst/>
          </a:prstGeom>
          <a:ln w="38160">
            <a:solidFill>
              <a:srgbClr val="595959"/>
            </a:solidFill>
            <a:miter/>
          </a:ln>
        </p:spPr>
      </p:pic>
      <p:pic>
        <p:nvPicPr>
          <p:cNvPr id="223" name="Содержимое 7" descr="левитан.jpg"/>
          <p:cNvPicPr/>
          <p:nvPr/>
        </p:nvPicPr>
        <p:blipFill>
          <a:blip r:embed="rId2"/>
          <a:stretch/>
        </p:blipFill>
        <p:spPr>
          <a:xfrm>
            <a:off x="4500720" y="1214280"/>
            <a:ext cx="3071520" cy="4357800"/>
          </a:xfrm>
          <a:prstGeom prst="rect">
            <a:avLst/>
          </a:prstGeom>
          <a:ln w="38160">
            <a:solidFill>
              <a:srgbClr val="ffd961"/>
            </a:solidFill>
            <a:miter/>
          </a:ln>
        </p:spPr>
      </p:pic>
    </p:spTree>
  </p:cSld>
  <p:transition>
    <p:wheel spokes="8"/>
    <p:sndAc>
      <p:stSnd>
        <p:snd r:embed="rId3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571680"/>
            <a:ext cx="723888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Исаак Левитан - выдающийся русский художник, его талант был признан современниками безоговорочно. Левитан создал пейзаж настроения, в котором образ природы одухотворен человеческими чувствами и размышлениями. Ученик и продолжатель традиций А.К.Саврасова и В.А.Поленова, Левитан обогатил пейзажную живопись многообразием тем, эмоциональной глубиной и поэтическим восприятие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u"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714240"/>
            <a:ext cx="72388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одился в Литве в местечке Кибарты Ковенской губернии в семье служащего, окончил Московское училище живописи, ваяния и зодчества, где уже заявил о себе как талантливый художник-лирик. После окончания училища Левитан участвовал в передвижных выставках, расписывал декорации для Частной оперы С.И. Мамонтова, преподавал. В цикле работ начала 80-х гг., выполненных в Звенигороде, Левитан выступает мастером камерного этюда. Пейзажи Левитана поражают тонкостью и глубиной, предельным лаконизмом изображен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723888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465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Художник стремился передать все красочное богатство русской природы: она молода и радостна («Весна. Большая вода», 1897), печальна и полна таинственности («У омута», 1892), сверкает золотом опадающих листьев («Золотая осень», 1895) и блеском тающего снега («Март», 1895). Пейзаж Левитана часто именуется «пейзажем настроения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11920" cy="1150920"/>
          </a:xfrm>
          <a:prstGeom prst="rect">
            <a:avLst/>
          </a:prstGeom>
          <a:ln w="0">
            <a:noFill/>
          </a:ln>
        </p:spPr>
      </p:pic>
      <p:pic>
        <p:nvPicPr>
          <p:cNvPr id="228" name="Содержимое 3" descr="весна.jpg"/>
          <p:cNvPicPr/>
          <p:nvPr/>
        </p:nvPicPr>
        <p:blipFill>
          <a:blip r:embed="rId2"/>
          <a:stretch/>
        </p:blipFill>
        <p:spPr>
          <a:xfrm>
            <a:off x="1843200" y="1609560"/>
            <a:ext cx="4467240" cy="484668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plit dir="out" orient="vert"/>
    <p:sndAc>
      <p:stSnd>
        <p:snd r:embed="rId3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3" descr="у омута.jpg"/>
          <p:cNvPicPr/>
          <p:nvPr/>
        </p:nvPicPr>
        <p:blipFill>
          <a:blip r:embed="rId2"/>
          <a:stretch/>
        </p:blipFill>
        <p:spPr>
          <a:xfrm>
            <a:off x="1314360" y="2093760"/>
            <a:ext cx="5524560" cy="38768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newsflash/>
    <p:sndAc>
      <p:stSnd>
        <p:snd r:embed="rId3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осень.jpg"/>
          <p:cNvPicPr/>
          <p:nvPr/>
        </p:nvPicPr>
        <p:blipFill>
          <a:blip r:embed="rId2"/>
          <a:stretch/>
        </p:blipFill>
        <p:spPr>
          <a:xfrm>
            <a:off x="880920" y="1947960"/>
            <a:ext cx="6391440" cy="41702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circle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3" descr="март.jpg"/>
          <p:cNvPicPr/>
          <p:nvPr/>
        </p:nvPicPr>
        <p:blipFill>
          <a:blip r:embed="rId2"/>
          <a:stretch/>
        </p:blipFill>
        <p:spPr>
          <a:xfrm>
            <a:off x="1457280" y="1846440"/>
            <a:ext cx="5238720" cy="4371840"/>
          </a:xfrm>
          <a:prstGeom prst="rect">
            <a:avLst/>
          </a:prstGeom>
          <a:ln w="38160">
            <a:solidFill>
              <a:srgbClr val="404040"/>
            </a:solidFill>
            <a:miter/>
          </a:ln>
        </p:spPr>
      </p:pic>
    </p:spTree>
  </p:cSld>
  <p:transition>
    <p:strips dir="lu"/>
    <p:sndAc>
      <p:stSnd>
        <p:snd r:embed="rId3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0-05-23T20:37:18Z</dcterms:modified>
  <cp:revision>4</cp:revision>
  <dc:subject/>
  <dc:title>            Исаак Ильич Левитан</dc:title>
</cp:coreProperties>
</file>