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click.wav" ContentType="audio/x-wav"/>
  <Override PartName="/ppt/media/image10.png" ContentType="image/png"/>
  <Override PartName="/ppt/media/image5.png" ContentType="image/png"/>
  <Override PartName="/ppt/media/applause.wav" ContentType="audio/x-wav"/>
  <Override PartName="/ppt/media/image7.jpeg" ContentType="image/jpeg"/>
  <Override PartName="/ppt/media/image6.jpeg" ContentType="image/jpeg"/>
  <Override PartName="/ppt/media/image18.png" ContentType="image/png"/>
  <Override PartName="/ppt/media/type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wind.wav" ContentType="audio/x-wav"/>
  <Override PartName="/ppt/media/drumroll.wav" ContentType="audio/x-wav"/>
  <Override PartName="/ppt/media/explode.wav" ContentType="audio/x-wav"/>
  <Override PartName="/ppt/media/laser.wav" ContentType="audio/x-wav"/>
  <Override PartName="/ppt/media/image4.jpeg" ContentType="image/jpeg"/>
  <Override PartName="/ppt/media/suction.wav" ContentType="audio/x-wav"/>
  <Override PartName="/ppt/media/image3.png" ContentType="image/png"/>
  <Override PartName="/ppt/media/image17.jpeg" ContentType="image/jpeg"/>
  <Override PartName="/ppt/media/hammer.wav" ContentType="audio/x-wav"/>
  <Override PartName="/ppt/media/image2.jpeg" ContentType="image/jpeg"/>
  <Override PartName="/ppt/media/push.wav" ContentType="audio/x-wav"/>
  <Override PartName="/ppt/media/image1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13.jpeg" ContentType="image/jpeg"/>
  <Override PartName="/ppt/media/camera.wav" ContentType="audio/x-wav"/>
  <Override PartName="/ppt/media/image14.png" ContentType="image/png"/>
  <Override PartName="/ppt/media/image1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682-09CE-4BAF-B9DA-0226B86C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158-E1C6-4595-B76E-FFCC5632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A83-73F1-4DEF-AE16-090FECC8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3AA-E216-4DBD-9CCB-24060534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03E1-783F-4B69-BA58-1EC23D37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8F81-67D3-4268-AAA9-64558556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A79B-9565-4F81-8371-0583DE00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0BDA-497C-4DD2-A4C4-0A35B6F3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2BAA-F3DD-49C8-96E2-575B43DA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1405-DDD5-4A52-B2AC-94F5D2DB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3F85-608F-40F0-8AFE-E710DC9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26D-6EDD-4118-A574-59C9DD74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23EB-DA34-4DE3-B3F6-0D45CC18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163A-9EF6-4778-9346-150533E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95B8-CD72-4438-8AFE-B2373630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9CFA-441C-4C67-B0BC-02F33396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3A29-1C61-41A8-A4A2-E90AA8D1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B223-4259-4F55-9EE9-275016AC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36A14-70EB-4651-B752-67A6AA29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9F381-450F-49A2-9F31-BD0EEBA7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F963-5425-48F6-ACDD-47BD9E8D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F4D2-31B7-4AD9-B3B4-2EAF9F41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396-96FF-4290-8CCE-1B801F79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8FD9-3DA2-4852-B76D-0FA77FB8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64C0-102F-4AD0-9712-BE6220DE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FC9F-F55F-48A4-8AA4-C94291BE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24006-9F34-4B72-A903-6B570334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D043-1F7D-43FB-887F-238953E4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D64D2-2335-4A17-A657-3D42CC2F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2C78-2162-4C2A-A63F-DAF95518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5878-13C1-418F-99A5-B1310ED8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BD80-CD84-4B6A-AA39-20F96E3C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8DDA-CB25-41F8-B65A-3E726CF0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15F-D363-480E-ACF3-FAB3BAF8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4A26-32E8-4EF9-828F-8FD39202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BF65A-0CCF-46CC-92DF-2C05ACF0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B1742-5CA6-4D62-A4FC-28BB6EED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3C7D0-EC27-4115-8FC9-F49A4410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0ED9-9AE0-4C6C-9E11-578AD3FC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5E326-5C24-4DAB-B8D5-9D834A9B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6D90D-029E-481A-98D4-868F28D5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15C3E-E022-4C5B-9604-0452AE92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3D49-E1C7-40F8-B7BF-4CC1E77C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94047-949E-43E3-989B-2E703B60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99E-ABEA-49F6-A6E1-3BD2E7AD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E1206-49FB-4D25-8D1C-095C5252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4AC2-DFA9-4E43-96CC-24DA7CD2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D9777-30FE-4BD3-B943-3967EEF0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61BF1-2C5C-4469-80CC-2043DAAD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C28CE-9C7E-4A13-AFCA-A0BC4D8A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279B8-722A-49D3-A5B4-C6AE4E56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F76BA-A858-43C2-87F9-8636FCF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DB3E6-9BC6-49E4-A182-F60DDB12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4FADF-3245-4891-AC2E-AE4B3C73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6316-1843-4AD8-96BC-19E94615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E7F-AA46-4F9D-A929-D70462D0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4521-3C34-478A-94DB-92C4E923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1AC-C437-4AE1-A433-53198759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C1F-E82A-4624-BFB9-898FE98C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048-CF8E-4839-81A7-CCFFBD2D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ada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ada7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55BF-A08A-4677-AC5B-A3A3A796C5D7}" type="slidenum">
              <a:rPr b="0" lang="ru-RU" sz="11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ada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ada7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0EA6-B0C7-464E-A2B2-1FE5F3AB684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ada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ada7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16C3-70CD-49A2-B724-77C39A4E6F6D}" type="slidenum">
              <a:rPr b="0" lang="ru-RU" sz="11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e9e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ada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ada7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FAE8-4F3F-4813-8427-8D05038A19BD}" type="slidenum">
              <a:rPr b="0" lang="ru-RU" sz="11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ada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ada7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3E47-72E4-4012-9CEA-31F7DCEC6267}" type="slidenum">
              <a:rPr b="0" lang="ru-RU" sz="11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еличайший пейзажист, мастер лирического пейзаж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928800"/>
            <a:ext cx="7238880" cy="55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реди пейзажей Левитана выделяется группа произведений, где настроение переводится в план раздумий о судьбе человека, судьбе России. Такова знаменитая «Владимирка» (1892) — картина, изображающая дорогу, по которой издавна гнали ссыльных в Сибирь. Грустная поэзия русских дорог, многократно воспетая в народных песнях и стихах, нашла у Левитана глубокое живописное претворение.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out" orient="horz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3" descr="вла.jpg"/>
          <p:cNvPicPr/>
          <p:nvPr/>
        </p:nvPicPr>
        <p:blipFill>
          <a:blip r:embed="rId2"/>
          <a:stretch/>
        </p:blipFill>
        <p:spPr>
          <a:xfrm>
            <a:off x="457200" y="1722600"/>
            <a:ext cx="7238880" cy="4620960"/>
          </a:xfrm>
          <a:prstGeom prst="rect">
            <a:avLst/>
          </a:prstGeom>
          <a:ln w="38160">
            <a:solidFill>
              <a:srgbClr val="404040"/>
            </a:solidFill>
            <a:miter/>
          </a:ln>
        </p:spPr>
      </p:pic>
    </p:spTree>
  </p:cSld>
  <p:transition>
    <p:strips dir="ld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учший друг-Чех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кончался  после вторичного перенесения тиф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ньше чем за четверть века написал около тысячи картин, этюдов, рисунков, эскиз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Счастье художника, пропевшего свою песню, сумевшего поговорить с пейзажем наедине, осталось с ним и отдано людям.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1"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00040" y="2071800"/>
            <a:ext cx="723888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До такой изумительной простоты и                   ясности мотива, до которых дошел в последнее время Левитан, никто не доходил, да и не знаю, дойдет ли кто и после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А.П. Чехов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одержимое 6" descr="левитан1.jpg"/>
          <p:cNvPicPr/>
          <p:nvPr/>
        </p:nvPicPr>
        <p:blipFill>
          <a:blip r:embed="rId1"/>
          <a:stretch/>
        </p:blipFill>
        <p:spPr>
          <a:xfrm>
            <a:off x="857160" y="1214280"/>
            <a:ext cx="3051360" cy="4357800"/>
          </a:xfrm>
          <a:prstGeom prst="rect">
            <a:avLst/>
          </a:prstGeom>
          <a:ln w="38160">
            <a:solidFill>
              <a:srgbClr val="595959"/>
            </a:solidFill>
            <a:miter/>
          </a:ln>
        </p:spPr>
      </p:pic>
      <p:pic>
        <p:nvPicPr>
          <p:cNvPr id="223" name="Содержимое 7" descr="левитан.jpg"/>
          <p:cNvPicPr/>
          <p:nvPr/>
        </p:nvPicPr>
        <p:blipFill>
          <a:blip r:embed="rId2"/>
          <a:stretch/>
        </p:blipFill>
        <p:spPr>
          <a:xfrm>
            <a:off x="4500720" y="1214280"/>
            <a:ext cx="3071520" cy="4357800"/>
          </a:xfrm>
          <a:prstGeom prst="rect">
            <a:avLst/>
          </a:prstGeom>
          <a:ln w="38160">
            <a:solidFill>
              <a:srgbClr val="ffd961"/>
            </a:solidFill>
            <a:miter/>
          </a:ln>
        </p:spPr>
      </p:pic>
    </p:spTree>
  </p:cSld>
  <p:transition>
    <p:wheel spokes="8"/>
    <p:sndAc>
      <p:stSnd>
        <p:snd r:embed="rId3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571680"/>
            <a:ext cx="7238880" cy="58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Исаак Левитан - выдающийся русский художник, его талант был признан современниками безоговорочно. Левитан создал пейзаж настроения, в котором образ природы одухотворен человеческими чувствами и размышлениями. Ученик и продолжатель традиций А.К.Саврасова и В.А.Поленова, Левитан обогатил пейзажную живопись многообразием тем, эмоциональной глубиной и поэтическим восприятием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ru"/>
    <p:sndAc>
      <p:stSnd>
        <p:snd r:embed="rId1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714240"/>
            <a:ext cx="72388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Родился в Литве в местечке Кибарты Ковенской губернии в семье служащего, окончил Московское училище живописи, ваяния и зодчества, где уже заявил о себе как талантливый художник-лирик. После окончания училища Левитан участвовал в передвижных выставках, расписывал декорации для Частной оперы С.И. Мамонтова, преподавал. В цикле работ начала 80-х гг., выполненных в Звенигороде, Левитан выступает мастером камерного этюда. Пейзажи Левитана поражают тонкостью и глубиной, предельным лаконизмом изображени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85520"/>
            <a:ext cx="7238880" cy="56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Художник стремился передать все красочное богатство русской природы: она молода и радостна («Весна. Большая вода», 1897), печальна и полна таинственности («У омута», 1892), сверкает золотом опадающих листьев («Золотая осень», 1895) и блеском тающего снега («Март», 1895). Пейзаж Левитана часто именуется «пейзажем настроения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711920" cy="115092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3" descr="весна.jpg"/>
          <p:cNvPicPr/>
          <p:nvPr/>
        </p:nvPicPr>
        <p:blipFill>
          <a:blip r:embed="rId2"/>
          <a:stretch/>
        </p:blipFill>
        <p:spPr>
          <a:xfrm>
            <a:off x="1843200" y="1609560"/>
            <a:ext cx="4467240" cy="4846680"/>
          </a:xfrm>
          <a:prstGeom prst="rect">
            <a:avLst/>
          </a:prstGeom>
          <a:ln w="38160">
            <a:solidFill>
              <a:srgbClr val="404040"/>
            </a:solidFill>
            <a:miter/>
          </a:ln>
        </p:spPr>
      </p:pic>
    </p:spTree>
  </p:cSld>
  <p:transition>
    <p:split dir="out" orient="vert"/>
    <p:sndAc>
      <p:stSnd>
        <p:snd r:embed="rId3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3" descr="у омута.jpg"/>
          <p:cNvPicPr/>
          <p:nvPr/>
        </p:nvPicPr>
        <p:blipFill>
          <a:blip r:embed="rId2"/>
          <a:stretch/>
        </p:blipFill>
        <p:spPr>
          <a:xfrm>
            <a:off x="1314360" y="2093760"/>
            <a:ext cx="5524560" cy="3876840"/>
          </a:xfrm>
          <a:prstGeom prst="rect">
            <a:avLst/>
          </a:prstGeom>
          <a:ln w="38160">
            <a:solidFill>
              <a:srgbClr val="404040"/>
            </a:solidFill>
            <a:miter/>
          </a:ln>
        </p:spPr>
      </p:pic>
    </p:spTree>
  </p:cSld>
  <p:transition>
    <p:newsflash/>
    <p:sndAc>
      <p:stSnd>
        <p:snd r:embed="rId3" name="suctio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3" descr="осень.jpg"/>
          <p:cNvPicPr/>
          <p:nvPr/>
        </p:nvPicPr>
        <p:blipFill>
          <a:blip r:embed="rId2"/>
          <a:stretch/>
        </p:blipFill>
        <p:spPr>
          <a:xfrm>
            <a:off x="880920" y="1947960"/>
            <a:ext cx="6391440" cy="4170240"/>
          </a:xfrm>
          <a:prstGeom prst="rect">
            <a:avLst/>
          </a:prstGeom>
          <a:ln w="38160">
            <a:solidFill>
              <a:srgbClr val="404040"/>
            </a:solidFill>
            <a:miter/>
          </a:ln>
        </p:spPr>
      </p:pic>
    </p:spTree>
  </p:cSld>
  <p:transition>
    <p:circle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3" descr="март.jpg"/>
          <p:cNvPicPr/>
          <p:nvPr/>
        </p:nvPicPr>
        <p:blipFill>
          <a:blip r:embed="rId2"/>
          <a:stretch/>
        </p:blipFill>
        <p:spPr>
          <a:xfrm>
            <a:off x="1457280" y="1846440"/>
            <a:ext cx="5238720" cy="4371840"/>
          </a:xfrm>
          <a:prstGeom prst="rect">
            <a:avLst/>
          </a:prstGeom>
          <a:ln w="38160">
            <a:solidFill>
              <a:srgbClr val="404040"/>
            </a:solidFill>
            <a:miter/>
          </a:ln>
        </p:spPr>
      </p:pic>
    </p:spTree>
  </p:cSld>
  <p:transition>
    <p:strips dir="lu"/>
    <p:sndAc>
      <p:stSnd>
        <p:snd r:embed="rId3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оя</cp:lastModifiedBy>
  <dcterms:modified xsi:type="dcterms:W3CDTF">2010-05-23T20:37:18Z</dcterms:modified>
  <cp:revision>4</cp:revision>
  <dc:subject/>
  <dc:title>            Исаак Ильич Левитан</dc:title>
</cp:coreProperties>
</file>