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B43B-7103-4C2C-8A58-F1158332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DA87-F24B-43AC-AF13-AECB9AB8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1FD-C2A3-4093-A348-5252DE93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129-3A72-48B4-B08C-AACD3AFA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B9A-DFB7-4135-AFCE-D6EE098B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14F3-081F-46E9-A018-B561FD2C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4235-9AE7-4D41-BFBE-D38F060E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C0A-7F8C-459B-A1F9-C009FED6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483-4F11-4A02-A74F-112D998F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1BD-C4C4-4AEF-AC4A-2400E600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9CB-6C38-4B8E-8D05-C80956DF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6AB2-26B2-4030-B6A4-E82F49F1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11A1-5EFD-45DE-AB48-D3849B1C32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blogs.mail.ru/mail/korochenkol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Мое творчество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65360"/>
            <a:ext cx="68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рощен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дм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хайл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подав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У СОШ №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Г. Усть – К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ркутская обла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Скатерть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Людмила\Desktop\Documents\3 - Мои рисунки\Мое творчество\Фото-мои работы\фото(салфетки)-мои\SDC11784-1.JPG"/>
          <p:cNvPicPr/>
          <p:nvPr/>
        </p:nvPicPr>
        <p:blipFill>
          <a:blip r:embed="rId1"/>
          <a:stretch/>
        </p:blipFill>
        <p:spPr>
          <a:xfrm>
            <a:off x="611280" y="1413000"/>
            <a:ext cx="6840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Calibri"/>
              </a:rPr>
              <a:t>Вяжу прихватк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Людмила\Desktop\Documents\3 - Мои рисунки\Мое творчество\Фото-мои работы\Прихватки - мои\Дед Мороз\SDC12283-1.JPG"/>
          <p:cNvPicPr/>
          <p:nvPr/>
        </p:nvPicPr>
        <p:blipFill>
          <a:blip r:embed="rId1"/>
          <a:stretch/>
        </p:blipFill>
        <p:spPr>
          <a:xfrm>
            <a:off x="0" y="1341360"/>
            <a:ext cx="4572000" cy="2879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Людмила\Desktop\Documents\3 - Мои рисунки\Мое творчество\Фото-мои работы\Прихватки - мои\Дед Мороз\SDC12326-1.JPG"/>
          <p:cNvPicPr/>
          <p:nvPr/>
        </p:nvPicPr>
        <p:blipFill>
          <a:blip r:embed="rId2"/>
          <a:stretch/>
        </p:blipFill>
        <p:spPr>
          <a:xfrm>
            <a:off x="5364000" y="1341360"/>
            <a:ext cx="3780000" cy="302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Людмила\Desktop\Documents\3 - Мои рисунки\Мое творчество\Фото-мои работы\Прихватки - мои\Дед Мороз\12498-1.jpg"/>
          <p:cNvPicPr/>
          <p:nvPr/>
        </p:nvPicPr>
        <p:blipFill>
          <a:blip r:embed="rId3"/>
          <a:stretch/>
        </p:blipFill>
        <p:spPr>
          <a:xfrm>
            <a:off x="3059280" y="4076640"/>
            <a:ext cx="3384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Людмила\Desktop\Documents\3 - Мои рисунки\Мое творчество\Фото-мои работы\Прихватки - мои\Вязаные-прихватки\SDC12144-1.JPG"/>
          <p:cNvPicPr/>
          <p:nvPr/>
        </p:nvPicPr>
        <p:blipFill>
          <a:blip r:embed="rId1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Людмила\Desktop\Documents\3 - Мои рисунки\Мое творчество\Фото-мои работы\Прихватки - мои\Вязаные-прихватки\SDC12300-1.jp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Людмила\Desktop\Documents\3 - Мои рисунки\Мое творчество\Фото-мои работы\Прихватки - мои\Вязаные-прихватки\SDC12329-1.jpg"/>
          <p:cNvPicPr/>
          <p:nvPr/>
        </p:nvPicPr>
        <p:blipFill>
          <a:blip r:embed="rId3"/>
          <a:stretch/>
        </p:blipFill>
        <p:spPr>
          <a:xfrm>
            <a:off x="0" y="365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Людмила\Desktop\Documents\3 - Мои рисунки\Мое творчество\Фото-мои работы\Прихватки - мои\Вязаные-прихватки\SDC12495-1.jpg"/>
          <p:cNvPicPr/>
          <p:nvPr/>
        </p:nvPicPr>
        <p:blipFill>
          <a:blip r:embed="rId4"/>
          <a:stretch/>
        </p:blipFill>
        <p:spPr>
          <a:xfrm>
            <a:off x="4643280" y="3429000"/>
            <a:ext cx="4500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Людмила\Desktop\Documents\3 - Мои рисунки\Мое творчество\Фото-мои работы\Прихватки - мои\Вязаные-прихватки\SDC12321-1.JPG"/>
          <p:cNvPicPr/>
          <p:nvPr/>
        </p:nvPicPr>
        <p:blipFill>
          <a:blip r:embed="rId1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Людмила\Desktop\Documents\3 - Мои рисунки\Мое творчество\Фото-мои работы\Прихватки - мои\Вязаные-прихватки\SDC12147-1.JP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Users\Людмила\Desktop\Documents\3 - Мои рисунки\Мое творчество\Фото-мои работы\Прихватки - мои\Вязаные-прихватки\10025-1.jpg"/>
          <p:cNvPicPr/>
          <p:nvPr/>
        </p:nvPicPr>
        <p:blipFill>
          <a:blip r:embed="rId3"/>
          <a:stretch/>
        </p:blipFill>
        <p:spPr>
          <a:xfrm>
            <a:off x="1619280" y="3213000"/>
            <a:ext cx="56894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Людмила\Desktop\Documents\3 - Мои рисунки\Мое творчество\Фото-мои работы\Прихватки - мои\Звездочка\SDC10978-1.JPG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Людмила\Desktop\Documents\3 - Мои рисунки\Мое творчество\Фото-мои работы\Прихватки - мои\прихватки-сестрички\SDC12053-1.JPG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Людмила\Desktop\Documents\3 - Мои рисунки\Мое творчество\Фото-мои работы\Прихватки - мои\прихватки-сестрички\SDC12145.-1JPG.JPG"/>
          <p:cNvPicPr/>
          <p:nvPr/>
        </p:nvPicPr>
        <p:blipFill>
          <a:blip r:embed="rId1"/>
          <a:stretch/>
        </p:blipFill>
        <p:spPr>
          <a:xfrm>
            <a:off x="2484360" y="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Людмила\Desktop\Documents\3 - Мои рисунки\Мое творчество\Фото-мои работы\Прихватки - мои\прихватки-сестрички\SDC12322-1.JPG"/>
          <p:cNvPicPr/>
          <p:nvPr/>
        </p:nvPicPr>
        <p:blipFill>
          <a:blip r:embed="rId2"/>
          <a:stretch/>
        </p:blipFill>
        <p:spPr>
          <a:xfrm>
            <a:off x="4876920" y="3357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Людмила\Desktop\Documents\3 - Мои рисунки\Мое творчество\Фото-мои работы\Прихватки - мои\прихватки-сестрички\SDC12186-1.JPG"/>
          <p:cNvPicPr/>
          <p:nvPr/>
        </p:nvPicPr>
        <p:blipFill>
          <a:blip r:embed="rId3"/>
          <a:stretch/>
        </p:blipFill>
        <p:spPr>
          <a:xfrm>
            <a:off x="395280" y="33577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Чехол для телефон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Людмила\Desktop\Documents\3 - Мои рисунки\Мое творчество\Фото-мои работы\Прихватки - мои\12499-1.jpg"/>
          <p:cNvPicPr/>
          <p:nvPr/>
        </p:nvPicPr>
        <p:blipFill>
          <a:blip r:embed="rId1"/>
          <a:stretch/>
        </p:blipFill>
        <p:spPr>
          <a:xfrm>
            <a:off x="2438280" y="226224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Грелка на чайни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Людмила\Desktop\Documents\3 - Мои рисунки\Мое творчество\Фото-мои работы\Прихватки - мои\SDC12554-1.jpg"/>
          <p:cNvPicPr/>
          <p:nvPr/>
        </p:nvPicPr>
        <p:blipFill>
          <a:blip r:embed="rId1"/>
          <a:stretch/>
        </p:blipFill>
        <p:spPr>
          <a:xfrm>
            <a:off x="2438280" y="226224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Накидки на табуре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C:\Users\Людмила\Desktop\Documents\3 - Мои рисунки\Мое творчество\Фото-мои работы\Прихватки - мои\Накидки на стул\12140-1-1.jpg"/>
          <p:cNvPicPr/>
          <p:nvPr/>
        </p:nvPicPr>
        <p:blipFill>
          <a:blip r:embed="rId1"/>
          <a:stretch/>
        </p:blipFill>
        <p:spPr>
          <a:xfrm>
            <a:off x="826920" y="1557360"/>
            <a:ext cx="7345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Добрый день, а может, вечер.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Очень рада нашей встреч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Людмила\Desktop\Documents\3 - Мои рисунки\ЛЮдмила\Людмила Корощенко.jpg"/>
          <p:cNvPicPr/>
          <p:nvPr/>
        </p:nvPicPr>
        <p:blipFill>
          <a:blip r:embed="rId1"/>
          <a:stretch/>
        </p:blipFill>
        <p:spPr>
          <a:xfrm>
            <a:off x="1258920" y="1773360"/>
            <a:ext cx="71229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Вяжу - цвет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Людмила\Desktop\Documents\3 - Мои рисунки\Мое творчество\Фото-мои работы\Цветы-крючком-мои\SNC10087.JPG"/>
          <p:cNvPicPr/>
          <p:nvPr/>
        </p:nvPicPr>
        <p:blipFill>
          <a:blip r:embed="rId1"/>
          <a:stretch/>
        </p:blipFill>
        <p:spPr>
          <a:xfrm>
            <a:off x="1727280" y="1811160"/>
            <a:ext cx="56894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Людмила\Desktop\Documents\3 - Мои рисунки\Мое творчество\Фото-мои работы\Цветы-крючком-мои\SNC10088.JPG"/>
          <p:cNvPicPr/>
          <p:nvPr/>
        </p:nvPicPr>
        <p:blipFill>
          <a:blip r:embed="rId1"/>
          <a:stretch/>
        </p:blipFill>
        <p:spPr>
          <a:xfrm>
            <a:off x="0" y="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Людмила\Desktop\Documents\3 - Мои рисунки\Мое творчество\Фото-мои работы\Цветы-крючком-мои\SNC10091.JP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Людмила\Desktop\Documents\3 - Мои рисунки\Мое творчество\Фото-мои работы\Цветы-крючком-мои\SNC10092.JPG"/>
          <p:cNvPicPr/>
          <p:nvPr/>
        </p:nvPicPr>
        <p:blipFill>
          <a:blip r:embed="rId3"/>
          <a:stretch/>
        </p:blipFill>
        <p:spPr>
          <a:xfrm>
            <a:off x="2484360" y="3429000"/>
            <a:ext cx="446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Людмила\Desktop\Documents\3 - Мои рисунки\Мое творчество\Фото-мои работы\Цветы-крючком-мои\10651-1.jpg"/>
          <p:cNvPicPr/>
          <p:nvPr/>
        </p:nvPicPr>
        <p:blipFill>
          <a:blip r:embed="rId1"/>
          <a:stretch/>
        </p:blipFill>
        <p:spPr>
          <a:xfrm>
            <a:off x="5003640" y="260280"/>
            <a:ext cx="3862440" cy="5232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Users\Людмила\Desktop\Documents\3 - Мои рисунки\Мое творчество\Фото-мои работы\Цветы-крючком-мои\SDC10656-1.jpg"/>
          <p:cNvPicPr/>
          <p:nvPr/>
        </p:nvPicPr>
        <p:blipFill>
          <a:blip r:embed="rId2"/>
          <a:stretch/>
        </p:blipFill>
        <p:spPr>
          <a:xfrm>
            <a:off x="0" y="1484280"/>
            <a:ext cx="4932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Calibri"/>
              </a:rPr>
              <a:t>Вышиваю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янет ниточка иголку, шьет узор искусно, тонко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Говорят я не лентяйка, а хорошая хозяйка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19640" y="-206640"/>
            <a:ext cx="2016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Людмила\Desktop\Documents\3 - Мои рисунки\Мое творчество\Фото-мои работы\Икона-сирень\SDC11462.JPG"/>
          <p:cNvPicPr/>
          <p:nvPr/>
        </p:nvPicPr>
        <p:blipFill>
          <a:blip r:embed="rId1"/>
          <a:stretch/>
        </p:blipFill>
        <p:spPr>
          <a:xfrm>
            <a:off x="1835280" y="0"/>
            <a:ext cx="511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Людмила\Desktop\Documents\3 - Мои рисунки\Крест\Церковная тема\SNC10102.JPG"/>
          <p:cNvPicPr/>
          <p:nvPr/>
        </p:nvPicPr>
        <p:blipFill>
          <a:blip r:embed="rId1"/>
          <a:stretch/>
        </p:blipFill>
        <p:spPr>
          <a:xfrm>
            <a:off x="539640" y="260280"/>
            <a:ext cx="8209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Людмила\Desktop\Documents\3 - Мои рисунки\Крест\Церковная тема\SDC10537-1.JPG"/>
          <p:cNvPicPr/>
          <p:nvPr/>
        </p:nvPicPr>
        <p:blipFill>
          <a:blip r:embed="rId1"/>
          <a:stretch/>
        </p:blipFill>
        <p:spPr>
          <a:xfrm>
            <a:off x="2340000" y="0"/>
            <a:ext cx="53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c00000"/>
                </a:solidFill>
                <a:latin typeface="Calibri"/>
              </a:rPr>
              <a:t>Аппликаци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Людмила\Desktop\Documents\3 - Мои рисунки\Мое творчество\Фото-мои работы\Аппликация -мои\SNC10029.JPG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Людмила\Desktop\Documents\3 - Мои рисунки\Мое творчество\Фото-мои работы\Аппликация -мои\SNC10064.JPG"/>
          <p:cNvPicPr/>
          <p:nvPr/>
        </p:nvPicPr>
        <p:blipFill>
          <a:blip r:embed="rId1"/>
          <a:stretch/>
        </p:blipFill>
        <p:spPr>
          <a:xfrm>
            <a:off x="0" y="0"/>
            <a:ext cx="4716360" cy="3860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Users\Людмила\Desktop\Documents\3 - Мои рисунки\Мое творчество\Фото-мои работы\Аппликация -мои\10065-1.jpg"/>
          <p:cNvPicPr/>
          <p:nvPr/>
        </p:nvPicPr>
        <p:blipFill>
          <a:blip r:embed="rId2"/>
          <a:stretch/>
        </p:blipFill>
        <p:spPr>
          <a:xfrm>
            <a:off x="4876920" y="2421000"/>
            <a:ext cx="42670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Людмила\Desktop\Documents\3 - Мои рисунки\Мое творчество\Фото-мои работы\Аппликация -мои\10069-1.jpg"/>
          <p:cNvPicPr/>
          <p:nvPr/>
        </p:nvPicPr>
        <p:blipFill>
          <a:blip r:embed="rId1"/>
          <a:stretch/>
        </p:blipFill>
        <p:spPr>
          <a:xfrm>
            <a:off x="0" y="0"/>
            <a:ext cx="4851360" cy="426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Людмила\Desktop\Documents\3 - Мои рисунки\Мое творчество\Фото-мои работы\Аппликация -мои\10068-1.jpg"/>
          <p:cNvPicPr/>
          <p:nvPr/>
        </p:nvPicPr>
        <p:blipFill>
          <a:blip r:embed="rId2"/>
          <a:stretch/>
        </p:blipFill>
        <p:spPr>
          <a:xfrm>
            <a:off x="4495680" y="2590920"/>
            <a:ext cx="4648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ВЯЖУ- шал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C:\Users\Людмила\Desktop\Documents\3 - Мои рисунки\Мое творчество\Фото-мои работы\Я и мои шали\Фото МО 027-1.jpg"/>
          <p:cNvPicPr/>
          <p:nvPr/>
        </p:nvPicPr>
        <p:blipFill>
          <a:blip r:embed="rId1"/>
          <a:stretch/>
        </p:blipFill>
        <p:spPr>
          <a:xfrm>
            <a:off x="5148360" y="333360"/>
            <a:ext cx="3995640" cy="6191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Users\Людмила\Desktop\Documents\3 - Мои рисунки\Мое творчество\Фото-мои работы\Я и мои шали\S8002746-1.JPG"/>
          <p:cNvPicPr/>
          <p:nvPr/>
        </p:nvPicPr>
        <p:blipFill>
          <a:blip r:embed="rId2"/>
          <a:stretch/>
        </p:blipFill>
        <p:spPr>
          <a:xfrm>
            <a:off x="324000" y="1341360"/>
            <a:ext cx="44528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бро пожаловать на мои    странички в интернет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blogs.mail.ru/mail/korochenkol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korochenkol.ucoz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fotki.yandex.ru/users/koroschenko-lyuda/?ncrnd=67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liveinternet.ru/users/389951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Людмила\Desktop\Documents\3 - Мои рисунки\Мое творчество\Фото-мои работы\Я и мои шали\Фото МО 021-1.jpg"/>
          <p:cNvPicPr/>
          <p:nvPr/>
        </p:nvPicPr>
        <p:blipFill>
          <a:blip r:embed="rId1"/>
          <a:stretch/>
        </p:blipFill>
        <p:spPr>
          <a:xfrm>
            <a:off x="3152880" y="0"/>
            <a:ext cx="523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Людмила\Desktop\Documents\3 - Мои рисунки\Мое творчество\Фото-мои работы\Шали мои + ИН\Шали\Мои шали\Изображение 155-1.jpg"/>
          <p:cNvPicPr/>
          <p:nvPr/>
        </p:nvPicPr>
        <p:blipFill>
          <a:blip r:embed="rId1"/>
          <a:stretch/>
        </p:blipFill>
        <p:spPr>
          <a:xfrm>
            <a:off x="468360" y="1125360"/>
            <a:ext cx="3816360" cy="532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Людмила\Desktop\Documents\3 - Мои рисунки\Мое творчество\Фото-мои работы\Шали мои + ИН\Шали\Мои шали\Изображение 153-1.jpg"/>
          <p:cNvPicPr/>
          <p:nvPr/>
        </p:nvPicPr>
        <p:blipFill>
          <a:blip r:embed="rId2"/>
          <a:stretch/>
        </p:blipFill>
        <p:spPr>
          <a:xfrm>
            <a:off x="5003640" y="189000"/>
            <a:ext cx="414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Людмила\Desktop\Documents\3 - Мои рисунки\Мое творчество\Фото-мои работы\Шали мои + ИН\Шали\Мои шали\154-1.jpg"/>
          <p:cNvPicPr/>
          <p:nvPr/>
        </p:nvPicPr>
        <p:blipFill>
          <a:blip r:embed="rId1"/>
          <a:stretch/>
        </p:blipFill>
        <p:spPr>
          <a:xfrm>
            <a:off x="0" y="1268280"/>
            <a:ext cx="4284720" cy="558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Людмила\Desktop\Documents\3 - Мои рисунки\Мое творчество\Фото-мои работы\Шали мои + ИН\Шали\Мои шали\152-1.jpg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Users\Людмила\Desktop\Documents\3 - Мои рисунки\Мое творчество\Фото-мои работы\Мои шали\Шали\Мои шали\S8002746-1.JPG"/>
          <p:cNvPicPr/>
          <p:nvPr/>
        </p:nvPicPr>
        <p:blipFill>
          <a:blip r:embed="rId1"/>
          <a:stretch/>
        </p:blipFill>
        <p:spPr>
          <a:xfrm>
            <a:off x="826920" y="476280"/>
            <a:ext cx="7705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Людмила\Desktop\Documents\3 - Мои рисунки\Мое творчество\Фото-мои работы\Шали мои + ИН\Шали\Мои шали\156-1.jpg"/>
          <p:cNvPicPr/>
          <p:nvPr/>
        </p:nvPicPr>
        <p:blipFill>
          <a:blip r:embed="rId1"/>
          <a:stretch/>
        </p:blipFill>
        <p:spPr>
          <a:xfrm>
            <a:off x="250920" y="260280"/>
            <a:ext cx="8497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Жакет и болеро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Людмила\Desktop\Documents\3 - Мои рисунки\Мое творчество\Фото-мои работы\Болеро-белый\SDC12195-1.JPG"/>
          <p:cNvPicPr/>
          <p:nvPr/>
        </p:nvPicPr>
        <p:blipFill>
          <a:blip r:embed="rId1"/>
          <a:stretch/>
        </p:blipFill>
        <p:spPr>
          <a:xfrm>
            <a:off x="250920" y="1700280"/>
            <a:ext cx="4537080" cy="37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Людмила\Desktop\Documents\3 - Мои рисунки\ЛЮдмила\SDC12065-1.JPG"/>
          <p:cNvPicPr/>
          <p:nvPr/>
        </p:nvPicPr>
        <p:blipFill>
          <a:blip r:embed="rId2"/>
          <a:stretch/>
        </p:blipFill>
        <p:spPr>
          <a:xfrm>
            <a:off x="5003640" y="1268280"/>
            <a:ext cx="3961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1:07:39Z</dcterms:created>
  <dc:creator>Людмила</dc:creator>
  <dc:description/>
  <dc:language>en-US</dc:language>
  <cp:lastModifiedBy>Людмила</cp:lastModifiedBy>
  <dcterms:modified xsi:type="dcterms:W3CDTF">2011-11-22T14:41:07Z</dcterms:modified>
  <cp:revision>32</cp:revision>
  <dc:subject/>
  <dc:title>Мое творчество</dc:title>
</cp:coreProperties>
</file>