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C99-52FC-440D-AA9F-55046B7A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956-E0ED-4CAC-8E13-176F4EF0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1A5-EA18-4C8C-B81F-A9D69997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C3C-4A41-4AFA-9EFC-F08964EB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C6F-051B-4A1D-BAEC-B1FB352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309-9CB6-40ED-9046-7CB4C02B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96A-66C8-4EB5-BBB1-593090DA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58B-36AA-4EFD-A22A-A0B585EB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DEA-D07D-422D-8A09-EFC239A6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AA9-C416-4DD6-9F5F-F14E6B83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5F9-4DD9-4F51-9A56-FC85306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563-2F2A-4932-9FE8-87D8C2E5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509A-9EF1-45E8-B89A-44B782623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logs.mail.ru/mail/korochenkol/" TargetMode="External"/><Relationship Id="rId2" Type="http://schemas.openxmlformats.org/officeDocument/2006/relationships/hyperlink" Target="http://blogs.mail.ru/mail/korochenkol/" TargetMode="External"/><Relationship Id="rId3" Type="http://schemas.openxmlformats.org/officeDocument/2006/relationships/hyperlink" Target="http://korochenkol.ucoz.ru/" TargetMode="External"/><Relationship Id="rId4" Type="http://schemas.openxmlformats.org/officeDocument/2006/relationships/hyperlink" Target="http://korochenkol.ucoz.ru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Мое творчество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65360"/>
            <a:ext cx="68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ощ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м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хайл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У СОШ №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. Усть – К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ркутская обл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Подуш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Людмила\Desktop\Documents\3 - Мои рисунки\Мое творчество\Фото-мои работы\Подушки - мои\SDC10641.JPG"/>
          <p:cNvPicPr/>
          <p:nvPr/>
        </p:nvPicPr>
        <p:blipFill>
          <a:blip r:embed="rId1"/>
          <a:stretch/>
        </p:blipFill>
        <p:spPr>
          <a:xfrm>
            <a:off x="822240" y="1600200"/>
            <a:ext cx="749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Людмила\Desktop\Documents\3 - Мои рисунки\Мое творчество\Фото-мои работы\Подушки - мои\SNC10050.JPG"/>
          <p:cNvPicPr/>
          <p:nvPr/>
        </p:nvPicPr>
        <p:blipFill>
          <a:blip r:embed="rId1"/>
          <a:stretch/>
        </p:blipFill>
        <p:spPr>
          <a:xfrm>
            <a:off x="971640" y="549360"/>
            <a:ext cx="7488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Людмила\Desktop\Documents\3 - Мои рисунки\Мое творчество\Фото-мои работы\Подушки - мои\SNC10019.JPG"/>
          <p:cNvPicPr/>
          <p:nvPr/>
        </p:nvPicPr>
        <p:blipFill>
          <a:blip r:embed="rId1"/>
          <a:stretch/>
        </p:blipFill>
        <p:spPr>
          <a:xfrm>
            <a:off x="684360" y="549360"/>
            <a:ext cx="799128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Людмила\Desktop\Documents\1 - Downloads\Оценки\Спасибо\спасибо большое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бро пожаловать на мои    странички в интерне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s.mail.ru/mail/korochenkol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orochenkol.ucoz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tki.yandex.ru/users/koroschenko-lyuda/?ncrnd=67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liveinternet.ru/users/389951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Добрый день, а может, вечер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чень рада нашей встреч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Людмила\Desktop\Documents\3 - Мои рисунки\ЛЮдмила\Людмила Корощенко.jpg"/>
          <p:cNvPicPr/>
          <p:nvPr/>
        </p:nvPicPr>
        <p:blipFill>
          <a:blip r:embed="rId1"/>
          <a:stretch/>
        </p:blipFill>
        <p:spPr>
          <a:xfrm>
            <a:off x="1258920" y="1773360"/>
            <a:ext cx="71229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Мое кредо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4920" y="1628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ью, вяжу и вышива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уки я совсем не знаю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SNC10050"/>
          <p:cNvPicPr/>
          <p:nvPr/>
        </p:nvPicPr>
        <p:blipFill>
          <a:blip r:embed="rId1"/>
          <a:stretch/>
        </p:blipFill>
        <p:spPr>
          <a:xfrm>
            <a:off x="1979640" y="213372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Людмила\Desktop\Documents\3 - Мои рисунки\ЛЮдмила\SDC12072.JPG"/>
          <p:cNvPicPr/>
          <p:nvPr/>
        </p:nvPicPr>
        <p:blipFill>
          <a:blip r:embed="rId2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Людмила\Desktop\Documents\3 - Мои рисунки\Мое творчество\Моё творчество\SDC11462-1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73911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Шь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900000" y="126828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осмотри на это див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Все со вкусом, все краси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Это труд, а не бездел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И глазам на удивлен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Прихватк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Людмила\Desktop\Documents\3 - Мои рисунки\Мое творчество\Фото-мои работы\Прихватки - мои\Шитые прихватки\SDC11811-1.JPG"/>
          <p:cNvPicPr/>
          <p:nvPr/>
        </p:nvPicPr>
        <p:blipFill>
          <a:blip r:embed="rId1"/>
          <a:stretch/>
        </p:blipFill>
        <p:spPr>
          <a:xfrm>
            <a:off x="4876920" y="3357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Людмила\Desktop\Documents\3 - Мои рисунки\Мое творчество\Фото-мои работы\Прихватки - мои\Шитые прихватки\SDC11882.-1JPG.JPG"/>
          <p:cNvPicPr/>
          <p:nvPr/>
        </p:nvPicPr>
        <p:blipFill>
          <a:blip r:embed="rId2"/>
          <a:stretch/>
        </p:blipFill>
        <p:spPr>
          <a:xfrm>
            <a:off x="0" y="1484280"/>
            <a:ext cx="4518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Людмила\Desktop\Documents\3 - Мои рисунки\Мое творчество\Фото-мои работы\Прихватки - мои\Шитые прихватки\SNC10023.JPG"/>
          <p:cNvPicPr/>
          <p:nvPr/>
        </p:nvPicPr>
        <p:blipFill>
          <a:blip r:embed="rId1"/>
          <a:stretch/>
        </p:blipFill>
        <p:spPr>
          <a:xfrm>
            <a:off x="0" y="0"/>
            <a:ext cx="493236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Людмила\Desktop\Documents\3 - Мои рисунки\Мое творчество\Фото-мои работы\Прихватки - мои\Шитые прихватки\SNC10024.JPG"/>
          <p:cNvPicPr/>
          <p:nvPr/>
        </p:nvPicPr>
        <p:blipFill>
          <a:blip r:embed="rId2"/>
          <a:stretch/>
        </p:blipFill>
        <p:spPr>
          <a:xfrm>
            <a:off x="4140360" y="3213000"/>
            <a:ext cx="5003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Людмила\Desktop\Documents\3 - Мои рисунки\Мое творчество\Фото-мои работы\Прихватки - мои\Шитые прихватки\SNC10034.JPG"/>
          <p:cNvPicPr/>
          <p:nvPr/>
        </p:nvPicPr>
        <p:blipFill>
          <a:blip r:embed="rId1"/>
          <a:stretch/>
        </p:blipFill>
        <p:spPr>
          <a:xfrm>
            <a:off x="0" y="0"/>
            <a:ext cx="521964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Людмила\Desktop\Documents\3 - Мои рисунки\Мое творчество\Фото-мои работы\Прихватки - мои\Шитые прихватки\SNC10032.JPG"/>
          <p:cNvPicPr/>
          <p:nvPr/>
        </p:nvPicPr>
        <p:blipFill>
          <a:blip r:embed="rId2"/>
          <a:stretch/>
        </p:blipFill>
        <p:spPr>
          <a:xfrm>
            <a:off x="4267080" y="2825640"/>
            <a:ext cx="4876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Людмила\Desktop\Documents\3 - Мои рисунки\Мое творчество\Фото-мои работы\Прихватки - мои\Шитые прихватки\SNC10038.JPG"/>
          <p:cNvPicPr/>
          <p:nvPr/>
        </p:nvPicPr>
        <p:blipFill>
          <a:blip r:embed="rId1"/>
          <a:stretch/>
        </p:blipFill>
        <p:spPr>
          <a:xfrm>
            <a:off x="1042920" y="620640"/>
            <a:ext cx="734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Людмила\Desktop\Documents\3 - Мои рисунки\Мое творчество\Фото-мои работы\Прихватки - мои\Валентинки\SDC12290-1.JPG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1:07:39Z</dcterms:created>
  <dc:creator>Людмила</dc:creator>
  <dc:description/>
  <dc:language>en-US</dc:language>
  <cp:lastModifiedBy>Людмила</cp:lastModifiedBy>
  <dcterms:modified xsi:type="dcterms:W3CDTF">2011-11-22T14:00:13Z</dcterms:modified>
  <cp:revision>30</cp:revision>
  <dc:subject/>
  <dc:title>Мое творчество</dc:title>
</cp:coreProperties>
</file>