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4E2-6538-4E2A-A016-062CF675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B2C-6B30-4FC5-998D-8855E2DC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155B-EA8A-489A-A8F2-DAF01B0A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3CB-6666-42E5-A3C6-68D19138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6FD-A4D3-4EB8-8E15-0599D398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B4A-0CE8-40D7-8806-52C619ED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6C0-D97A-4F89-BB4A-CA26B8AD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DAC-0D83-4662-B3C7-2FA5F2D1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E6D3-ED4B-4663-9BFA-0D624959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F4D3-21CE-4741-A3F2-36251291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E48-46CD-46D0-AB32-7579A53C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86E-92D4-4440-BCDE-E6A5983D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B4F7-AE7B-4AEF-A854-7BEF8DCF32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logs.mail.ru/mail/korochenkol/" TargetMode="External"/><Relationship Id="rId2" Type="http://schemas.openxmlformats.org/officeDocument/2006/relationships/hyperlink" Target="http://blogs.mail.ru/mail/korochenkol/" TargetMode="External"/><Relationship Id="rId3" Type="http://schemas.openxmlformats.org/officeDocument/2006/relationships/hyperlink" Target="http://korochenkol.ucoz.ru/" TargetMode="External"/><Relationship Id="rId4" Type="http://schemas.openxmlformats.org/officeDocument/2006/relationships/hyperlink" Target="http://korochenkol.ucoz.ru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Мое творчество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65360"/>
            <a:ext cx="68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рощен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дм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хайл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подав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У СОШ №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Г. Усть – К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ркутская обла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Подушк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Людмила\Desktop\Documents\3 - Мои рисунки\Мое творчество\Фото-мои работы\Подушки - мои\SDC10641.JPG"/>
          <p:cNvPicPr/>
          <p:nvPr/>
        </p:nvPicPr>
        <p:blipFill>
          <a:blip r:embed="rId1"/>
          <a:stretch/>
        </p:blipFill>
        <p:spPr>
          <a:xfrm>
            <a:off x="822240" y="1600200"/>
            <a:ext cx="749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Людмила\Desktop\Documents\3 - Мои рисунки\Мое творчество\Фото-мои работы\Подушки - мои\SNC10050.JPG"/>
          <p:cNvPicPr/>
          <p:nvPr/>
        </p:nvPicPr>
        <p:blipFill>
          <a:blip r:embed="rId1"/>
          <a:stretch/>
        </p:blipFill>
        <p:spPr>
          <a:xfrm>
            <a:off x="971640" y="549360"/>
            <a:ext cx="74880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Людмила\Desktop\Documents\3 - Мои рисунки\Мое творчество\Фото-мои работы\Подушки - мои\SNC10019.JPG"/>
          <p:cNvPicPr/>
          <p:nvPr/>
        </p:nvPicPr>
        <p:blipFill>
          <a:blip r:embed="rId1"/>
          <a:stretch/>
        </p:blipFill>
        <p:spPr>
          <a:xfrm>
            <a:off x="684360" y="549360"/>
            <a:ext cx="799128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Людмила\Desktop\Documents\1 - Downloads\Оценки\Спасибо\спасибо большое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бро пожаловать на мои    странички в интернет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 -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logs.mail.ru/mail/korochenkol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2 -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orochenkol.ucoz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fotki.yandex.ru/users/koroschenko-lyuda/?ncrnd=67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liveinternet.ru/users/389951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Добрый день, а может, вечер.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Очень рада нашей встреч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Людмила\Desktop\Documents\3 - Мои рисунки\ЛЮдмила\Людмила Корощенко.jpg"/>
          <p:cNvPicPr/>
          <p:nvPr/>
        </p:nvPicPr>
        <p:blipFill>
          <a:blip r:embed="rId1"/>
          <a:stretch/>
        </p:blipFill>
        <p:spPr>
          <a:xfrm>
            <a:off x="1258920" y="1773360"/>
            <a:ext cx="71229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Мое кредо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4920" y="1628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ью, вяжу и вышиваю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куки я совсем не знаю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2" descr="SNC10050"/>
          <p:cNvPicPr/>
          <p:nvPr/>
        </p:nvPicPr>
        <p:blipFill>
          <a:blip r:embed="rId1"/>
          <a:stretch/>
        </p:blipFill>
        <p:spPr>
          <a:xfrm>
            <a:off x="1979640" y="2133720"/>
            <a:ext cx="3048120" cy="3200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Людмила\Desktop\Documents\3 - Мои рисунки\ЛЮдмила\SDC12072.JPG"/>
          <p:cNvPicPr/>
          <p:nvPr/>
        </p:nvPicPr>
        <p:blipFill>
          <a:blip r:embed="rId2"/>
          <a:stretch/>
        </p:blipFill>
        <p:spPr>
          <a:xfrm>
            <a:off x="4876920" y="365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Людмила\Desktop\Documents\3 - Мои рисунки\Мое творчество\Моё творчество\SDC11462-1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739116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Шь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900000" y="1268280"/>
            <a:ext cx="80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Посмотри на это див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Все со вкусом, все краси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Это труд, а не бездель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И глазам на удивлень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Прихватк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Людмила\Desktop\Documents\3 - Мои рисунки\Мое творчество\Фото-мои работы\Прихватки - мои\Шитые прихватки\SDC11811-1.JPG"/>
          <p:cNvPicPr/>
          <p:nvPr/>
        </p:nvPicPr>
        <p:blipFill>
          <a:blip r:embed="rId1"/>
          <a:stretch/>
        </p:blipFill>
        <p:spPr>
          <a:xfrm>
            <a:off x="4876920" y="3357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Людмила\Desktop\Documents\3 - Мои рисунки\Мое творчество\Фото-мои работы\Прихватки - мои\Шитые прихватки\SDC11882.-1JPG.JPG"/>
          <p:cNvPicPr/>
          <p:nvPr/>
        </p:nvPicPr>
        <p:blipFill>
          <a:blip r:embed="rId2"/>
          <a:stretch/>
        </p:blipFill>
        <p:spPr>
          <a:xfrm>
            <a:off x="0" y="1484280"/>
            <a:ext cx="4518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Людмила\Desktop\Documents\3 - Мои рисунки\Мое творчество\Фото-мои работы\Прихватки - мои\Шитые прихватки\SNC10023.JPG"/>
          <p:cNvPicPr/>
          <p:nvPr/>
        </p:nvPicPr>
        <p:blipFill>
          <a:blip r:embed="rId1"/>
          <a:stretch/>
        </p:blipFill>
        <p:spPr>
          <a:xfrm>
            <a:off x="0" y="0"/>
            <a:ext cx="493236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Людмила\Desktop\Documents\3 - Мои рисунки\Мое творчество\Фото-мои работы\Прихватки - мои\Шитые прихватки\SNC10024.JPG"/>
          <p:cNvPicPr/>
          <p:nvPr/>
        </p:nvPicPr>
        <p:blipFill>
          <a:blip r:embed="rId2"/>
          <a:stretch/>
        </p:blipFill>
        <p:spPr>
          <a:xfrm>
            <a:off x="4140360" y="3213000"/>
            <a:ext cx="5003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Людмила\Desktop\Documents\3 - Мои рисунки\Мое творчество\Фото-мои работы\Прихватки - мои\Шитые прихватки\SNC10034.JPG"/>
          <p:cNvPicPr/>
          <p:nvPr/>
        </p:nvPicPr>
        <p:blipFill>
          <a:blip r:embed="rId1"/>
          <a:stretch/>
        </p:blipFill>
        <p:spPr>
          <a:xfrm>
            <a:off x="0" y="0"/>
            <a:ext cx="521964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Людмила\Desktop\Documents\3 - Мои рисунки\Мое творчество\Фото-мои работы\Прихватки - мои\Шитые прихватки\SNC10032.JPG"/>
          <p:cNvPicPr/>
          <p:nvPr/>
        </p:nvPicPr>
        <p:blipFill>
          <a:blip r:embed="rId2"/>
          <a:stretch/>
        </p:blipFill>
        <p:spPr>
          <a:xfrm>
            <a:off x="4267080" y="2825640"/>
            <a:ext cx="48769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Людмила\Desktop\Documents\3 - Мои рисунки\Мое творчество\Фото-мои работы\Прихватки - мои\Шитые прихватки\SNC10038.JPG"/>
          <p:cNvPicPr/>
          <p:nvPr/>
        </p:nvPicPr>
        <p:blipFill>
          <a:blip r:embed="rId1"/>
          <a:stretch/>
        </p:blipFill>
        <p:spPr>
          <a:xfrm>
            <a:off x="1042920" y="620640"/>
            <a:ext cx="7345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Людмила\Desktop\Documents\3 - Мои рисунки\Мое творчество\Фото-мои работы\Прихватки - мои\Валентинки\SDC12290-1.JPG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1:07:39Z</dcterms:created>
  <dc:creator>Людмила</dc:creator>
  <dc:description/>
  <dc:language>en-US</dc:language>
  <cp:lastModifiedBy>Людмила</cp:lastModifiedBy>
  <dcterms:modified xsi:type="dcterms:W3CDTF">2011-11-22T14:00:13Z</dcterms:modified>
  <cp:revision>30</cp:revision>
  <dc:subject/>
  <dc:title>Мое творчество</dc:title>
</cp:coreProperties>
</file>