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0D83-9B42-41DC-BAA5-379471EBBA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D7B1-F0C4-4885-89A5-483029142E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04D-2654-43C8-806D-011CB7AA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936-CDE8-444B-A38E-8AAB5CD5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F75-1524-4A6C-94B3-44FFA06A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377-54B1-4B40-A0F2-F5524DE1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B07-08F7-45B8-9E14-EFFD20B6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095-C10F-4D87-BCD7-88547C34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E0E-8ACA-4700-92B0-5F27D2F2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421-23DA-4774-A3F6-8A1BBD4C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8E7-78B6-4F20-8C16-0D32F735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1D4-16FF-4FD5-A504-89F89B7E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38F-3053-42B7-BEA1-7F1F225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3DE-DAD5-4741-BF4E-9712C16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0086-C6EC-4EA7-A79E-7296EFA68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bobine fil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1258920" y="134136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Usually we see films either in the cinema or on the TV. But from time to time  I go to the cinema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96916_1280x7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 agree that such film is very interesting and I advise to look i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Точечный рисунок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1816560" y="2349360"/>
            <a:ext cx="572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esentation b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oshkarov Bor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i4e01e3c5a16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0" y="386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My favorite film is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«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Fast &amp; Furious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0" y="19749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 want to tell about my favourite fil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948137274.jpg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vindiesel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2076480" y="2421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Mark Sinclair Vincent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Paul William Walker IV played the main part in this film. They played these  roles wonderfully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1289238396_8915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900000" y="5157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t is a story about lo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kinopoisk.ru-Fast-_26_2338_3B-Furious-8915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572000" y="3995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is film is excellent. It teaches me to believe in love and friendshi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b46be12bd21967dba5f32d0257a3684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50920" y="3933720"/>
            <a:ext cx="88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is film grabs my attention from the first sce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t keeps me in suspen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5" descr="2358bc526789fd0eb0650a363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965160" y="1773360"/>
            <a:ext cx="727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is film is full of special 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25~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2143080" y="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film is dynamic and really exciting. It has many beautiful cars, races an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08ckjkt7golcju248sek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19872_23095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/>
          <p:cNvSpPr/>
          <p:nvPr/>
        </p:nvSpPr>
        <p:spPr>
          <a:xfrm>
            <a:off x="3794400" y="584208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alibri"/>
              </a:rPr>
              <a:t>Gir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4:59:44Z</dcterms:created>
  <dc:creator>Admin</dc:creator>
  <dc:description/>
  <dc:language>en-US</dc:language>
  <cp:lastModifiedBy>Натали:)</cp:lastModifiedBy>
  <dcterms:modified xsi:type="dcterms:W3CDTF">2011-11-28T21:14:06Z</dcterms:modified>
  <cp:revision>17</cp:revision>
  <dc:subject/>
  <dc:title>Слайд 1</dc:title>
</cp:coreProperties>
</file>