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A8C0-EBC4-4B72-AC4A-93C094787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32FA-71EB-4FE0-9937-A8AA5E5A1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AA4-F757-4D18-8179-4A60C1C1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446-6968-43F8-BE0F-72AFE6B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269-22C8-4A24-9F82-890E34AC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BB5-9D25-4D53-9AF5-DDD9B8DC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20B-876A-407D-A943-AB9E975B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923-6134-4483-9343-F40C2D1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76B-EFDC-41DB-B38E-2C89027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952-3A76-4B42-9C61-D8B752B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16D-C651-4E99-8554-A59941A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203-8186-4964-AD00-C1C7E22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4D1-A13D-4DCD-BADD-9FE7A11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46-2D06-4C84-A492-80B341D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FE4B-7207-4F55-ACBD-18C911641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bobine fil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258920" y="134136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sually we see films either in the cinema or on the TV. But from time to time  I go to the cinem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96916_1280x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 agree that such film is very interesting and I advise to look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Точечный рисунок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1816560" y="2349360"/>
            <a:ext cx="572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entation b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oshkarov Bor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i4e01e3c5a1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386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My favorite film is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Fast &amp; Furious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0" y="19749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 want to tell about my favourite fil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948137274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vindiesel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076480" y="2421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Mark Sinclair Vincent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Paul William Walker IV played the main part in this film. They played these  roles wonderfully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1289238396_8915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900000" y="5157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 is a story about lo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kinopoisk.ru-Fast-_26_2338_3B-Furious-8915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572000" y="3995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is film is excellent. It teaches me to believe in love and friendshi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b46be12bd21967dba5f32d0257a3684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50920" y="393372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is film grabs my attention from the first sce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t keeps me in suspe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5" descr="2358bc526789fd0eb0650a363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965160" y="1773360"/>
            <a:ext cx="72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is film is full of special 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25~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14308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lm is dynamic and really exciting. It has many beautiful cars, races an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08ckjkt7golcju248sek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9872_23095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3794400" y="584208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alibri"/>
              </a:rPr>
              <a:t>Gir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4:59:44Z</dcterms:created>
  <dc:creator>Admin</dc:creator>
  <dc:description/>
  <dc:language>en-US</dc:language>
  <cp:lastModifiedBy>Натали:)</cp:lastModifiedBy>
  <dcterms:modified xsi:type="dcterms:W3CDTF">2011-11-28T21:14:06Z</dcterms:modified>
  <cp:revision>17</cp:revision>
  <dc:subject/>
  <dc:title>Слайд 1</dc:title>
</cp:coreProperties>
</file>