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6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E6A-5F91-4E4B-8BB9-2B25D026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413-E805-47EC-8CB3-51032B0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FCC-6510-4F8D-97C2-DBB001A1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BF8-1812-42F4-9C83-1B4F3D35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EE4C-4F2F-4597-9122-A707C860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C7C1-6F5E-46A9-949B-89EC484D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533-5A29-43DE-9866-F8DE890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451-7BA9-4391-AA44-DF75AC8B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5F4-E293-49F2-9E53-E5E367A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46B-DFB3-470F-8FC3-B26DC97B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386-74D8-4E7A-ABC9-D6A04E5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E22-5DA1-4BA4-90CD-FAC6F1D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47DA-CD1B-410E-96FD-58F6307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8E6E-0689-4969-B397-E865452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22D9-B6BC-40A5-BBFE-EE34521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6D24-5350-4386-8AA6-B0887DB7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AC3-4B25-4AA0-81BA-F1C03CE2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65A-B9AF-4E4F-8FF0-9D037E41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025-8810-4C00-9B0D-54BD32D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1C0-4269-41EF-AF99-A9E21B52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A46-FA22-4127-BA16-EFA850FC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801-CF1E-4585-A021-B9D0C22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7C7-AEA6-49CE-B0A7-4A3AED5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F51-C746-4D14-8831-5E15E8A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0A4E-4F5B-4BB1-9EC5-08962455E0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C7F6-1D76-471A-BF0F-FA20C945D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ssp66.ru/images/Occ684e254c26892550693afd34251921.jp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93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Monotype Corsiva"/>
              </a:rPr>
              <a:t>Һәр   һөнәр  иясенең  үз   эш   корал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3300"/>
                </a:solidFill>
                <a:latin typeface="Monotype Corsiva"/>
              </a:rPr>
              <a:t>Т А Б И Б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3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7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1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5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 Ч Ы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0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4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Р Ә С С А М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2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6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0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4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8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Т Е Г Ү Ч Е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5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59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3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7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У</a:t>
            </a: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К Ы Т У Ч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4653000"/>
            <a:ext cx="2521080" cy="164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4 из 28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198900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2082960" cy="168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64000" y="2060640"/>
            <a:ext cx="2448000" cy="367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84360" y="32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4005360"/>
            <a:ext cx="1440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11640" y="3933360"/>
            <a:ext cx="1081080" cy="5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084360" y="328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С А Т У Ч 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1444680" cy="201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89440" cy="1574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308720" y="1916280"/>
            <a:ext cx="1238400" cy="230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2016000" cy="1649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995640" y="2060640"/>
            <a:ext cx="2095560" cy="3024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700360" y="3213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71640" y="4581360"/>
            <a:ext cx="122400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96000" y="4869000"/>
            <a:ext cx="79200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2000" y="3213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Т  Ө З Ү Ч 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rot="20029200">
            <a:off x="755280" y="2924280"/>
            <a:ext cx="1825560" cy="187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3640" y="1844640"/>
            <a:ext cx="2652480" cy="431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3141720"/>
            <a:ext cx="144000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508720" y="3284640"/>
            <a:ext cx="107928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435280" y="4508280"/>
            <a:ext cx="108108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www.PHILka.RU</cp:lastModifiedBy>
  <dcterms:modified xsi:type="dcterms:W3CDTF">2011-10-28T16:24:21Z</dcterms:modified>
  <cp:revision>35</cp:revision>
  <dc:subject/>
  <dc:title>Х У Д О Ж Н И К</dc:title>
</cp:coreProperties>
</file>