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6.jpeg" ContentType="image/jpeg"/>
  <Override PartName="/ppt/media/image23.jpeg" ContentType="image/jpeg"/>
  <Override PartName="/ppt/media/image12.png" ContentType="image/png"/>
  <Override PartName="/ppt/media/image4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CE5-93C1-4D29-AA98-A61F2A80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23E-028E-4E99-BDEB-74650433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682-E7D4-445A-8632-E68E2F19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A95-D23A-4225-99F1-AE71E349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118F-F903-4F98-926A-FF7AABB2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35B6-28FE-49CB-B081-76AEBFEC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1444-0C13-439D-B513-89C8BBEE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2493-EE31-48DC-81DF-88FFBC72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BFE5-380E-443B-8B56-A4FD038A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DD84-5C93-4A1F-9EF4-BBAE2C63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4A30-4121-4373-ACE5-7F24015F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743-94E5-470E-853F-B0979E4F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CEC1-E156-4816-A825-D43D6670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BE4E-CAA7-438C-A972-9D23984E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7791-9A10-4085-8B72-60E95D46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15A5-CC81-4167-A2AC-7395B081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84D0-745A-4B26-9BF5-4FA6EEC6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A08-E586-4510-A700-093B545F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2D66-7873-49E3-9F4E-E97833D3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0C0-A621-49BE-8E60-BCFDCACC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10B-42C1-45A6-9A1E-C35179D9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503-8C18-4963-A64D-E679CE77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DC3-1309-4B32-AAD2-372F159A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118-2CCB-4687-9F70-AD5836DB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BB61-CDD6-4B39-9584-3123DDD9F0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9E70-A910-4EDF-AE8D-24F7BEC263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www.ssp66.ru/images/Occ684e254c26892550693afd34251921.jpg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932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Monotype Corsiva"/>
              </a:rPr>
              <a:t>Һәр   һөнәр  иясенең  үз   эш   коралы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ff3300"/>
                </a:solidFill>
                <a:latin typeface="Monotype Corsiva"/>
              </a:rPr>
              <a:t>Т А Б И Б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995640" y="1952640"/>
          <a:ext cx="1062000" cy="21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52640"/>
                    <a:ext cx="10620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179280" y="2282760"/>
            <a:ext cx="3456000" cy="1260720"/>
            <a:chOff x="179280" y="2282760"/>
            <a:chExt cx="3456000" cy="1260720"/>
          </a:xfrm>
        </p:grpSpPr>
        <p:graphicFrame>
          <p:nvGraphicFramePr>
            <p:cNvPr id="103" name=""/>
            <p:cNvGraphicFramePr/>
            <p:nvPr/>
          </p:nvGraphicFramePr>
          <p:xfrm>
            <a:off x="179280" y="2282760"/>
            <a:ext cx="2664000" cy="126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9280" y="2282760"/>
                      <a:ext cx="2664000" cy="126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3059280" y="2924280"/>
              <a:ext cx="576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579640" y="2263680"/>
            <a:ext cx="2808720" cy="1309680"/>
            <a:chOff x="5579640" y="2263680"/>
            <a:chExt cx="2808720" cy="1309680"/>
          </a:xfrm>
        </p:grpSpPr>
        <p:graphicFrame>
          <p:nvGraphicFramePr>
            <p:cNvPr id="107" name=""/>
            <p:cNvGraphicFramePr/>
            <p:nvPr/>
          </p:nvGraphicFramePr>
          <p:xfrm>
            <a:off x="6323040" y="2263680"/>
            <a:ext cx="2065320" cy="130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3040" y="2263680"/>
                      <a:ext cx="2065320" cy="13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 flipH="1">
              <a:off x="557964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932000" y="4221000"/>
            <a:ext cx="2664360" cy="2232360"/>
            <a:chOff x="4932000" y="4221000"/>
            <a:chExt cx="2664360" cy="2232360"/>
          </a:xfrm>
        </p:grpSpPr>
        <p:graphicFrame>
          <p:nvGraphicFramePr>
            <p:cNvPr id="111" name=""/>
            <p:cNvGraphicFramePr/>
            <p:nvPr/>
          </p:nvGraphicFramePr>
          <p:xfrm>
            <a:off x="5614920" y="4471920"/>
            <a:ext cx="1981440" cy="1981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14920" y="4471920"/>
                      <a:ext cx="19814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 flipH="1" flipV="1">
              <a:off x="4932000" y="4221000"/>
              <a:ext cx="35892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47640" y="4221000"/>
            <a:ext cx="2592720" cy="1944720"/>
            <a:chOff x="1547640" y="4221000"/>
            <a:chExt cx="2592720" cy="1944720"/>
          </a:xfrm>
        </p:grpSpPr>
        <p:graphicFrame>
          <p:nvGraphicFramePr>
            <p:cNvPr id="115" name=""/>
            <p:cNvGraphicFramePr/>
            <p:nvPr/>
          </p:nvGraphicFramePr>
          <p:xfrm>
            <a:off x="1547640" y="4430880"/>
            <a:ext cx="2019600" cy="1734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47640" y="4430880"/>
                      <a:ext cx="2019600" cy="17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" name=""/>
            <p:cNvSpPr/>
            <p:nvPr/>
          </p:nvSpPr>
          <p:spPr>
            <a:xfrm flipV="1">
              <a:off x="3708360" y="4221000"/>
              <a:ext cx="43200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Monotype Corsiva"/>
              </a:rPr>
              <a:t>С П О Р Т  Ч Ы 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71640" y="2671920"/>
            <a:ext cx="2592360" cy="1981080"/>
            <a:chOff x="971640" y="2671920"/>
            <a:chExt cx="2592360" cy="1981080"/>
          </a:xfrm>
        </p:grpSpPr>
        <p:graphicFrame>
          <p:nvGraphicFramePr>
            <p:cNvPr id="120" name=""/>
            <p:cNvGraphicFramePr/>
            <p:nvPr/>
          </p:nvGraphicFramePr>
          <p:xfrm>
            <a:off x="971640" y="2671920"/>
            <a:ext cx="174960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2671920"/>
                      <a:ext cx="174960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2914920" y="3795840"/>
              <a:ext cx="64908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364000" y="2671920"/>
            <a:ext cx="2880000" cy="1981080"/>
            <a:chOff x="5364000" y="2671920"/>
            <a:chExt cx="2880000" cy="1981080"/>
          </a:xfrm>
        </p:grpSpPr>
        <p:graphicFrame>
          <p:nvGraphicFramePr>
            <p:cNvPr id="124" name=""/>
            <p:cNvGraphicFramePr/>
            <p:nvPr/>
          </p:nvGraphicFramePr>
          <p:xfrm>
            <a:off x="6222960" y="2671920"/>
            <a:ext cx="2021040" cy="1981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22960" y="2671920"/>
                      <a:ext cx="20210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 flipH="1">
              <a:off x="5364000" y="3795840"/>
              <a:ext cx="6494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986280" y="2021040"/>
            <a:ext cx="116208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Р Ә С С А М 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564000" y="1700280"/>
          <a:ext cx="182880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700280"/>
                    <a:ext cx="182880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5724000" y="2022480"/>
            <a:ext cx="2450160" cy="1982880"/>
            <a:chOff x="5724000" y="2022480"/>
            <a:chExt cx="2450160" cy="1982880"/>
          </a:xfrm>
        </p:grpSpPr>
        <p:graphicFrame>
          <p:nvGraphicFramePr>
            <p:cNvPr id="132" name=""/>
            <p:cNvGraphicFramePr/>
            <p:nvPr/>
          </p:nvGraphicFramePr>
          <p:xfrm>
            <a:off x="6588000" y="2022480"/>
            <a:ext cx="1586160" cy="198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88000" y="2022480"/>
                      <a:ext cx="1586160" cy="198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 flipH="1">
              <a:off x="572400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68360" y="2276640"/>
            <a:ext cx="2808360" cy="1438200"/>
            <a:chOff x="468360" y="2276640"/>
            <a:chExt cx="2808360" cy="1438200"/>
          </a:xfrm>
        </p:grpSpPr>
        <p:graphicFrame>
          <p:nvGraphicFramePr>
            <p:cNvPr id="136" name=""/>
            <p:cNvGraphicFramePr/>
            <p:nvPr/>
          </p:nvGraphicFramePr>
          <p:xfrm>
            <a:off x="468360" y="2276640"/>
            <a:ext cx="2095560" cy="143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8360" y="2276640"/>
                      <a:ext cx="209556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270036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258920" y="4005000"/>
            <a:ext cx="2376360" cy="2268720"/>
            <a:chOff x="1258920" y="4005000"/>
            <a:chExt cx="2376360" cy="2268720"/>
          </a:xfrm>
        </p:grpSpPr>
        <p:graphicFrame>
          <p:nvGraphicFramePr>
            <p:cNvPr id="140" name=""/>
            <p:cNvGraphicFramePr/>
            <p:nvPr/>
          </p:nvGraphicFramePr>
          <p:xfrm>
            <a:off x="1258920" y="4292640"/>
            <a:ext cx="1333440" cy="1981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58920" y="4292640"/>
                      <a:ext cx="13334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 flipV="1">
              <a:off x="2916360" y="4005000"/>
              <a:ext cx="718920" cy="431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851280" y="4076640"/>
            <a:ext cx="1401840" cy="2486160"/>
            <a:chOff x="3851280" y="4076640"/>
            <a:chExt cx="1401840" cy="2486160"/>
          </a:xfrm>
        </p:grpSpPr>
        <p:graphicFrame>
          <p:nvGraphicFramePr>
            <p:cNvPr id="144" name=""/>
            <p:cNvGraphicFramePr/>
            <p:nvPr/>
          </p:nvGraphicFramePr>
          <p:xfrm>
            <a:off x="3851280" y="4581360"/>
            <a:ext cx="1401840" cy="1981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51280" y="4581360"/>
                      <a:ext cx="14018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 flipV="1">
              <a:off x="4500720" y="4076640"/>
              <a:ext cx="0" cy="432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364000" y="3933360"/>
            <a:ext cx="2689560" cy="1857960"/>
            <a:chOff x="5364000" y="3933360"/>
            <a:chExt cx="2689560" cy="1857960"/>
          </a:xfrm>
        </p:grpSpPr>
        <p:graphicFrame>
          <p:nvGraphicFramePr>
            <p:cNvPr id="148" name=""/>
            <p:cNvGraphicFramePr/>
            <p:nvPr/>
          </p:nvGraphicFramePr>
          <p:xfrm>
            <a:off x="6443640" y="4724280"/>
            <a:ext cx="1609920" cy="1067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43640" y="4724280"/>
                      <a:ext cx="160992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 flipH="1" flipV="1">
              <a:off x="5364000" y="3933360"/>
              <a:ext cx="936720" cy="647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7200" spc="-1" strike="noStrike">
                <a:solidFill>
                  <a:srgbClr val="ff3300"/>
                </a:solidFill>
                <a:latin typeface="Monotype Corsiva"/>
              </a:rPr>
              <a:t>Т Е Г Ү Ч Е 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64000" y="1917720"/>
          <a:ext cx="230328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917720"/>
                    <a:ext cx="230328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324000" y="2525760"/>
            <a:ext cx="3024000" cy="1118880"/>
            <a:chOff x="324000" y="2525760"/>
            <a:chExt cx="3024000" cy="1118880"/>
          </a:xfrm>
        </p:grpSpPr>
        <p:graphicFrame>
          <p:nvGraphicFramePr>
            <p:cNvPr id="155" name=""/>
            <p:cNvGraphicFramePr/>
            <p:nvPr/>
          </p:nvGraphicFramePr>
          <p:xfrm>
            <a:off x="324000" y="2525760"/>
            <a:ext cx="2376360" cy="1118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4000" y="2525760"/>
                      <a:ext cx="2376360" cy="11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2843280" y="2997000"/>
              <a:ext cx="5047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083280" y="2011320"/>
            <a:ext cx="2506680" cy="1704960"/>
            <a:chOff x="6083280" y="2011320"/>
            <a:chExt cx="2506680" cy="1704960"/>
          </a:xfrm>
        </p:grpSpPr>
        <p:graphicFrame>
          <p:nvGraphicFramePr>
            <p:cNvPr id="159" name=""/>
            <p:cNvGraphicFramePr/>
            <p:nvPr/>
          </p:nvGraphicFramePr>
          <p:xfrm>
            <a:off x="6732720" y="2011320"/>
            <a:ext cx="1857240" cy="170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32720" y="2011320"/>
                      <a:ext cx="1857240" cy="17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 flipH="1">
              <a:off x="6083280" y="3019320"/>
              <a:ext cx="5047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547640" y="4438440"/>
            <a:ext cx="2017800" cy="1657440"/>
            <a:chOff x="1547640" y="4438440"/>
            <a:chExt cx="2017800" cy="1657440"/>
          </a:xfrm>
        </p:grpSpPr>
        <p:graphicFrame>
          <p:nvGraphicFramePr>
            <p:cNvPr id="163" name=""/>
            <p:cNvGraphicFramePr/>
            <p:nvPr/>
          </p:nvGraphicFramePr>
          <p:xfrm>
            <a:off x="1547640" y="4724280"/>
            <a:ext cx="2017800" cy="137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47640" y="4724280"/>
                      <a:ext cx="201780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"/>
            <p:cNvSpPr/>
            <p:nvPr/>
          </p:nvSpPr>
          <p:spPr>
            <a:xfrm flipV="1">
              <a:off x="2916360" y="4438440"/>
              <a:ext cx="431640" cy="430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51640" y="4436640"/>
            <a:ext cx="2015640" cy="1699200"/>
            <a:chOff x="5651640" y="4436640"/>
            <a:chExt cx="2015640" cy="1699200"/>
          </a:xfrm>
        </p:grpSpPr>
        <p:graphicFrame>
          <p:nvGraphicFramePr>
            <p:cNvPr id="167" name=""/>
            <p:cNvGraphicFramePr/>
            <p:nvPr/>
          </p:nvGraphicFramePr>
          <p:xfrm>
            <a:off x="6211800" y="4508640"/>
            <a:ext cx="1455480" cy="1627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211800" y="4508640"/>
                      <a:ext cx="1455480" cy="16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 flipH="1" flipV="1">
              <a:off x="5651640" y="4436640"/>
              <a:ext cx="522000" cy="474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7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i="1" lang="tt-RU" sz="7200" spc="-1" strike="noStrike">
                <a:solidFill>
                  <a:srgbClr val="ff3300"/>
                </a:solidFill>
                <a:latin typeface="Monotype Corsiva"/>
              </a:rPr>
              <a:t>У</a:t>
            </a:r>
            <a:r>
              <a:rPr b="0" i="1" lang="tt-RU" sz="7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i="1" lang="tt-RU" sz="7200" spc="-1" strike="noStrike">
                <a:solidFill>
                  <a:srgbClr val="ff3300"/>
                </a:solidFill>
                <a:latin typeface="Monotype Corsiva"/>
              </a:rPr>
              <a:t>К Ы Т У ЧЫ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1800360" cy="1355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95280" y="4653000"/>
            <a:ext cx="2521080" cy="1646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Картинка 4 из 28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77080" y="1989000"/>
            <a:ext cx="1762200" cy="1762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6443640" y="4437000"/>
            <a:ext cx="2082960" cy="1681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3564000" y="2060640"/>
            <a:ext cx="2448000" cy="3673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484360" y="328464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79640" y="4005360"/>
            <a:ext cx="144000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011640" y="3933360"/>
            <a:ext cx="1081080" cy="5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084360" y="328464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7200" spc="-1" strike="noStrike">
                <a:solidFill>
                  <a:srgbClr val="ff3300"/>
                </a:solidFill>
                <a:latin typeface="Monotype Corsiva"/>
              </a:rPr>
              <a:t>С А Т У Ч Ы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1444680" cy="2016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2089440" cy="1574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308720" y="1916280"/>
            <a:ext cx="1238400" cy="2304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2016000" cy="1649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3995640" y="2060640"/>
            <a:ext cx="2095560" cy="3024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700360" y="321300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771640" y="4581360"/>
            <a:ext cx="1224000" cy="9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796000" y="4869000"/>
            <a:ext cx="79200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12000" y="321300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7200" spc="-1" strike="noStrike">
                <a:solidFill>
                  <a:srgbClr val="ff3300"/>
                </a:solidFill>
                <a:latin typeface="Monotype Corsiva"/>
              </a:rPr>
              <a:t>Т  Ө З Ү Ч 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 rot="20029200">
            <a:off x="755280" y="2924280"/>
            <a:ext cx="1825560" cy="1874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659640" y="20606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659640" y="5013360"/>
            <a:ext cx="1428840" cy="961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203640" y="1844640"/>
            <a:ext cx="2652480" cy="4319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84360" y="3141720"/>
            <a:ext cx="1440000" cy="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508720" y="3284640"/>
            <a:ext cx="1079280" cy="7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435280" y="4508280"/>
            <a:ext cx="1081080" cy="10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4:37:36Z</dcterms:created>
  <dc:creator>Engineer</dc:creator>
  <dc:description/>
  <dc:language>en-US</dc:language>
  <cp:lastModifiedBy>www.PHILka.RU</cp:lastModifiedBy>
  <dcterms:modified xsi:type="dcterms:W3CDTF">2011-10-28T16:24:21Z</dcterms:modified>
  <cp:revision>35</cp:revision>
  <dc:subject/>
  <dc:title>Х У Д О Ж Н И К</dc:title>
</cp:coreProperties>
</file>