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3.wmf" ContentType="image/x-wmf"/>
  <Override PartName="/ppt/media/image13.jpeg" ContentType="image/jpe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623-58ED-44A5-8B3B-FA55674E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CF2-0CEA-40E4-967F-346B2CB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7AD-CE5B-4A57-B21F-828C212F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B36-B03D-435E-91AF-A4AB2952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E87-2DBC-4CCF-8E08-2AED9E0C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E1E-B386-4E51-ACE0-20AC1635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A65-BA14-4179-BC12-63C1E903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D50-744F-404A-9BD9-84B4C797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675-86BE-4FC5-B7AB-E208C83E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FB7-0869-45C1-9F71-90624CB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EF9-5A01-4F52-B35E-B80020E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631-D634-4820-9E33-9CF3C6D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2690-8B2B-43C9-A1CC-261D81B4D0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1700280"/>
            <a:ext cx="640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21"/>
          <p:cNvSpPr txBox="1"/>
          <p:nvPr/>
        </p:nvSpPr>
        <p:spPr>
          <a:xfrm>
            <a:off x="539640" y="177336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шение треугольников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1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4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еорема син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ороны треугольника пропорциональны синусам противолежащих уг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Теорема косин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вадрат стороны треугольника равен сумме квадратов двух других сторон минус удвоенное произведение этих сторон на косинус угла между н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1979640" y="333360"/>
            <a:ext cx="49719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равочные материалы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3311280" cy="1728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8"/>
          <p:cNvSpPr/>
          <p:nvPr/>
        </p:nvSpPr>
        <p:spPr>
          <a:xfrm>
            <a:off x="611280" y="5300640"/>
            <a:ext cx="33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: sin A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: sin B = c : sin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1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600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Решение косоугольных треуголь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gem9_sxema"/>
          <p:cNvPicPr/>
          <p:nvPr/>
        </p:nvPicPr>
        <p:blipFill>
          <a:blip r:embed="rId1"/>
          <a:stretch/>
        </p:blipFill>
        <p:spPr>
          <a:xfrm>
            <a:off x="1619280" y="836640"/>
            <a:ext cx="5689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76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4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655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1255680"/>
            <a:ext cx="879660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ешение треугольни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ысл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ы задач на решение треуг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очные матери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задачи на решение треуг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ЫСЛ 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м треугольника называется нахождение всех его шести элементов (т.е. трех сторон и трех углов) п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 –нибудь трем данным элементам, определяющим тре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ПЫ  ЗАДА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 треугольника по двум сторонам и углу между н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 треугольника по стороне и двум прилежащим к ней угл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 треугольника по трем сторон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059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619280" y="82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Verdana"/>
                <a:ea typeface="Times New Roman"/>
              </a:rPr>
              <a:t>Решение прямоугольных треугольни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http://sferica.by.ru/lessons/8class_pics/uroc3.gif"/>
          <p:cNvPicPr/>
          <p:nvPr/>
        </p:nvPicPr>
        <p:blipFill>
          <a:blip r:embed="rId1"/>
          <a:stretch/>
        </p:blipFill>
        <p:spPr>
          <a:xfrm>
            <a:off x="2268360" y="692280"/>
            <a:ext cx="4110120" cy="57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12"/>
          <p:cNvSpPr/>
          <p:nvPr/>
        </p:nvSpPr>
        <p:spPr>
          <a:xfrm>
            <a:off x="4427640" y="1125360"/>
            <a:ext cx="71280" cy="573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54560" y="98100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еорема Пифаг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9640" y="1413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166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720680" y="1052640"/>
            <a:ext cx="41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Тригонометрические соотно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в прямоугольном треугольн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122560" cy="244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"/>
          <p:cNvPicPr/>
          <p:nvPr/>
        </p:nvPicPr>
        <p:blipFill>
          <a:blip r:embed="rId3"/>
          <a:stretch/>
        </p:blipFill>
        <p:spPr>
          <a:xfrm>
            <a:off x="900000" y="5084640"/>
            <a:ext cx="2376720" cy="93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"/>
          <p:cNvPicPr/>
          <p:nvPr/>
        </p:nvPicPr>
        <p:blipFill>
          <a:blip r:embed="rId4"/>
          <a:stretch/>
        </p:blipFill>
        <p:spPr>
          <a:xfrm>
            <a:off x="4572000" y="2276640"/>
            <a:ext cx="181116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"/>
          <p:cNvPicPr/>
          <p:nvPr/>
        </p:nvPicPr>
        <p:blipFill>
          <a:blip r:embed="rId5"/>
          <a:stretch/>
        </p:blipFill>
        <p:spPr>
          <a:xfrm>
            <a:off x="6300720" y="2349360"/>
            <a:ext cx="2521080" cy="2951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39"/>
          <p:cNvSpPr txBox="1"/>
          <p:nvPr/>
        </p:nvSpPr>
        <p:spPr>
          <a:xfrm>
            <a:off x="2124000" y="189000"/>
            <a:ext cx="4934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равочные материал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272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04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059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1:24:47Z</dcterms:created>
  <dc:creator>Кувшинов А.В.</dc:creator>
  <dc:description/>
  <dc:language>en-US</dc:language>
  <cp:lastModifiedBy>407</cp:lastModifiedBy>
  <dcterms:modified xsi:type="dcterms:W3CDTF">2011-11-29T09:34:25Z</dcterms:modified>
  <cp:revision>22</cp:revision>
  <dc:subject/>
  <dc:title>Слайд 1</dc:title>
</cp:coreProperties>
</file>