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3.wmf" ContentType="image/x-wmf"/>
  <Override PartName="/ppt/media/image13.jpeg" ContentType="image/jpe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F84-D5E4-4376-833B-6430D74C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D17-7B70-49B8-8BBE-1A90104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BAF-B973-47B3-8315-3E207F75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902-F834-462C-BA4A-DB00EA9E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57B-B23F-4F11-AB10-E1AAB8C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B1A-DDEC-46BD-BB6E-9E18349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9E3-080F-447B-925F-47EF694A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214-73BA-40F4-8152-C859A132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A1C-865B-469A-A3AB-3D44607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6B2-FB37-4101-827E-63F92DB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F35-48AF-467A-B7F7-0615214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B3B-9C0A-48FF-946B-F676FBE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0DE-E6E7-4F28-A5DB-CB12945A56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17002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21"/>
          <p:cNvSpPr txBox="1"/>
          <p:nvPr/>
        </p:nvSpPr>
        <p:spPr>
          <a:xfrm>
            <a:off x="539640" y="177336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 треугольников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48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еорема син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ороны треугольника пропорциональны синусам противолежащих уг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Теорема косин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вадрат стороны треугольника равен сумме квадратов двух других сторон минус удвоенное произведение этих сторон на косинус угла между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1979640" y="333360"/>
            <a:ext cx="49719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равочные материалы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311280" cy="1728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8"/>
          <p:cNvSpPr/>
          <p:nvPr/>
        </p:nvSpPr>
        <p:spPr>
          <a:xfrm>
            <a:off x="611280" y="530064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: sin A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: sin B = c : sin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1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Решение косоугольных треуголь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gem9_sxema"/>
          <p:cNvPicPr/>
          <p:nvPr/>
        </p:nvPicPr>
        <p:blipFill>
          <a:blip r:embed="rId1"/>
          <a:stretch/>
        </p:blipFill>
        <p:spPr>
          <a:xfrm>
            <a:off x="1619280" y="836640"/>
            <a:ext cx="5689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7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4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5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255680"/>
            <a:ext cx="879660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ешение треугольни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ы задач на решение тре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оч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задачи на решение треуг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ЫСЛ 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м треугольника называется нахождение всех его шести элементов (т.е. трех сторон и трех углов)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 –нибудь трем данным элементам, определяющим треуголь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Ы  ЗАДА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двум сторонам и углу между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стороне и двум прилежащим к ней угл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 треугольника по трем сторон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059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619280" y="82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Verdana"/>
                <a:ea typeface="Times New Roman"/>
              </a:rPr>
              <a:t>Решение прямоугольных треуголь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http://sferica.by.ru/lessons/8class_pics/uroc3.gif"/>
          <p:cNvPicPr/>
          <p:nvPr/>
        </p:nvPicPr>
        <p:blipFill>
          <a:blip r:embed="rId1"/>
          <a:stretch/>
        </p:blipFill>
        <p:spPr>
          <a:xfrm>
            <a:off x="2268360" y="692280"/>
            <a:ext cx="4110120" cy="57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12"/>
          <p:cNvSpPr/>
          <p:nvPr/>
        </p:nvSpPr>
        <p:spPr>
          <a:xfrm>
            <a:off x="4427640" y="1125360"/>
            <a:ext cx="71280" cy="573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754560" y="98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еорема Пифаг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9640" y="1413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166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4720680" y="1052640"/>
            <a:ext cx="41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Тригонометрические соотно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в прямоугольном треуголь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122560" cy="244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"/>
          <p:cNvPicPr/>
          <p:nvPr/>
        </p:nvPicPr>
        <p:blipFill>
          <a:blip r:embed="rId3"/>
          <a:stretch/>
        </p:blipFill>
        <p:spPr>
          <a:xfrm>
            <a:off x="900000" y="5084640"/>
            <a:ext cx="237672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4"/>
          <a:stretch/>
        </p:blipFill>
        <p:spPr>
          <a:xfrm>
            <a:off x="4572000" y="2276640"/>
            <a:ext cx="1811160" cy="32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"/>
          <p:cNvPicPr/>
          <p:nvPr/>
        </p:nvPicPr>
        <p:blipFill>
          <a:blip r:embed="rId5"/>
          <a:stretch/>
        </p:blipFill>
        <p:spPr>
          <a:xfrm>
            <a:off x="6300720" y="2349360"/>
            <a:ext cx="2521080" cy="2951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39"/>
          <p:cNvSpPr txBox="1"/>
          <p:nvPr/>
        </p:nvSpPr>
        <p:spPr>
          <a:xfrm>
            <a:off x="2124000" y="189000"/>
            <a:ext cx="493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равочные материал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272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0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6059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1:24:47Z</dcterms:created>
  <dc:creator>Кувшинов А.В.</dc:creator>
  <dc:description/>
  <dc:language>en-US</dc:language>
  <cp:lastModifiedBy>407</cp:lastModifiedBy>
  <dcterms:modified xsi:type="dcterms:W3CDTF">2011-11-29T09:34:25Z</dcterms:modified>
  <cp:revision>22</cp:revision>
  <dc:subject/>
  <dc:title>Слайд 1</dc:title>
</cp:coreProperties>
</file>