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676-BB3B-4023-84F0-9856552E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8BB-5091-44EE-B6BF-8D6597F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2E0-9685-4207-8E2F-33B0F634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A2A-71F1-4CA4-BBD0-23425606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CAFE-66AD-4EE1-A409-4680FDD1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FFA-02C7-4991-AFC2-C01F4EC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7BF7-1529-43BE-BD74-4CAF708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C8CA-F97C-422C-9DDA-B70516D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0CDF-4E2B-4253-81B6-4D569AE9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AD76-DCEE-43E0-9A1A-B876552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0571-22B6-416B-81B8-B96F3E3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9ED-5279-46AA-9591-FFF6032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110F-DDA4-462C-A6AD-7D8C661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4D0E-7370-4F3D-B192-7303AE2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30F-803A-4BF3-AAB3-67600634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201D-78EF-41BB-96F4-B432F137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EBF9-F406-43ED-9FFC-366B8319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ADE-F535-4461-B7F2-44729EC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E1C-3A64-46BB-889E-9C429CA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FFB-F453-451C-BF9A-53A0E82E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DF3-8160-4E74-BB02-7FCFCF25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321-02BB-4378-979B-273F381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385-1B37-48F9-B1DC-4FA75CD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DB3-593B-4BDA-854B-6D76309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b7"/>
            </a:gs>
            <a:gs pos="50000">
              <a:srgbClr val="ffffff"/>
            </a:gs>
            <a:gs pos="100000">
              <a:srgbClr val="e1e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71D-3C6C-4D76-B72A-04AAB446D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1b7"/>
            </a:gs>
            <a:gs pos="50000">
              <a:srgbClr val="ffffff"/>
            </a:gs>
            <a:gs pos="100000">
              <a:srgbClr val="e1e1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4CAC-8BBF-4AC1-8D81-7469CD6B9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11"/>
          <p:cNvSpPr txBox="1"/>
          <p:nvPr/>
        </p:nvSpPr>
        <p:spPr>
          <a:xfrm>
            <a:off x="2271600" y="1066680"/>
            <a:ext cx="5500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уравнений,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819520" y="3048120"/>
            <a:ext cx="440028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щих модули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1762200" y="4383000"/>
            <a:ext cx="6132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0"/>
          <p:cNvSpPr/>
          <p:nvPr/>
        </p:nvSpPr>
        <p:spPr>
          <a:xfrm>
            <a:off x="1219320" y="1523880"/>
            <a:ext cx="2590560" cy="1219320"/>
          </a:xfrm>
          <a:prstGeom prst="rect">
            <a:avLst/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|=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– действительное числ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1219320" y="3657600"/>
            <a:ext cx="3581280" cy="91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g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6095880" y="1600200"/>
            <a:ext cx="2590920" cy="12193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5334120" y="3657600"/>
            <a:ext cx="3429000" cy="91440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авнени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щие несколько модуле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+|g(x)|+…+|s(x)|=h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2"/>
          <p:cNvSpPr/>
          <p:nvPr/>
        </p:nvSpPr>
        <p:spPr>
          <a:xfrm>
            <a:off x="1371600" y="228600"/>
            <a:ext cx="7467480" cy="9144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35"/>
          <p:cNvSpPr txBox="1"/>
          <p:nvPr/>
        </p:nvSpPr>
        <p:spPr>
          <a:xfrm>
            <a:off x="2133720" y="533520"/>
            <a:ext cx="611496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уравнений с модулям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Line 36"/>
          <p:cNvSpPr/>
          <p:nvPr/>
        </p:nvSpPr>
        <p:spPr>
          <a:xfrm flipH="1">
            <a:off x="3809520" y="1143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5029200" y="114300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8"/>
          <p:cNvSpPr/>
          <p:nvPr/>
        </p:nvSpPr>
        <p:spPr>
          <a:xfrm flipH="1">
            <a:off x="3504960" y="1219320"/>
            <a:ext cx="14475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5029200" y="1143000"/>
            <a:ext cx="11430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19320" y="1523880"/>
            <a:ext cx="2590560" cy="1219320"/>
          </a:xfrm>
          <a:prstGeom prst="rect">
            <a:avLst/>
          </a:prstGeom>
          <a:solidFill>
            <a:srgbClr val="e1e1b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|=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– действительное числ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573360"/>
            <a:ext cx="3581640" cy="91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g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084720" y="1628640"/>
            <a:ext cx="2590920" cy="12193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34120" y="3657600"/>
            <a:ext cx="3429000" cy="91440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авнени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ржащие несколько модуле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f(x)|+|g(x)|+…+|s(x)|=h(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371600" y="228600"/>
            <a:ext cx="7467480" cy="9144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2133720" y="533520"/>
            <a:ext cx="611496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уравнений с модулям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3809520" y="1143000"/>
            <a:ext cx="12193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5029200" y="114300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3504960" y="1219320"/>
            <a:ext cx="14475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29200" y="1143000"/>
            <a:ext cx="11430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>
            <a:hlinkClick r:id="" action="ppaction://hlinkshowjump?jump=lastslide"/>
          </p:cNvPr>
          <p:cNvSpPr/>
          <p:nvPr/>
        </p:nvSpPr>
        <p:spPr>
          <a:xfrm>
            <a:off x="8101080" y="6237360"/>
            <a:ext cx="574560" cy="539640"/>
          </a:xfrm>
          <a:custGeom>
            <a:avLst/>
            <a:gdLst>
              <a:gd name="textAreaLeft" fmla="*/ 34920 w 574560"/>
              <a:gd name="textAreaRight" fmla="*/ 539640 w 574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2997" h="21600">
                <a:moveTo>
                  <a:pt x="0" y="0"/>
                </a:moveTo>
                <a:lnTo>
                  <a:pt x="22997" y="0"/>
                </a:lnTo>
                <a:lnTo>
                  <a:pt x="22997" y="21600"/>
                </a:lnTo>
                <a:lnTo>
                  <a:pt x="0" y="21600"/>
                </a:lnTo>
                <a:close/>
              </a:path>
              <a:path fill="lightenLess" w="22997" h="21600">
                <a:moveTo>
                  <a:pt x="0" y="0"/>
                </a:moveTo>
                <a:lnTo>
                  <a:pt x="22997" y="0"/>
                </a:lnTo>
                <a:lnTo>
                  <a:pt x="21597" y="1400"/>
                </a:lnTo>
                <a:lnTo>
                  <a:pt x="1400" y="1400"/>
                </a:lnTo>
                <a:close/>
              </a:path>
              <a:path fill="darken" w="22997" h="21600">
                <a:moveTo>
                  <a:pt x="22997" y="0"/>
                </a:moveTo>
                <a:lnTo>
                  <a:pt x="22997" y="21600"/>
                </a:lnTo>
                <a:lnTo>
                  <a:pt x="21597" y="20200"/>
                </a:lnTo>
                <a:lnTo>
                  <a:pt x="21597" y="1400"/>
                </a:lnTo>
                <a:close/>
              </a:path>
              <a:path fill="darkenLess" w="22997" h="21600">
                <a:moveTo>
                  <a:pt x="22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7" y="20200"/>
                </a:lnTo>
                <a:close/>
              </a:path>
              <a:path fill="lighten" w="22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97" h="21600">
                <a:moveTo>
                  <a:pt x="14997" y="10800"/>
                </a:moveTo>
                <a:lnTo>
                  <a:pt x="4492" y="17806"/>
                </a:lnTo>
                <a:lnTo>
                  <a:pt x="4492" y="3794"/>
                </a:lnTo>
                <a:close/>
              </a:path>
              <a:path fill="darken" w="22997" h="21600">
                <a:moveTo>
                  <a:pt x="16842" y="3794"/>
                </a:moveTo>
                <a:lnTo>
                  <a:pt x="16842" y="17806"/>
                </a:lnTo>
                <a:lnTo>
                  <a:pt x="18505" y="17806"/>
                </a:lnTo>
                <a:lnTo>
                  <a:pt x="18505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>
            <a:hlinkClick r:id="" action="ppaction://hlinkshowjump?jump=lastslide"/>
          </p:cNvPr>
          <p:cNvSpPr/>
          <p:nvPr/>
        </p:nvSpPr>
        <p:spPr>
          <a:xfrm>
            <a:off x="8388360" y="6524640"/>
            <a:ext cx="71280" cy="730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143">
                <a:moveTo>
                  <a:pt x="0" y="0"/>
                </a:moveTo>
                <a:lnTo>
                  <a:pt x="21600" y="0"/>
                </a:lnTo>
                <a:lnTo>
                  <a:pt x="21600" y="22143"/>
                </a:lnTo>
                <a:lnTo>
                  <a:pt x="0" y="22143"/>
                </a:lnTo>
                <a:close/>
              </a:path>
              <a:path fill="lightenLess" w="21600" h="22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43">
                <a:moveTo>
                  <a:pt x="21600" y="0"/>
                </a:moveTo>
                <a:lnTo>
                  <a:pt x="21600" y="22143"/>
                </a:lnTo>
                <a:lnTo>
                  <a:pt x="20200" y="20743"/>
                </a:lnTo>
                <a:lnTo>
                  <a:pt x="20200" y="1400"/>
                </a:lnTo>
                <a:close/>
              </a:path>
              <a:path fill="darkenLess" w="21600" h="22143">
                <a:moveTo>
                  <a:pt x="21600" y="22143"/>
                </a:moveTo>
                <a:lnTo>
                  <a:pt x="0" y="22143"/>
                </a:lnTo>
                <a:lnTo>
                  <a:pt x="1400" y="20743"/>
                </a:lnTo>
                <a:lnTo>
                  <a:pt x="20200" y="20743"/>
                </a:lnTo>
                <a:close/>
              </a:path>
              <a:path fill="lighten" w="21600" h="22143">
                <a:moveTo>
                  <a:pt x="0" y="22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43"/>
                </a:lnTo>
                <a:close/>
              </a:path>
              <a:path fill="darken" w="21600" h="22143">
                <a:moveTo>
                  <a:pt x="14299" y="11071"/>
                </a:moveTo>
                <a:lnTo>
                  <a:pt x="3794" y="18078"/>
                </a:lnTo>
                <a:lnTo>
                  <a:pt x="3794" y="4065"/>
                </a:lnTo>
                <a:close/>
              </a:path>
              <a:path fill="darken" w="21600" h="22143">
                <a:moveTo>
                  <a:pt x="16144" y="4065"/>
                </a:moveTo>
                <a:lnTo>
                  <a:pt x="16144" y="18078"/>
                </a:lnTo>
                <a:lnTo>
                  <a:pt x="17806" y="18078"/>
                </a:lnTo>
                <a:lnTo>
                  <a:pt x="17806" y="406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048120" y="335268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581280" y="281952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057400" y="501480"/>
            <a:ext cx="64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cc"/>
                </a:solidFill>
                <a:latin typeface="Times New Roman"/>
              </a:rPr>
              <a:t>Решение уравнения 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|f(x)|=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440360" y="1981080"/>
            <a:ext cx="66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Если а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&gt;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, то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(x)=a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ли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(x) = -a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523880" y="3200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2) Если а=0, то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f(x)=0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597680" y="4343400"/>
            <a:ext cx="59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3) Если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a&lt;0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то уравнение не имеет корней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3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504720" cy="466560"/>
          </a:xfrm>
          <a:custGeom>
            <a:avLst/>
            <a:gdLst>
              <a:gd name="textAreaLeft" fmla="*/ 30240 w 504720"/>
              <a:gd name="textAreaRight" fmla="*/ 474480 w 5047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3365" h="21600">
                <a:moveTo>
                  <a:pt x="0" y="0"/>
                </a:moveTo>
                <a:lnTo>
                  <a:pt x="23365" y="0"/>
                </a:lnTo>
                <a:lnTo>
                  <a:pt x="23365" y="21600"/>
                </a:lnTo>
                <a:lnTo>
                  <a:pt x="0" y="21600"/>
                </a:lnTo>
                <a:close/>
              </a:path>
              <a:path fill="lightenLess" w="23365" h="21600">
                <a:moveTo>
                  <a:pt x="0" y="0"/>
                </a:moveTo>
                <a:lnTo>
                  <a:pt x="23365" y="0"/>
                </a:lnTo>
                <a:lnTo>
                  <a:pt x="21965" y="1400"/>
                </a:lnTo>
                <a:lnTo>
                  <a:pt x="1400" y="1400"/>
                </a:lnTo>
                <a:close/>
              </a:path>
              <a:path fill="darken" w="23365" h="21600">
                <a:moveTo>
                  <a:pt x="23365" y="0"/>
                </a:moveTo>
                <a:lnTo>
                  <a:pt x="23365" y="21600"/>
                </a:lnTo>
                <a:lnTo>
                  <a:pt x="21965" y="20200"/>
                </a:lnTo>
                <a:lnTo>
                  <a:pt x="21965" y="1400"/>
                </a:lnTo>
                <a:close/>
              </a:path>
              <a:path fill="darkenLess" w="23365" h="21600">
                <a:moveTo>
                  <a:pt x="23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65" y="20200"/>
                </a:lnTo>
                <a:close/>
              </a:path>
              <a:path fill="lighten" w="23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65" h="21600">
                <a:moveTo>
                  <a:pt x="4676" y="7493"/>
                </a:moveTo>
                <a:lnTo>
                  <a:pt x="8184" y="7493"/>
                </a:lnTo>
                <a:lnTo>
                  <a:pt x="8184" y="12828"/>
                </a:lnTo>
                <a:cubicBezTo>
                  <a:pt x="8184" y="13751"/>
                  <a:pt x="8985" y="14482"/>
                  <a:pt x="10020" y="14482"/>
                </a:cubicBezTo>
                <a:lnTo>
                  <a:pt x="11683" y="14482"/>
                </a:lnTo>
                <a:cubicBezTo>
                  <a:pt x="12718" y="14482"/>
                  <a:pt x="13519" y="13751"/>
                  <a:pt x="13519" y="12828"/>
                </a:cubicBezTo>
                <a:lnTo>
                  <a:pt x="13519" y="7493"/>
                </a:lnTo>
                <a:lnTo>
                  <a:pt x="11683" y="7493"/>
                </a:lnTo>
                <a:lnTo>
                  <a:pt x="15190" y="3985"/>
                </a:lnTo>
                <a:lnTo>
                  <a:pt x="18863" y="7493"/>
                </a:lnTo>
                <a:lnTo>
                  <a:pt x="17027" y="7493"/>
                </a:lnTo>
                <a:lnTo>
                  <a:pt x="17027" y="12828"/>
                </a:lnTo>
                <a:cubicBezTo>
                  <a:pt x="17027" y="15596"/>
                  <a:pt x="14450" y="18155"/>
                  <a:pt x="11683" y="18155"/>
                </a:cubicBezTo>
                <a:lnTo>
                  <a:pt x="10020" y="18155"/>
                </a:lnTo>
                <a:cubicBezTo>
                  <a:pt x="7252" y="18155"/>
                  <a:pt x="4676" y="15596"/>
                  <a:pt x="4676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975320" y="457200"/>
            <a:ext cx="59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уравнен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f(x)|=|g(x)|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135160" y="129528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осо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43828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219320" y="2057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=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071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133720" y="37339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 спосо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371600" y="4648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f(x)|=|g(x)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3429000" y="4572000"/>
                <a:ext cx="17524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AutoShape 14">
            <a:hlinkClick r:id="" action="ppaction://hlinkshowjump?jump=previousslide"/>
          </p:cNvPr>
          <p:cNvSpPr/>
          <p:nvPr/>
        </p:nvSpPr>
        <p:spPr>
          <a:xfrm>
            <a:off x="7596360" y="6165720"/>
            <a:ext cx="504720" cy="466920"/>
          </a:xfrm>
          <a:custGeom>
            <a:avLst/>
            <a:gdLst>
              <a:gd name="textAreaLeft" fmla="*/ 30240 w 504720"/>
              <a:gd name="textAreaRight" fmla="*/ 474480 w 504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1" y="18155"/>
                  <a:pt x="11674" y="18155"/>
                </a:cubicBezTo>
                <a:lnTo>
                  <a:pt x="10011" y="18155"/>
                </a:lnTo>
                <a:cubicBezTo>
                  <a:pt x="7243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6"/>
              <p:cNvSpPr txBox="1"/>
              <p:nvPr/>
            </p:nvSpPr>
            <p:spPr>
              <a:xfrm>
                <a:off x="5867280" y="2708280"/>
                <a:ext cx="16257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7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976400" y="609480"/>
            <a:ext cx="57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уравнени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f(x)|=g(x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5105520" y="2209680"/>
                <a:ext cx="289548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Text Box 4"/>
          <p:cNvSpPr/>
          <p:nvPr/>
        </p:nvSpPr>
        <p:spPr>
          <a:xfrm>
            <a:off x="22701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523880" y="2590920"/>
                <a:ext cx="2057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6"/>
          <p:cNvSpPr/>
          <p:nvPr/>
        </p:nvSpPr>
        <p:spPr>
          <a:xfrm>
            <a:off x="37940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3733920" y="2514600"/>
                <a:ext cx="113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8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504720" cy="395280"/>
          </a:xfrm>
          <a:custGeom>
            <a:avLst/>
            <a:gdLst>
              <a:gd name="textAreaLeft" fmla="*/ 25560 w 504720"/>
              <a:gd name="textAreaRight" fmla="*/ 479160 w 504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7575" h="21600">
                <a:moveTo>
                  <a:pt x="0" y="0"/>
                </a:moveTo>
                <a:lnTo>
                  <a:pt x="27575" y="0"/>
                </a:lnTo>
                <a:lnTo>
                  <a:pt x="27575" y="21600"/>
                </a:lnTo>
                <a:lnTo>
                  <a:pt x="0" y="21600"/>
                </a:lnTo>
                <a:close/>
              </a:path>
              <a:path fill="lightenLess" w="27575" h="21600">
                <a:moveTo>
                  <a:pt x="0" y="0"/>
                </a:moveTo>
                <a:lnTo>
                  <a:pt x="27575" y="0"/>
                </a:lnTo>
                <a:lnTo>
                  <a:pt x="26175" y="1400"/>
                </a:lnTo>
                <a:lnTo>
                  <a:pt x="1400" y="1400"/>
                </a:lnTo>
                <a:close/>
              </a:path>
              <a:path fill="darken" w="27575" h="21600">
                <a:moveTo>
                  <a:pt x="27575" y="0"/>
                </a:moveTo>
                <a:lnTo>
                  <a:pt x="27575" y="21600"/>
                </a:lnTo>
                <a:lnTo>
                  <a:pt x="26175" y="20200"/>
                </a:lnTo>
                <a:lnTo>
                  <a:pt x="26175" y="1400"/>
                </a:lnTo>
                <a:close/>
              </a:path>
              <a:path fill="darkenLess" w="27575" h="21600">
                <a:moveTo>
                  <a:pt x="275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5" y="20200"/>
                </a:lnTo>
                <a:close/>
              </a:path>
              <a:path fill="lighten" w="275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5" h="21600">
                <a:moveTo>
                  <a:pt x="6781" y="7493"/>
                </a:moveTo>
                <a:lnTo>
                  <a:pt x="10289" y="7493"/>
                </a:lnTo>
                <a:lnTo>
                  <a:pt x="10289" y="12828"/>
                </a:lnTo>
                <a:cubicBezTo>
                  <a:pt x="10289" y="13751"/>
                  <a:pt x="11089" y="14482"/>
                  <a:pt x="12125" y="14482"/>
                </a:cubicBezTo>
                <a:lnTo>
                  <a:pt x="13787" y="14482"/>
                </a:lnTo>
                <a:cubicBezTo>
                  <a:pt x="14823" y="14482"/>
                  <a:pt x="15624" y="13751"/>
                  <a:pt x="15624" y="12828"/>
                </a:cubicBezTo>
                <a:lnTo>
                  <a:pt x="15624" y="7493"/>
                </a:lnTo>
                <a:lnTo>
                  <a:pt x="13787" y="7493"/>
                </a:lnTo>
                <a:lnTo>
                  <a:pt x="17295" y="3985"/>
                </a:lnTo>
                <a:lnTo>
                  <a:pt x="20968" y="7493"/>
                </a:lnTo>
                <a:lnTo>
                  <a:pt x="19132" y="7493"/>
                </a:lnTo>
                <a:lnTo>
                  <a:pt x="19132" y="12828"/>
                </a:lnTo>
                <a:cubicBezTo>
                  <a:pt x="19132" y="15596"/>
                  <a:pt x="16555" y="18155"/>
                  <a:pt x="13787" y="18155"/>
                </a:cubicBezTo>
                <a:lnTo>
                  <a:pt x="12125" y="18155"/>
                </a:lnTo>
                <a:cubicBezTo>
                  <a:pt x="9357" y="18155"/>
                  <a:pt x="6781" y="15596"/>
                  <a:pt x="6781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125080" y="406440"/>
            <a:ext cx="54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е уравнени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щих несколько моду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50200" y="1752480"/>
            <a:ext cx="67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ходим значения переменно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ых значения модулей равны 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607040" y="2895480"/>
            <a:ext cx="606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лученные значения разбиваю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ординатную прямую на промежутки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ждом из которых раскрываем модул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решаем полученные уравн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523880" y="480060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Решением исходного уравнения являе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динение всех полученных корн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аемых уравнени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347840" y="1676520"/>
            <a:ext cx="64483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решении уравнений!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8:08:10Z</dcterms:created>
  <dc:creator>03</dc:creator>
  <dc:description/>
  <dc:language>en-US</dc:language>
  <cp:lastModifiedBy>407</cp:lastModifiedBy>
  <dcterms:modified xsi:type="dcterms:W3CDTF">2011-11-29T09:28:40Z</dcterms:modified>
  <cp:revision>8</cp:revision>
  <dc:subject/>
  <dc:title>Презентация PowerPoint</dc:title>
</cp:coreProperties>
</file>