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A7D-A4F0-497A-B635-708DE295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406-A9BD-4F6D-98BE-4B0B6442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9C7-9B84-4E27-824A-8DB997AD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461-380C-4F80-9445-628D388E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9C27-431C-459C-96FD-B3C643E7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FC51-2043-4C71-BC25-2A5E31EE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9B38-E2CA-4CF2-8525-A513658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0D90-D503-4165-BB4B-19333E4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A655-A702-41C2-8E4D-AD9A5894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B1E-C91E-49BD-8BE5-87219A03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E77-5728-457C-BBB3-F148A125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F0F-7A7D-497A-A52B-4DCE576D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CF3F-9203-4A24-A173-8B981AC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7D5D-6B00-4F89-A5DF-E6CB875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C2C4-BAFD-4252-A69A-FED3896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CA6A-C091-4955-A4AC-5C8FBA08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60A1-B757-4D57-81B5-40E01837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54D-17A4-4446-AA80-F9720EFA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48B-2F83-4071-9A50-92169E5D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0AA-CF85-4822-8680-14880C1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041-1D1A-43B4-AF98-051B3A20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535-E177-4E2F-BD70-C59AA7E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B36-7EA7-47A5-9648-B1F8C7C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54F-D703-4F47-B501-A53E8432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b7"/>
            </a:gs>
            <a:gs pos="50000">
              <a:srgbClr val="ffffff"/>
            </a:gs>
            <a:gs pos="100000">
              <a:srgbClr val="e1e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503-B51A-4176-8824-DFC83B352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b7"/>
            </a:gs>
            <a:gs pos="50000">
              <a:srgbClr val="ffffff"/>
            </a:gs>
            <a:gs pos="100000">
              <a:srgbClr val="e1e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9C2C-82D2-4772-8ACA-9221BF300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11"/>
          <p:cNvSpPr txBox="1"/>
          <p:nvPr/>
        </p:nvSpPr>
        <p:spPr>
          <a:xfrm>
            <a:off x="2271600" y="1066680"/>
            <a:ext cx="5500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уравнений,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2819520" y="3048120"/>
            <a:ext cx="44002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щих модули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1762200" y="4383000"/>
            <a:ext cx="6132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0"/>
          <p:cNvSpPr/>
          <p:nvPr/>
        </p:nvSpPr>
        <p:spPr>
          <a:xfrm>
            <a:off x="1219320" y="1523880"/>
            <a:ext cx="2590560" cy="1219320"/>
          </a:xfrm>
          <a:prstGeom prst="rect">
            <a:avLst/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|=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– действительное числ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1219320" y="3657600"/>
            <a:ext cx="3581280" cy="91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g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6095880" y="1600200"/>
            <a:ext cx="2590920" cy="12193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5334120" y="3657600"/>
            <a:ext cx="3429000" cy="91440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авнени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щие несколько модуле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+|g(x)|+…+|s(x)|=h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2"/>
          <p:cNvSpPr/>
          <p:nvPr/>
        </p:nvSpPr>
        <p:spPr>
          <a:xfrm>
            <a:off x="1371600" y="228600"/>
            <a:ext cx="7467480" cy="9144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35"/>
          <p:cNvSpPr txBox="1"/>
          <p:nvPr/>
        </p:nvSpPr>
        <p:spPr>
          <a:xfrm>
            <a:off x="2133720" y="533520"/>
            <a:ext cx="611496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уравнений с модулям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Line 36"/>
          <p:cNvSpPr/>
          <p:nvPr/>
        </p:nvSpPr>
        <p:spPr>
          <a:xfrm flipH="1">
            <a:off x="3809520" y="1143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5029200" y="114300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8"/>
          <p:cNvSpPr/>
          <p:nvPr/>
        </p:nvSpPr>
        <p:spPr>
          <a:xfrm flipH="1">
            <a:off x="3504960" y="1219320"/>
            <a:ext cx="14475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5029200" y="1143000"/>
            <a:ext cx="11430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219320" y="1523880"/>
            <a:ext cx="2590560" cy="1219320"/>
          </a:xfrm>
          <a:prstGeom prst="rect">
            <a:avLst/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|=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– действительное числ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573360"/>
            <a:ext cx="3581640" cy="91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g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84720" y="1628640"/>
            <a:ext cx="2590920" cy="12193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34120" y="3657600"/>
            <a:ext cx="3429000" cy="91440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авнени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щие несколько модуле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+|g(x)|+…+|s(x)|=h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371600" y="228600"/>
            <a:ext cx="7467480" cy="9144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2133720" y="533520"/>
            <a:ext cx="611496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уравнений с модулям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3809520" y="1143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5029200" y="114300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3504960" y="1219320"/>
            <a:ext cx="14475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29200" y="1143000"/>
            <a:ext cx="11430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>
            <a:hlinkClick r:id="" action="ppaction://hlinkshowjump?jump=lastslide"/>
          </p:cNvPr>
          <p:cNvSpPr/>
          <p:nvPr/>
        </p:nvSpPr>
        <p:spPr>
          <a:xfrm>
            <a:off x="8101080" y="6237360"/>
            <a:ext cx="574560" cy="539640"/>
          </a:xfrm>
          <a:custGeom>
            <a:avLst/>
            <a:gdLst>
              <a:gd name="textAreaLeft" fmla="*/ 34920 w 574560"/>
              <a:gd name="textAreaRight" fmla="*/ 539640 w 574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2997" h="21600">
                <a:moveTo>
                  <a:pt x="0" y="0"/>
                </a:moveTo>
                <a:lnTo>
                  <a:pt x="22997" y="0"/>
                </a:lnTo>
                <a:lnTo>
                  <a:pt x="22997" y="21600"/>
                </a:lnTo>
                <a:lnTo>
                  <a:pt x="0" y="21600"/>
                </a:lnTo>
                <a:close/>
              </a:path>
              <a:path fill="lightenLess" w="22997" h="21600">
                <a:moveTo>
                  <a:pt x="0" y="0"/>
                </a:moveTo>
                <a:lnTo>
                  <a:pt x="22997" y="0"/>
                </a:lnTo>
                <a:lnTo>
                  <a:pt x="21597" y="1400"/>
                </a:lnTo>
                <a:lnTo>
                  <a:pt x="1400" y="1400"/>
                </a:lnTo>
                <a:close/>
              </a:path>
              <a:path fill="darken" w="22997" h="21600">
                <a:moveTo>
                  <a:pt x="22997" y="0"/>
                </a:moveTo>
                <a:lnTo>
                  <a:pt x="22997" y="21600"/>
                </a:lnTo>
                <a:lnTo>
                  <a:pt x="21597" y="20200"/>
                </a:lnTo>
                <a:lnTo>
                  <a:pt x="21597" y="1400"/>
                </a:lnTo>
                <a:close/>
              </a:path>
              <a:path fill="darkenLess" w="22997" h="21600">
                <a:moveTo>
                  <a:pt x="22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7" y="20200"/>
                </a:lnTo>
                <a:close/>
              </a:path>
              <a:path fill="lighten" w="22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97" h="21600">
                <a:moveTo>
                  <a:pt x="14997" y="10800"/>
                </a:moveTo>
                <a:lnTo>
                  <a:pt x="4492" y="17806"/>
                </a:lnTo>
                <a:lnTo>
                  <a:pt x="4492" y="3794"/>
                </a:lnTo>
                <a:close/>
              </a:path>
              <a:path fill="darken" w="22997" h="21600">
                <a:moveTo>
                  <a:pt x="16842" y="3794"/>
                </a:moveTo>
                <a:lnTo>
                  <a:pt x="16842" y="17806"/>
                </a:lnTo>
                <a:lnTo>
                  <a:pt x="18505" y="17806"/>
                </a:lnTo>
                <a:lnTo>
                  <a:pt x="18505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>
            <a:hlinkClick r:id="" action="ppaction://hlinkshowjump?jump=lastslide"/>
          </p:cNvPr>
          <p:cNvSpPr/>
          <p:nvPr/>
        </p:nvSpPr>
        <p:spPr>
          <a:xfrm>
            <a:off x="8388360" y="6524640"/>
            <a:ext cx="71280" cy="730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143">
                <a:moveTo>
                  <a:pt x="0" y="0"/>
                </a:moveTo>
                <a:lnTo>
                  <a:pt x="21600" y="0"/>
                </a:lnTo>
                <a:lnTo>
                  <a:pt x="21600" y="22143"/>
                </a:lnTo>
                <a:lnTo>
                  <a:pt x="0" y="22143"/>
                </a:lnTo>
                <a:close/>
              </a:path>
              <a:path fill="lightenLess" w="21600" h="22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3">
                <a:moveTo>
                  <a:pt x="21600" y="0"/>
                </a:moveTo>
                <a:lnTo>
                  <a:pt x="21600" y="22143"/>
                </a:lnTo>
                <a:lnTo>
                  <a:pt x="20200" y="20743"/>
                </a:lnTo>
                <a:lnTo>
                  <a:pt x="20200" y="1400"/>
                </a:lnTo>
                <a:close/>
              </a:path>
              <a:path fill="darkenLess" w="21600" h="22143">
                <a:moveTo>
                  <a:pt x="21600" y="22143"/>
                </a:moveTo>
                <a:lnTo>
                  <a:pt x="0" y="22143"/>
                </a:lnTo>
                <a:lnTo>
                  <a:pt x="1400" y="20743"/>
                </a:lnTo>
                <a:lnTo>
                  <a:pt x="20200" y="20743"/>
                </a:lnTo>
                <a:close/>
              </a:path>
              <a:path fill="lighten" w="21600" h="22143">
                <a:moveTo>
                  <a:pt x="0" y="22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3"/>
                </a:lnTo>
                <a:close/>
              </a:path>
              <a:path fill="darken" w="21600" h="22143">
                <a:moveTo>
                  <a:pt x="14299" y="11071"/>
                </a:moveTo>
                <a:lnTo>
                  <a:pt x="3794" y="18078"/>
                </a:lnTo>
                <a:lnTo>
                  <a:pt x="3794" y="4065"/>
                </a:lnTo>
                <a:close/>
              </a:path>
              <a:path fill="darken" w="21600" h="22143">
                <a:moveTo>
                  <a:pt x="16144" y="4065"/>
                </a:moveTo>
                <a:lnTo>
                  <a:pt x="16144" y="18078"/>
                </a:lnTo>
                <a:lnTo>
                  <a:pt x="17806" y="18078"/>
                </a:lnTo>
                <a:lnTo>
                  <a:pt x="17806" y="406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048120" y="335268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581280" y="281952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057400" y="50148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cc"/>
                </a:solidFill>
                <a:latin typeface="Times New Roman"/>
              </a:rPr>
              <a:t>Решение уравнения 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|f(x)|=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440360" y="1981080"/>
            <a:ext cx="66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Если а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&gt;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, то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(x)=a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ли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(x) = -a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523880" y="3200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2) Если а=0, то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f(x)=0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597680" y="4343400"/>
            <a:ext cx="59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3) Если 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a&lt;0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то уравнение не имеет корне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3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504720" cy="466560"/>
          </a:xfrm>
          <a:custGeom>
            <a:avLst/>
            <a:gdLst>
              <a:gd name="textAreaLeft" fmla="*/ 30240 w 504720"/>
              <a:gd name="textAreaRight" fmla="*/ 474480 w 5047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3365" h="21600">
                <a:moveTo>
                  <a:pt x="0" y="0"/>
                </a:moveTo>
                <a:lnTo>
                  <a:pt x="23365" y="0"/>
                </a:lnTo>
                <a:lnTo>
                  <a:pt x="23365" y="21600"/>
                </a:lnTo>
                <a:lnTo>
                  <a:pt x="0" y="21600"/>
                </a:lnTo>
                <a:close/>
              </a:path>
              <a:path fill="lightenLess" w="23365" h="21600">
                <a:moveTo>
                  <a:pt x="0" y="0"/>
                </a:moveTo>
                <a:lnTo>
                  <a:pt x="23365" y="0"/>
                </a:lnTo>
                <a:lnTo>
                  <a:pt x="21965" y="1400"/>
                </a:lnTo>
                <a:lnTo>
                  <a:pt x="1400" y="1400"/>
                </a:lnTo>
                <a:close/>
              </a:path>
              <a:path fill="darken" w="23365" h="21600">
                <a:moveTo>
                  <a:pt x="23365" y="0"/>
                </a:moveTo>
                <a:lnTo>
                  <a:pt x="23365" y="21600"/>
                </a:lnTo>
                <a:lnTo>
                  <a:pt x="21965" y="20200"/>
                </a:lnTo>
                <a:lnTo>
                  <a:pt x="21965" y="1400"/>
                </a:lnTo>
                <a:close/>
              </a:path>
              <a:path fill="darkenLess" w="23365" h="21600">
                <a:moveTo>
                  <a:pt x="23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65" y="20200"/>
                </a:lnTo>
                <a:close/>
              </a:path>
              <a:path fill="lighten" w="23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65" h="21600">
                <a:moveTo>
                  <a:pt x="4676" y="7493"/>
                </a:moveTo>
                <a:lnTo>
                  <a:pt x="8184" y="7493"/>
                </a:lnTo>
                <a:lnTo>
                  <a:pt x="8184" y="12828"/>
                </a:lnTo>
                <a:cubicBezTo>
                  <a:pt x="8184" y="13751"/>
                  <a:pt x="8985" y="14482"/>
                  <a:pt x="10020" y="14482"/>
                </a:cubicBezTo>
                <a:lnTo>
                  <a:pt x="11683" y="14482"/>
                </a:lnTo>
                <a:cubicBezTo>
                  <a:pt x="12718" y="14482"/>
                  <a:pt x="13519" y="13751"/>
                  <a:pt x="13519" y="12828"/>
                </a:cubicBezTo>
                <a:lnTo>
                  <a:pt x="13519" y="7493"/>
                </a:lnTo>
                <a:lnTo>
                  <a:pt x="11683" y="7493"/>
                </a:lnTo>
                <a:lnTo>
                  <a:pt x="15190" y="3985"/>
                </a:lnTo>
                <a:lnTo>
                  <a:pt x="18863" y="7493"/>
                </a:lnTo>
                <a:lnTo>
                  <a:pt x="17027" y="7493"/>
                </a:lnTo>
                <a:lnTo>
                  <a:pt x="17027" y="12828"/>
                </a:lnTo>
                <a:cubicBezTo>
                  <a:pt x="17027" y="15596"/>
                  <a:pt x="14450" y="18155"/>
                  <a:pt x="11683" y="18155"/>
                </a:cubicBezTo>
                <a:lnTo>
                  <a:pt x="10020" y="18155"/>
                </a:lnTo>
                <a:cubicBezTo>
                  <a:pt x="7252" y="18155"/>
                  <a:pt x="4676" y="15596"/>
                  <a:pt x="4676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975320" y="457200"/>
            <a:ext cx="59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уравнени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f(x)|=|g(x)|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135160" y="1295280"/>
            <a:ext cx="12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посо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43828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219320" y="20574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071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133720" y="37339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спосо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37160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3429000" y="4572000"/>
                <a:ext cx="17524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AutoShape 14">
            <a:hlinkClick r:id="" action="ppaction://hlinkshowjump?jump=previousslide"/>
          </p:cNvPr>
          <p:cNvSpPr/>
          <p:nvPr/>
        </p:nvSpPr>
        <p:spPr>
          <a:xfrm>
            <a:off x="7596360" y="6165720"/>
            <a:ext cx="504720" cy="466920"/>
          </a:xfrm>
          <a:custGeom>
            <a:avLst/>
            <a:gdLst>
              <a:gd name="textAreaLeft" fmla="*/ 30240 w 504720"/>
              <a:gd name="textAreaRight" fmla="*/ 474480 w 504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1" y="18155"/>
                  <a:pt x="11674" y="18155"/>
                </a:cubicBezTo>
                <a:lnTo>
                  <a:pt x="10011" y="18155"/>
                </a:lnTo>
                <a:cubicBezTo>
                  <a:pt x="7243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6"/>
              <p:cNvSpPr txBox="1"/>
              <p:nvPr/>
            </p:nvSpPr>
            <p:spPr>
              <a:xfrm>
                <a:off x="5867280" y="2708280"/>
                <a:ext cx="16257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976400" y="609480"/>
            <a:ext cx="57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уравнени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f(x)|=g(x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5105520" y="2209680"/>
                <a:ext cx="289548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Text Box 4"/>
          <p:cNvSpPr/>
          <p:nvPr/>
        </p:nvSpPr>
        <p:spPr>
          <a:xfrm>
            <a:off x="22701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523880" y="2590920"/>
                <a:ext cx="2057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6"/>
          <p:cNvSpPr/>
          <p:nvPr/>
        </p:nvSpPr>
        <p:spPr>
          <a:xfrm>
            <a:off x="37940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733920" y="2514600"/>
                <a:ext cx="113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8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504720" cy="395280"/>
          </a:xfrm>
          <a:custGeom>
            <a:avLst/>
            <a:gdLst>
              <a:gd name="textAreaLeft" fmla="*/ 25560 w 504720"/>
              <a:gd name="textAreaRight" fmla="*/ 479160 w 504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7575" h="21600">
                <a:moveTo>
                  <a:pt x="0" y="0"/>
                </a:moveTo>
                <a:lnTo>
                  <a:pt x="27575" y="0"/>
                </a:lnTo>
                <a:lnTo>
                  <a:pt x="27575" y="21600"/>
                </a:lnTo>
                <a:lnTo>
                  <a:pt x="0" y="21600"/>
                </a:lnTo>
                <a:close/>
              </a:path>
              <a:path fill="lightenLess" w="27575" h="21600">
                <a:moveTo>
                  <a:pt x="0" y="0"/>
                </a:moveTo>
                <a:lnTo>
                  <a:pt x="27575" y="0"/>
                </a:lnTo>
                <a:lnTo>
                  <a:pt x="26175" y="1400"/>
                </a:lnTo>
                <a:lnTo>
                  <a:pt x="1400" y="1400"/>
                </a:lnTo>
                <a:close/>
              </a:path>
              <a:path fill="darken" w="27575" h="21600">
                <a:moveTo>
                  <a:pt x="27575" y="0"/>
                </a:moveTo>
                <a:lnTo>
                  <a:pt x="27575" y="21600"/>
                </a:lnTo>
                <a:lnTo>
                  <a:pt x="26175" y="20200"/>
                </a:lnTo>
                <a:lnTo>
                  <a:pt x="26175" y="1400"/>
                </a:lnTo>
                <a:close/>
              </a:path>
              <a:path fill="darkenLess" w="27575" h="21600">
                <a:moveTo>
                  <a:pt x="27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5" y="20200"/>
                </a:lnTo>
                <a:close/>
              </a:path>
              <a:path fill="lighten" w="27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5" h="21600">
                <a:moveTo>
                  <a:pt x="6781" y="7493"/>
                </a:moveTo>
                <a:lnTo>
                  <a:pt x="10289" y="7493"/>
                </a:lnTo>
                <a:lnTo>
                  <a:pt x="10289" y="12828"/>
                </a:lnTo>
                <a:cubicBezTo>
                  <a:pt x="10289" y="13751"/>
                  <a:pt x="11089" y="14482"/>
                  <a:pt x="12125" y="14482"/>
                </a:cubicBezTo>
                <a:lnTo>
                  <a:pt x="13787" y="14482"/>
                </a:lnTo>
                <a:cubicBezTo>
                  <a:pt x="14823" y="14482"/>
                  <a:pt x="15624" y="13751"/>
                  <a:pt x="15624" y="12828"/>
                </a:cubicBezTo>
                <a:lnTo>
                  <a:pt x="15624" y="7493"/>
                </a:lnTo>
                <a:lnTo>
                  <a:pt x="13787" y="7493"/>
                </a:lnTo>
                <a:lnTo>
                  <a:pt x="17295" y="3985"/>
                </a:lnTo>
                <a:lnTo>
                  <a:pt x="20968" y="7493"/>
                </a:lnTo>
                <a:lnTo>
                  <a:pt x="19132" y="7493"/>
                </a:lnTo>
                <a:lnTo>
                  <a:pt x="19132" y="12828"/>
                </a:lnTo>
                <a:cubicBezTo>
                  <a:pt x="19132" y="15596"/>
                  <a:pt x="16555" y="18155"/>
                  <a:pt x="13787" y="18155"/>
                </a:cubicBezTo>
                <a:lnTo>
                  <a:pt x="12125" y="18155"/>
                </a:lnTo>
                <a:cubicBezTo>
                  <a:pt x="9357" y="18155"/>
                  <a:pt x="6781" y="15596"/>
                  <a:pt x="6781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25080" y="406440"/>
            <a:ext cx="54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е уравнени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щих несколько моду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50200" y="1752480"/>
            <a:ext cx="67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ходим значения переменно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ых значения модулей равны 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607040" y="2895480"/>
            <a:ext cx="606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лученные значения разбиваю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ординатную прямую на промежутки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ждом из которых раскрываем модул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ешаем полученные уравн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523880" y="4800600"/>
            <a:ext cx="66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Решением исходного уравнения являе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динение всех полученных корне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аемых уравнен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1347840" y="1676520"/>
            <a:ext cx="64483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решении уравнений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8:08:10Z</dcterms:created>
  <dc:creator>03</dc:creator>
  <dc:description/>
  <dc:language>en-US</dc:language>
  <cp:lastModifiedBy>407</cp:lastModifiedBy>
  <dcterms:modified xsi:type="dcterms:W3CDTF">2011-11-29T09:28:40Z</dcterms:modified>
  <cp:revision>8</cp:revision>
  <dc:subject/>
  <dc:title>Презентация PowerPoint</dc:title>
</cp:coreProperties>
</file>