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116A-B549-4966-9E21-26C50FC3D0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6730-6AD1-4A7E-A254-45ABFE96C1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1DB6-C611-45C6-811B-A97D4AE2BC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7E68-AFAB-4BCA-95FB-14966EA5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E59-B7FF-4897-B734-F509D6A2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4833-67E3-4588-8DC9-BD204555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4C1-F531-463C-912D-6DE6B008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457-2E53-4A85-AA9B-67695711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23A5-D06C-453F-8D4E-9CCAC807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B96-3D0E-4CA6-8BF0-7F27E929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4B93-F31E-4BBA-88E7-A3573083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A2B-4DAE-49A9-971B-A5A0B42C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C26F-9B70-4C57-BA8A-AEF9CB91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37FE-E03C-4165-B7BE-0BAE70B0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7BA8-DDC5-4C95-8CDD-5477567A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0BBC-49A9-43F8-B322-3D649943EF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Romanovs1917.jpg" TargetMode="External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6000" y="0"/>
            <a:ext cx="65880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оект: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мператорская семь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иколая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оманова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жизнь и судьб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76720" y="5805360"/>
            <a:ext cx="586728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полнила Быкова Кс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еница 4б класса МОУ «Каслинская СОШ № 27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Кирилл быков.кириллбыков-ПК\Desktop\Романовы\romanovy_sothebys_4.jpg"/>
          <p:cNvPicPr/>
          <p:nvPr/>
        </p:nvPicPr>
        <p:blipFill>
          <a:blip r:embed="rId2"/>
          <a:stretch/>
        </p:blipFill>
        <p:spPr>
          <a:xfrm>
            <a:off x="179280" y="2492280"/>
            <a:ext cx="354168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пруга Никола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его кузи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двоюродная сестра) Алиса Гессенска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крещении – Александра Фёдоров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четание браком состоялос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4 ноября 1894 года в Большой Церкв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имнего Дворца в Санкт-Петербург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C:\Users\Кирилл быков.кириллбыков-ПК\Desktop\Романовы\8.jpg"/>
          <p:cNvPicPr/>
          <p:nvPr/>
        </p:nvPicPr>
        <p:blipFill>
          <a:blip r:embed="rId2"/>
          <a:stretch/>
        </p:blipFill>
        <p:spPr>
          <a:xfrm>
            <a:off x="6156360" y="3284640"/>
            <a:ext cx="2808360" cy="338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Кирилл быков.кириллбыков-ПК\Desktop\10.jpg"/>
          <p:cNvPicPr/>
          <p:nvPr/>
        </p:nvPicPr>
        <p:blipFill>
          <a:blip r:embed="rId3"/>
          <a:stretch/>
        </p:blipFill>
        <p:spPr>
          <a:xfrm>
            <a:off x="250920" y="571680"/>
            <a:ext cx="3384360" cy="5810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Кирилл быков.кириллбыков-ПК\Desktop\11.jpg"/>
          <p:cNvPicPr/>
          <p:nvPr/>
        </p:nvPicPr>
        <p:blipFill>
          <a:blip r:embed="rId4"/>
          <a:stretch/>
        </p:blipFill>
        <p:spPr>
          <a:xfrm>
            <a:off x="2987640" y="3284640"/>
            <a:ext cx="2952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иколай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любимый и любящий муж и отец и был счастлив в бра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Кирилл быков.кириллбыков-ПК\Desktop\15.jpg"/>
          <p:cNvPicPr/>
          <p:nvPr/>
        </p:nvPicPr>
        <p:blipFill>
          <a:blip r:embed="rId2"/>
          <a:stretch/>
        </p:blipFill>
        <p:spPr>
          <a:xfrm>
            <a:off x="179280" y="1643040"/>
            <a:ext cx="2952720" cy="5025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Кирилл быков.кириллбыков-ПК\Desktop\16.jpg"/>
          <p:cNvPicPr/>
          <p:nvPr/>
        </p:nvPicPr>
        <p:blipFill>
          <a:blip r:embed="rId3"/>
          <a:stretch/>
        </p:blipFill>
        <p:spPr>
          <a:xfrm>
            <a:off x="3203640" y="1214280"/>
            <a:ext cx="4464000" cy="3654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Кирилл быков.кириллбыков-ПК\Desktop\17.jpg"/>
          <p:cNvPicPr/>
          <p:nvPr/>
        </p:nvPicPr>
        <p:blipFill>
          <a:blip r:embed="rId4"/>
          <a:stretch/>
        </p:blipFill>
        <p:spPr>
          <a:xfrm>
            <a:off x="3492360" y="3857760"/>
            <a:ext cx="56516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чери Николая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льга, Татьяна, Мария, Анаста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Кирилл быков.кириллбыков-ПК\Desktop\18.jpg"/>
          <p:cNvPicPr/>
          <p:nvPr/>
        </p:nvPicPr>
        <p:blipFill>
          <a:blip r:embed="rId2"/>
          <a:stretch/>
        </p:blipFill>
        <p:spPr>
          <a:xfrm>
            <a:off x="250920" y="1341360"/>
            <a:ext cx="4465440" cy="489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Кирилл быков.кириллбыков-ПК\Desktop\20.jpg"/>
          <p:cNvPicPr/>
          <p:nvPr/>
        </p:nvPicPr>
        <p:blipFill>
          <a:blip r:embed="rId3"/>
          <a:stretch/>
        </p:blipFill>
        <p:spPr>
          <a:xfrm>
            <a:off x="4929120" y="1905120"/>
            <a:ext cx="389088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еликие княжны Романовы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были сёстрами милосерд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о время Первой мировой вой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Кирилл быков.кириллбыков-ПК\Desktop\21.jpg"/>
          <p:cNvPicPr/>
          <p:nvPr/>
        </p:nvPicPr>
        <p:blipFill>
          <a:blip r:embed="rId2"/>
          <a:stretch/>
        </p:blipFill>
        <p:spPr>
          <a:xfrm>
            <a:off x="324000" y="1628640"/>
            <a:ext cx="4968720" cy="3024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Users\Кирилл быков.кириллбыков-ПК\Desktop\22.jpg"/>
          <p:cNvPicPr/>
          <p:nvPr/>
        </p:nvPicPr>
        <p:blipFill>
          <a:blip r:embed="rId3"/>
          <a:stretch/>
        </p:blipFill>
        <p:spPr>
          <a:xfrm>
            <a:off x="2340000" y="3933720"/>
            <a:ext cx="6553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ын Николая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саревич Алексей Роман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ребёнок, больной неизлечимой болезнью - гемофили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Кирилл быков.кириллбыков-ПК\Desktop\19.jpg"/>
          <p:cNvPicPr/>
          <p:nvPr/>
        </p:nvPicPr>
        <p:blipFill>
          <a:blip r:embed="rId2"/>
          <a:stretch/>
        </p:blipFill>
        <p:spPr>
          <a:xfrm>
            <a:off x="179280" y="1773360"/>
            <a:ext cx="3888000" cy="424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Кирилл быков.кириллбыков-ПК\Desktop\Романовы\13.jpg"/>
          <p:cNvPicPr/>
          <p:nvPr/>
        </p:nvPicPr>
        <p:blipFill>
          <a:blip r:embed="rId3"/>
          <a:stretch/>
        </p:blipFill>
        <p:spPr>
          <a:xfrm>
            <a:off x="4572000" y="1523880"/>
            <a:ext cx="417672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Кирилл быков.кириллбыков-ПК\Desktop\23.jpg"/>
          <p:cNvPicPr/>
          <p:nvPr/>
        </p:nvPicPr>
        <p:blipFill>
          <a:blip r:embed="rId2"/>
          <a:stretch/>
        </p:blipFill>
        <p:spPr>
          <a:xfrm>
            <a:off x="179280" y="189000"/>
            <a:ext cx="4969080" cy="3311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Кирилл быков.кириллбыков-ПК\Desktop\24.jpg"/>
          <p:cNvPicPr/>
          <p:nvPr/>
        </p:nvPicPr>
        <p:blipFill>
          <a:blip r:embed="rId3"/>
          <a:stretch/>
        </p:blipFill>
        <p:spPr>
          <a:xfrm>
            <a:off x="4716360" y="333360"/>
            <a:ext cx="4427640" cy="367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Кирилл быков.кириллбыков-ПК\Desktop\25.jpg"/>
          <p:cNvPicPr/>
          <p:nvPr/>
        </p:nvPicPr>
        <p:blipFill>
          <a:blip r:embed="rId4"/>
          <a:stretch/>
        </p:blipFill>
        <p:spPr>
          <a:xfrm>
            <a:off x="5148360" y="2924280"/>
            <a:ext cx="3816360" cy="3933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Users\Кирилл быков.кириллбыков-ПК\Desktop\26.jpg"/>
          <p:cNvPicPr/>
          <p:nvPr/>
        </p:nvPicPr>
        <p:blipFill>
          <a:blip r:embed="rId5"/>
          <a:stretch/>
        </p:blipFill>
        <p:spPr>
          <a:xfrm>
            <a:off x="395280" y="3141720"/>
            <a:ext cx="417672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иколай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кровавы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785840" y="1600200"/>
            <a:ext cx="39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ление Никола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это время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еволюции 1905-1907 годо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усско – японской войны 1904-1905г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ервой мировой войн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февральской революции 1917 год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Кирилл быков.кириллбыков-ПК\Desktop\6.jpg"/>
          <p:cNvPicPr/>
          <p:nvPr/>
        </p:nvPicPr>
        <p:blipFill>
          <a:blip r:embed="rId2"/>
          <a:stretch/>
        </p:blipFill>
        <p:spPr>
          <a:xfrm>
            <a:off x="250920" y="1125360"/>
            <a:ext cx="3816360" cy="251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Кирилл быков.кириллбыков-ПК\Desktop\5.jpg"/>
          <p:cNvPicPr/>
          <p:nvPr/>
        </p:nvPicPr>
        <p:blipFill>
          <a:blip r:embed="rId3"/>
          <a:stretch/>
        </p:blipFill>
        <p:spPr>
          <a:xfrm>
            <a:off x="250920" y="3213000"/>
            <a:ext cx="44654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колай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манов отрёкся от престола за себ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сына Алексея 2 марта 1917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 время февральской револю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Кирилл быков.кириллбыков-ПК\Desktop\27.jpg"/>
          <p:cNvPicPr/>
          <p:nvPr/>
        </p:nvPicPr>
        <p:blipFill>
          <a:blip r:embed="rId2"/>
          <a:stretch/>
        </p:blipFill>
        <p:spPr>
          <a:xfrm>
            <a:off x="324000" y="2214720"/>
            <a:ext cx="4319280" cy="4309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Кирилл быков.кириллбыков-ПК\Desktop\28.jpg"/>
          <p:cNvPicPr/>
          <p:nvPr/>
        </p:nvPicPr>
        <p:blipFill>
          <a:blip r:embed="rId3"/>
          <a:stretch/>
        </p:blipFill>
        <p:spPr>
          <a:xfrm>
            <a:off x="4788000" y="1928880"/>
            <a:ext cx="417672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 9 марта по 14 августа 1917 года семья Романовых находилась под арес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Александровском дворце Царского с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Кирилл быков.кириллбыков-ПК\Desktop\31.jpg"/>
          <p:cNvPicPr/>
          <p:nvPr/>
        </p:nvPicPr>
        <p:blipFill>
          <a:blip r:embed="rId2"/>
          <a:stretch/>
        </p:blipFill>
        <p:spPr>
          <a:xfrm>
            <a:off x="250920" y="2428920"/>
            <a:ext cx="4176720" cy="4168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Кирилл быков.кириллбыков-ПК\Desktop\33.jpg"/>
          <p:cNvPicPr/>
          <p:nvPr/>
        </p:nvPicPr>
        <p:blipFill>
          <a:blip r:embed="rId3"/>
          <a:stretch/>
        </p:blipFill>
        <p:spPr>
          <a:xfrm>
            <a:off x="4343400" y="2000160"/>
            <a:ext cx="4621320" cy="44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том 1917 года Николай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месте с семьёй отправлен в ссылку в город Тоболь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http://upload.wikimedia.org/wikipedia/commons/thumb/f/f6/Romanovs1917.jpg/230px-Romanovs1917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57240"/>
            <a:ext cx="4249800" cy="4451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Кирилл быков.кириллбыков-ПК\Desktop\28.jpg"/>
          <p:cNvPicPr/>
          <p:nvPr/>
        </p:nvPicPr>
        <p:blipFill>
          <a:blip r:embed="rId4"/>
          <a:stretch/>
        </p:blipFill>
        <p:spPr>
          <a:xfrm>
            <a:off x="3851280" y="2500200"/>
            <a:ext cx="48974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dmin\Рабочий стол\Романовы - копия\DSC00697.JPG"/>
          <p:cNvPicPr/>
          <p:nvPr/>
        </p:nvPicPr>
        <p:blipFill>
          <a:blip r:embed="rId2"/>
          <a:stretch/>
        </p:blipFill>
        <p:spPr>
          <a:xfrm>
            <a:off x="2000160" y="857160"/>
            <a:ext cx="5286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50920" y="356760"/>
            <a:ext cx="8229600" cy="56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 весны до 17 июля 1918 года семья Романовых находилась в городе Екатеринбург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Users\Кирилл быков.кириллбыков-ПК\Desktop\38.jpg"/>
          <p:cNvPicPr/>
          <p:nvPr/>
        </p:nvPicPr>
        <p:blipFill>
          <a:blip r:embed="rId2"/>
          <a:stretch/>
        </p:blipFill>
        <p:spPr>
          <a:xfrm>
            <a:off x="250920" y="1500120"/>
            <a:ext cx="4321080" cy="4292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Кирилл быков.кириллбыков-ПК\Desktop\39.jpg"/>
          <p:cNvPicPr/>
          <p:nvPr/>
        </p:nvPicPr>
        <p:blipFill>
          <a:blip r:embed="rId3"/>
          <a:stretch/>
        </p:blipFill>
        <p:spPr>
          <a:xfrm>
            <a:off x="4500720" y="2214720"/>
            <a:ext cx="44640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36D042D1-DD8B-4328-BCCE-7AC31B874F01_mw800_mh600"/>
          <p:cNvPicPr/>
          <p:nvPr/>
        </p:nvPicPr>
        <p:blipFill>
          <a:blip r:embed="rId2"/>
          <a:stretch/>
        </p:blipFill>
        <p:spPr>
          <a:xfrm>
            <a:off x="611280" y="500040"/>
            <a:ext cx="799308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трашная участь Романовых… расстр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Кирилл быков.кириллбыков-ПК\Desktop\32.jpg"/>
          <p:cNvPicPr/>
          <p:nvPr/>
        </p:nvPicPr>
        <p:blipFill>
          <a:blip r:embed="rId2"/>
          <a:stretch/>
        </p:blipFill>
        <p:spPr>
          <a:xfrm>
            <a:off x="250920" y="2205000"/>
            <a:ext cx="4392360" cy="381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nik2_8"/>
          <p:cNvPicPr/>
          <p:nvPr/>
        </p:nvPicPr>
        <p:blipFill>
          <a:blip r:embed="rId3"/>
          <a:stretch/>
        </p:blipFill>
        <p:spPr>
          <a:xfrm>
            <a:off x="4932360" y="1341360"/>
            <a:ext cx="3672000" cy="266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Foto-podval"/>
          <p:cNvPicPr/>
          <p:nvPr/>
        </p:nvPicPr>
        <p:blipFill>
          <a:blip r:embed="rId4"/>
          <a:stretch/>
        </p:blipFill>
        <p:spPr>
          <a:xfrm>
            <a:off x="4427640" y="3860640"/>
            <a:ext cx="4537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омановы были расстреляны 17 июля 1918 года в доме инженера Ипатьева в Екатеринбург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ом до Романовых     дом во время Романовых   дом после Романов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Кирилл быков.кириллбыков-ПК\Desktop\43.jpg"/>
          <p:cNvPicPr/>
          <p:nvPr/>
        </p:nvPicPr>
        <p:blipFill>
          <a:blip r:embed="rId2"/>
          <a:stretch/>
        </p:blipFill>
        <p:spPr>
          <a:xfrm>
            <a:off x="2843280" y="2060640"/>
            <a:ext cx="3024000" cy="2952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Кирилл быков.кириллбыков-ПК\Desktop\Романовы\44.jpg"/>
          <p:cNvPicPr/>
          <p:nvPr/>
        </p:nvPicPr>
        <p:blipFill>
          <a:blip r:embed="rId3"/>
          <a:stretch/>
        </p:blipFill>
        <p:spPr>
          <a:xfrm>
            <a:off x="179280" y="2924280"/>
            <a:ext cx="3024360" cy="3529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Users\Кирилл быков.кириллбыков-ПК\Desktop\45.jpg"/>
          <p:cNvPicPr/>
          <p:nvPr/>
        </p:nvPicPr>
        <p:blipFill>
          <a:blip r:embed="rId4"/>
          <a:stretch/>
        </p:blipFill>
        <p:spPr>
          <a:xfrm>
            <a:off x="5796000" y="3357720"/>
            <a:ext cx="31687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ь потомков… Храм на крови в городе Екатеринбург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Кирилл быков.кириллбыков-ПК\Desktop\35.jpg"/>
          <p:cNvPicPr/>
          <p:nvPr/>
        </p:nvPicPr>
        <p:blipFill>
          <a:blip r:embed="rId2"/>
          <a:stretch/>
        </p:blipFill>
        <p:spPr>
          <a:xfrm>
            <a:off x="4356000" y="1928880"/>
            <a:ext cx="4248360" cy="4668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Кирилл быков.кириллбыков-ПК\Desktop\36.jpg"/>
          <p:cNvPicPr/>
          <p:nvPr/>
        </p:nvPicPr>
        <p:blipFill>
          <a:blip r:embed="rId3"/>
          <a:stretch/>
        </p:blipFill>
        <p:spPr>
          <a:xfrm>
            <a:off x="324000" y="1571760"/>
            <a:ext cx="37432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ь потомков… Ганина я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C:\Users\Кирилл быков.кириллбыков-ПК\Desktop\41.jpeg"/>
          <p:cNvPicPr/>
          <p:nvPr/>
        </p:nvPicPr>
        <p:blipFill>
          <a:blip r:embed="rId2"/>
          <a:stretch/>
        </p:blipFill>
        <p:spPr>
          <a:xfrm>
            <a:off x="2214720" y="1341360"/>
            <a:ext cx="48574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вославная церковь причислила Романовых к лику святых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вятые страстотерп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C:\Users\Кирилл быков.кириллбыков-ПК\Desktop\40.jpeg"/>
          <p:cNvPicPr/>
          <p:nvPr/>
        </p:nvPicPr>
        <p:blipFill>
          <a:blip r:embed="rId2"/>
          <a:stretch/>
        </p:blipFill>
        <p:spPr>
          <a:xfrm>
            <a:off x="2000160" y="1785960"/>
            <a:ext cx="521496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nts and Settings\Admin\Рабочий стол\Романовы - копия\DSC00697.JPG"/>
          <p:cNvPicPr/>
          <p:nvPr/>
        </p:nvPicPr>
        <p:blipFill>
          <a:blip r:embed="rId2"/>
          <a:stretch/>
        </p:blipFill>
        <p:spPr>
          <a:xfrm>
            <a:off x="500040" y="857160"/>
            <a:ext cx="3857760" cy="52689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4572000" y="1428840"/>
            <a:ext cx="4071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, потомки, должны зн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страшной участи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мановых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хотим, чтобы больше в истории России не было таких страшных кровавых событи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будем помни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Цели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учиться искать информацию в книгах и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терн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учиться отбирать нужную информацию и фотограф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учиться работать над проек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учить большую информацию о семье Романов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  рассказать о семье Романовы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их судь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Планируемый результат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брать  достоверную и  интересную информацию об императорской семье Николая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ман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Кирилл быков.кириллбыков-ПК\Desktop\Романовы\4.jpg"/>
          <p:cNvPicPr/>
          <p:nvPr/>
        </p:nvPicPr>
        <p:blipFill>
          <a:blip r:embed="rId2"/>
          <a:stretch/>
        </p:blipFill>
        <p:spPr>
          <a:xfrm>
            <a:off x="1403280" y="2924280"/>
            <a:ext cx="6264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Маршрут движения к поставленной це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 выбрала интересную для меня т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 поставила цели работы над проек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работала с информацие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скала информацию, изучала её и подбирала нужн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 искала и подбирала необходимые фотограф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 оформляла про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Паспорт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азвание проект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мператорская семья Николая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манова: жизнь и судь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Руководитель проек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ыкова И.Б. – мама и учитель ист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Учебный предмет, в рамках которого проводится работа по проект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ыполнила проек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ыкова Ксения, ученица 4 б клас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У «Каслинская СОШ № 27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Users\Кирилл быков.кириллбыков-ПК\Desktop\Романовы\romanovy_sothebys_4.jpg"/>
          <p:cNvPicPr/>
          <p:nvPr/>
        </p:nvPicPr>
        <p:blipFill>
          <a:blip r:embed="rId2"/>
          <a:stretch/>
        </p:blipFill>
        <p:spPr>
          <a:xfrm>
            <a:off x="0" y="0"/>
            <a:ext cx="2700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колай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манов – 14 российский император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ремя правления: 1894 – 1917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8" descr="ИльяГалкин-портретИмператораНиколаяII"/>
          <p:cNvPicPr/>
          <p:nvPr/>
        </p:nvPicPr>
        <p:blipFill>
          <a:blip r:embed="rId2"/>
          <a:stretch/>
        </p:blipFill>
        <p:spPr>
          <a:xfrm>
            <a:off x="2071800" y="1600200"/>
            <a:ext cx="46432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0" y="1857240"/>
            <a:ext cx="41148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 юности будущий император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оссийский получил знани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еобходимые дл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государственного деятел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Кирилл быков.кириллбыков-ПК\Desktop\9.jpg"/>
          <p:cNvPicPr/>
          <p:nvPr/>
        </p:nvPicPr>
        <p:blipFill>
          <a:blip r:embed="rId2"/>
          <a:stretch/>
        </p:blipFill>
        <p:spPr>
          <a:xfrm>
            <a:off x="250920" y="500040"/>
            <a:ext cx="432108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0 октября 1894 года состоялась коронация Николая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Кирилл быков.кириллбыков-ПК\Desktop\12.jpg"/>
          <p:cNvPicPr/>
          <p:nvPr/>
        </p:nvPicPr>
        <p:blipFill>
          <a:blip r:embed="rId2"/>
          <a:stretch/>
        </p:blipFill>
        <p:spPr>
          <a:xfrm>
            <a:off x="324000" y="1413000"/>
            <a:ext cx="4752720" cy="5184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Кирилл быков.кириллбыков-ПК\Desktop\14.jpg"/>
          <p:cNvPicPr/>
          <p:nvPr/>
        </p:nvPicPr>
        <p:blipFill>
          <a:blip r:embed="rId3"/>
          <a:stretch/>
        </p:blipFill>
        <p:spPr>
          <a:xfrm>
            <a:off x="3780000" y="1989000"/>
            <a:ext cx="5113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04:22:28Z</dcterms:created>
  <dc:creator>КирилЛ</dc:creator>
  <dc:description/>
  <dc:language>en-US</dc:language>
  <cp:lastModifiedBy>001</cp:lastModifiedBy>
  <dcterms:modified xsi:type="dcterms:W3CDTF">2011-11-29T08:31:43Z</dcterms:modified>
  <cp:revision>53</cp:revision>
  <dc:subject/>
  <dc:title>Проект:  Императорская семья Романовых:  жизнь и судьба</dc:title>
</cp:coreProperties>
</file>