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EA2B-8D65-4733-826C-71048380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1400-9A07-4CE6-914A-B56CDECE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83A-BD0D-4C9A-AA2E-10CD22AA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DDD0-A3E1-4A90-ACF9-4D37AC59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21C1-557E-4FE2-A68A-5521AFF4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4137-4D78-48E4-A635-ED660524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EA5F-C800-41D5-BA5D-F524C380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C49B-430A-49E8-803A-0B075736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AA01-EE56-4E4A-B9B6-A1FA66EF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FCBD-8E57-44B9-B673-359EB9C4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15FF-1912-4993-A03C-6039926D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C3FC-0E6C-4865-B1F3-A46D0847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0436-BBE5-4B9B-9F3D-C4D2C918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9379-B34F-4F0A-83A4-85F8983C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4B33-6269-4CB9-A488-C3ED8E0C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332B-ED7D-4BED-BADB-F7C19351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8085-28B1-4137-B480-D031AB6B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60EE-A152-4C2A-B49A-B466F20A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E41-421A-41A6-A94D-F75751FD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D42-0D17-408F-A526-79D73B50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524-5430-4C42-9628-9B7B4E19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7973-9FD8-45DC-BDD9-C6D52BF9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0B1-AE59-4540-A18C-E809C53B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915-3B51-441F-93F7-F5A008E4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75E9-E04B-46DF-B84A-CC8424E2DE5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9E43-4DED-46B1-939A-E6478B7C09E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ЕОНАРДО ДА ВИНЧИ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(Leonardo da Vinci) (1452–1519)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Picture 5" descr="G001-01"/>
          <p:cNvPicPr/>
          <p:nvPr/>
        </p:nvPicPr>
        <p:blipFill>
          <a:blip r:embed="rId1"/>
          <a:stretch/>
        </p:blipFill>
        <p:spPr>
          <a:xfrm>
            <a:off x="1494000" y="2362320"/>
            <a:ext cx="2458800" cy="3724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удожни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ены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женер изобретател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кульптор архитекто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узыкан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Крылатый планер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амодвижущаяся повозка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Катапульта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838080" y="2744640"/>
            <a:ext cx="2090880" cy="211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5145120" y="2786040"/>
            <a:ext cx="1712880" cy="1643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3143160" y="4643280"/>
            <a:ext cx="20098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Вращающийся мост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890640" y="2890800"/>
            <a:ext cx="366696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4979880" y="2948040"/>
            <a:ext cx="33339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Эскиз моста Леонардо в Стамбуле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943280" y="2362320"/>
            <a:ext cx="54831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57880" y="857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Мост Леонардо да Винчи в Ос, Норвегия.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Длина 108 метров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928960" y="2643120"/>
            <a:ext cx="2428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7880" y="9291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ект моста Леонард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5" descr="20"/>
          <p:cNvPicPr/>
          <p:nvPr/>
        </p:nvPicPr>
        <p:blipFill>
          <a:blip r:embed="rId1"/>
          <a:stretch/>
        </p:blipFill>
        <p:spPr>
          <a:xfrm>
            <a:off x="1214280" y="2857680"/>
            <a:ext cx="242892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4714920" y="2857680"/>
            <a:ext cx="2357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10:10:54Z</dcterms:created>
  <dc:creator>1</dc:creator>
  <dc:description/>
  <dc:language>en-US</dc:language>
  <cp:lastModifiedBy>1</cp:lastModifiedBy>
  <dcterms:modified xsi:type="dcterms:W3CDTF">2011-11-29T19:34:04Z</dcterms:modified>
  <cp:revision>51</cp:revision>
  <dc:subject/>
  <dc:title>Слайд 1</dc:title>
</cp:coreProperties>
</file>