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FC2-2C5E-4506-8F40-C07F4F01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B8C-C50F-46BE-93EC-9CD0030D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C27-08CD-4C23-9E2D-5C031CEE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BC5-024E-4EC3-BA41-2D5E347B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EE3F-4744-4AC0-9F46-19C27089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63B1-865E-4667-9833-623380CB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C314-4915-4EE2-8CF1-781C5337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D590-9089-43FF-87EA-498EA6E1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0C40-5644-4610-9BBF-2658D160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F499-4D4C-4CE6-BFB3-E1107A8D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A11-983C-4720-BF7C-70DB647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BD8-A9C5-40D8-966C-40459A43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2EB5-AF2B-450B-B941-6FD1BCA9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AD7B-362A-44A8-89DE-D2199B1B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DFC8-63B2-4A11-982E-16FCD05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4D34-744B-449E-936B-2C0505C3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3AF6-3A45-4477-ABF8-D1E8323B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759-AE67-4DB5-9C11-61AEC2D9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FAC-E17D-4006-A684-ADEAAF6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EEF-F95C-41DE-8F40-2053C30F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121-0518-4639-ADFE-22F9DF33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3C5-3052-4877-8A7A-DD522B75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56D-E33A-4CB8-90F5-625994B1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1FB-E699-4CD4-B615-0FFD5C4B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7BAA-B366-45EE-9E72-D28093A9B1D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6F6B-96FD-4116-ADB7-8CDBDABB041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АРДО ДА ВИНЧИ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(Leonardo da Vinci) (1452–1519)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5" descr="G001-01"/>
          <p:cNvPicPr/>
          <p:nvPr/>
        </p:nvPicPr>
        <p:blipFill>
          <a:blip r:embed="rId1"/>
          <a:stretch/>
        </p:blipFill>
        <p:spPr>
          <a:xfrm>
            <a:off x="1494000" y="2362320"/>
            <a:ext cx="2458800" cy="372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удож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ены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женер изобретате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ульптор архитект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узыкан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рылатый планер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амодвижущаяся повозка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Катапульта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838080" y="2744640"/>
            <a:ext cx="2090880" cy="211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145120" y="2786040"/>
            <a:ext cx="1712880" cy="164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3143160" y="4643280"/>
            <a:ext cx="2009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ращающийся мост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890640" y="2890800"/>
            <a:ext cx="366696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979880" y="2948040"/>
            <a:ext cx="33339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Эскиз моста Леонардо в Стамбул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943280" y="2362320"/>
            <a:ext cx="5483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57880" y="857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ост Леонардо да Винчи в Ос, Норвегия.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Длина 108 метров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928960" y="264312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7880" y="9291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 моста Леонард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5" descr="20"/>
          <p:cNvPicPr/>
          <p:nvPr/>
        </p:nvPicPr>
        <p:blipFill>
          <a:blip r:embed="rId1"/>
          <a:stretch/>
        </p:blipFill>
        <p:spPr>
          <a:xfrm>
            <a:off x="1214280" y="2857680"/>
            <a:ext cx="242892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714920" y="2857680"/>
            <a:ext cx="2357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0:10:54Z</dcterms:created>
  <dc:creator>1</dc:creator>
  <dc:description/>
  <dc:language>en-US</dc:language>
  <cp:lastModifiedBy>1</cp:lastModifiedBy>
  <dcterms:modified xsi:type="dcterms:W3CDTF">2011-11-29T19:34:04Z</dcterms:modified>
  <cp:revision>51</cp:revision>
  <dc:subject/>
  <dc:title>Слайд 1</dc:title>
</cp:coreProperties>
</file>