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AFED-5DAB-4BC8-A119-FB12CB66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EECF-4BBA-4BB2-8473-002BFBA9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302B-DF98-46EA-B7A8-21E51914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A9B5-64B3-4977-9D65-D73E9D41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9CE2-9C38-4C6A-94E7-1BF0E13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EE6F-4E2E-4221-BF74-B547EB6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F739-3FB5-4B6F-901C-C039879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AE8A-0FDE-43EB-97FC-A5043020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968A-C507-4403-AB4E-FB66C911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E436-D1AE-4C84-8629-7E0712E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5E74-CC9B-4179-BF1F-774215B7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2B3C-CFE5-4CF2-9216-95973FD2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654B-C484-48B8-BF55-2501EE9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2BEF-8966-4F60-9F23-F5F223B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AC5-A0C0-4FE1-9F2D-8DAABE42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477-0957-46AA-BBB3-64AD600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CB6-35EB-430C-856E-CB9A0810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B96E-E844-4FC0-ABD0-22019D05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302A-0472-4930-8922-7DACF21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B641-2EC7-41D7-9FA5-29161466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CB26-D7CC-4D04-97BD-6D9A5E6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386E-B221-4110-8C40-98770F2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8C73-43F3-4C19-9902-3A1771F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4569-1C85-4EF1-A6A5-7B0F71F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D8D-50B5-4DC1-B469-654172C5F7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8A67-8C03-4962-AB59-01FCE3B21A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Юрий Алексеевич Гагарин – первый космонав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71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Домик, в котором провел детство Юра Гагарин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2" descr="дом-музей"/>
          <p:cNvPicPr/>
          <p:nvPr/>
        </p:nvPicPr>
        <p:blipFill>
          <a:blip r:embed="rId1"/>
          <a:stretch/>
        </p:blipFill>
        <p:spPr>
          <a:xfrm>
            <a:off x="857160" y="1785960"/>
            <a:ext cx="7858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40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IMG_0156"/>
          <p:cNvPicPr/>
          <p:nvPr/>
        </p:nvPicPr>
        <p:blipFill>
          <a:blip r:embed="rId1"/>
          <a:stretch/>
        </p:blipFill>
        <p:spPr>
          <a:xfrm>
            <a:off x="1042920" y="404640"/>
            <a:ext cx="7561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IMG_0157"/>
          <p:cNvPicPr/>
          <p:nvPr/>
        </p:nvPicPr>
        <p:blipFill>
          <a:blip r:embed="rId1"/>
          <a:stretch/>
        </p:blipFill>
        <p:spPr>
          <a:xfrm>
            <a:off x="1042920" y="260280"/>
            <a:ext cx="7669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IMG_0155"/>
          <p:cNvPicPr/>
          <p:nvPr/>
        </p:nvPicPr>
        <p:blipFill>
          <a:blip r:embed="rId1"/>
          <a:stretch/>
        </p:blipFill>
        <p:spPr>
          <a:xfrm>
            <a:off x="324000" y="476280"/>
            <a:ext cx="82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956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узей Ю.</a:t>
            </a:r>
            <a:r>
              <a:rPr b="1" lang="ru-RU" sz="4000" spc="-1" strike="noStrike">
                <a:solidFill>
                  <a:srgbClr val="e5e5ff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 Гагарина с портретом Дмитрия Анатольевича Медведев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2" descr="Resize of DSC08884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000160" y="285840"/>
            <a:ext cx="547236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IMG_0132"/>
          <p:cNvPicPr/>
          <p:nvPr/>
        </p:nvPicPr>
        <p:blipFill>
          <a:blip r:embed="rId1"/>
          <a:stretch/>
        </p:blipFill>
        <p:spPr>
          <a:xfrm>
            <a:off x="539640" y="765000"/>
            <a:ext cx="8172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871560" y="2340000"/>
            <a:ext cx="74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Состав проектной группы: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ученики 4 «Б» класса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 Касьянов Илья</a:t>
            </a:r>
            <a:br>
              <a:rPr sz="4800"/>
            </a:br>
            <a:r>
              <a:rPr b="1" i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Ласьков Илья</a:t>
            </a:r>
            <a:br>
              <a:rPr sz="48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Руководитель проекта:</a:t>
            </a:r>
            <a:br>
              <a:rPr sz="4000"/>
            </a:br>
            <a:r>
              <a:rPr b="1" i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Свистунова Татьяна Георгиевна</a:t>
            </a:r>
            <a:br>
              <a:rPr sz="4000"/>
            </a:br>
            <a:r>
              <a:rPr b="1" i="1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 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Garamond"/>
              </a:rPr>
              <a:t>Учебный предмет, в рамках которого проводится работа по проекту:</a:t>
            </a:r>
            <a:br>
              <a:rPr sz="3600"/>
            </a:b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Окружающий мир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596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8123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1280" y="108000"/>
            <a:ext cx="78850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8" descr="IMG_0144"/>
          <p:cNvPicPr/>
          <p:nvPr/>
        </p:nvPicPr>
        <p:blipFill>
          <a:blip r:embed="rId1"/>
          <a:stretch/>
        </p:blipFill>
        <p:spPr>
          <a:xfrm>
            <a:off x="1692360" y="476280"/>
            <a:ext cx="6264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567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IMG_0149"/>
          <p:cNvPicPr/>
          <p:nvPr/>
        </p:nvPicPr>
        <p:blipFill>
          <a:blip r:embed="rId1"/>
          <a:stretch/>
        </p:blipFill>
        <p:spPr>
          <a:xfrm>
            <a:off x="1476360" y="333360"/>
            <a:ext cx="5975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68360" y="304920"/>
            <a:ext cx="82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1"/>
          <p:cNvSpPr/>
          <p:nvPr/>
        </p:nvSpPr>
        <p:spPr>
          <a:xfrm>
            <a:off x="324000" y="-7200"/>
            <a:ext cx="127918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Garamond"/>
              </a:rPr>
              <a:t>Что мы хотим сделать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Больше узнать самим о Ю.А.Гагарин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рассказать о нем друг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Научиться сотруднич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овести Виртуальную экскурсию для ребя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нашего класса и нашей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ять участие в районном конкур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проекто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590400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СПАСИБО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Что будет главным  результатом нашего проекта?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Создание творческой папки (портфолио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Оформление презентации для проведения виртуальной экскур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ТАК МЫ РАБОТАЛИ НАД ПРОЕКТ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960720" cy="316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7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НАШИ ВАЖНЫЕ ДЕЛА-ШАГ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.  ПРОВЕЛИ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ПРОС ЛЮД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2.  НАШЛИ НУЖНУЮ ИНФОРМАЦИЮ В ЭНЦИКЛОПЕДИЯХ И ИНТЕРНЕТ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3.  ИСПОЛЬЗОВАЛИ ФОТОГРАФИИ ПОЕЗДКИ ИЛЬИ КАСЬЯНОВА В г. ГАГАРИН ДЛЯ ПОДГОТОВКИ ВИРТУАЛЬНОЙ ЭКСКУР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4. ОФОРМИЛИ ТВОРЧЕСКУЮ ПРОЕКТНУЮ ПАПКУ ПО ТЕМЕ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«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Юрий Алексеевич Гагарин – первый космонавт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e5ff"/>
                </a:solidFill>
                <a:latin typeface="Garamond"/>
              </a:rPr>
              <a:t>ВИРТУАЛЬНАЯ ЭКСКУРС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В МУЗЕ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Ю.А.ГАГАР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2952720" cy="338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aga_cov_s2"/>
          <p:cNvPicPr/>
          <p:nvPr/>
        </p:nvPicPr>
        <p:blipFill>
          <a:blip r:embed="rId2"/>
          <a:stretch/>
        </p:blipFill>
        <p:spPr>
          <a:xfrm>
            <a:off x="4714920" y="3071880"/>
            <a:ext cx="3500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ПАМЯТНИК Ю.А.ГАГАРИНУ В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Г. ГАГАРИН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5976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6163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6:02Z</dcterms:created>
  <dc:creator>Татьяна</dc:creator>
  <dc:description/>
  <dc:language>en-US</dc:language>
  <cp:lastModifiedBy>001</cp:lastModifiedBy>
  <dcterms:modified xsi:type="dcterms:W3CDTF">2011-11-29T09:00:29Z</dcterms:modified>
  <cp:revision>7</cp:revision>
  <dc:subject/>
  <dc:title>  Юрий Алексеевич Гагарин – первый космонавт</dc:title>
</cp:coreProperties>
</file>