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B152-BB68-47FB-B47E-D2C860A9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6828-B7B2-4F56-8273-303454F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110E-D9B9-47B3-AD3F-E03B99CF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A015-6232-4D86-AF96-53E33302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F32-01F5-42A0-98BD-D78F571A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7555-DB26-4A86-A33B-FAD3B45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E18C-9DC8-4B51-B26B-17EECCFB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695-32D7-42CC-A1DD-8245FFC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8D40-47EC-4EC0-9929-5B890BC1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642B-0A2F-43E1-850C-321FE2B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E75C-A559-4221-8A00-5B4DA06D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C6BF-7B70-4B46-BC14-F98CE5C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A2F0-B81E-40BA-BF0C-69EE90E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9F5-9292-4EA9-89E0-BE888410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74AD-D865-4F14-B21C-11486586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93B4-FDA5-41AC-8763-152F2737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4AE9-CD57-4D2E-8545-377977D1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AD89-3D40-4920-9DAD-F636FDC5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1133-7365-4648-AF34-5E6B38E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FC16-9C24-4E64-AB78-475F8A6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9F7E-88AA-42D6-838D-B270506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89B1-E406-41B5-9AFA-7C245534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D03D-9C03-4F9E-90E5-45C45D8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7467-9576-4B37-A1C0-2982FCB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7D8A-09F6-4581-816C-A79D6C6ACD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5431-7A6C-4530-8DC0-A505D3B219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Юрий Алексеевич Гагарин – первый космонав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71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Домик, в котором провел детство Юра Гагарин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2" descr="дом-музей"/>
          <p:cNvPicPr/>
          <p:nvPr/>
        </p:nvPicPr>
        <p:blipFill>
          <a:blip r:embed="rId1"/>
          <a:stretch/>
        </p:blipFill>
        <p:spPr>
          <a:xfrm>
            <a:off x="857160" y="1785960"/>
            <a:ext cx="7858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40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IMG_0156"/>
          <p:cNvPicPr/>
          <p:nvPr/>
        </p:nvPicPr>
        <p:blipFill>
          <a:blip r:embed="rId1"/>
          <a:stretch/>
        </p:blipFill>
        <p:spPr>
          <a:xfrm>
            <a:off x="1042920" y="404640"/>
            <a:ext cx="75614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IMG_0157"/>
          <p:cNvPicPr/>
          <p:nvPr/>
        </p:nvPicPr>
        <p:blipFill>
          <a:blip r:embed="rId1"/>
          <a:stretch/>
        </p:blipFill>
        <p:spPr>
          <a:xfrm>
            <a:off x="1042920" y="260280"/>
            <a:ext cx="7669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IMG_0155"/>
          <p:cNvPicPr/>
          <p:nvPr/>
        </p:nvPicPr>
        <p:blipFill>
          <a:blip r:embed="rId1"/>
          <a:stretch/>
        </p:blipFill>
        <p:spPr>
          <a:xfrm>
            <a:off x="324000" y="476280"/>
            <a:ext cx="82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956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узей Ю.</a:t>
            </a:r>
            <a:r>
              <a:rPr b="1" lang="ru-RU" sz="4000" spc="-1" strike="noStrike">
                <a:solidFill>
                  <a:srgbClr val="e5e5ff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. Гагарина с портретом Дмитрия Анатольевича Медведев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2" descr="Resize of DSC08884"/>
          <p:cNvPicPr/>
          <p:nvPr/>
        </p:nvPicPr>
        <p:blipFill>
          <a:blip r:embed="rId1"/>
          <a:stretch/>
        </p:blipFill>
        <p:spPr>
          <a:xfrm>
            <a:off x="500040" y="1785960"/>
            <a:ext cx="8286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643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000160" y="285840"/>
            <a:ext cx="54723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IMG_0132"/>
          <p:cNvPicPr/>
          <p:nvPr/>
        </p:nvPicPr>
        <p:blipFill>
          <a:blip r:embed="rId1"/>
          <a:stretch/>
        </p:blipFill>
        <p:spPr>
          <a:xfrm>
            <a:off x="539640" y="765000"/>
            <a:ext cx="8172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871560" y="2340000"/>
            <a:ext cx="74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 u="sng">
                <a:solidFill>
                  <a:srgbClr val="ffcc00"/>
                </a:solidFill>
                <a:uFillTx/>
                <a:latin typeface="Garamond"/>
              </a:rPr>
              <a:t>Состав проектной группы:</a:t>
            </a:r>
            <a:br>
              <a:rPr sz="4800"/>
            </a:br>
            <a:r>
              <a:rPr b="1" i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ученики 4 «Б» класса</a:t>
            </a:r>
            <a:br>
              <a:rPr sz="4800"/>
            </a:br>
            <a:r>
              <a:rPr b="1" i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 Касьянов Илья</a:t>
            </a:r>
            <a:br>
              <a:rPr sz="4800"/>
            </a:br>
            <a:r>
              <a:rPr b="1" i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Ласьков Илья</a:t>
            </a:r>
            <a:br>
              <a:rPr sz="48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Garamond"/>
              </a:rPr>
              <a:t>Руководитель проекта:</a:t>
            </a:r>
            <a:br>
              <a:rPr sz="4000"/>
            </a:br>
            <a:r>
              <a:rPr b="1" i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Свистунова Татьяна Георгиевна</a:t>
            </a:r>
            <a:br>
              <a:rPr sz="4000"/>
            </a:br>
            <a:r>
              <a:rPr b="1" i="1" lang="en-US" sz="3200" spc="-1" strike="noStrike" u="sng">
                <a:solidFill>
                  <a:srgbClr val="e5e5ff"/>
                </a:solidFill>
                <a:uFillTx/>
                <a:latin typeface="Garamond"/>
              </a:rPr>
              <a:t> 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Учебный предмет, в рамках которого проводится работа по проекту:</a:t>
            </a:r>
            <a:br>
              <a:rPr sz="3600"/>
            </a:b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Окружающий мир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596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8123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1280" y="108000"/>
            <a:ext cx="788508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8" descr="IMG_0144"/>
          <p:cNvPicPr/>
          <p:nvPr/>
        </p:nvPicPr>
        <p:blipFill>
          <a:blip r:embed="rId1"/>
          <a:stretch/>
        </p:blipFill>
        <p:spPr>
          <a:xfrm>
            <a:off x="1692360" y="476280"/>
            <a:ext cx="626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567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IMG_0149"/>
          <p:cNvPicPr/>
          <p:nvPr/>
        </p:nvPicPr>
        <p:blipFill>
          <a:blip r:embed="rId1"/>
          <a:stretch/>
        </p:blipFill>
        <p:spPr>
          <a:xfrm>
            <a:off x="1476360" y="333360"/>
            <a:ext cx="5975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68360" y="304920"/>
            <a:ext cx="82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1"/>
          <p:cNvSpPr/>
          <p:nvPr/>
        </p:nvSpPr>
        <p:spPr>
          <a:xfrm>
            <a:off x="324000" y="-7200"/>
            <a:ext cx="127918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Garamond"/>
              </a:rPr>
              <a:t>Что мы хотим сделать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Больше узнать самим о Ю.А.Гагарин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рассказать о нем друг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Научиться сотруднич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овести Виртуальную экскурсию для ребя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нашего класса и нашей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ять участие в районном конкур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оект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590400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СПАСИБО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Что будет главным  результатом нашего проекта?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оздание творческой папки (портфолио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Оформление презентации для проведения виртуальной экскур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ТАК МЫ РАБОТАЛИ НАД ПРОЕКТ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960720" cy="316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176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НАШИ ВАЖНЫЕ ДЕЛА-ШАГ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.  ПРОВЕЛИ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ПРОС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2.  НАШЛИ НУЖНУЮ ИНФОРМАЦИЮ В ЭНЦИКЛОПЕДИЯХ И ИНТЕРНЕТ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3.  ИСПОЛЬЗОВАЛИ ФОТОГРАФИИ ПОЕЗДКИ ИЛЬИ КАСЬЯНОВА В г. ГАГАРИН ДЛЯ ПОДГОТОВКИ ВИРТУАЛЬНОЙ ЭКСКУРС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4. ОФОРМИЛИ ТВОРЧЕСКУЮ ПРОЕКТНУЮ ПАПКУ ПО ТЕМЕ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«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Юрий Алексеевич Гагарин – первый космонавт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e5ff"/>
                </a:solidFill>
                <a:latin typeface="Garamond"/>
              </a:rPr>
              <a:t>ВИРТУАЛЬНАЯ ЭКСКУРС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В МУЗЕ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Ю.А.ГАГАРИН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2952720" cy="338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aga_cov_s2"/>
          <p:cNvPicPr/>
          <p:nvPr/>
        </p:nvPicPr>
        <p:blipFill>
          <a:blip r:embed="rId2"/>
          <a:stretch/>
        </p:blipFill>
        <p:spPr>
          <a:xfrm>
            <a:off x="4714920" y="3071880"/>
            <a:ext cx="3500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ПАМЯТНИК Ю.А.ГАГАРИНУ В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Г. ГАГАРИН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5976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6163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56:02Z</dcterms:created>
  <dc:creator>Татьяна</dc:creator>
  <dc:description/>
  <dc:language>en-US</dc:language>
  <cp:lastModifiedBy>001</cp:lastModifiedBy>
  <dcterms:modified xsi:type="dcterms:W3CDTF">2011-11-29T09:00:29Z</dcterms:modified>
  <cp:revision>7</cp:revision>
  <dc:subject/>
  <dc:title>  Юрий Алексеевич Гагарин – первый космонавт</dc:title>
</cp:coreProperties>
</file>