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6A1-05F7-42DA-A3B7-D445D7C6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15D-083B-4931-89FA-CC31AC7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9F3-8AFB-4B12-A885-2967C7A7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D3B-56A6-4A69-8844-84EFAF9E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552-9D27-4A2A-A2C4-4187AC03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64C-FE52-49AB-AE91-34EC8344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921-0F5E-4DAD-9723-4C51F610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678-B68D-4A0B-BCDB-E288C62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D19-2E83-4572-BB2F-7E233193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CAA-C0E2-489B-AC82-BDCDF2D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986-3579-4653-93D0-A006871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505-DC6B-4182-8252-D4EC7059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867B-291C-4C7C-A496-BB373CDDF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63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571680" y="1571760"/>
            <a:ext cx="742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google.ru/imghp?hl=ru&amp;tab=wi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yandex.ru/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ttp://rebus.detsky-mir.com/2871/rebusy_po_matematike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znajka.net/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www.prozagadki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ttp://images.yandex.ru/yands</a:t>
            </a:r>
            <a:r>
              <a:rPr b="1" lang="en-US" sz="1600" spc="-1" strike="noStrike">
                <a:solidFill>
                  <a:srgbClr val="3333ff"/>
                </a:solidFill>
                <a:latin typeface="Calibri"/>
              </a:rPr>
              <a:t>earch?e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d=1&amp;text=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етские  ф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3643200"/>
            <a:ext cx="650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Автор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Картошкина Наталия Ю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ОУ ЦО № 656 им. А. 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5786280"/>
            <a:ext cx="700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195560"/>
            <a:ext cx="39002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27160"/>
            <a:ext cx="357840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50660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1000"/>
            <a:ext cx="409104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0520"/>
            <a:ext cx="4284360" cy="2048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27440"/>
            <a:ext cx="41277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27160"/>
            <a:ext cx="4730760" cy="20494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2920"/>
            <a:ext cx="498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Ерук</cp:lastModifiedBy>
  <dcterms:modified xsi:type="dcterms:W3CDTF">2005-01-01T18:29:25Z</dcterms:modified>
  <cp:revision>59</cp:revision>
  <dc:subject/>
  <dc:title>Слайд 1</dc:title>
</cp:coreProperties>
</file>