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2.png" ContentType="image/png"/>
  <Override PartName="/ppt/media/image28.jpeg" ContentType="image/jpeg"/>
  <Override PartName="/ppt/media/image20.png" ContentType="image/png"/>
  <Override PartName="/ppt/media/image18.wmf" ContentType="image/x-wmf"/>
  <Override PartName="/ppt/media/image19.wmf" ContentType="image/x-wmf"/>
  <Override PartName="/ppt/media/image17.png" ContentType="image/png"/>
  <Override PartName="/ppt/media/image12.wmf" ContentType="image/x-wmf"/>
  <Override PartName="/ppt/media/image7.png" ContentType="image/png"/>
  <Override PartName="/ppt/media/image9.png" ContentType="image/png"/>
  <Override PartName="/ppt/media/image10.gif" ContentType="image/gif"/>
  <Override PartName="/ppt/media/image23.png" ContentType="image/png"/>
  <Override PartName="/ppt/media/image13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1.wmf" ContentType="image/x-wmf"/>
  <Override PartName="/ppt/media/image32.wmf" ContentType="image/x-wmf"/>
  <Override PartName="/ppt/media/image36.gif" ContentType="image/gif"/>
  <Override PartName="/ppt/media/image33.wmf" ContentType="image/x-wmf"/>
  <Override PartName="/ppt/media/image37.gif" ContentType="image/gif"/>
  <Override PartName="/ppt/media/image35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5.jpeg" ContentType="image/jpeg"/>
  <Override PartName="/ppt/media/image38.gif" ContentType="image/gif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1.gif" ContentType="image/gif"/>
  <Override PartName="/ppt/media/image24.png" ContentType="image/png"/>
  <Override PartName="/ppt/media/image11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F518-652D-4981-9B2B-04826B3EA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13E0-C9A0-45C2-9E50-06DAE7B8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A53C-B19D-497E-A9E1-98D8FD5B7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720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1484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39528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720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1484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D323-14A0-42F4-B337-7FEB590E7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3162-0F9A-494A-BB31-B34F59305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C654-AD49-48A2-AE75-FD659452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8E2D-A7B0-4E5F-9541-8CDD69BB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8597-24A9-42C2-A54C-E30D0562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F06FC-BB2E-49B0-858E-7EDDB3C6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4938-C16A-475A-BF84-7CEADA2F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7D8D-B0E1-42DB-BFEE-2915F6A5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7C9D-EF7C-43A1-99B4-65F3E4A1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A10E-4B11-479D-96F0-0CEBD4AF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F7BF-FE9C-42C9-B777-FE84BB8E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CB00-F8D6-4709-B7B4-C6D17C5B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E640-A3D0-490A-9FD1-C7FF92AB4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720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484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9528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720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484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43AD-59E3-47F5-90D0-8EA2C3FF4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DD83-538A-469D-AB51-EBFE639C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A7DB-858B-44FB-AD8C-870299DA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00D6-97FB-4E2C-B49B-EAC10903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2445-4C84-46C5-920E-1565467F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896E-5E64-475C-B963-5E007BFF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1794-A9FF-480D-93A3-DE726440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987C-56CA-42D4-826E-F57D809C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6553080" y="6013440"/>
            <a:ext cx="2392200" cy="563400"/>
            <a:chOff x="6553080" y="6013440"/>
            <a:chExt cx="2392200" cy="563400"/>
          </a:xfrm>
        </p:grpSpPr>
        <p:sp>
          <p:nvSpPr>
            <p:cNvPr id="1" name="Freeform 8"/>
            <p:cNvSpPr/>
            <p:nvPr/>
          </p:nvSpPr>
          <p:spPr>
            <a:xfrm>
              <a:off x="7088760" y="6416640"/>
              <a:ext cx="64080" cy="16020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7711920" y="6392520"/>
              <a:ext cx="74160" cy="18396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6879960" y="6297120"/>
              <a:ext cx="240120" cy="279360"/>
            </a:xfrm>
            <a:custGeom>
              <a:avLst/>
              <a:gdLst>
                <a:gd name="textAreaLeft" fmla="*/ 0 w 240120"/>
                <a:gd name="textAreaRight" fmla="*/ 240480 w 24012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8568720" y="6297120"/>
              <a:ext cx="236520" cy="27936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5" name="Freeform 12"/>
            <p:cNvSpPr/>
            <p:nvPr/>
          </p:nvSpPr>
          <p:spPr>
            <a:xfrm>
              <a:off x="8304120" y="6401880"/>
              <a:ext cx="146160" cy="17496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" name="Freeform 13"/>
            <p:cNvSpPr/>
            <p:nvPr/>
          </p:nvSpPr>
          <p:spPr>
            <a:xfrm>
              <a:off x="7973640" y="6330240"/>
              <a:ext cx="144360" cy="246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246240"/>
                <a:gd name="textAreaBottom" fmla="*/ 246600 h 246240"/>
              </a:gdLst>
              <a:ahLst/>
              <a:rect l="textAreaLeft" t="textAreaTop" r="textAreaRight" b="textAreaBottom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" name="Freeform 14"/>
            <p:cNvSpPr/>
            <p:nvPr/>
          </p:nvSpPr>
          <p:spPr>
            <a:xfrm>
              <a:off x="7124760" y="6104520"/>
              <a:ext cx="272880" cy="47196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471960"/>
                <a:gd name="textAreaBottom" fmla="*/ 472320 h 471960"/>
              </a:gdLst>
              <a:ahLst/>
              <a:rect l="textAreaLeft" t="textAreaTop" r="textAreaRight" b="textAreaBottom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8" name="Freeform 15"/>
            <p:cNvSpPr/>
            <p:nvPr/>
          </p:nvSpPr>
          <p:spPr>
            <a:xfrm>
              <a:off x="8111520" y="6298200"/>
              <a:ext cx="151200" cy="27828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9" name="Freeform 16"/>
            <p:cNvSpPr/>
            <p:nvPr/>
          </p:nvSpPr>
          <p:spPr>
            <a:xfrm>
              <a:off x="6553080" y="6189840"/>
              <a:ext cx="210240" cy="38664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386640"/>
                <a:gd name="textAreaBottom" fmla="*/ 387000 h 386640"/>
              </a:gdLst>
              <a:ahLst/>
              <a:rect l="textAreaLeft" t="textAreaTop" r="textAreaRight" b="textAreaBottom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8246520" y="6235920"/>
              <a:ext cx="111600" cy="34056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6726960" y="6013440"/>
              <a:ext cx="182520" cy="5634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563400"/>
                <a:gd name="textAreaBottom" fmla="*/ 563760 h 563400"/>
              </a:gdLst>
              <a:ahLst/>
              <a:rect l="textAreaLeft" t="textAreaTop" r="textAreaRight" b="textAreaBottom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7373160" y="6275880"/>
              <a:ext cx="160920" cy="30096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0 h 300960"/>
                <a:gd name="textAreaBottom" fmla="*/ 301320 h 300960"/>
              </a:gdLst>
              <a:ahLst/>
              <a:rect l="textAreaLeft" t="textAreaTop" r="textAreaRight" b="textAreaBottom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8781120" y="6275880"/>
              <a:ext cx="164160" cy="30096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300960"/>
                <a:gd name="textAreaBottom" fmla="*/ 301320 h 300960"/>
              </a:gdLst>
              <a:ahLst/>
              <a:rect l="textAreaLeft" t="textAreaTop" r="textAreaRight" b="textAreaBottom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>
              <a:off x="7715160" y="6044040"/>
              <a:ext cx="299160" cy="532440"/>
            </a:xfrm>
            <a:custGeom>
              <a:avLst/>
              <a:gdLst>
                <a:gd name="textAreaLeft" fmla="*/ 0 w 299160"/>
                <a:gd name="textAreaRight" fmla="*/ 299520 w 29916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5" name="Freeform 22"/>
            <p:cNvSpPr/>
            <p:nvPr/>
          </p:nvSpPr>
          <p:spPr>
            <a:xfrm>
              <a:off x="7531200" y="6080760"/>
              <a:ext cx="161280" cy="49572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6" name="Freeform 23"/>
            <p:cNvSpPr/>
            <p:nvPr/>
          </p:nvSpPr>
          <p:spPr>
            <a:xfrm>
              <a:off x="8430840" y="6080760"/>
              <a:ext cx="159120" cy="49572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17" name="Freeform 25"/>
          <p:cNvSpPr/>
          <p:nvPr/>
        </p:nvSpPr>
        <p:spPr>
          <a:xfrm>
            <a:off x="95400" y="6446880"/>
            <a:ext cx="8970840" cy="314280"/>
          </a:xfrm>
          <a:custGeom>
            <a:avLst/>
            <a:gdLst>
              <a:gd name="textAreaLeft" fmla="*/ 0 w 8970840"/>
              <a:gd name="textAreaRight" fmla="*/ 8971200 w 897084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9b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" name="Freeform 26"/>
          <p:cNvSpPr/>
          <p:nvPr/>
        </p:nvSpPr>
        <p:spPr>
          <a:xfrm>
            <a:off x="95400" y="6491160"/>
            <a:ext cx="8975520" cy="279360"/>
          </a:xfrm>
          <a:custGeom>
            <a:avLst/>
            <a:gdLst>
              <a:gd name="textAreaLeft" fmla="*/ 0 w 8975520"/>
              <a:gd name="textAreaRight" fmla="*/ 8975880 w 8975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solidFill>
            <a:srgbClr val="357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" name="Freeform 27"/>
          <p:cNvSpPr/>
          <p:nvPr/>
        </p:nvSpPr>
        <p:spPr>
          <a:xfrm>
            <a:off x="96840" y="74520"/>
            <a:ext cx="8956800" cy="179640"/>
          </a:xfrm>
          <a:custGeom>
            <a:avLst/>
            <a:gdLst>
              <a:gd name="textAreaLeft" fmla="*/ 0 w 8956800"/>
              <a:gd name="textAreaRight" fmla="*/ 8956800 w 895680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" name="Freeform 28"/>
          <p:cNvSpPr/>
          <p:nvPr/>
        </p:nvSpPr>
        <p:spPr>
          <a:xfrm>
            <a:off x="92160" y="307800"/>
            <a:ext cx="8955000" cy="938520"/>
          </a:xfrm>
          <a:custGeom>
            <a:avLst/>
            <a:gdLst>
              <a:gd name="textAreaLeft" fmla="*/ 0 w 8955000"/>
              <a:gd name="textAreaRight" fmla="*/ 8955360 w 8955000"/>
              <a:gd name="textAreaTop" fmla="*/ 0 h 938520"/>
              <a:gd name="textAreaBottom" fmla="*/ 938880 h 938520"/>
            </a:gdLst>
            <a:ahLst/>
            <a:rect l="textAreaLeft" t="textAreaTop" r="textAreaRight" b="textAreaBottom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solidFill>
            <a:srgbClr val="9b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" name="Freeform 29"/>
          <p:cNvSpPr/>
          <p:nvPr/>
        </p:nvSpPr>
        <p:spPr>
          <a:xfrm>
            <a:off x="92160" y="306360"/>
            <a:ext cx="8955000" cy="836640"/>
          </a:xfrm>
          <a:custGeom>
            <a:avLst/>
            <a:gdLst>
              <a:gd name="textAreaLeft" fmla="*/ 0 w 8955000"/>
              <a:gd name="textAreaRight" fmla="*/ 8955360 w 895500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357da9"/>
              </a:gs>
              <a:gs pos="100000">
                <a:srgbClr val="78a8c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solidFill>
            <a:srgbClr val="58b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3" name="Freeform 35"/>
          <p:cNvSpPr/>
          <p:nvPr/>
        </p:nvSpPr>
        <p:spPr>
          <a:xfrm>
            <a:off x="6896160" y="1047600"/>
            <a:ext cx="2155680" cy="52560"/>
          </a:xfrm>
          <a:custGeom>
            <a:avLst/>
            <a:gdLst>
              <a:gd name="textAreaLeft" fmla="*/ 0 w 2155680"/>
              <a:gd name="textAreaRight" fmla="*/ 2156040 w 215568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179280" y="638136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564000" y="63082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B284-F512-4A8E-9335-11C507CF627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" name="Picture 39" descr="2"/>
          <p:cNvPicPr/>
          <p:nvPr/>
        </p:nvPicPr>
        <p:blipFill>
          <a:blip r:embed="rId3"/>
          <a:stretch/>
        </p:blipFill>
        <p:spPr>
          <a:xfrm>
            <a:off x="7812000" y="333360"/>
            <a:ext cx="1150920" cy="77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c5"/>
            </a:gs>
            <a:gs pos="100000">
              <a:srgbClr val="70a8d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3"/>
          <p:cNvSpPr/>
          <p:nvPr/>
        </p:nvSpPr>
        <p:spPr>
          <a:xfrm>
            <a:off x="900000" y="5300640"/>
            <a:ext cx="743040" cy="743040"/>
          </a:xfrm>
          <a:prstGeom prst="rect">
            <a:avLst/>
          </a:prstGeom>
          <a:solidFill>
            <a:srgbClr val="58be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67" name="Group 75"/>
          <p:cNvGrpSpPr/>
          <p:nvPr/>
        </p:nvGrpSpPr>
        <p:grpSpPr>
          <a:xfrm>
            <a:off x="112680" y="5954760"/>
            <a:ext cx="8935920" cy="631800"/>
            <a:chOff x="112680" y="5954760"/>
            <a:chExt cx="8935920" cy="631800"/>
          </a:xfrm>
        </p:grpSpPr>
        <p:sp>
          <p:nvSpPr>
            <p:cNvPr id="68" name="Freeform 24"/>
            <p:cNvSpPr/>
            <p:nvPr/>
          </p:nvSpPr>
          <p:spPr>
            <a:xfrm>
              <a:off x="112680" y="5954760"/>
              <a:ext cx="8931240" cy="554040"/>
            </a:xfrm>
            <a:custGeom>
              <a:avLst/>
              <a:gdLst>
                <a:gd name="textAreaLeft" fmla="*/ 0 w 8931240"/>
                <a:gd name="textAreaRight" fmla="*/ 8931600 w 893124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78" y="103"/>
                    <a:pt x="3343" y="137"/>
                    <a:pt x="4064" y="118"/>
                  </a:cubicBezTo>
                  <a:lnTo>
                    <a:pt x="4329" y="0"/>
                  </a:lnTo>
                  <a:lnTo>
                    <a:pt x="5623" y="0"/>
                  </a:lnTo>
                  <a:lnTo>
                    <a:pt x="5626" y="349"/>
                  </a:lnTo>
                  <a:close/>
                </a:path>
              </a:pathLst>
            </a:custGeom>
            <a:solidFill>
              <a:srgbClr val="9bd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9" name="Freeform 25"/>
            <p:cNvSpPr/>
            <p:nvPr/>
          </p:nvSpPr>
          <p:spPr>
            <a:xfrm>
              <a:off x="112680" y="6032520"/>
              <a:ext cx="8931240" cy="554040"/>
            </a:xfrm>
            <a:custGeom>
              <a:avLst/>
              <a:gdLst>
                <a:gd name="textAreaLeft" fmla="*/ 0 w 8931240"/>
                <a:gd name="textAreaRight" fmla="*/ 8931600 w 893124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80" y="103"/>
                    <a:pt x="3358" y="137"/>
                    <a:pt x="4082" y="118"/>
                  </a:cubicBezTo>
                  <a:lnTo>
                    <a:pt x="4345" y="0"/>
                  </a:lnTo>
                  <a:lnTo>
                    <a:pt x="5623" y="6"/>
                  </a:lnTo>
                  <a:lnTo>
                    <a:pt x="5626" y="349"/>
                  </a:lnTo>
                  <a:close/>
                </a:path>
              </a:pathLst>
            </a:custGeom>
            <a:solidFill>
              <a:srgbClr val="357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0" name="Freeform 26"/>
            <p:cNvSpPr/>
            <p:nvPr/>
          </p:nvSpPr>
          <p:spPr>
            <a:xfrm>
              <a:off x="6681960" y="6084720"/>
              <a:ext cx="2366640" cy="140040"/>
            </a:xfrm>
            <a:custGeom>
              <a:avLst/>
              <a:gdLst>
                <a:gd name="textAreaLeft" fmla="*/ 0 w 2366640"/>
                <a:gd name="textAreaRight" fmla="*/ 2367000 w 236664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1491" h="88">
                  <a:moveTo>
                    <a:pt x="0" y="84"/>
                  </a:moveTo>
                  <a:lnTo>
                    <a:pt x="223" y="0"/>
                  </a:lnTo>
                  <a:lnTo>
                    <a:pt x="1491" y="0"/>
                  </a:lnTo>
                  <a:lnTo>
                    <a:pt x="1488" y="60"/>
                  </a:lnTo>
                  <a:lnTo>
                    <a:pt x="383" y="59"/>
                  </a:lnTo>
                  <a:lnTo>
                    <a:pt x="273" y="88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71" name="Rectangle 28"/>
          <p:cNvSpPr/>
          <p:nvPr/>
        </p:nvSpPr>
        <p:spPr>
          <a:xfrm>
            <a:off x="114480" y="6610320"/>
            <a:ext cx="8931240" cy="163440"/>
          </a:xfrm>
          <a:prstGeom prst="rect">
            <a:avLst/>
          </a:prstGeom>
          <a:solidFill>
            <a:srgbClr val="58b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2" name="Rectangle 42"/>
          <p:cNvSpPr/>
          <p:nvPr/>
        </p:nvSpPr>
        <p:spPr>
          <a:xfrm>
            <a:off x="108000" y="5300640"/>
            <a:ext cx="741240" cy="744480"/>
          </a:xfrm>
          <a:prstGeom prst="rect">
            <a:avLst/>
          </a:prstGeom>
          <a:solidFill>
            <a:srgbClr val="70a8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3" name="Rectangle 50"/>
          <p:cNvSpPr/>
          <p:nvPr/>
        </p:nvSpPr>
        <p:spPr>
          <a:xfrm>
            <a:off x="120600" y="4511520"/>
            <a:ext cx="741240" cy="743040"/>
          </a:xfrm>
          <a:prstGeom prst="rect">
            <a:avLst/>
          </a:prstGeom>
          <a:solidFill>
            <a:srgbClr val="357da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74" name="Picture 76" descr="j0400050"/>
          <p:cNvPicPr/>
          <p:nvPr/>
        </p:nvPicPr>
        <p:blipFill>
          <a:blip r:embed="rId2"/>
          <a:stretch/>
        </p:blipFill>
        <p:spPr>
          <a:xfrm>
            <a:off x="179280" y="404640"/>
            <a:ext cx="2664000" cy="1775160"/>
          </a:xfrm>
          <a:prstGeom prst="rect">
            <a:avLst/>
          </a:prstGeom>
          <a:ln w="57240">
            <a:solidFill>
              <a:srgbClr val="357da9"/>
            </a:solidFill>
            <a:miter/>
          </a:ln>
        </p:spPr>
      </p:pic>
      <p:pic>
        <p:nvPicPr>
          <p:cNvPr id="75" name="Picture 77" descr=""/>
          <p:cNvPicPr/>
          <p:nvPr/>
        </p:nvPicPr>
        <p:blipFill>
          <a:blip r:embed="rId3"/>
          <a:stretch/>
        </p:blipFill>
        <p:spPr>
          <a:xfrm>
            <a:off x="6300720" y="404640"/>
            <a:ext cx="2664000" cy="1773360"/>
          </a:xfrm>
          <a:prstGeom prst="rect">
            <a:avLst/>
          </a:prstGeom>
          <a:ln w="57240">
            <a:solidFill>
              <a:srgbClr val="357da9"/>
            </a:solidFill>
            <a:miter/>
          </a:ln>
        </p:spPr>
      </p:pic>
      <p:pic>
        <p:nvPicPr>
          <p:cNvPr id="76" name="Picture 79" descr="2"/>
          <p:cNvPicPr/>
          <p:nvPr/>
        </p:nvPicPr>
        <p:blipFill>
          <a:blip r:embed="rId4"/>
          <a:stretch/>
        </p:blipFill>
        <p:spPr>
          <a:xfrm>
            <a:off x="3276720" y="404640"/>
            <a:ext cx="2665440" cy="1783080"/>
          </a:xfrm>
          <a:prstGeom prst="rect">
            <a:avLst/>
          </a:prstGeom>
          <a:ln w="57240">
            <a:solidFill>
              <a:srgbClr val="357da9"/>
            </a:solidFill>
            <a:miter/>
          </a:ln>
        </p:spPr>
      </p:pic>
      <p:sp>
        <p:nvSpPr>
          <p:cNvPr id="77" name="Freeform 80"/>
          <p:cNvSpPr/>
          <p:nvPr/>
        </p:nvSpPr>
        <p:spPr>
          <a:xfrm>
            <a:off x="122400" y="115920"/>
            <a:ext cx="8956440" cy="179280"/>
          </a:xfrm>
          <a:custGeom>
            <a:avLst/>
            <a:gdLst>
              <a:gd name="textAreaLeft" fmla="*/ 0 w 8956440"/>
              <a:gd name="textAreaRight" fmla="*/ 8956800 w 895644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178920" y="623736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2556000" y="6237360"/>
            <a:ext cx="299088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084720" y="6237360"/>
            <a:ext cx="22053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62CC-41FC-4294-9537-5BAD2DEB904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4.wmf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7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gif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2.wmf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2.wmf"/><Relationship Id="rId11" Type="http://schemas.openxmlformats.org/officeDocument/2006/relationships/image" Target="../media/image14.jpeg"/><Relationship Id="rId12" Type="http://schemas.openxmlformats.org/officeDocument/2006/relationships/image" Target="../media/image14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G:\фон\5-18.jpg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120" name="WordArt 2"/>
          <p:cNvSpPr txBox="1"/>
          <p:nvPr/>
        </p:nvSpPr>
        <p:spPr>
          <a:xfrm>
            <a:off x="1214280" y="1785960"/>
            <a:ext cx="6500880" cy="31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НИМАТЕЛЬНА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АТЕМАТИК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4" descr="G:\фон\2-10.jpg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769440"/>
          </a:xfrm>
          <a:prstGeom prst="rect">
            <a:avLst/>
          </a:prstGeom>
          <a:ln w="0">
            <a:noFill/>
          </a:ln>
        </p:spPr>
      </p:pic>
      <p:sp>
        <p:nvSpPr>
          <p:cNvPr id="205" name="Line 2"/>
          <p:cNvSpPr/>
          <p:nvPr/>
        </p:nvSpPr>
        <p:spPr>
          <a:xfrm>
            <a:off x="8381880" y="2286000"/>
            <a:ext cx="0" cy="175248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6" name="Line 3"/>
          <p:cNvSpPr/>
          <p:nvPr/>
        </p:nvSpPr>
        <p:spPr>
          <a:xfrm>
            <a:off x="7543800" y="2286000"/>
            <a:ext cx="0" cy="175248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7" name="Line 4"/>
          <p:cNvSpPr/>
          <p:nvPr/>
        </p:nvSpPr>
        <p:spPr>
          <a:xfrm>
            <a:off x="6705720" y="2286000"/>
            <a:ext cx="0" cy="175248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1443240" y="457200"/>
            <a:ext cx="527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 Narrow"/>
              </a:rPr>
              <a:t>Из 10 палочек – два квадрата! </a:t>
            </a:r>
            <a:endParaRPr b="0" lang="en-US" sz="32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9" name="Line 6"/>
          <p:cNvSpPr/>
          <p:nvPr/>
        </p:nvSpPr>
        <p:spPr>
          <a:xfrm>
            <a:off x="838080" y="2286000"/>
            <a:ext cx="0" cy="175248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0" name="Line 7"/>
          <p:cNvSpPr/>
          <p:nvPr/>
        </p:nvSpPr>
        <p:spPr>
          <a:xfrm>
            <a:off x="5791320" y="2286000"/>
            <a:ext cx="0" cy="175248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1600200" y="2286000"/>
            <a:ext cx="0" cy="175248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2" name="Line 9"/>
          <p:cNvSpPr/>
          <p:nvPr/>
        </p:nvSpPr>
        <p:spPr>
          <a:xfrm>
            <a:off x="2438280" y="2286000"/>
            <a:ext cx="0" cy="175248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3" name="Line 10"/>
          <p:cNvSpPr/>
          <p:nvPr/>
        </p:nvSpPr>
        <p:spPr>
          <a:xfrm>
            <a:off x="3200400" y="2286000"/>
            <a:ext cx="0" cy="175248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4" name="Line 11"/>
          <p:cNvSpPr/>
          <p:nvPr/>
        </p:nvSpPr>
        <p:spPr>
          <a:xfrm>
            <a:off x="4038480" y="2286000"/>
            <a:ext cx="0" cy="175248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5" name="Line 12"/>
          <p:cNvSpPr/>
          <p:nvPr/>
        </p:nvSpPr>
        <p:spPr>
          <a:xfrm>
            <a:off x="4876920" y="2286000"/>
            <a:ext cx="0" cy="175248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609480" y="1905120"/>
            <a:ext cx="8001000" cy="289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7" name="Line 14"/>
          <p:cNvSpPr/>
          <p:nvPr/>
        </p:nvSpPr>
        <p:spPr>
          <a:xfrm>
            <a:off x="2286000" y="2438280"/>
            <a:ext cx="0" cy="175284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8" name="Line 15"/>
          <p:cNvSpPr/>
          <p:nvPr/>
        </p:nvSpPr>
        <p:spPr>
          <a:xfrm>
            <a:off x="4114800" y="2438280"/>
            <a:ext cx="0" cy="175284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9" name="Line 16"/>
          <p:cNvSpPr/>
          <p:nvPr/>
        </p:nvSpPr>
        <p:spPr>
          <a:xfrm flipH="1">
            <a:off x="2362320" y="2362320"/>
            <a:ext cx="167616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0" name="Line 17"/>
          <p:cNvSpPr/>
          <p:nvPr/>
        </p:nvSpPr>
        <p:spPr>
          <a:xfrm flipH="1">
            <a:off x="2362320" y="4267080"/>
            <a:ext cx="167616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1" name="Line 18"/>
          <p:cNvSpPr/>
          <p:nvPr/>
        </p:nvSpPr>
        <p:spPr>
          <a:xfrm flipH="1">
            <a:off x="4191120" y="2362320"/>
            <a:ext cx="167616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2" name="Line 19"/>
          <p:cNvSpPr/>
          <p:nvPr/>
        </p:nvSpPr>
        <p:spPr>
          <a:xfrm flipH="1">
            <a:off x="2437920" y="6095880"/>
            <a:ext cx="167652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3" name="Line 20"/>
          <p:cNvSpPr/>
          <p:nvPr/>
        </p:nvSpPr>
        <p:spPr>
          <a:xfrm flipV="1">
            <a:off x="2286000" y="4343400"/>
            <a:ext cx="0" cy="175248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4" name="Line 22"/>
          <p:cNvSpPr/>
          <p:nvPr/>
        </p:nvSpPr>
        <p:spPr>
          <a:xfrm flipV="1">
            <a:off x="5943600" y="2437920"/>
            <a:ext cx="0" cy="175284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5" name="Line 23"/>
          <p:cNvSpPr/>
          <p:nvPr/>
        </p:nvSpPr>
        <p:spPr>
          <a:xfrm flipV="1">
            <a:off x="5943600" y="4266720"/>
            <a:ext cx="0" cy="175284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6" name="Line 24"/>
          <p:cNvSpPr/>
          <p:nvPr/>
        </p:nvSpPr>
        <p:spPr>
          <a:xfrm flipH="1">
            <a:off x="4191120" y="6095880"/>
            <a:ext cx="167616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227" name="Picture 26" descr="SO00450_"/>
          <p:cNvPicPr/>
          <p:nvPr/>
        </p:nvPicPr>
        <p:blipFill>
          <a:blip r:embed="rId3"/>
          <a:stretch/>
        </p:blipFill>
        <p:spPr>
          <a:xfrm>
            <a:off x="7391520" y="228600"/>
            <a:ext cx="14461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4" descr="G:\фон\2-10.jpg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76944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2"/>
          <p:cNvSpPr/>
          <p:nvPr/>
        </p:nvSpPr>
        <p:spPr>
          <a:xfrm>
            <a:off x="826920" y="189000"/>
            <a:ext cx="7777440" cy="2492280"/>
          </a:xfrm>
          <a:prstGeom prst="horizontalScroll">
            <a:avLst>
              <a:gd name="adj" fmla="val 12500"/>
            </a:avLst>
          </a:prstGeom>
          <a:solidFill>
            <a:srgbClr val="357da9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Как с помощью пяти единиц и одного знак </a:t>
            </a:r>
            <a:endParaRPr b="0" lang="en-US" sz="32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действия записать число 100? </a:t>
            </a:r>
            <a:endParaRPr b="0" lang="en-US" sz="32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5232240" y="3789360"/>
            <a:ext cx="3602160" cy="581400"/>
          </a:xfrm>
          <a:prstGeom prst="rect">
            <a:avLst/>
          </a:prstGeom>
          <a:solidFill>
            <a:srgbClr val="357da9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Ответ: 111 – 11 = 100</a:t>
            </a:r>
            <a:endParaRPr b="0" lang="en-US" sz="32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32" name="WordArt 4"/>
          <p:cNvSpPr txBox="1"/>
          <p:nvPr/>
        </p:nvSpPr>
        <p:spPr>
          <a:xfrm rot="16416000">
            <a:off x="1284120" y="4628520"/>
            <a:ext cx="5173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1574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1574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3" name="WordArt 5"/>
          <p:cNvSpPr txBox="1"/>
          <p:nvPr/>
        </p:nvSpPr>
        <p:spPr>
          <a:xfrm rot="2805600">
            <a:off x="3011400" y="2684520"/>
            <a:ext cx="5176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2137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2137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4" name="WordArt 6"/>
          <p:cNvSpPr txBox="1"/>
          <p:nvPr/>
        </p:nvSpPr>
        <p:spPr>
          <a:xfrm rot="5856600">
            <a:off x="4019400" y="4124160"/>
            <a:ext cx="5173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1526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1526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WordArt 7"/>
          <p:cNvSpPr txBox="1"/>
          <p:nvPr/>
        </p:nvSpPr>
        <p:spPr>
          <a:xfrm rot="1304400">
            <a:off x="2556000" y="5300640"/>
            <a:ext cx="5173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2778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2778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WordArt 8"/>
          <p:cNvSpPr txBox="1"/>
          <p:nvPr/>
        </p:nvSpPr>
        <p:spPr>
          <a:xfrm rot="20092800">
            <a:off x="1187280" y="3068280"/>
            <a:ext cx="5176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840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840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8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5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7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9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1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3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3" descr="F:\фон\5-2.jpg"/>
          <p:cNvPicPr/>
          <p:nvPr/>
        </p:nvPicPr>
        <p:blipFill>
          <a:blip r:embed="rId1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4" descr="j0311778"/>
          <p:cNvPicPr/>
          <p:nvPr/>
        </p:nvPicPr>
        <p:blipFill>
          <a:blip r:embed="rId2"/>
          <a:stretch/>
        </p:blipFill>
        <p:spPr>
          <a:xfrm>
            <a:off x="785880" y="714240"/>
            <a:ext cx="869760" cy="1295640"/>
          </a:xfrm>
          <a:prstGeom prst="rect">
            <a:avLst/>
          </a:prstGeom>
          <a:ln w="0">
            <a:noFill/>
          </a:ln>
        </p:spPr>
      </p:pic>
      <p:sp>
        <p:nvSpPr>
          <p:cNvPr id="240" name="Прямоугольник 4"/>
          <p:cNvSpPr/>
          <p:nvPr/>
        </p:nvSpPr>
        <p:spPr>
          <a:xfrm>
            <a:off x="1714680" y="642960"/>
            <a:ext cx="657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80e2b"/>
                </a:solidFill>
                <a:latin typeface="Arial"/>
              </a:rPr>
              <a:t>Назови древний калькулятор. </a:t>
            </a:r>
            <a:endParaRPr b="0" lang="en-US" sz="60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900000" y="3645000"/>
            <a:ext cx="30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Times New Roman"/>
              </a:rPr>
              <a:t>Счёты</a:t>
            </a:r>
            <a:endParaRPr b="0" lang="en-US" sz="54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242" name="Picture 5" descr="j0286308"/>
          <p:cNvPicPr/>
          <p:nvPr/>
        </p:nvPicPr>
        <p:blipFill>
          <a:blip r:embed="rId3"/>
          <a:stretch/>
        </p:blipFill>
        <p:spPr>
          <a:xfrm rot="5400000">
            <a:off x="4325040" y="3028320"/>
            <a:ext cx="388800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3" descr="F:\фон\5-2.jpg"/>
          <p:cNvPicPr/>
          <p:nvPr/>
        </p:nvPicPr>
        <p:blipFill>
          <a:blip r:embed="rId1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Прямоугольник 4"/>
          <p:cNvSpPr/>
          <p:nvPr/>
        </p:nvSpPr>
        <p:spPr>
          <a:xfrm>
            <a:off x="857160" y="642960"/>
            <a:ext cx="7858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80e2b"/>
                </a:solidFill>
                <a:latin typeface="Arial"/>
              </a:rPr>
              <a:t>Шесть ног, две головы, один хвост. Кто это?</a:t>
            </a:r>
            <a:endParaRPr b="0" lang="en-US" sz="60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3419640" y="3716280"/>
            <a:ext cx="532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Times New Roman"/>
              </a:rPr>
              <a:t>Всадник на осле или на лошади.</a:t>
            </a:r>
            <a:endParaRPr b="0" lang="en-US" sz="4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247" name="Picture 5" descr="j0235201"/>
          <p:cNvPicPr/>
          <p:nvPr/>
        </p:nvPicPr>
        <p:blipFill>
          <a:blip r:embed="rId2"/>
          <a:stretch/>
        </p:blipFill>
        <p:spPr>
          <a:xfrm>
            <a:off x="684360" y="3141720"/>
            <a:ext cx="25207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F:\фон\5-2.jpg"/>
          <p:cNvPicPr/>
          <p:nvPr/>
        </p:nvPicPr>
        <p:blipFill>
          <a:blip r:embed="rId1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Прямоугольник 3"/>
          <p:cNvSpPr/>
          <p:nvPr/>
        </p:nvSpPr>
        <p:spPr>
          <a:xfrm>
            <a:off x="500040" y="1500120"/>
            <a:ext cx="8358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80e2b"/>
                </a:solidFill>
                <a:latin typeface="Arial"/>
              </a:rPr>
              <a:t>Он – грызун не очень мелкий, ибо чуть побольше белки. </a:t>
            </a:r>
            <a:br>
              <a:rPr sz="5400"/>
            </a:br>
            <a:r>
              <a:rPr b="0" lang="ru-RU" sz="5400" spc="-1" strike="noStrike">
                <a:solidFill>
                  <a:srgbClr val="080e2b"/>
                </a:solidFill>
                <a:latin typeface="Arial"/>
              </a:rPr>
              <a:t>А заменишь «У» на «О» - </a:t>
            </a:r>
            <a:br>
              <a:rPr sz="5400"/>
            </a:br>
            <a:r>
              <a:rPr b="0" lang="ru-RU" sz="5400" spc="-1" strike="noStrike">
                <a:solidFill>
                  <a:srgbClr val="080e2b"/>
                </a:solidFill>
                <a:latin typeface="Arial"/>
              </a:rPr>
              <a:t>Будет круглое число.</a:t>
            </a:r>
            <a:endParaRPr b="0" lang="en-US" sz="54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F:\фон\5-2.jpg"/>
          <p:cNvPicPr/>
          <p:nvPr/>
        </p:nvPicPr>
        <p:blipFill>
          <a:blip r:embed="rId1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3" descr="j0345077"/>
          <p:cNvPicPr/>
          <p:nvPr/>
        </p:nvPicPr>
        <p:blipFill>
          <a:blip r:embed="rId2"/>
          <a:stretch/>
        </p:blipFill>
        <p:spPr>
          <a:xfrm>
            <a:off x="1116000" y="3716280"/>
            <a:ext cx="3527280" cy="224496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4"/>
          <p:cNvSpPr/>
          <p:nvPr/>
        </p:nvSpPr>
        <p:spPr>
          <a:xfrm>
            <a:off x="4932360" y="4365720"/>
            <a:ext cx="352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9bd3e5"/>
                </a:solidFill>
                <a:latin typeface="Times New Roman"/>
              </a:rPr>
              <a:t>с</a:t>
            </a:r>
            <a:r>
              <a:rPr b="0" lang="ru-RU" sz="8000" spc="-1" strike="noStrike">
                <a:solidFill>
                  <a:srgbClr val="8a5bdf"/>
                </a:solidFill>
                <a:latin typeface="Times New Roman"/>
              </a:rPr>
              <a:t>О</a:t>
            </a:r>
            <a:r>
              <a:rPr b="0" lang="ru-RU" sz="8000" spc="-1" strike="noStrike">
                <a:solidFill>
                  <a:srgbClr val="9bd3e5"/>
                </a:solidFill>
                <a:latin typeface="Times New Roman"/>
              </a:rPr>
              <a:t>рок</a:t>
            </a:r>
            <a:endParaRPr b="0" lang="en-US" sz="80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4859280" y="1484280"/>
            <a:ext cx="352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9bd3e5"/>
                </a:solidFill>
                <a:latin typeface="Times New Roman"/>
              </a:rPr>
              <a:t>с</a:t>
            </a:r>
            <a:r>
              <a:rPr b="0" lang="ru-RU" sz="8000" spc="-1" strike="noStrike">
                <a:solidFill>
                  <a:srgbClr val="6600cc"/>
                </a:solidFill>
                <a:latin typeface="Times New Roman"/>
              </a:rPr>
              <a:t>У</a:t>
            </a:r>
            <a:r>
              <a:rPr b="0" lang="ru-RU" sz="8000" spc="-1" strike="noStrike">
                <a:solidFill>
                  <a:srgbClr val="9bd3e5"/>
                </a:solidFill>
                <a:latin typeface="Times New Roman"/>
              </a:rPr>
              <a:t>рок</a:t>
            </a:r>
            <a:endParaRPr b="0" lang="en-US" sz="80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256" name="Picture 6" descr="сурок"/>
          <p:cNvPicPr/>
          <p:nvPr/>
        </p:nvPicPr>
        <p:blipFill>
          <a:blip r:embed="rId3"/>
          <a:stretch/>
        </p:blipFill>
        <p:spPr>
          <a:xfrm>
            <a:off x="1763640" y="333360"/>
            <a:ext cx="20638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4" descr="G:\фон\2-10.jpg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769440"/>
          </a:xfrm>
          <a:prstGeom prst="rect">
            <a:avLst/>
          </a:prstGeom>
          <a:ln w="0">
            <a:noFill/>
          </a:ln>
        </p:spPr>
      </p:pic>
      <p:sp>
        <p:nvSpPr>
          <p:cNvPr id="259" name="WordArt 1"/>
          <p:cNvSpPr txBox="1"/>
          <p:nvPr/>
        </p:nvSpPr>
        <p:spPr>
          <a:xfrm>
            <a:off x="1071720" y="1500120"/>
            <a:ext cx="7200720" cy="28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26c5"/>
                </a:solidFill>
                <a:latin typeface="Arial Black"/>
              </a:rPr>
              <a:t>Магическ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f26c5"/>
              </a:soli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26c5"/>
                </a:solidFill>
                <a:latin typeface="Arial Black"/>
              </a:rPr>
              <a:t>квадра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f26c5"/>
              </a:solidFill>
              <a:latin typeface="Arial Black"/>
              <a:ea typeface="Arial Black"/>
            </a:endParaRPr>
          </a:p>
        </p:txBody>
      </p:sp>
      <p:pic>
        <p:nvPicPr>
          <p:cNvPr id="260" name="Picture 3" descr="G:\картинки-анимация\111.gif"/>
          <p:cNvPicPr/>
          <p:nvPr/>
        </p:nvPicPr>
        <p:blipFill>
          <a:blip r:embed="rId2"/>
          <a:stretch/>
        </p:blipFill>
        <p:spPr>
          <a:xfrm>
            <a:off x="7358040" y="4857840"/>
            <a:ext cx="10382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G:\фон\2-10.jpg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76944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1"/>
          <p:cNvSpPr/>
          <p:nvPr/>
        </p:nvSpPr>
        <p:spPr>
          <a:xfrm>
            <a:off x="214200" y="365040"/>
            <a:ext cx="8501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e2b"/>
                </a:solidFill>
                <a:latin typeface="Arial"/>
                <a:ea typeface="Calibri"/>
              </a:rPr>
              <a:t>Разместите в свободных клетках квадрата еще числа 3, 4, 5, 6, 7, 8, 9 так, чтобы по любой вертикали, горизонтали и диагонали получилось в сумме одно и то же число (21):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2286000" y="2214720"/>
          <a:ext cx="4205160" cy="4143240"/>
        </p:xfrm>
        <a:graphic>
          <a:graphicData uri="http://schemas.openxmlformats.org/drawingml/2006/table">
            <a:tbl>
              <a:tblPr/>
              <a:tblGrid>
                <a:gridCol w="1328760"/>
                <a:gridCol w="1438200"/>
                <a:gridCol w="1438200"/>
              </a:tblGrid>
              <a:tr h="1380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380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38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64" name="Прямоугольник 10"/>
          <p:cNvSpPr/>
          <p:nvPr/>
        </p:nvSpPr>
        <p:spPr>
          <a:xfrm>
            <a:off x="2286000" y="2214720"/>
            <a:ext cx="128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80e2b"/>
                </a:solidFill>
                <a:latin typeface="Arial"/>
              </a:rPr>
              <a:t>10</a:t>
            </a:r>
            <a:endParaRPr b="0" lang="en-US" sz="72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65" name="Прямоугольник 11"/>
          <p:cNvSpPr/>
          <p:nvPr/>
        </p:nvSpPr>
        <p:spPr>
          <a:xfrm>
            <a:off x="3786120" y="3643200"/>
            <a:ext cx="128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80e2b"/>
                </a:solidFill>
                <a:latin typeface="Arial"/>
              </a:rPr>
              <a:t>7</a:t>
            </a:r>
            <a:endParaRPr b="0" lang="en-US" sz="80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3643200" y="5000760"/>
            <a:ext cx="14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80e2b"/>
                </a:solidFill>
                <a:latin typeface="Arial"/>
              </a:rPr>
              <a:t>11</a:t>
            </a:r>
            <a:endParaRPr b="0" lang="en-US" sz="80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267" name="Picture 5" descr="G:\картинки-анимация\b30706db32d32bcb7039890e0bb4193c[1].gif"/>
          <p:cNvPicPr/>
          <p:nvPr/>
        </p:nvPicPr>
        <p:blipFill>
          <a:blip r:embed="rId2"/>
          <a:stretch/>
        </p:blipFill>
        <p:spPr>
          <a:xfrm>
            <a:off x="7981920" y="5786280"/>
            <a:ext cx="116208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4" descr="G:\фон\2-10.jpg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76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0" name=""/>
          <p:cNvGraphicFramePr/>
          <p:nvPr/>
        </p:nvGraphicFramePr>
        <p:xfrm>
          <a:off x="2428920" y="1143000"/>
          <a:ext cx="4205160" cy="4143240"/>
        </p:xfrm>
        <a:graphic>
          <a:graphicData uri="http://schemas.openxmlformats.org/drawingml/2006/table">
            <a:tbl>
              <a:tblPr/>
              <a:tblGrid>
                <a:gridCol w="1328760"/>
                <a:gridCol w="1438200"/>
                <a:gridCol w="1438200"/>
              </a:tblGrid>
              <a:tr h="1380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38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380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71" name="Rectangle 1"/>
          <p:cNvSpPr/>
          <p:nvPr/>
        </p:nvSpPr>
        <p:spPr>
          <a:xfrm>
            <a:off x="2500200" y="1290240"/>
            <a:ext cx="121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80e2b"/>
                </a:solidFill>
                <a:latin typeface="Arial"/>
                <a:ea typeface="Times New Roman"/>
              </a:rPr>
              <a:t>21</a:t>
            </a:r>
            <a:endParaRPr b="0" lang="en-US" sz="72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2" name="Rectangle 2"/>
          <p:cNvSpPr/>
          <p:nvPr/>
        </p:nvSpPr>
        <p:spPr>
          <a:xfrm>
            <a:off x="3857760" y="2576160"/>
            <a:ext cx="128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80e2b"/>
                </a:solidFill>
                <a:latin typeface="Arial"/>
                <a:ea typeface="Times New Roman"/>
              </a:rPr>
              <a:t>24</a:t>
            </a:r>
            <a:endParaRPr b="0" lang="en-US" sz="72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5072040" y="1218600"/>
            <a:ext cx="16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80e2b"/>
                </a:solidFill>
                <a:latin typeface="Arial"/>
                <a:ea typeface="Times New Roman"/>
              </a:rPr>
              <a:t>23</a:t>
            </a:r>
            <a:endParaRPr b="0" lang="en-US" sz="72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5357880" y="4005000"/>
            <a:ext cx="121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80e2b"/>
                </a:solidFill>
                <a:latin typeface="Arial"/>
                <a:ea typeface="Times New Roman"/>
              </a:rPr>
              <a:t>27</a:t>
            </a:r>
            <a:endParaRPr b="0" lang="en-US" sz="72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275" name="Picture 5" descr="G:\картинки-анимация\a524dbbed10ca2b93bd6fc8dc6de503b[1].gif"/>
          <p:cNvPicPr/>
          <p:nvPr/>
        </p:nvPicPr>
        <p:blipFill>
          <a:blip r:embed="rId2"/>
          <a:stretch/>
        </p:blipFill>
        <p:spPr>
          <a:xfrm>
            <a:off x="7905600" y="5429160"/>
            <a:ext cx="12384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6" descr="G:\фон\5-3.jpg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13360"/>
          </a:xfrm>
          <a:prstGeom prst="rect">
            <a:avLst/>
          </a:prstGeom>
          <a:ln w="0">
            <a:noFill/>
          </a:ln>
        </p:spPr>
      </p:pic>
      <p:pic>
        <p:nvPicPr>
          <p:cNvPr id="122" name="Прямоугольник 4" descr=""/>
          <p:cNvPicPr/>
          <p:nvPr/>
        </p:nvPicPr>
        <p:blipFill>
          <a:blip r:embed="rId2"/>
          <a:stretch/>
        </p:blipFill>
        <p:spPr>
          <a:xfrm>
            <a:off x="353880" y="1305000"/>
            <a:ext cx="5894640" cy="1152360"/>
          </a:xfrm>
          <a:prstGeom prst="rect">
            <a:avLst/>
          </a:prstGeom>
          <a:ln w="0">
            <a:noFill/>
          </a:ln>
        </p:spPr>
      </p:pic>
      <p:pic>
        <p:nvPicPr>
          <p:cNvPr id="123" name="Прямоугольник 5" descr=""/>
          <p:cNvPicPr/>
          <p:nvPr/>
        </p:nvPicPr>
        <p:blipFill>
          <a:blip r:embed="rId3"/>
          <a:stretch/>
        </p:blipFill>
        <p:spPr>
          <a:xfrm>
            <a:off x="146160" y="2305080"/>
            <a:ext cx="7035840" cy="1150920"/>
          </a:xfrm>
          <a:prstGeom prst="rect">
            <a:avLst/>
          </a:prstGeom>
          <a:ln w="0">
            <a:noFill/>
          </a:ln>
        </p:spPr>
      </p:pic>
      <p:pic>
        <p:nvPicPr>
          <p:cNvPr id="124" name="Прямоугольник 6" descr=""/>
          <p:cNvPicPr/>
          <p:nvPr/>
        </p:nvPicPr>
        <p:blipFill>
          <a:blip r:embed="rId4"/>
          <a:stretch/>
        </p:blipFill>
        <p:spPr>
          <a:xfrm>
            <a:off x="219240" y="3444840"/>
            <a:ext cx="6619680" cy="11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G:\фон\5-3.jpg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357120" y="1285560"/>
            <a:ext cx="8507520" cy="10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…4…3…2…1=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714240" y="4857840"/>
            <a:ext cx="78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endParaRPr b="0" lang="en-US" sz="5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2428920" y="4714920"/>
            <a:ext cx="78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endParaRPr b="0" lang="en-US" sz="5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1571760" y="4857840"/>
            <a:ext cx="78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endParaRPr b="0" lang="en-US" sz="5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3429000" y="4857840"/>
            <a:ext cx="78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endParaRPr b="0" lang="en-US" sz="5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6286680" y="4786200"/>
            <a:ext cx="78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endParaRPr b="0" lang="en-US" sz="5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5572080" y="4786200"/>
            <a:ext cx="78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endParaRPr b="0" lang="en-US" sz="5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4929120" y="4786200"/>
            <a:ext cx="78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endParaRPr b="0" lang="en-US" sz="5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4" name="TextBox 10"/>
          <p:cNvSpPr/>
          <p:nvPr/>
        </p:nvSpPr>
        <p:spPr>
          <a:xfrm>
            <a:off x="4214880" y="4786200"/>
            <a:ext cx="78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endParaRPr b="0" lang="en-US" sz="5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5" name="Содержимое 2"/>
          <p:cNvSpPr/>
          <p:nvPr/>
        </p:nvSpPr>
        <p:spPr>
          <a:xfrm>
            <a:off x="285840" y="2786040"/>
            <a:ext cx="850716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…4…3…2…1=3</a:t>
            </a:r>
            <a:endParaRPr b="0" lang="en-US" sz="54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7.77778E-006 L -1.66667E-006 -0.52499 E">
                                      <p:cBhvr>
                                        <p:cTn id="16" dur="1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11111E-006 L -0.07084 -0.51458 E">
                                      <p:cBhvr>
                                        <p:cTn id="19" dur="1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11111E-006 L -0.15746 -0.51436 E">
                                      <p:cBhvr>
                                        <p:cTn id="22" dur="1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7.03704E-006 L -0.12604 -0.52501 E">
                                      <p:cBhvr>
                                        <p:cTn id="25" dur="1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1.11111E-006 L -0.5356 -0.29398 E">
                                      <p:cBhvr>
                                        <p:cTn id="34" dur="1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7037E-007 L 0.02361 -0.30462 E">
                                      <p:cBhvr>
                                        <p:cTn id="37" dur="1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L -0.39375 -0.3044 E">
                                      <p:cBhvr>
                                        <p:cTn id="40" dur="1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7.77778E-006 L 0.04722 -0.31481 E">
                                      <p:cBhvr>
                                        <p:cTn id="43" dur="1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0" descr="G:\фон\5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:\Downloads\Анимашки\100.gif"/>
          <p:cNvPicPr/>
          <p:nvPr/>
        </p:nvPicPr>
        <p:blipFill>
          <a:blip r:embed="rId2"/>
          <a:stretch/>
        </p:blipFill>
        <p:spPr>
          <a:xfrm>
            <a:off x="285840" y="4071960"/>
            <a:ext cx="1157040" cy="2459160"/>
          </a:xfrm>
          <a:prstGeom prst="rect">
            <a:avLst/>
          </a:prstGeom>
          <a:ln w="0">
            <a:noFill/>
          </a:ln>
        </p:spPr>
      </p:pic>
      <p:sp>
        <p:nvSpPr>
          <p:cNvPr id="138" name="Равнобедренный треугольник 4"/>
          <p:cNvSpPr/>
          <p:nvPr/>
        </p:nvSpPr>
        <p:spPr>
          <a:xfrm>
            <a:off x="785880" y="1500120"/>
            <a:ext cx="928800" cy="857160"/>
          </a:xfrm>
          <a:prstGeom prst="triangle">
            <a:avLst>
              <a:gd name="adj" fmla="val 50000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9" name="Равнобедренный треугольник 5"/>
          <p:cNvSpPr/>
          <p:nvPr/>
        </p:nvSpPr>
        <p:spPr>
          <a:xfrm>
            <a:off x="3643200" y="1500120"/>
            <a:ext cx="928800" cy="85716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0" name="Равнобедренный треугольник 6"/>
          <p:cNvSpPr/>
          <p:nvPr/>
        </p:nvSpPr>
        <p:spPr>
          <a:xfrm>
            <a:off x="6000840" y="1571760"/>
            <a:ext cx="928440" cy="857160"/>
          </a:xfrm>
          <a:prstGeom prst="triangle">
            <a:avLst>
              <a:gd name="adj" fmla="val 50000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1" name="Равнобедренный треугольник 7"/>
          <p:cNvSpPr/>
          <p:nvPr/>
        </p:nvSpPr>
        <p:spPr>
          <a:xfrm>
            <a:off x="2714760" y="3143160"/>
            <a:ext cx="1428480" cy="1428840"/>
          </a:xfrm>
          <a:prstGeom prst="triangle">
            <a:avLst>
              <a:gd name="adj" fmla="val 42968"/>
            </a:avLst>
          </a:prstGeom>
          <a:blipFill rotWithShape="0">
            <a:blip r:embed="rId6"/>
            <a:srcRect/>
            <a:stretch/>
          </a:blipFill>
          <a:ln w="284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2" name="Прямоугольник 8"/>
          <p:cNvSpPr/>
          <p:nvPr/>
        </p:nvSpPr>
        <p:spPr>
          <a:xfrm>
            <a:off x="1785960" y="1500120"/>
            <a:ext cx="857160" cy="85716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3" name="Прямоугольник 9"/>
          <p:cNvSpPr/>
          <p:nvPr/>
        </p:nvSpPr>
        <p:spPr>
          <a:xfrm>
            <a:off x="2714760" y="1500120"/>
            <a:ext cx="857160" cy="85716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4" name="Прямоугольник 10"/>
          <p:cNvSpPr/>
          <p:nvPr/>
        </p:nvSpPr>
        <p:spPr>
          <a:xfrm>
            <a:off x="7000920" y="1571760"/>
            <a:ext cx="857160" cy="85716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5" name="Прямоугольник 11"/>
          <p:cNvSpPr/>
          <p:nvPr/>
        </p:nvSpPr>
        <p:spPr>
          <a:xfrm>
            <a:off x="4429080" y="3143160"/>
            <a:ext cx="1428840" cy="1500120"/>
          </a:xfrm>
          <a:prstGeom prst="rect">
            <a:avLst/>
          </a:prstGeom>
          <a:blipFill rotWithShape="0">
            <a:blip r:embed="rId10"/>
            <a:srcRect/>
            <a:stretch/>
          </a:blipFill>
          <a:ln w="284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6" name="Овал 12"/>
          <p:cNvSpPr/>
          <p:nvPr/>
        </p:nvSpPr>
        <p:spPr>
          <a:xfrm>
            <a:off x="4500720" y="1428840"/>
            <a:ext cx="1000080" cy="100008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7" name="Овал 13"/>
          <p:cNvSpPr/>
          <p:nvPr/>
        </p:nvSpPr>
        <p:spPr>
          <a:xfrm>
            <a:off x="7929720" y="1500120"/>
            <a:ext cx="1000080" cy="100008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8" name="TextBox 14"/>
          <p:cNvSpPr/>
          <p:nvPr/>
        </p:nvSpPr>
        <p:spPr>
          <a:xfrm>
            <a:off x="5500800" y="1428840"/>
            <a:ext cx="71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</a:t>
            </a:r>
            <a:endParaRPr b="0" lang="en-US" sz="5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9" name="Прямая соединительная линия 16"/>
          <p:cNvSpPr/>
          <p:nvPr/>
        </p:nvSpPr>
        <p:spPr>
          <a:xfrm>
            <a:off x="8071560" y="1428840"/>
            <a:ext cx="714600" cy="12859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0" name="Прямая соединительная линия 17"/>
          <p:cNvSpPr/>
          <p:nvPr/>
        </p:nvSpPr>
        <p:spPr>
          <a:xfrm>
            <a:off x="6071400" y="1500120"/>
            <a:ext cx="714600" cy="12859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1" name="Прямая соединительная линия 18"/>
          <p:cNvSpPr/>
          <p:nvPr/>
        </p:nvSpPr>
        <p:spPr>
          <a:xfrm>
            <a:off x="7000920" y="1357200"/>
            <a:ext cx="714240" cy="12859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2" name="Прямая соединительная линия 19"/>
          <p:cNvSpPr/>
          <p:nvPr/>
        </p:nvSpPr>
        <p:spPr>
          <a:xfrm>
            <a:off x="4714920" y="1357200"/>
            <a:ext cx="714240" cy="12859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3" name="Прямая соединительная линия 20"/>
          <p:cNvSpPr/>
          <p:nvPr/>
        </p:nvSpPr>
        <p:spPr>
          <a:xfrm>
            <a:off x="3642480" y="1357200"/>
            <a:ext cx="714600" cy="12859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4" name="Прямая соединительная линия 21"/>
          <p:cNvSpPr/>
          <p:nvPr/>
        </p:nvSpPr>
        <p:spPr>
          <a:xfrm>
            <a:off x="2714760" y="1357200"/>
            <a:ext cx="714240" cy="12859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3" descr="G:\фон\5-3.jpg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13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2"/>
          <p:cNvPicPr/>
          <p:nvPr/>
        </p:nvPicPr>
        <p:blipFill>
          <a:blip r:embed="rId2"/>
          <a:stretch/>
        </p:blipFill>
        <p:spPr>
          <a:xfrm>
            <a:off x="428760" y="1571760"/>
            <a:ext cx="6238800" cy="4338360"/>
          </a:xfrm>
          <a:prstGeom prst="rect">
            <a:avLst/>
          </a:prstGeom>
          <a:ln w="0">
            <a:noFill/>
          </a:ln>
        </p:spPr>
      </p:pic>
      <p:sp>
        <p:nvSpPr>
          <p:cNvPr id="157" name="Ромб 5"/>
          <p:cNvSpPr/>
          <p:nvPr/>
        </p:nvSpPr>
        <p:spPr>
          <a:xfrm>
            <a:off x="7429680" y="3000240"/>
            <a:ext cx="1285560" cy="1714680"/>
          </a:xfrm>
          <a:prstGeom prst="diamond">
            <a:avLst/>
          </a:prstGeom>
          <a:noFill/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8" name="Полилиния 7"/>
          <p:cNvSpPr/>
          <p:nvPr/>
        </p:nvSpPr>
        <p:spPr>
          <a:xfrm>
            <a:off x="8032680" y="2857680"/>
            <a:ext cx="1111320" cy="1130040"/>
          </a:xfrm>
          <a:custGeom>
            <a:avLst/>
            <a:gdLst>
              <a:gd name="textAreaLeft" fmla="*/ 0 w 1111320"/>
              <a:gd name="textAreaRight" fmla="*/ 1111680 w 1111320"/>
              <a:gd name="textAreaTop" fmla="*/ 0 h 1130040"/>
              <a:gd name="textAreaBottom" fmla="*/ 1130400 h 1130040"/>
            </a:gdLst>
            <a:ahLst/>
            <a:rect l="textAreaLeft" t="textAreaTop" r="textAreaRight" b="textAreaBottom"/>
            <a:pathLst>
              <a:path w="1080772" h="1174724">
                <a:moveTo>
                  <a:pt x="0" y="16329"/>
                </a:moveTo>
                <a:cubicBezTo>
                  <a:pt x="21771" y="10886"/>
                  <a:pt x="42873" y="0"/>
                  <a:pt x="65314" y="0"/>
                </a:cubicBezTo>
                <a:cubicBezTo>
                  <a:pt x="266315" y="0"/>
                  <a:pt x="290633" y="7618"/>
                  <a:pt x="440871" y="32658"/>
                </a:cubicBezTo>
                <a:cubicBezTo>
                  <a:pt x="451757" y="48986"/>
                  <a:pt x="473528" y="62019"/>
                  <a:pt x="473528" y="81643"/>
                </a:cubicBezTo>
                <a:cubicBezTo>
                  <a:pt x="473528" y="156357"/>
                  <a:pt x="425125" y="150894"/>
                  <a:pt x="375557" y="163286"/>
                </a:cubicBezTo>
                <a:cubicBezTo>
                  <a:pt x="451757" y="168729"/>
                  <a:pt x="530044" y="161087"/>
                  <a:pt x="604157" y="179615"/>
                </a:cubicBezTo>
                <a:cubicBezTo>
                  <a:pt x="623195" y="184375"/>
                  <a:pt x="622938" y="214724"/>
                  <a:pt x="636814" y="228600"/>
                </a:cubicBezTo>
                <a:cubicBezTo>
                  <a:pt x="656057" y="247843"/>
                  <a:pt x="680357" y="261257"/>
                  <a:pt x="702128" y="277586"/>
                </a:cubicBezTo>
                <a:cubicBezTo>
                  <a:pt x="707571" y="293915"/>
                  <a:pt x="724849" y="310591"/>
                  <a:pt x="718457" y="326572"/>
                </a:cubicBezTo>
                <a:cubicBezTo>
                  <a:pt x="708718" y="350920"/>
                  <a:pt x="641106" y="368684"/>
                  <a:pt x="620485" y="375558"/>
                </a:cubicBezTo>
                <a:cubicBezTo>
                  <a:pt x="685799" y="381001"/>
                  <a:pt x="752010" y="379808"/>
                  <a:pt x="816428" y="391886"/>
                </a:cubicBezTo>
                <a:cubicBezTo>
                  <a:pt x="840352" y="396372"/>
                  <a:pt x="859369" y="414955"/>
                  <a:pt x="881742" y="424543"/>
                </a:cubicBezTo>
                <a:cubicBezTo>
                  <a:pt x="897562" y="431323"/>
                  <a:pt x="914399" y="435429"/>
                  <a:pt x="930728" y="440872"/>
                </a:cubicBezTo>
                <a:cubicBezTo>
                  <a:pt x="925285" y="457201"/>
                  <a:pt x="924727" y="476089"/>
                  <a:pt x="914400" y="489858"/>
                </a:cubicBezTo>
                <a:cubicBezTo>
                  <a:pt x="866643" y="553534"/>
                  <a:pt x="840425" y="566388"/>
                  <a:pt x="783771" y="604158"/>
                </a:cubicBezTo>
                <a:cubicBezTo>
                  <a:pt x="830083" y="607720"/>
                  <a:pt x="988299" y="585068"/>
                  <a:pt x="1045028" y="653143"/>
                </a:cubicBezTo>
                <a:cubicBezTo>
                  <a:pt x="1060611" y="671843"/>
                  <a:pt x="1066799" y="696686"/>
                  <a:pt x="1077685" y="718458"/>
                </a:cubicBezTo>
                <a:cubicBezTo>
                  <a:pt x="1072242" y="767444"/>
                  <a:pt x="1080772" y="820113"/>
                  <a:pt x="1061357" y="865415"/>
                </a:cubicBezTo>
                <a:cubicBezTo>
                  <a:pt x="1034397" y="928322"/>
                  <a:pt x="968668" y="952581"/>
                  <a:pt x="914400" y="979715"/>
                </a:cubicBezTo>
                <a:cubicBezTo>
                  <a:pt x="947057" y="985158"/>
                  <a:pt x="985430" y="976800"/>
                  <a:pt x="1012371" y="996043"/>
                </a:cubicBezTo>
                <a:cubicBezTo>
                  <a:pt x="1030633" y="1009087"/>
                  <a:pt x="1022535" y="1039780"/>
                  <a:pt x="1028700" y="1061358"/>
                </a:cubicBezTo>
                <a:cubicBezTo>
                  <a:pt x="1033428" y="1077907"/>
                  <a:pt x="1039585" y="1094015"/>
                  <a:pt x="1045028" y="1110343"/>
                </a:cubicBezTo>
                <a:cubicBezTo>
                  <a:pt x="980647" y="1174724"/>
                  <a:pt x="1019134" y="1159329"/>
                  <a:pt x="930728" y="1159329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9" name="Полилиния 9"/>
          <p:cNvSpPr/>
          <p:nvPr/>
        </p:nvSpPr>
        <p:spPr>
          <a:xfrm>
            <a:off x="6894360" y="2776680"/>
            <a:ext cx="1090800" cy="1539720"/>
          </a:xfrm>
          <a:custGeom>
            <a:avLst/>
            <a:gdLst>
              <a:gd name="textAreaLeft" fmla="*/ 0 w 1090800"/>
              <a:gd name="textAreaRight" fmla="*/ 1091160 w 10908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1089834" h="1540998">
                <a:moveTo>
                  <a:pt x="1089834" y="163286"/>
                </a:moveTo>
                <a:cubicBezTo>
                  <a:pt x="1068063" y="146957"/>
                  <a:pt x="1047598" y="128724"/>
                  <a:pt x="1024520" y="114300"/>
                </a:cubicBezTo>
                <a:cubicBezTo>
                  <a:pt x="1003879" y="101399"/>
                  <a:pt x="979013" y="95791"/>
                  <a:pt x="959206" y="81643"/>
                </a:cubicBezTo>
                <a:cubicBezTo>
                  <a:pt x="897331" y="37446"/>
                  <a:pt x="932663" y="27318"/>
                  <a:pt x="861234" y="16329"/>
                </a:cubicBezTo>
                <a:cubicBezTo>
                  <a:pt x="807170" y="8012"/>
                  <a:pt x="752377" y="5443"/>
                  <a:pt x="697949" y="0"/>
                </a:cubicBezTo>
                <a:cubicBezTo>
                  <a:pt x="646593" y="17119"/>
                  <a:pt x="634923" y="12896"/>
                  <a:pt x="599977" y="65314"/>
                </a:cubicBezTo>
                <a:cubicBezTo>
                  <a:pt x="590430" y="79635"/>
                  <a:pt x="589092" y="97971"/>
                  <a:pt x="583649" y="114300"/>
                </a:cubicBezTo>
                <a:lnTo>
                  <a:pt x="599977" y="293914"/>
                </a:lnTo>
                <a:cubicBezTo>
                  <a:pt x="588056" y="298682"/>
                  <a:pt x="483842" y="333866"/>
                  <a:pt x="469349" y="359229"/>
                </a:cubicBezTo>
                <a:cubicBezTo>
                  <a:pt x="455580" y="383326"/>
                  <a:pt x="458463" y="413658"/>
                  <a:pt x="453020" y="440872"/>
                </a:cubicBezTo>
                <a:cubicBezTo>
                  <a:pt x="458463" y="489858"/>
                  <a:pt x="506974" y="555992"/>
                  <a:pt x="469349" y="587829"/>
                </a:cubicBezTo>
                <a:cubicBezTo>
                  <a:pt x="143499" y="863548"/>
                  <a:pt x="283027" y="493656"/>
                  <a:pt x="224420" y="669472"/>
                </a:cubicBezTo>
                <a:cubicBezTo>
                  <a:pt x="229863" y="723900"/>
                  <a:pt x="223451" y="780864"/>
                  <a:pt x="240749" y="832757"/>
                </a:cubicBezTo>
                <a:cubicBezTo>
                  <a:pt x="245365" y="846605"/>
                  <a:pt x="387441" y="914267"/>
                  <a:pt x="224420" y="832757"/>
                </a:cubicBezTo>
                <a:cubicBezTo>
                  <a:pt x="188876" y="839866"/>
                  <a:pt x="119666" y="842932"/>
                  <a:pt x="93792" y="881743"/>
                </a:cubicBezTo>
                <a:cubicBezTo>
                  <a:pt x="81344" y="900415"/>
                  <a:pt x="82906" y="925286"/>
                  <a:pt x="77463" y="947057"/>
                </a:cubicBezTo>
                <a:cubicBezTo>
                  <a:pt x="82906" y="1017814"/>
                  <a:pt x="85500" y="1088849"/>
                  <a:pt x="93792" y="1159329"/>
                </a:cubicBezTo>
                <a:cubicBezTo>
                  <a:pt x="96414" y="1181617"/>
                  <a:pt x="96101" y="1207119"/>
                  <a:pt x="110120" y="1224643"/>
                </a:cubicBezTo>
                <a:cubicBezTo>
                  <a:pt x="120872" y="1238083"/>
                  <a:pt x="142777" y="1235529"/>
                  <a:pt x="159106" y="1240972"/>
                </a:cubicBezTo>
                <a:cubicBezTo>
                  <a:pt x="175435" y="1235529"/>
                  <a:pt x="200395" y="1240038"/>
                  <a:pt x="208092" y="1224643"/>
                </a:cubicBezTo>
                <a:cubicBezTo>
                  <a:pt x="240044" y="1160739"/>
                  <a:pt x="116640" y="1160633"/>
                  <a:pt x="110120" y="1159329"/>
                </a:cubicBezTo>
                <a:cubicBezTo>
                  <a:pt x="109440" y="1159782"/>
                  <a:pt x="0" y="1209987"/>
                  <a:pt x="77463" y="1240972"/>
                </a:cubicBezTo>
                <a:cubicBezTo>
                  <a:pt x="98299" y="1249306"/>
                  <a:pt x="121006" y="1230086"/>
                  <a:pt x="142777" y="1224643"/>
                </a:cubicBezTo>
                <a:cubicBezTo>
                  <a:pt x="126449" y="1235529"/>
                  <a:pt x="107668" y="1243424"/>
                  <a:pt x="93792" y="1257300"/>
                </a:cubicBezTo>
                <a:cubicBezTo>
                  <a:pt x="36322" y="1314770"/>
                  <a:pt x="33208" y="1413986"/>
                  <a:pt x="77463" y="1485900"/>
                </a:cubicBezTo>
                <a:cubicBezTo>
                  <a:pt x="98230" y="1519647"/>
                  <a:pt x="153810" y="1507171"/>
                  <a:pt x="191763" y="1518557"/>
                </a:cubicBezTo>
                <a:cubicBezTo>
                  <a:pt x="208249" y="1523503"/>
                  <a:pt x="224420" y="1529443"/>
                  <a:pt x="240749" y="1534886"/>
                </a:cubicBezTo>
                <a:cubicBezTo>
                  <a:pt x="343025" y="1509316"/>
                  <a:pt x="306063" y="1540998"/>
                  <a:pt x="306063" y="1404257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60" name="Арка 10"/>
          <p:cNvSpPr/>
          <p:nvPr/>
        </p:nvSpPr>
        <p:spPr>
          <a:xfrm rot="10648200">
            <a:off x="7372080" y="2319120"/>
            <a:ext cx="1500120" cy="714240"/>
          </a:xfrm>
          <a:custGeom>
            <a:avLst/>
            <a:gdLst>
              <a:gd name="textAreaLeft" fmla="*/ 0 w 1500120"/>
              <a:gd name="textAreaRight" fmla="*/ 1500480 w 1500120"/>
              <a:gd name="textAreaTop" fmla="*/ 0 h 714240"/>
              <a:gd name="textAreaBottom" fmla="*/ 357120 h 714240"/>
            </a:gdLst>
            <a:ahLst/>
            <a:rect l="textAreaLeft" t="textAreaTop" r="textAreaRight" b="textAreaBottom"/>
            <a:pathLst>
              <a:path w="1500188" h="714375">
                <a:moveTo>
                  <a:pt x="0" y="357187"/>
                </a:moveTo>
                <a:lnTo>
                  <a:pt x="0" y="357187"/>
                </a:lnTo>
                <a:arcTo wR="750094" hR="357188" stAng="-10799995" swAng="10800005"/>
                <a:lnTo>
                  <a:pt x="1321594" y="357188"/>
                </a:lnTo>
                <a:lnTo>
                  <a:pt x="1321594" y="357188"/>
                </a:lnTo>
                <a:arcTo wR="571500" hR="178594" stAng="0" swAng="-10800006"/>
                <a:close/>
              </a:path>
            </a:pathLst>
          </a:cu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61" name="Хорда 11"/>
          <p:cNvSpPr/>
          <p:nvPr/>
        </p:nvSpPr>
        <p:spPr>
          <a:xfrm rot="6772800">
            <a:off x="7625880" y="2244600"/>
            <a:ext cx="1000080" cy="857160"/>
          </a:xfrm>
          <a:custGeom>
            <a:avLst/>
            <a:gdLst>
              <a:gd name="textAreaLeft" fmla="*/ 146160 w 1000080"/>
              <a:gd name="textAreaRight" fmla="*/ 853920 w 1000080"/>
              <a:gd name="textAreaTop" fmla="*/ 125280 h 857160"/>
              <a:gd name="textAreaBottom" fmla="*/ 731880 h 857160"/>
            </a:gdLst>
            <a:ahLst/>
            <a:rect l="textAreaLeft" t="textAreaTop" r="textAreaRight" b="textAreaBottom"/>
            <a:pathLst>
              <a:path w="1000125" h="857250">
                <a:moveTo>
                  <a:pt x="825499" y="754061"/>
                </a:moveTo>
                <a:lnTo>
                  <a:pt x="825499" y="754061"/>
                </a:lnTo>
                <a:arcTo wR="500063" hR="428625" stAng="2700005" swAng="13499995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62" name="Арка 15"/>
          <p:cNvSpPr/>
          <p:nvPr/>
        </p:nvSpPr>
        <p:spPr>
          <a:xfrm rot="10800000">
            <a:off x="7853040" y="4095360"/>
            <a:ext cx="517320" cy="258840"/>
          </a:xfrm>
          <a:custGeom>
            <a:avLst/>
            <a:gdLst>
              <a:gd name="textAreaLeft" fmla="*/ 0 w 517320"/>
              <a:gd name="textAreaRight" fmla="*/ 517680 w 517320"/>
              <a:gd name="textAreaTop" fmla="*/ 0 h 258840"/>
              <a:gd name="textAreaBottom" fmla="*/ 129600 h 258840"/>
            </a:gdLst>
            <a:ahLst/>
            <a:rect l="textAreaLeft" t="textAreaTop" r="textAreaRight" b="textAreaBottom"/>
            <a:pathLst>
              <a:path w="517525" h="258763">
                <a:moveTo>
                  <a:pt x="0" y="129381"/>
                </a:moveTo>
                <a:lnTo>
                  <a:pt x="0" y="129381"/>
                </a:lnTo>
                <a:arcTo wR="258763" hR="129382" stAng="10800000" swAng="10800013"/>
                <a:lnTo>
                  <a:pt x="452834" y="129382"/>
                </a:lnTo>
                <a:lnTo>
                  <a:pt x="452834" y="129382"/>
                </a:lnTo>
                <a:arcTo wR="194072" hR="64691" stAng="0" swAng="-10800000"/>
                <a:close/>
              </a:path>
            </a:pathLst>
          </a:cu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63" name="Овал 16"/>
          <p:cNvSpPr/>
          <p:nvPr/>
        </p:nvSpPr>
        <p:spPr>
          <a:xfrm>
            <a:off x="7715160" y="3571920"/>
            <a:ext cx="285840" cy="357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64" name="Овал 17"/>
          <p:cNvSpPr/>
          <p:nvPr/>
        </p:nvSpPr>
        <p:spPr>
          <a:xfrm>
            <a:off x="8143920" y="3571920"/>
            <a:ext cx="285840" cy="357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65" name="Овал 19"/>
          <p:cNvSpPr/>
          <p:nvPr/>
        </p:nvSpPr>
        <p:spPr>
          <a:xfrm flipH="1">
            <a:off x="8214480" y="3714840"/>
            <a:ext cx="142920" cy="2142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66" name="Овал 20"/>
          <p:cNvSpPr/>
          <p:nvPr/>
        </p:nvSpPr>
        <p:spPr>
          <a:xfrm>
            <a:off x="7786800" y="3714840"/>
            <a:ext cx="142920" cy="2142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4" descr="G:\фон\2-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69080"/>
          </a:xfrm>
          <a:prstGeom prst="rect">
            <a:avLst/>
          </a:prstGeom>
          <a:ln w="0">
            <a:noFill/>
          </a:ln>
        </p:spPr>
      </p:pic>
      <p:pic>
        <p:nvPicPr>
          <p:cNvPr id="169" name="AutoShape 6" descr=""/>
          <p:cNvPicPr/>
          <p:nvPr/>
        </p:nvPicPr>
        <p:blipFill>
          <a:blip r:embed="rId2"/>
          <a:stretch/>
        </p:blipFill>
        <p:spPr>
          <a:xfrm>
            <a:off x="1365120" y="1920960"/>
            <a:ext cx="6377040" cy="2017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4" descr="BD05090_"/>
          <p:cNvPicPr/>
          <p:nvPr/>
        </p:nvPicPr>
        <p:blipFill>
          <a:blip r:embed="rId3"/>
          <a:stretch/>
        </p:blipFill>
        <p:spPr>
          <a:xfrm>
            <a:off x="7072200" y="571680"/>
            <a:ext cx="121932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G:\фон\2-10.jpg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7694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3"/>
          <p:cNvSpPr/>
          <p:nvPr/>
        </p:nvSpPr>
        <p:spPr>
          <a:xfrm>
            <a:off x="457200" y="366840"/>
            <a:ext cx="1523880" cy="1523880"/>
          </a:xfrm>
          <a:custGeom>
            <a:avLst/>
            <a:gdLst>
              <a:gd name="textAreaLeft" fmla="*/ 98640 w 1523880"/>
              <a:gd name="textAreaRight" fmla="*/ 1425240 w 15238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174" name="Picture 4" descr="J0195320"/>
          <p:cNvPicPr/>
          <p:nvPr/>
        </p:nvPicPr>
        <p:blipFill>
          <a:blip r:embed="rId2"/>
          <a:stretch/>
        </p:blipFill>
        <p:spPr>
          <a:xfrm>
            <a:off x="609480" y="671400"/>
            <a:ext cx="1143000" cy="824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5" name=""/>
          <p:cNvGraphicFramePr/>
          <p:nvPr/>
        </p:nvGraphicFramePr>
        <p:xfrm>
          <a:off x="2362320" y="366840"/>
          <a:ext cx="6765840" cy="115884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677880"/>
                <a:gridCol w="676080"/>
                <a:gridCol w="676440"/>
                <a:gridCol w="676080"/>
                <a:gridCol w="676440"/>
                <a:gridCol w="677880"/>
                <a:gridCol w="676080"/>
                <a:gridCol w="6764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32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3</a:t>
                      </a:r>
                      <a:endParaRPr b="0" lang="en-US" sz="32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32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32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4</a:t>
                      </a:r>
                      <a:endParaRPr b="0" lang="en-US" sz="32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c0000"/>
                          </a:solidFill>
                          <a:latin typeface="Arial Narrow"/>
                          <a:ea typeface="Times New Roman"/>
                        </a:rPr>
                        <a:t>Р</a:t>
                      </a:r>
                      <a:endParaRPr b="0" lang="en-US" sz="32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c0000"/>
                          </a:solidFill>
                          <a:latin typeface="Arial Narrow"/>
                          <a:ea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c0000"/>
                          </a:solidFill>
                          <a:latin typeface="Arial Narrow"/>
                          <a:ea typeface="Times New Roman"/>
                        </a:rPr>
                        <a:t>И</a:t>
                      </a:r>
                      <a:endParaRPr b="0" lang="en-US" sz="32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c0000"/>
                          </a:solidFill>
                          <a:latin typeface="Arial Narrow"/>
                          <a:ea typeface="Times New Roman"/>
                        </a:rPr>
                        <a:t>С</a:t>
                      </a:r>
                      <a:endParaRPr b="0" lang="en-US" sz="32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c0000"/>
                          </a:solidFill>
                          <a:latin typeface="Arial Narrow"/>
                          <a:ea typeface="Times New Roman"/>
                        </a:rPr>
                        <a:t>Е</a:t>
                      </a:r>
                      <a:endParaRPr b="0" lang="en-US" sz="32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c0000"/>
                          </a:solidFill>
                          <a:latin typeface="Arial Narrow"/>
                          <a:ea typeface="Times New Roman"/>
                        </a:rPr>
                        <a:t>Т</a:t>
                      </a:r>
                      <a:endParaRPr b="0" lang="en-US" sz="32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c0000"/>
                          </a:solidFill>
                          <a:latin typeface="Arial Narrow"/>
                          <a:ea typeface="Times New Roman"/>
                        </a:rPr>
                        <a:t>Я</a:t>
                      </a:r>
                      <a:endParaRPr b="0" lang="en-US" sz="32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c0000"/>
                          </a:solidFill>
                          <a:latin typeface="Arial Narrow"/>
                          <a:ea typeface="Times New Roman"/>
                        </a:rPr>
                        <a:t>Б</a:t>
                      </a:r>
                      <a:endParaRPr b="0" lang="en-US" sz="32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c0000"/>
                          </a:solidFill>
                          <a:latin typeface="Arial Narrow"/>
                          <a:ea typeface="Times New Roman"/>
                        </a:rPr>
                        <a:t>З</a:t>
                      </a:r>
                      <a:endParaRPr b="0" lang="en-US" sz="32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c0000"/>
                          </a:solidFill>
                          <a:latin typeface="Arial Narrow"/>
                          <a:ea typeface="Times New Roman"/>
                        </a:rPr>
                        <a:t>Ц</a:t>
                      </a:r>
                      <a:endParaRPr b="0" lang="en-US" sz="32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76" name="Rectangle 41"/>
          <p:cNvSpPr/>
          <p:nvPr/>
        </p:nvSpPr>
        <p:spPr>
          <a:xfrm>
            <a:off x="0" y="2512800"/>
            <a:ext cx="3233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 Narrow"/>
              </a:rPr>
              <a:t>39 – 30 </a:t>
            </a:r>
            <a:r>
              <a:rPr b="1" lang="ru-RU" sz="4400" spc="-1" strike="noStrike">
                <a:solidFill>
                  <a:srgbClr val="000099"/>
                </a:solidFill>
                <a:latin typeface="Arial Narrow"/>
              </a:rPr>
              <a:t> =</a:t>
            </a:r>
            <a:endParaRPr b="0" lang="en-US" sz="44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 Narrow"/>
              </a:rPr>
              <a:t>40 : 20 = </a:t>
            </a:r>
            <a:endParaRPr b="0" lang="en-US" sz="44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 Narrow"/>
              </a:rPr>
              <a:t>49 : 7 ∙ 1 =</a:t>
            </a:r>
            <a:endParaRPr b="0" lang="en-US" sz="44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 Narrow"/>
              </a:rPr>
              <a:t>100 : 10 =</a:t>
            </a:r>
            <a:endParaRPr b="0" lang="en-US" sz="4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77" name="Text Box 47"/>
          <p:cNvSpPr/>
          <p:nvPr/>
        </p:nvSpPr>
        <p:spPr>
          <a:xfrm>
            <a:off x="4878000" y="2576520"/>
            <a:ext cx="589320" cy="2775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З</a:t>
            </a:r>
            <a:endParaRPr b="0" lang="en-US" sz="44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Ц</a:t>
            </a:r>
            <a:endParaRPr b="0" lang="en-US" sz="4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78" name="Line 48"/>
          <p:cNvSpPr/>
          <p:nvPr/>
        </p:nvSpPr>
        <p:spPr>
          <a:xfrm>
            <a:off x="3276720" y="2957400"/>
            <a:ext cx="152388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79" name="Line 49"/>
          <p:cNvSpPr/>
          <p:nvPr/>
        </p:nvSpPr>
        <p:spPr>
          <a:xfrm>
            <a:off x="2895480" y="3643200"/>
            <a:ext cx="190512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0" name="Line 50"/>
          <p:cNvSpPr/>
          <p:nvPr/>
        </p:nvSpPr>
        <p:spPr>
          <a:xfrm>
            <a:off x="3276720" y="4329000"/>
            <a:ext cx="144756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1" name="Line 51"/>
          <p:cNvSpPr/>
          <p:nvPr/>
        </p:nvSpPr>
        <p:spPr>
          <a:xfrm>
            <a:off x="3429000" y="4938840"/>
            <a:ext cx="129528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182" name="Picture 55" descr="z00002"/>
          <p:cNvPicPr/>
          <p:nvPr/>
        </p:nvPicPr>
        <p:blipFill>
          <a:blip r:embed="rId3"/>
          <a:stretch/>
        </p:blipFill>
        <p:spPr>
          <a:xfrm>
            <a:off x="5638680" y="2728800"/>
            <a:ext cx="3505320" cy="24386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56"/>
          <p:cNvSpPr/>
          <p:nvPr/>
        </p:nvSpPr>
        <p:spPr>
          <a:xfrm>
            <a:off x="2669040" y="2424240"/>
            <a:ext cx="45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 Narrow"/>
              </a:rPr>
              <a:t>9</a:t>
            </a:r>
            <a:endParaRPr b="0" lang="en-US" sz="4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4" name="Text Box 57"/>
          <p:cNvSpPr/>
          <p:nvPr/>
        </p:nvSpPr>
        <p:spPr>
          <a:xfrm>
            <a:off x="2440440" y="3110040"/>
            <a:ext cx="45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 Narrow"/>
              </a:rPr>
              <a:t>2</a:t>
            </a:r>
            <a:endParaRPr b="0" lang="en-US" sz="4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5" name="Text Box 58"/>
          <p:cNvSpPr/>
          <p:nvPr/>
        </p:nvSpPr>
        <p:spPr>
          <a:xfrm>
            <a:off x="2821320" y="3795840"/>
            <a:ext cx="45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 Narrow"/>
              </a:rPr>
              <a:t>7</a:t>
            </a:r>
            <a:endParaRPr b="0" lang="en-US" sz="4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6" name="Text Box 59"/>
          <p:cNvSpPr/>
          <p:nvPr/>
        </p:nvSpPr>
        <p:spPr>
          <a:xfrm>
            <a:off x="2669040" y="4481640"/>
            <a:ext cx="73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 Narrow"/>
              </a:rPr>
              <a:t>10</a:t>
            </a:r>
            <a:endParaRPr b="0" lang="en-US" sz="4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7" name="Rectangle 60"/>
          <p:cNvSpPr/>
          <p:nvPr/>
        </p:nvSpPr>
        <p:spPr>
          <a:xfrm>
            <a:off x="4876920" y="4024440"/>
            <a:ext cx="53316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 Narrow"/>
              </a:rPr>
              <a:t>Я</a:t>
            </a:r>
            <a:endParaRPr b="0" lang="en-US" sz="44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10" descr="G:\фон\5-3.jpg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13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C:\Downloads\Анимашки\anim29.gif"/>
          <p:cNvPicPr/>
          <p:nvPr/>
        </p:nvPicPr>
        <p:blipFill>
          <a:blip r:embed="rId2"/>
          <a:stretch/>
        </p:blipFill>
        <p:spPr>
          <a:xfrm>
            <a:off x="500040" y="1500120"/>
            <a:ext cx="847800" cy="10382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C:\Downloads\Анимашки\anim29.gif"/>
          <p:cNvPicPr/>
          <p:nvPr/>
        </p:nvPicPr>
        <p:blipFill>
          <a:blip r:embed="rId3"/>
          <a:stretch/>
        </p:blipFill>
        <p:spPr>
          <a:xfrm>
            <a:off x="1500120" y="1500120"/>
            <a:ext cx="847800" cy="10382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C:\Downloads\Анимашки\anim29.gif"/>
          <p:cNvPicPr/>
          <p:nvPr/>
        </p:nvPicPr>
        <p:blipFill>
          <a:blip r:embed="rId4"/>
          <a:stretch/>
        </p:blipFill>
        <p:spPr>
          <a:xfrm>
            <a:off x="2428920" y="1500120"/>
            <a:ext cx="847800" cy="1038240"/>
          </a:xfrm>
          <a:prstGeom prst="rect">
            <a:avLst/>
          </a:prstGeom>
          <a:ln w="0">
            <a:noFill/>
          </a:ln>
        </p:spPr>
      </p:pic>
      <p:pic>
        <p:nvPicPr>
          <p:cNvPr id="192" name="Прямоугольник 6" descr=""/>
          <p:cNvPicPr/>
          <p:nvPr/>
        </p:nvPicPr>
        <p:blipFill>
          <a:blip r:embed="rId5"/>
          <a:stretch/>
        </p:blipFill>
        <p:spPr>
          <a:xfrm>
            <a:off x="3029040" y="1365120"/>
            <a:ext cx="1476360" cy="1189080"/>
          </a:xfrm>
          <a:prstGeom prst="rect">
            <a:avLst/>
          </a:prstGeom>
          <a:ln w="0">
            <a:noFill/>
          </a:ln>
        </p:spPr>
      </p:pic>
      <p:pic>
        <p:nvPicPr>
          <p:cNvPr id="193" name="Прямоугольник 7" descr=""/>
          <p:cNvPicPr/>
          <p:nvPr/>
        </p:nvPicPr>
        <p:blipFill>
          <a:blip r:embed="rId6"/>
          <a:stretch/>
        </p:blipFill>
        <p:spPr>
          <a:xfrm>
            <a:off x="4400640" y="1468440"/>
            <a:ext cx="4651200" cy="1824120"/>
          </a:xfrm>
          <a:prstGeom prst="rect">
            <a:avLst/>
          </a:prstGeom>
          <a:ln w="0">
            <a:noFill/>
          </a:ln>
        </p:spPr>
      </p:pic>
      <p:pic>
        <p:nvPicPr>
          <p:cNvPr id="194" name="Прямоугольник 8" descr=""/>
          <p:cNvPicPr/>
          <p:nvPr/>
        </p:nvPicPr>
        <p:blipFill>
          <a:blip r:embed="rId7"/>
          <a:stretch/>
        </p:blipFill>
        <p:spPr>
          <a:xfrm>
            <a:off x="384120" y="3328920"/>
            <a:ext cx="1994040" cy="1932120"/>
          </a:xfrm>
          <a:prstGeom prst="rect">
            <a:avLst/>
          </a:prstGeom>
          <a:ln w="0">
            <a:noFill/>
          </a:ln>
        </p:spPr>
      </p:pic>
      <p:sp>
        <p:nvSpPr>
          <p:cNvPr id="195" name="Прямая соединительная линия 10"/>
          <p:cNvSpPr/>
          <p:nvPr/>
        </p:nvSpPr>
        <p:spPr>
          <a:xfrm flipV="1">
            <a:off x="714240" y="4378320"/>
            <a:ext cx="1338480" cy="144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196" name="Прямоугольник 12" descr=""/>
          <p:cNvPicPr/>
          <p:nvPr/>
        </p:nvPicPr>
        <p:blipFill>
          <a:blip r:embed="rId8"/>
          <a:stretch/>
        </p:blipFill>
        <p:spPr>
          <a:xfrm>
            <a:off x="4468680" y="3828960"/>
            <a:ext cx="458316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4" descr="G:\фон\2-10.jpg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76944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3"/>
          <p:cNvSpPr/>
          <p:nvPr/>
        </p:nvSpPr>
        <p:spPr>
          <a:xfrm>
            <a:off x="3429000" y="4429080"/>
            <a:ext cx="5157720" cy="1638360"/>
          </a:xfrm>
          <a:custGeom>
            <a:avLst/>
            <a:gdLst>
              <a:gd name="textAreaLeft" fmla="*/ 106200 w 5157720"/>
              <a:gd name="textAreaRight" fmla="*/ 5051520 w 5157720"/>
              <a:gd name="textAreaTop" fmla="*/ 106200 h 1638360"/>
              <a:gd name="textAreaBottom" fmla="*/ 1532160 h 1638360"/>
            </a:gdLst>
            <a:ahLst/>
            <a:rect l="textAreaLeft" t="textAreaTop" r="textAreaRight" b="textAreaBottom"/>
            <a:pathLst>
              <a:path w="67989" h="21600">
                <a:moveTo>
                  <a:pt x="0" y="0"/>
                </a:moveTo>
                <a:lnTo>
                  <a:pt x="67989" y="0"/>
                </a:lnTo>
                <a:lnTo>
                  <a:pt x="67989" y="21600"/>
                </a:lnTo>
                <a:lnTo>
                  <a:pt x="0" y="21600"/>
                </a:lnTo>
                <a:close/>
              </a:path>
              <a:path fill="lightenLess" w="67989" h="21600">
                <a:moveTo>
                  <a:pt x="0" y="0"/>
                </a:moveTo>
                <a:lnTo>
                  <a:pt x="67989" y="0"/>
                </a:lnTo>
                <a:lnTo>
                  <a:pt x="66589" y="1400"/>
                </a:lnTo>
                <a:lnTo>
                  <a:pt x="1400" y="1400"/>
                </a:lnTo>
                <a:close/>
              </a:path>
              <a:path fill="darken" w="67989" h="21600">
                <a:moveTo>
                  <a:pt x="67989" y="0"/>
                </a:moveTo>
                <a:lnTo>
                  <a:pt x="67989" y="21600"/>
                </a:lnTo>
                <a:lnTo>
                  <a:pt x="66589" y="20200"/>
                </a:lnTo>
                <a:lnTo>
                  <a:pt x="66589" y="1400"/>
                </a:lnTo>
                <a:close/>
              </a:path>
              <a:path fill="darkenLess" w="67989" h="21600">
                <a:moveTo>
                  <a:pt x="67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589" y="20200"/>
                </a:lnTo>
                <a:close/>
              </a:path>
              <a:path fill="lighten" w="67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80e2b"/>
                </a:solidFill>
                <a:latin typeface="Arial Narrow"/>
              </a:rPr>
              <a:t>Головоломки</a:t>
            </a:r>
            <a:endParaRPr b="0" lang="en-US" sz="60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200" name="Picture 32" descr="BD05092_"/>
          <p:cNvPicPr/>
          <p:nvPr/>
        </p:nvPicPr>
        <p:blipFill>
          <a:blip r:embed="rId2"/>
          <a:stretch/>
        </p:blipFill>
        <p:spPr>
          <a:xfrm>
            <a:off x="1523880" y="4724280"/>
            <a:ext cx="1143000" cy="10400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3" descr="BD05091_"/>
          <p:cNvPicPr/>
          <p:nvPr/>
        </p:nvPicPr>
        <p:blipFill>
          <a:blip r:embed="rId3"/>
          <a:stretch/>
        </p:blipFill>
        <p:spPr>
          <a:xfrm>
            <a:off x="7500960" y="285840"/>
            <a:ext cx="1219320" cy="111132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19"/>
          <p:cNvSpPr/>
          <p:nvPr/>
        </p:nvSpPr>
        <p:spPr>
          <a:xfrm>
            <a:off x="1071720" y="1285920"/>
            <a:ext cx="6000480" cy="1500120"/>
          </a:xfrm>
          <a:custGeom>
            <a:avLst/>
            <a:gdLst>
              <a:gd name="textAreaLeft" fmla="*/ 97200 w 6000480"/>
              <a:gd name="textAreaRight" fmla="*/ 5903280 w 6000480"/>
              <a:gd name="textAreaTop" fmla="*/ 97200 h 1500120"/>
              <a:gd name="textAreaBottom" fmla="*/ 1402920 h 1500120"/>
            </a:gdLst>
            <a:ahLst/>
            <a:rect l="textAreaLeft" t="textAreaTop" r="textAreaRight" b="textAreaBottom"/>
            <a:pathLst>
              <a:path w="86384" h="21600">
                <a:moveTo>
                  <a:pt x="0" y="0"/>
                </a:moveTo>
                <a:lnTo>
                  <a:pt x="86384" y="0"/>
                </a:lnTo>
                <a:lnTo>
                  <a:pt x="86384" y="21600"/>
                </a:lnTo>
                <a:lnTo>
                  <a:pt x="0" y="21600"/>
                </a:lnTo>
                <a:close/>
              </a:path>
              <a:path fill="lightenLess" w="86384" h="21600">
                <a:moveTo>
                  <a:pt x="0" y="0"/>
                </a:moveTo>
                <a:lnTo>
                  <a:pt x="86384" y="0"/>
                </a:lnTo>
                <a:lnTo>
                  <a:pt x="84985" y="1400"/>
                </a:lnTo>
                <a:lnTo>
                  <a:pt x="1400" y="1400"/>
                </a:lnTo>
                <a:close/>
              </a:path>
              <a:path fill="darken" w="86384" h="21600">
                <a:moveTo>
                  <a:pt x="86384" y="0"/>
                </a:moveTo>
                <a:lnTo>
                  <a:pt x="86384" y="21600"/>
                </a:lnTo>
                <a:lnTo>
                  <a:pt x="84985" y="20200"/>
                </a:lnTo>
                <a:lnTo>
                  <a:pt x="84985" y="1400"/>
                </a:lnTo>
                <a:close/>
              </a:path>
              <a:path fill="darkenLess" w="86384" h="21600">
                <a:moveTo>
                  <a:pt x="86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5" y="20200"/>
                </a:lnTo>
                <a:close/>
              </a:path>
              <a:path fill="lighten" w="86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80e2b"/>
                </a:solidFill>
                <a:latin typeface="Arial Narrow"/>
              </a:rPr>
              <a:t>Волшебные палочки</a:t>
            </a:r>
            <a:endParaRPr b="0" lang="en-US" sz="54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12:25:54Z</dcterms:created>
  <dc:creator>1</dc:creator>
  <dc:description/>
  <dc:language>en-US</dc:language>
  <cp:lastModifiedBy>user</cp:lastModifiedBy>
  <dcterms:modified xsi:type="dcterms:W3CDTF">2011-11-29T13:51:09Z</dcterms:modified>
  <cp:revision>39</cp:revision>
  <dc:subject/>
  <dc:title>Слайд 1</dc:title>
</cp:coreProperties>
</file>