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19.wmf" ContentType="image/x-wmf"/>
  <Override PartName="/ppt/media/image17.png" ContentType="image/png"/>
  <Override PartName="/ppt/media/image12.wmf" ContentType="image/x-wmf"/>
  <Override PartName="/ppt/media/image7.png" ContentType="image/png"/>
  <Override PartName="/ppt/media/image9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wmf" ContentType="image/x-wmf"/>
  <Override PartName="/ppt/media/image32.wmf" ContentType="image/x-wmf"/>
  <Override PartName="/ppt/media/image36.gif" ContentType="image/gif"/>
  <Override PartName="/ppt/media/image33.wmf" ContentType="image/x-wmf"/>
  <Override PartName="/ppt/media/image37.gif" ContentType="image/gif"/>
  <Override PartName="/ppt/media/image3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38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E36-6C75-46C9-8A6C-10AC1E4B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F0C-B0C2-418A-AC4D-8590A0D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3D8-9750-41BA-BF5D-AF22CA9C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1CA-8A7C-44CE-834B-F5BB65D7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79B2-A6F1-437D-8F6A-DAD85D20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0CD1-0EF7-4B9E-B782-F26F0E7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0B62-1CBF-4E1C-813D-9F1082E7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782-1DC8-4DEB-B4FA-F1465007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CEF-EB13-4EBA-8990-D6D3A433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50F3-7127-4208-97B3-589D8586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441B-8BFE-46AC-B816-0B1E0FC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AAB-31F3-4F3A-A22C-DEEC01CE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6708-4ECC-4111-878C-3FE1A47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EF56-40C1-4DE4-B831-C9D71F82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C31-897E-4313-80CB-828A332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4D6-2AC1-4BC9-861B-ACF2D0B5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1A5-9A1A-497A-AEE8-5C718C7B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097-12F5-4345-BE02-E2C2E2E0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DC0-D514-4EE6-829D-DFEDD5EB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603-865D-4D74-8770-2076179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5FD-7527-495F-89E0-11A52EDB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C9B-5219-4946-B06B-9C80047A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888-D35D-4710-B997-90CE2A8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ECE-D003-43DE-9E24-5BF04CC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9160" cy="532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>
              <a:gd name="textAreaLeft" fmla="*/ 0 w 8956800"/>
              <a:gd name="textAreaRight" fmla="*/ 8956800 w 895680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F2F-D0A6-488B-83AC-804FE41ECE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>
                <a:gd name="textAreaLeft" fmla="*/ 0 w 8931240"/>
                <a:gd name="textAreaRight" fmla="*/ 8931600 w 89312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>
                <a:gd name="textAreaLeft" fmla="*/ 0 w 2366640"/>
                <a:gd name="textAreaRight" fmla="*/ 2367000 w 23666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917-E1A9-45D3-82DE-C4A69BC46A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wmf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G:\фон\5-18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"/>
          <p:cNvSpPr txBox="1"/>
          <p:nvPr/>
        </p:nvSpPr>
        <p:spPr>
          <a:xfrm>
            <a:off x="1214280" y="1785960"/>
            <a:ext cx="65008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НИМАТЕЛЬН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05" name="Line 2"/>
          <p:cNvSpPr/>
          <p:nvPr/>
        </p:nvSpPr>
        <p:spPr>
          <a:xfrm>
            <a:off x="83818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54380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670572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3240" y="45720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 Narrow"/>
              </a:rPr>
              <a:t>Из 10 палочек – два квадрата!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8380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579132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60020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24382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320040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403848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4876920" y="22860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609480" y="1905120"/>
            <a:ext cx="8001000" cy="289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2286000" y="243828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4114800" y="243828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 flipH="1">
            <a:off x="2362320" y="236232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 flipH="1">
            <a:off x="2362320" y="426708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4191120" y="236232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 flipH="1">
            <a:off x="2437920" y="6095880"/>
            <a:ext cx="16765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V="1">
            <a:off x="2286000" y="4343400"/>
            <a:ext cx="0" cy="17524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V="1">
            <a:off x="5943600" y="243792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V="1">
            <a:off x="5943600" y="4266720"/>
            <a:ext cx="0" cy="17528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H="1">
            <a:off x="4191120" y="6095880"/>
            <a:ext cx="167616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27" name="Picture 26" descr="SO00450_"/>
          <p:cNvPicPr/>
          <p:nvPr/>
        </p:nvPicPr>
        <p:blipFill>
          <a:blip r:embed="rId3"/>
          <a:stretch/>
        </p:blipFill>
        <p:spPr>
          <a:xfrm>
            <a:off x="7391520" y="228600"/>
            <a:ext cx="1446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"/>
          <p:cNvSpPr/>
          <p:nvPr/>
        </p:nvSpPr>
        <p:spPr>
          <a:xfrm>
            <a:off x="826920" y="189000"/>
            <a:ext cx="7777440" cy="2492280"/>
          </a:xfrm>
          <a:prstGeom prst="horizontalScroll">
            <a:avLst>
              <a:gd name="adj" fmla="val 12500"/>
            </a:avLst>
          </a:prstGeom>
          <a:solidFill>
            <a:srgbClr val="357da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ак с помощью пяти единиц и одного знак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действия записать число 100? 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232240" y="3789360"/>
            <a:ext cx="3602160" cy="581400"/>
          </a:xfrm>
          <a:prstGeom prst="rect">
            <a:avLst/>
          </a:prstGeom>
          <a:solidFill>
            <a:srgbClr val="357da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твет: 111 – 11 = 100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 rot="16416000">
            <a:off x="1284120" y="4628520"/>
            <a:ext cx="51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57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57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5"/>
          <p:cNvSpPr txBox="1"/>
          <p:nvPr/>
        </p:nvSpPr>
        <p:spPr>
          <a:xfrm rot="2805600">
            <a:off x="3011400" y="2684520"/>
            <a:ext cx="517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13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13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6"/>
          <p:cNvSpPr txBox="1"/>
          <p:nvPr/>
        </p:nvSpPr>
        <p:spPr>
          <a:xfrm rot="5856600">
            <a:off x="4019400" y="4124160"/>
            <a:ext cx="51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5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5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7"/>
          <p:cNvSpPr txBox="1"/>
          <p:nvPr/>
        </p:nvSpPr>
        <p:spPr>
          <a:xfrm rot="1304400">
            <a:off x="2556000" y="5300640"/>
            <a:ext cx="517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7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7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8"/>
          <p:cNvSpPr txBox="1"/>
          <p:nvPr/>
        </p:nvSpPr>
        <p:spPr>
          <a:xfrm rot="20092800">
            <a:off x="1187280" y="3068280"/>
            <a:ext cx="517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4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4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j0311778"/>
          <p:cNvPicPr/>
          <p:nvPr/>
        </p:nvPicPr>
        <p:blipFill>
          <a:blip r:embed="rId2"/>
          <a:stretch/>
        </p:blipFill>
        <p:spPr>
          <a:xfrm>
            <a:off x="785880" y="714240"/>
            <a:ext cx="869760" cy="12956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1714680" y="64296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80e2b"/>
                </a:solidFill>
                <a:latin typeface="Arial"/>
              </a:rPr>
              <a:t>Назови древний калькулятор. </a:t>
            </a:r>
            <a:endParaRPr b="0" lang="en-US" sz="6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00000" y="364500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Счёты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42" name="Picture 5" descr="j0286308"/>
          <p:cNvPicPr/>
          <p:nvPr/>
        </p:nvPicPr>
        <p:blipFill>
          <a:blip r:embed="rId3"/>
          <a:stretch/>
        </p:blipFill>
        <p:spPr>
          <a:xfrm rot="5400000">
            <a:off x="4325040" y="3028320"/>
            <a:ext cx="3888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857160" y="64296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80e2b"/>
                </a:solidFill>
                <a:latin typeface="Arial"/>
              </a:rPr>
              <a:t>Шесть ног, две головы, один хвост. Кто это?</a:t>
            </a:r>
            <a:endParaRPr b="0" lang="en-US" sz="6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419640" y="3716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Всадник на осле или на лошади.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47" name="Picture 5" descr="j0235201"/>
          <p:cNvPicPr/>
          <p:nvPr/>
        </p:nvPicPr>
        <p:blipFill>
          <a:blip r:embed="rId2"/>
          <a:stretch/>
        </p:blipFill>
        <p:spPr>
          <a:xfrm>
            <a:off x="684360" y="3141720"/>
            <a:ext cx="252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00040" y="150012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80e2b"/>
                </a:solidFill>
                <a:latin typeface="Arial"/>
              </a:rPr>
              <a:t>Он – грызун не очень мелкий, ибо чуть побольше белки. </a:t>
            </a:r>
            <a:br>
              <a:rPr sz="5400"/>
            </a:br>
            <a:r>
              <a:rPr b="0" lang="ru-RU" sz="5400" spc="-1" strike="noStrike">
                <a:solidFill>
                  <a:srgbClr val="080e2b"/>
                </a:solidFill>
                <a:latin typeface="Arial"/>
              </a:rPr>
              <a:t>А заменишь «У» на «О» - </a:t>
            </a:r>
            <a:br>
              <a:rPr sz="5400"/>
            </a:br>
            <a:r>
              <a:rPr b="0" lang="ru-RU" sz="5400" spc="-1" strike="noStrike">
                <a:solidFill>
                  <a:srgbClr val="080e2b"/>
                </a:solidFill>
                <a:latin typeface="Arial"/>
              </a:rPr>
              <a:t>Будет круглое число.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F:\фон\5-2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j0345077"/>
          <p:cNvPicPr/>
          <p:nvPr/>
        </p:nvPicPr>
        <p:blipFill>
          <a:blip r:embed="rId2"/>
          <a:stretch/>
        </p:blipFill>
        <p:spPr>
          <a:xfrm>
            <a:off x="1116000" y="3716280"/>
            <a:ext cx="3527280" cy="2244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4932360" y="43657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с</a:t>
            </a:r>
            <a:r>
              <a:rPr b="0" lang="ru-RU" sz="8000" spc="-1" strike="noStrike">
                <a:solidFill>
                  <a:srgbClr val="8a5bdf"/>
                </a:solidFill>
                <a:latin typeface="Times New Roman"/>
              </a:rPr>
              <a:t>О</a:t>
            </a: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рок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859280" y="1484280"/>
            <a:ext cx="35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с</a:t>
            </a:r>
            <a:r>
              <a:rPr b="0" lang="ru-RU" sz="8000" spc="-1" strike="noStrike">
                <a:solidFill>
                  <a:srgbClr val="6600cc"/>
                </a:solidFill>
                <a:latin typeface="Times New Roman"/>
              </a:rPr>
              <a:t>У</a:t>
            </a:r>
            <a:r>
              <a:rPr b="0" lang="ru-RU" sz="8000" spc="-1" strike="noStrike">
                <a:solidFill>
                  <a:srgbClr val="9bd3e5"/>
                </a:solidFill>
                <a:latin typeface="Times New Roman"/>
              </a:rPr>
              <a:t>рок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56" name="Picture 6" descr="сурок"/>
          <p:cNvPicPr/>
          <p:nvPr/>
        </p:nvPicPr>
        <p:blipFill>
          <a:blip r:embed="rId3"/>
          <a:stretch/>
        </p:blipFill>
        <p:spPr>
          <a:xfrm>
            <a:off x="1763640" y="333360"/>
            <a:ext cx="2063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1"/>
          <p:cNvSpPr txBox="1"/>
          <p:nvPr/>
        </p:nvSpPr>
        <p:spPr>
          <a:xfrm>
            <a:off x="1071720" y="1500120"/>
            <a:ext cx="720072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26c5"/>
                </a:solidFill>
                <a:latin typeface="Arial Black"/>
              </a:rPr>
              <a:t>Маг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26c5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26c5"/>
                </a:solidFill>
                <a:latin typeface="Arial Black"/>
              </a:rPr>
              <a:t>квадр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26c5"/>
              </a:solidFill>
              <a:latin typeface="Arial Black"/>
              <a:ea typeface="Arial Black"/>
            </a:endParaRPr>
          </a:p>
        </p:txBody>
      </p:sp>
      <p:pic>
        <p:nvPicPr>
          <p:cNvPr id="260" name="Picture 3" descr="G:\картинки-анимация\111.gif"/>
          <p:cNvPicPr/>
          <p:nvPr/>
        </p:nvPicPr>
        <p:blipFill>
          <a:blip r:embed="rId2"/>
          <a:stretch/>
        </p:blipFill>
        <p:spPr>
          <a:xfrm>
            <a:off x="7358040" y="485784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214200" y="36504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e2b"/>
                </a:solidFill>
                <a:latin typeface="Arial"/>
                <a:ea typeface="Calibri"/>
              </a:rPr>
              <a:t>Разместите в свободных клетках квадрата еще числа 3, 4, 5, 6, 7, 8, 9 так, чтобы по любой вертикали, горизонтали и диагонали получилось в сумме одно и то же число (21):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0" y="2214720"/>
          <a:ext cx="4205160" cy="4143240"/>
        </p:xfrm>
        <a:graphic>
          <a:graphicData uri="http://schemas.openxmlformats.org/drawingml/2006/table">
            <a:tbl>
              <a:tblPr/>
              <a:tblGrid>
                <a:gridCol w="1328760"/>
                <a:gridCol w="1438200"/>
                <a:gridCol w="1438200"/>
              </a:tblGrid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4" name="Прямоугольник 10"/>
          <p:cNvSpPr/>
          <p:nvPr/>
        </p:nvSpPr>
        <p:spPr>
          <a:xfrm>
            <a:off x="2286000" y="221472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3786120" y="364320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80e2b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3643200" y="5000760"/>
            <a:ext cx="14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80e2b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67" name="Picture 5" descr="G:\картинки-анимация\b30706db32d32bcb7039890e0bb4193c[1].gif"/>
          <p:cNvPicPr/>
          <p:nvPr/>
        </p:nvPicPr>
        <p:blipFill>
          <a:blip r:embed="rId2"/>
          <a:stretch/>
        </p:blipFill>
        <p:spPr>
          <a:xfrm>
            <a:off x="7981920" y="5786280"/>
            <a:ext cx="1162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2428920" y="1143000"/>
          <a:ext cx="4205160" cy="4143240"/>
        </p:xfrm>
        <a:graphic>
          <a:graphicData uri="http://schemas.openxmlformats.org/drawingml/2006/table">
            <a:tbl>
              <a:tblPr/>
              <a:tblGrid>
                <a:gridCol w="1328760"/>
                <a:gridCol w="1438200"/>
                <a:gridCol w="1438200"/>
              </a:tblGrid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1"/>
          <p:cNvSpPr/>
          <p:nvPr/>
        </p:nvSpPr>
        <p:spPr>
          <a:xfrm>
            <a:off x="2500200" y="12902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1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857760" y="257616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4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072040" y="12186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3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57880" y="40050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0e2b"/>
                </a:solidFill>
                <a:latin typeface="Arial"/>
                <a:ea typeface="Times New Roman"/>
              </a:rPr>
              <a:t>27</a:t>
            </a:r>
            <a:endParaRPr b="0" lang="en-US" sz="72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75" name="Picture 5" descr="G:\картинки-анимация\a524dbbed10ca2b93bd6fc8dc6de503b[1].gif"/>
          <p:cNvPicPr/>
          <p:nvPr/>
        </p:nvPicPr>
        <p:blipFill>
          <a:blip r:embed="rId2"/>
          <a:stretch/>
        </p:blipFill>
        <p:spPr>
          <a:xfrm>
            <a:off x="7905600" y="5429160"/>
            <a:ext cx="1238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G:\фон\5-3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4" descr=""/>
          <p:cNvPicPr/>
          <p:nvPr/>
        </p:nvPicPr>
        <p:blipFill>
          <a:blip r:embed="rId2"/>
          <a:stretch/>
        </p:blipFill>
        <p:spPr>
          <a:xfrm>
            <a:off x="353880" y="1305000"/>
            <a:ext cx="589464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5" descr=""/>
          <p:cNvPicPr/>
          <p:nvPr/>
        </p:nvPicPr>
        <p:blipFill>
          <a:blip r:embed="rId3"/>
          <a:stretch/>
        </p:blipFill>
        <p:spPr>
          <a:xfrm>
            <a:off x="146160" y="2305080"/>
            <a:ext cx="7035840" cy="1150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6" descr=""/>
          <p:cNvPicPr/>
          <p:nvPr/>
        </p:nvPicPr>
        <p:blipFill>
          <a:blip r:embed="rId4"/>
          <a:stretch/>
        </p:blipFill>
        <p:spPr>
          <a:xfrm>
            <a:off x="219240" y="3444840"/>
            <a:ext cx="661968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G:\фон\5-3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120" y="1285560"/>
            <a:ext cx="8507520" cy="10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…4…3…2…1=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14240" y="48578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428920" y="471492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571760" y="485784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429000" y="485784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6286680" y="478620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572080" y="47862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929120" y="47862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214880" y="47862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Содержимое 2"/>
          <p:cNvSpPr/>
          <p:nvPr/>
        </p:nvSpPr>
        <p:spPr>
          <a:xfrm>
            <a:off x="285840" y="2786040"/>
            <a:ext cx="850716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…4…3…2…1=3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77778E-006 L -1.66667E-006 -0.52499 E">
                                      <p:cBhvr>
                                        <p:cTn id="16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0.07084 -0.51458 E">
                                      <p:cBhvr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5746 -0.51436 E">
                                      <p:cBhvr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03704E-006 L -0.12604 -0.52501 E">
                                      <p:cBhvr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11111E-006 L -0.5356 -0.29398 E">
                                      <p:cBhvr>
                                        <p:cTn id="34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7 L 0.02361 -0.30462 E">
                                      <p:cBhvr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39375 -0.3044 E">
                                      <p:cBhvr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77778E-006 L 0.04722 -0.31481 E">
                                      <p:cBhvr>
                                        <p:cTn id="4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G:\фон\5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wnloads\Анимашки\100.gif"/>
          <p:cNvPicPr/>
          <p:nvPr/>
        </p:nvPicPr>
        <p:blipFill>
          <a:blip r:embed="rId2"/>
          <a:stretch/>
        </p:blipFill>
        <p:spPr>
          <a:xfrm>
            <a:off x="285840" y="4071960"/>
            <a:ext cx="1157040" cy="245916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бедренный треугольник 4"/>
          <p:cNvSpPr/>
          <p:nvPr/>
        </p:nvSpPr>
        <p:spPr>
          <a:xfrm>
            <a:off x="785880" y="1500120"/>
            <a:ext cx="928800" cy="85716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>
            <a:off x="3643200" y="1500120"/>
            <a:ext cx="928800" cy="8571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Равнобедренный треугольник 6"/>
          <p:cNvSpPr/>
          <p:nvPr/>
        </p:nvSpPr>
        <p:spPr>
          <a:xfrm>
            <a:off x="6000840" y="1571760"/>
            <a:ext cx="928440" cy="85716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1" name="Равнобедренный треугольник 7"/>
          <p:cNvSpPr/>
          <p:nvPr/>
        </p:nvSpPr>
        <p:spPr>
          <a:xfrm>
            <a:off x="2714760" y="3143160"/>
            <a:ext cx="1428480" cy="1428840"/>
          </a:xfrm>
          <a:prstGeom prst="triangle">
            <a:avLst>
              <a:gd name="adj" fmla="val 42968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1785960" y="1500120"/>
            <a:ext cx="857160" cy="8571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2714760" y="1500120"/>
            <a:ext cx="857160" cy="8571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7000920" y="1571760"/>
            <a:ext cx="857160" cy="8571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4429080" y="3143160"/>
            <a:ext cx="1428840" cy="1500120"/>
          </a:xfrm>
          <a:prstGeom prst="rect">
            <a:avLst/>
          </a:prstGeom>
          <a:blipFill rotWithShape="0">
            <a:blip r:embed="rId10"/>
            <a:srcRect/>
            <a:stretch/>
          </a:blipFill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6" name="Овал 12"/>
          <p:cNvSpPr/>
          <p:nvPr/>
        </p:nvSpPr>
        <p:spPr>
          <a:xfrm>
            <a:off x="4500720" y="1428840"/>
            <a:ext cx="1000080" cy="10000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7" name="Овал 13"/>
          <p:cNvSpPr/>
          <p:nvPr/>
        </p:nvSpPr>
        <p:spPr>
          <a:xfrm>
            <a:off x="7929720" y="1500120"/>
            <a:ext cx="1000080" cy="100008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5500800" y="142884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9" name="Прямая соединительная линия 16"/>
          <p:cNvSpPr/>
          <p:nvPr/>
        </p:nvSpPr>
        <p:spPr>
          <a:xfrm>
            <a:off x="8071560" y="1428840"/>
            <a:ext cx="71460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0" name="Прямая соединительная линия 17"/>
          <p:cNvSpPr/>
          <p:nvPr/>
        </p:nvSpPr>
        <p:spPr>
          <a:xfrm>
            <a:off x="6071400" y="1500120"/>
            <a:ext cx="71460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1" name="Прямая соединительная линия 18"/>
          <p:cNvSpPr/>
          <p:nvPr/>
        </p:nvSpPr>
        <p:spPr>
          <a:xfrm>
            <a:off x="7000920" y="1357200"/>
            <a:ext cx="71424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2" name="Прямая соединительная линия 19"/>
          <p:cNvSpPr/>
          <p:nvPr/>
        </p:nvSpPr>
        <p:spPr>
          <a:xfrm>
            <a:off x="4714920" y="1357200"/>
            <a:ext cx="71424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3" name="Прямая соединительная линия 20"/>
          <p:cNvSpPr/>
          <p:nvPr/>
        </p:nvSpPr>
        <p:spPr>
          <a:xfrm>
            <a:off x="3642480" y="1357200"/>
            <a:ext cx="71460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4" name="Прямая соединительная линия 21"/>
          <p:cNvSpPr/>
          <p:nvPr/>
        </p:nvSpPr>
        <p:spPr>
          <a:xfrm>
            <a:off x="2714760" y="1357200"/>
            <a:ext cx="714240" cy="1285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G:\фон\5-3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2"/>
          <p:cNvPicPr/>
          <p:nvPr/>
        </p:nvPicPr>
        <p:blipFill>
          <a:blip r:embed="rId2"/>
          <a:stretch/>
        </p:blipFill>
        <p:spPr>
          <a:xfrm>
            <a:off x="428760" y="1571760"/>
            <a:ext cx="6238800" cy="4338360"/>
          </a:xfrm>
          <a:prstGeom prst="rect">
            <a:avLst/>
          </a:prstGeom>
          <a:ln w="0">
            <a:noFill/>
          </a:ln>
        </p:spPr>
      </p:pic>
      <p:sp>
        <p:nvSpPr>
          <p:cNvPr id="157" name="Ромб 5"/>
          <p:cNvSpPr/>
          <p:nvPr/>
        </p:nvSpPr>
        <p:spPr>
          <a:xfrm>
            <a:off x="7429680" y="3000240"/>
            <a:ext cx="1285560" cy="1714680"/>
          </a:xfrm>
          <a:prstGeom prst="diamond">
            <a:avLst/>
          </a:pr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8" name="Полилиния 7"/>
          <p:cNvSpPr/>
          <p:nvPr/>
        </p:nvSpPr>
        <p:spPr>
          <a:xfrm>
            <a:off x="8032680" y="2857680"/>
            <a:ext cx="1111320" cy="1130040"/>
          </a:xfrm>
          <a:custGeom>
            <a:avLst/>
            <a:gdLst>
              <a:gd name="textAreaLeft" fmla="*/ 0 w 1111320"/>
              <a:gd name="textAreaRight" fmla="*/ 1111680 w 1111320"/>
              <a:gd name="textAreaTop" fmla="*/ 0 h 1130040"/>
              <a:gd name="textAreaBottom" fmla="*/ 1130400 h 1130040"/>
            </a:gdLst>
            <a:ahLst/>
            <a:rect l="textAreaLeft" t="textAreaTop" r="textAreaRight" b="textAreaBottom"/>
            <a:pathLst>
              <a:path w="1080772" h="1174724">
                <a:moveTo>
                  <a:pt x="0" y="16329"/>
                </a:moveTo>
                <a:cubicBezTo>
                  <a:pt x="21771" y="10886"/>
                  <a:pt x="42873" y="0"/>
                  <a:pt x="65314" y="0"/>
                </a:cubicBezTo>
                <a:cubicBezTo>
                  <a:pt x="266315" y="0"/>
                  <a:pt x="290633" y="7618"/>
                  <a:pt x="440871" y="32658"/>
                </a:cubicBezTo>
                <a:cubicBezTo>
                  <a:pt x="451757" y="48986"/>
                  <a:pt x="473528" y="62019"/>
                  <a:pt x="473528" y="81643"/>
                </a:cubicBezTo>
                <a:cubicBezTo>
                  <a:pt x="473528" y="156357"/>
                  <a:pt x="425125" y="150894"/>
                  <a:pt x="375557" y="163286"/>
                </a:cubicBezTo>
                <a:cubicBezTo>
                  <a:pt x="451757" y="168729"/>
                  <a:pt x="530044" y="161087"/>
                  <a:pt x="604157" y="179615"/>
                </a:cubicBezTo>
                <a:cubicBezTo>
                  <a:pt x="623195" y="184375"/>
                  <a:pt x="622938" y="214724"/>
                  <a:pt x="636814" y="228600"/>
                </a:cubicBezTo>
                <a:cubicBezTo>
                  <a:pt x="656057" y="247843"/>
                  <a:pt x="680357" y="261257"/>
                  <a:pt x="702128" y="277586"/>
                </a:cubicBezTo>
                <a:cubicBezTo>
                  <a:pt x="707571" y="293915"/>
                  <a:pt x="724849" y="310591"/>
                  <a:pt x="718457" y="326572"/>
                </a:cubicBezTo>
                <a:cubicBezTo>
                  <a:pt x="708718" y="350920"/>
                  <a:pt x="641106" y="368684"/>
                  <a:pt x="620485" y="375558"/>
                </a:cubicBezTo>
                <a:cubicBezTo>
                  <a:pt x="685799" y="381001"/>
                  <a:pt x="752010" y="379808"/>
                  <a:pt x="816428" y="391886"/>
                </a:cubicBezTo>
                <a:cubicBezTo>
                  <a:pt x="840352" y="396372"/>
                  <a:pt x="859369" y="414955"/>
                  <a:pt x="881742" y="424543"/>
                </a:cubicBezTo>
                <a:cubicBezTo>
                  <a:pt x="897562" y="431323"/>
                  <a:pt x="914399" y="435429"/>
                  <a:pt x="930728" y="440872"/>
                </a:cubicBezTo>
                <a:cubicBezTo>
                  <a:pt x="925285" y="457201"/>
                  <a:pt x="924727" y="476089"/>
                  <a:pt x="914400" y="489858"/>
                </a:cubicBezTo>
                <a:cubicBezTo>
                  <a:pt x="866643" y="553534"/>
                  <a:pt x="840425" y="566388"/>
                  <a:pt x="783771" y="604158"/>
                </a:cubicBezTo>
                <a:cubicBezTo>
                  <a:pt x="830083" y="607720"/>
                  <a:pt x="988299" y="585068"/>
                  <a:pt x="1045028" y="653143"/>
                </a:cubicBezTo>
                <a:cubicBezTo>
                  <a:pt x="1060611" y="671843"/>
                  <a:pt x="1066799" y="696686"/>
                  <a:pt x="1077685" y="718458"/>
                </a:cubicBezTo>
                <a:cubicBezTo>
                  <a:pt x="1072242" y="767444"/>
                  <a:pt x="1080772" y="820113"/>
                  <a:pt x="1061357" y="865415"/>
                </a:cubicBezTo>
                <a:cubicBezTo>
                  <a:pt x="1034397" y="928322"/>
                  <a:pt x="968668" y="952581"/>
                  <a:pt x="914400" y="979715"/>
                </a:cubicBezTo>
                <a:cubicBezTo>
                  <a:pt x="947057" y="985158"/>
                  <a:pt x="985430" y="976800"/>
                  <a:pt x="1012371" y="996043"/>
                </a:cubicBezTo>
                <a:cubicBezTo>
                  <a:pt x="1030633" y="1009087"/>
                  <a:pt x="1022535" y="1039780"/>
                  <a:pt x="1028700" y="1061358"/>
                </a:cubicBezTo>
                <a:cubicBezTo>
                  <a:pt x="1033428" y="1077907"/>
                  <a:pt x="1039585" y="1094015"/>
                  <a:pt x="1045028" y="1110343"/>
                </a:cubicBezTo>
                <a:cubicBezTo>
                  <a:pt x="980647" y="1174724"/>
                  <a:pt x="1019134" y="1159329"/>
                  <a:pt x="930728" y="1159329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9" name="Полилиния 9"/>
          <p:cNvSpPr/>
          <p:nvPr/>
        </p:nvSpPr>
        <p:spPr>
          <a:xfrm>
            <a:off x="6894360" y="2776680"/>
            <a:ext cx="1090800" cy="1539720"/>
          </a:xfrm>
          <a:custGeom>
            <a:avLst/>
            <a:gdLst>
              <a:gd name="textAreaLeft" fmla="*/ 0 w 1090800"/>
              <a:gd name="textAreaRight" fmla="*/ 1091160 w 10908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1089834" h="1540998">
                <a:moveTo>
                  <a:pt x="1089834" y="163286"/>
                </a:moveTo>
                <a:cubicBezTo>
                  <a:pt x="1068063" y="146957"/>
                  <a:pt x="1047598" y="128724"/>
                  <a:pt x="1024520" y="114300"/>
                </a:cubicBezTo>
                <a:cubicBezTo>
                  <a:pt x="1003879" y="101399"/>
                  <a:pt x="979013" y="95791"/>
                  <a:pt x="959206" y="81643"/>
                </a:cubicBezTo>
                <a:cubicBezTo>
                  <a:pt x="897331" y="37446"/>
                  <a:pt x="932663" y="27318"/>
                  <a:pt x="861234" y="16329"/>
                </a:cubicBezTo>
                <a:cubicBezTo>
                  <a:pt x="807170" y="8012"/>
                  <a:pt x="752377" y="5443"/>
                  <a:pt x="697949" y="0"/>
                </a:cubicBezTo>
                <a:cubicBezTo>
                  <a:pt x="646593" y="17119"/>
                  <a:pt x="634923" y="12896"/>
                  <a:pt x="599977" y="65314"/>
                </a:cubicBezTo>
                <a:cubicBezTo>
                  <a:pt x="590430" y="79635"/>
                  <a:pt x="589092" y="97971"/>
                  <a:pt x="583649" y="114300"/>
                </a:cubicBezTo>
                <a:lnTo>
                  <a:pt x="599977" y="293914"/>
                </a:lnTo>
                <a:cubicBezTo>
                  <a:pt x="588056" y="298682"/>
                  <a:pt x="483842" y="333866"/>
                  <a:pt x="469349" y="359229"/>
                </a:cubicBezTo>
                <a:cubicBezTo>
                  <a:pt x="455580" y="383326"/>
                  <a:pt x="458463" y="413658"/>
                  <a:pt x="453020" y="440872"/>
                </a:cubicBezTo>
                <a:cubicBezTo>
                  <a:pt x="458463" y="489858"/>
                  <a:pt x="506974" y="555992"/>
                  <a:pt x="469349" y="587829"/>
                </a:cubicBezTo>
                <a:cubicBezTo>
                  <a:pt x="143499" y="863548"/>
                  <a:pt x="283027" y="493656"/>
                  <a:pt x="224420" y="669472"/>
                </a:cubicBezTo>
                <a:cubicBezTo>
                  <a:pt x="229863" y="723900"/>
                  <a:pt x="223451" y="780864"/>
                  <a:pt x="240749" y="832757"/>
                </a:cubicBezTo>
                <a:cubicBezTo>
                  <a:pt x="245365" y="846605"/>
                  <a:pt x="387441" y="914267"/>
                  <a:pt x="224420" y="832757"/>
                </a:cubicBezTo>
                <a:cubicBezTo>
                  <a:pt x="188876" y="839866"/>
                  <a:pt x="119666" y="842932"/>
                  <a:pt x="93792" y="881743"/>
                </a:cubicBezTo>
                <a:cubicBezTo>
                  <a:pt x="81344" y="900415"/>
                  <a:pt x="82906" y="925286"/>
                  <a:pt x="77463" y="947057"/>
                </a:cubicBezTo>
                <a:cubicBezTo>
                  <a:pt x="82906" y="1017814"/>
                  <a:pt x="85500" y="1088849"/>
                  <a:pt x="93792" y="1159329"/>
                </a:cubicBezTo>
                <a:cubicBezTo>
                  <a:pt x="96414" y="1181617"/>
                  <a:pt x="96101" y="1207119"/>
                  <a:pt x="110120" y="1224643"/>
                </a:cubicBezTo>
                <a:cubicBezTo>
                  <a:pt x="120872" y="1238083"/>
                  <a:pt x="142777" y="1235529"/>
                  <a:pt x="159106" y="1240972"/>
                </a:cubicBezTo>
                <a:cubicBezTo>
                  <a:pt x="175435" y="1235529"/>
                  <a:pt x="200395" y="1240038"/>
                  <a:pt x="208092" y="1224643"/>
                </a:cubicBezTo>
                <a:cubicBezTo>
                  <a:pt x="240044" y="1160739"/>
                  <a:pt x="116640" y="1160633"/>
                  <a:pt x="110120" y="1159329"/>
                </a:cubicBezTo>
                <a:cubicBezTo>
                  <a:pt x="109440" y="1159782"/>
                  <a:pt x="0" y="1209987"/>
                  <a:pt x="77463" y="1240972"/>
                </a:cubicBezTo>
                <a:cubicBezTo>
                  <a:pt x="98299" y="1249306"/>
                  <a:pt x="121006" y="1230086"/>
                  <a:pt x="142777" y="1224643"/>
                </a:cubicBezTo>
                <a:cubicBezTo>
                  <a:pt x="126449" y="1235529"/>
                  <a:pt x="107668" y="1243424"/>
                  <a:pt x="93792" y="1257300"/>
                </a:cubicBezTo>
                <a:cubicBezTo>
                  <a:pt x="36322" y="1314770"/>
                  <a:pt x="33208" y="1413986"/>
                  <a:pt x="77463" y="1485900"/>
                </a:cubicBezTo>
                <a:cubicBezTo>
                  <a:pt x="98230" y="1519647"/>
                  <a:pt x="153810" y="1507171"/>
                  <a:pt x="191763" y="1518557"/>
                </a:cubicBezTo>
                <a:cubicBezTo>
                  <a:pt x="208249" y="1523503"/>
                  <a:pt x="224420" y="1529443"/>
                  <a:pt x="240749" y="1534886"/>
                </a:cubicBezTo>
                <a:cubicBezTo>
                  <a:pt x="343025" y="1509316"/>
                  <a:pt x="306063" y="1540998"/>
                  <a:pt x="306063" y="14042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Арка 10"/>
          <p:cNvSpPr/>
          <p:nvPr/>
        </p:nvSpPr>
        <p:spPr>
          <a:xfrm rot="10648200">
            <a:off x="7372080" y="2319120"/>
            <a:ext cx="1500120" cy="71424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w="1500188" h="714375">
                <a:moveTo>
                  <a:pt x="0" y="357187"/>
                </a:moveTo>
                <a:lnTo>
                  <a:pt x="0" y="357187"/>
                </a:lnTo>
                <a:arcTo wR="750094" hR="357188" stAng="-10799995" swAng="10800005"/>
                <a:lnTo>
                  <a:pt x="1321594" y="357188"/>
                </a:lnTo>
                <a:lnTo>
                  <a:pt x="1321594" y="357188"/>
                </a:lnTo>
                <a:arcTo wR="571500" hR="178594" stAng="0" swAng="-10800006"/>
                <a:close/>
              </a:path>
            </a:pathLst>
          </a:cu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Хорда 11"/>
          <p:cNvSpPr/>
          <p:nvPr/>
        </p:nvSpPr>
        <p:spPr>
          <a:xfrm rot="6772800">
            <a:off x="7625880" y="2244600"/>
            <a:ext cx="1000080" cy="85716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1000125" h="857250">
                <a:moveTo>
                  <a:pt x="825499" y="754061"/>
                </a:moveTo>
                <a:lnTo>
                  <a:pt x="825499" y="754061"/>
                </a:lnTo>
                <a:arcTo wR="500063" hR="428625" stAng="2700005" swAng="13499995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2" name="Арка 15"/>
          <p:cNvSpPr/>
          <p:nvPr/>
        </p:nvSpPr>
        <p:spPr>
          <a:xfrm rot="10800000">
            <a:off x="7853040" y="4095360"/>
            <a:ext cx="517320" cy="258840"/>
          </a:xfrm>
          <a:custGeom>
            <a:avLst/>
            <a:gdLst>
              <a:gd name="textAreaLeft" fmla="*/ 0 w 517320"/>
              <a:gd name="textAreaRight" fmla="*/ 517680 w 517320"/>
              <a:gd name="textAreaTop" fmla="*/ 0 h 258840"/>
              <a:gd name="textAreaBottom" fmla="*/ 129600 h 258840"/>
            </a:gdLst>
            <a:ahLst/>
            <a:rect l="textAreaLeft" t="textAreaTop" r="textAreaRight" b="textAreaBottom"/>
            <a:pathLst>
              <a:path w="517525" h="258763">
                <a:moveTo>
                  <a:pt x="0" y="129381"/>
                </a:moveTo>
                <a:lnTo>
                  <a:pt x="0" y="129381"/>
                </a:lnTo>
                <a:arcTo wR="258763" hR="129382" stAng="10800000" swAng="10800013"/>
                <a:lnTo>
                  <a:pt x="452834" y="129382"/>
                </a:lnTo>
                <a:lnTo>
                  <a:pt x="452834" y="129382"/>
                </a:lnTo>
                <a:arcTo wR="194072" hR="64691" stAng="0" swAng="-10800000"/>
                <a:close/>
              </a:path>
            </a:pathLst>
          </a:custGeom>
          <a:solidFill>
            <a:srgbClr val="333333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3" name="Овал 16"/>
          <p:cNvSpPr/>
          <p:nvPr/>
        </p:nvSpPr>
        <p:spPr>
          <a:xfrm>
            <a:off x="7715160" y="3571920"/>
            <a:ext cx="28584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4" name="Овал 17"/>
          <p:cNvSpPr/>
          <p:nvPr/>
        </p:nvSpPr>
        <p:spPr>
          <a:xfrm>
            <a:off x="8143920" y="3571920"/>
            <a:ext cx="28584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5" name="Овал 19"/>
          <p:cNvSpPr/>
          <p:nvPr/>
        </p:nvSpPr>
        <p:spPr>
          <a:xfrm flipH="1">
            <a:off x="8214480" y="3714840"/>
            <a:ext cx="142920" cy="2142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6" name="Овал 20"/>
          <p:cNvSpPr/>
          <p:nvPr/>
        </p:nvSpPr>
        <p:spPr>
          <a:xfrm>
            <a:off x="7786800" y="3714840"/>
            <a:ext cx="142920" cy="2142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G:\фон\2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pic>
        <p:nvPicPr>
          <p:cNvPr id="169" name="AutoShape 6" descr=""/>
          <p:cNvPicPr/>
          <p:nvPr/>
        </p:nvPicPr>
        <p:blipFill>
          <a:blip r:embed="rId2"/>
          <a:stretch/>
        </p:blipFill>
        <p:spPr>
          <a:xfrm>
            <a:off x="1365120" y="1920960"/>
            <a:ext cx="6377040" cy="2017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BD05090_"/>
          <p:cNvPicPr/>
          <p:nvPr/>
        </p:nvPicPr>
        <p:blipFill>
          <a:blip r:embed="rId3"/>
          <a:stretch/>
        </p:blipFill>
        <p:spPr>
          <a:xfrm>
            <a:off x="7072200" y="571680"/>
            <a:ext cx="12193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57200" y="36684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74" name="Picture 4" descr="J0195320"/>
          <p:cNvPicPr/>
          <p:nvPr/>
        </p:nvPicPr>
        <p:blipFill>
          <a:blip r:embed="rId2"/>
          <a:stretch/>
        </p:blipFill>
        <p:spPr>
          <a:xfrm>
            <a:off x="609480" y="671400"/>
            <a:ext cx="114300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2362320" y="366840"/>
          <a:ext cx="6765840" cy="115884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7880"/>
                <a:gridCol w="676080"/>
                <a:gridCol w="676440"/>
                <a:gridCol w="676080"/>
                <a:gridCol w="676440"/>
                <a:gridCol w="677880"/>
                <a:gridCol w="6760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4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0000"/>
                          </a:solidFill>
                          <a:latin typeface="Arial Narrow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41"/>
          <p:cNvSpPr/>
          <p:nvPr/>
        </p:nvSpPr>
        <p:spPr>
          <a:xfrm>
            <a:off x="0" y="2512800"/>
            <a:ext cx="323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39 – 30 </a:t>
            </a: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 =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40 : 20 = 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49 : 7 ∙ 1 =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 Narrow"/>
              </a:rPr>
              <a:t>100 : 10 =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4878000" y="2576520"/>
            <a:ext cx="589320" cy="27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8" name="Line 48"/>
          <p:cNvSpPr/>
          <p:nvPr/>
        </p:nvSpPr>
        <p:spPr>
          <a:xfrm>
            <a:off x="3276720" y="295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79" name="Line 49"/>
          <p:cNvSpPr/>
          <p:nvPr/>
        </p:nvSpPr>
        <p:spPr>
          <a:xfrm>
            <a:off x="2895480" y="3643200"/>
            <a:ext cx="19051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0" name="Line 50"/>
          <p:cNvSpPr/>
          <p:nvPr/>
        </p:nvSpPr>
        <p:spPr>
          <a:xfrm>
            <a:off x="3276720" y="4329000"/>
            <a:ext cx="144756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1" name="Line 51"/>
          <p:cNvSpPr/>
          <p:nvPr/>
        </p:nvSpPr>
        <p:spPr>
          <a:xfrm>
            <a:off x="3429000" y="4938840"/>
            <a:ext cx="12952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82" name="Picture 55" descr="z00002"/>
          <p:cNvPicPr/>
          <p:nvPr/>
        </p:nvPicPr>
        <p:blipFill>
          <a:blip r:embed="rId3"/>
          <a:stretch/>
        </p:blipFill>
        <p:spPr>
          <a:xfrm>
            <a:off x="5638680" y="2728800"/>
            <a:ext cx="3505320" cy="2438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6"/>
          <p:cNvSpPr/>
          <p:nvPr/>
        </p:nvSpPr>
        <p:spPr>
          <a:xfrm>
            <a:off x="2669040" y="2424240"/>
            <a:ext cx="4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9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4" name="Text Box 57"/>
          <p:cNvSpPr/>
          <p:nvPr/>
        </p:nvSpPr>
        <p:spPr>
          <a:xfrm>
            <a:off x="2440440" y="3110040"/>
            <a:ext cx="4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5" name="Text Box 58"/>
          <p:cNvSpPr/>
          <p:nvPr/>
        </p:nvSpPr>
        <p:spPr>
          <a:xfrm>
            <a:off x="2821320" y="3795840"/>
            <a:ext cx="4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Text Box 59"/>
          <p:cNvSpPr/>
          <p:nvPr/>
        </p:nvSpPr>
        <p:spPr>
          <a:xfrm>
            <a:off x="2669040" y="4481640"/>
            <a:ext cx="73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 Narrow"/>
              </a:rPr>
              <a:t>10</a:t>
            </a:r>
            <a:endParaRPr b="0" lang="en-US" sz="4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Rectangle 60"/>
          <p:cNvSpPr/>
          <p:nvPr/>
        </p:nvSpPr>
        <p:spPr>
          <a:xfrm>
            <a:off x="4876920" y="4024440"/>
            <a:ext cx="53316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 Narrow"/>
              </a:rPr>
              <a:t>Я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" descr="G:\фон\5-3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wnloads\Анимашки\anim29.gif"/>
          <p:cNvPicPr/>
          <p:nvPr/>
        </p:nvPicPr>
        <p:blipFill>
          <a:blip r:embed="rId2"/>
          <a:stretch/>
        </p:blipFill>
        <p:spPr>
          <a:xfrm>
            <a:off x="500040" y="1500120"/>
            <a:ext cx="847800" cy="1038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wnloads\Анимашки\anim29.gif"/>
          <p:cNvPicPr/>
          <p:nvPr/>
        </p:nvPicPr>
        <p:blipFill>
          <a:blip r:embed="rId3"/>
          <a:stretch/>
        </p:blipFill>
        <p:spPr>
          <a:xfrm>
            <a:off x="1500120" y="1500120"/>
            <a:ext cx="847800" cy="1038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Downloads\Анимашки\anim29.gif"/>
          <p:cNvPicPr/>
          <p:nvPr/>
        </p:nvPicPr>
        <p:blipFill>
          <a:blip r:embed="rId4"/>
          <a:stretch/>
        </p:blipFill>
        <p:spPr>
          <a:xfrm>
            <a:off x="2428920" y="1500120"/>
            <a:ext cx="847800" cy="1038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5"/>
          <a:stretch/>
        </p:blipFill>
        <p:spPr>
          <a:xfrm>
            <a:off x="3029040" y="1365120"/>
            <a:ext cx="1476360" cy="118908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7" descr=""/>
          <p:cNvPicPr/>
          <p:nvPr/>
        </p:nvPicPr>
        <p:blipFill>
          <a:blip r:embed="rId6"/>
          <a:stretch/>
        </p:blipFill>
        <p:spPr>
          <a:xfrm>
            <a:off x="4400640" y="1468440"/>
            <a:ext cx="4651200" cy="182412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8" descr=""/>
          <p:cNvPicPr/>
          <p:nvPr/>
        </p:nvPicPr>
        <p:blipFill>
          <a:blip r:embed="rId7"/>
          <a:stretch/>
        </p:blipFill>
        <p:spPr>
          <a:xfrm>
            <a:off x="384120" y="3328920"/>
            <a:ext cx="1994040" cy="193212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ая соединительная линия 10"/>
          <p:cNvSpPr/>
          <p:nvPr/>
        </p:nvSpPr>
        <p:spPr>
          <a:xfrm flipV="1">
            <a:off x="714240" y="4378320"/>
            <a:ext cx="1338480" cy="1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96" name="Прямоугольник 12" descr=""/>
          <p:cNvPicPr/>
          <p:nvPr/>
        </p:nvPicPr>
        <p:blipFill>
          <a:blip r:embed="rId8"/>
          <a:stretch/>
        </p:blipFill>
        <p:spPr>
          <a:xfrm>
            <a:off x="4468680" y="3828960"/>
            <a:ext cx="45831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G:\фон\2-10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3"/>
          <p:cNvSpPr/>
          <p:nvPr/>
        </p:nvSpPr>
        <p:spPr>
          <a:xfrm>
            <a:off x="3429000" y="4429080"/>
            <a:ext cx="5157720" cy="1638360"/>
          </a:xfrm>
          <a:custGeom>
            <a:avLst/>
            <a:gdLst>
              <a:gd name="textAreaLeft" fmla="*/ 106200 w 5157720"/>
              <a:gd name="textAreaRight" fmla="*/ 5051520 w 5157720"/>
              <a:gd name="textAreaTop" fmla="*/ 106200 h 1638360"/>
              <a:gd name="textAreaBottom" fmla="*/ 1532160 h 1638360"/>
            </a:gdLst>
            <a:ahLst/>
            <a:rect l="textAreaLeft" t="textAreaTop" r="textAreaRight" b="textAreaBottom"/>
            <a:pathLst>
              <a:path w="67989" h="21600">
                <a:moveTo>
                  <a:pt x="0" y="0"/>
                </a:moveTo>
                <a:lnTo>
                  <a:pt x="67989" y="0"/>
                </a:lnTo>
                <a:lnTo>
                  <a:pt x="67989" y="21600"/>
                </a:lnTo>
                <a:lnTo>
                  <a:pt x="0" y="21600"/>
                </a:lnTo>
                <a:close/>
              </a:path>
              <a:path fill="lightenLess" w="67989" h="21600">
                <a:moveTo>
                  <a:pt x="0" y="0"/>
                </a:moveTo>
                <a:lnTo>
                  <a:pt x="67989" y="0"/>
                </a:lnTo>
                <a:lnTo>
                  <a:pt x="66589" y="1400"/>
                </a:lnTo>
                <a:lnTo>
                  <a:pt x="1400" y="1400"/>
                </a:lnTo>
                <a:close/>
              </a:path>
              <a:path fill="darken" w="67989" h="21600">
                <a:moveTo>
                  <a:pt x="67989" y="0"/>
                </a:moveTo>
                <a:lnTo>
                  <a:pt x="67989" y="21600"/>
                </a:lnTo>
                <a:lnTo>
                  <a:pt x="66589" y="20200"/>
                </a:lnTo>
                <a:lnTo>
                  <a:pt x="66589" y="1400"/>
                </a:lnTo>
                <a:close/>
              </a:path>
              <a:path fill="darkenLess" w="67989" h="21600">
                <a:moveTo>
                  <a:pt x="67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589" y="20200"/>
                </a:lnTo>
                <a:close/>
              </a:path>
              <a:path fill="lighten" w="67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0e2b"/>
                </a:solidFill>
                <a:latin typeface="Arial Narrow"/>
              </a:rPr>
              <a:t>Головоломки</a:t>
            </a:r>
            <a:endParaRPr b="0" lang="en-US" sz="60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00" name="Picture 32" descr="BD05092_"/>
          <p:cNvPicPr/>
          <p:nvPr/>
        </p:nvPicPr>
        <p:blipFill>
          <a:blip r:embed="rId2"/>
          <a:stretch/>
        </p:blipFill>
        <p:spPr>
          <a:xfrm>
            <a:off x="1523880" y="4724280"/>
            <a:ext cx="1143000" cy="1040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3" descr="BD05091_"/>
          <p:cNvPicPr/>
          <p:nvPr/>
        </p:nvPicPr>
        <p:blipFill>
          <a:blip r:embed="rId3"/>
          <a:stretch/>
        </p:blipFill>
        <p:spPr>
          <a:xfrm>
            <a:off x="7500960" y="285840"/>
            <a:ext cx="1219320" cy="11113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9"/>
          <p:cNvSpPr/>
          <p:nvPr/>
        </p:nvSpPr>
        <p:spPr>
          <a:xfrm>
            <a:off x="1071720" y="1285920"/>
            <a:ext cx="6000480" cy="1500120"/>
          </a:xfrm>
          <a:custGeom>
            <a:avLst/>
            <a:gdLst>
              <a:gd name="textAreaLeft" fmla="*/ 97200 w 6000480"/>
              <a:gd name="textAreaRight" fmla="*/ 5903280 w 600048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86384" h="21600">
                <a:moveTo>
                  <a:pt x="0" y="0"/>
                </a:moveTo>
                <a:lnTo>
                  <a:pt x="86384" y="0"/>
                </a:lnTo>
                <a:lnTo>
                  <a:pt x="86384" y="21600"/>
                </a:lnTo>
                <a:lnTo>
                  <a:pt x="0" y="21600"/>
                </a:lnTo>
                <a:close/>
              </a:path>
              <a:path fill="lightenLess" w="86384" h="21600">
                <a:moveTo>
                  <a:pt x="0" y="0"/>
                </a:moveTo>
                <a:lnTo>
                  <a:pt x="86384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4" h="21600">
                <a:moveTo>
                  <a:pt x="86384" y="0"/>
                </a:moveTo>
                <a:lnTo>
                  <a:pt x="86384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4" h="21600">
                <a:moveTo>
                  <a:pt x="86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0e2b"/>
                </a:solidFill>
                <a:latin typeface="Arial Narrow"/>
              </a:rPr>
              <a:t>Волшебные палочки</a:t>
            </a:r>
            <a:endParaRPr b="0" lang="en-US" sz="5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user</cp:lastModifiedBy>
  <dcterms:modified xsi:type="dcterms:W3CDTF">2011-11-29T13:51:09Z</dcterms:modified>
  <cp:revision>39</cp:revision>
  <dc:subject/>
  <dc:title>Слайд 1</dc:title>
</cp:coreProperties>
</file>