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18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4.jpeg" ContentType="image/jpeg"/>
  <Override PartName="/ppt/media/image13.gif" ContentType="image/gi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BE1F-2DB9-474C-856C-7CAE7F4DA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6EC4-4872-414B-A8B0-36F670B13D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876-EEC6-49FC-93CA-2DDAE7DB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361-592F-4DC3-9091-F4D73442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2B2-7F44-4D87-9EDE-1ED2FEF1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AE1-776D-43FB-B10C-808BB897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0CA1-C2C3-465D-942D-797BF2D1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075C-2F86-4F1E-B7FE-84C5A394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C7F0-C181-46E4-8D8F-45E9C21E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F95A-39EA-4D4F-99AE-54972544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45EB-0344-4037-B6F9-65875198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01EE-985A-43D3-899D-3B10E98F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3EAE-D2F6-4307-84FE-7E4FD8B9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026-23C1-49C3-9849-23AD3D87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09A7-1159-4163-8798-53E7DD15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04AC-447C-439A-977C-D024A24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F591-68D2-4437-A4E9-66135911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F321-6C9F-45C4-B7E1-D3A5062C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C343-FD92-486A-BBD4-BBC5378D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37B-3913-4257-8FB9-99E11D1E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540-CCD5-4BCB-85BD-C777A69A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5B8-E57C-46D7-B9F8-79E98769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8E9-507B-4D54-A49F-676A5C2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5AA-D0B3-4061-B1C8-A943CD81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E17-0524-4F50-A720-A22F63BE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F9B-6FBE-4A19-9BD2-B868A623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2B1C-5569-410F-AE9D-C27E1C3E0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2983-21B5-43E5-92AF-CD74C4D115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1052640"/>
            <a:ext cx="800748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Лазарева Валер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аяся 4Б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Каслинская СОШ №27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проекта: Лазарева Н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79280" y="476280"/>
            <a:ext cx="85489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наки зодиака и гороскоп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000 год рождения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–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ГОД ДРАКОНА</a:t>
            </a:r>
            <a:br>
              <a:rPr sz="44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0 человек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357120" y="2143080"/>
            <a:ext cx="5572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 каче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льны, умны и честолюбивы, обладают живым воображением и безупречным вкусом. Им присущи честность и справедлив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 каче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огда Драконы бывают нетерпеливы и импульсивны, язвительны и эгоистичны, а также слишком требователь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072120" y="3500280"/>
            <a:ext cx="2667240" cy="252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01 год рождения –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ГОД ЗМЕИ</a:t>
            </a:r>
            <a:br>
              <a:rPr sz="44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 человека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428760" y="1857240"/>
            <a:ext cx="5572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 каче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мея тактична, мудра, серьезна, терпелива, остроумна, обладает повышенной восприимчивостью, организованна, очень хорошо умеет планир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 каче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мея требовательна, любит командовать, может быть очень ревнивой и иногда ленива. Временами Змеи склонны быть очень закрытыми и сдержан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143760" y="3357720"/>
            <a:ext cx="2638440" cy="25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одиакальный гороскоп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бят нашего класс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5" descr="р"/>
          <p:cNvPicPr/>
          <p:nvPr/>
        </p:nvPicPr>
        <p:blipFill>
          <a:blip r:embed="rId1"/>
          <a:stretch/>
        </p:blipFill>
        <p:spPr>
          <a:xfrm>
            <a:off x="2143080" y="2428920"/>
            <a:ext cx="4735440" cy="404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Овен</a:t>
            </a:r>
            <a:r>
              <a:rPr b="1" lang="en-US" sz="6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21 марта- 20 апреля)</a:t>
            </a:r>
            <a:br>
              <a:rPr sz="40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Ласьков Илья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715000" y="3214800"/>
            <a:ext cx="3143160" cy="27860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4"/>
          <p:cNvSpPr/>
          <p:nvPr/>
        </p:nvSpPr>
        <p:spPr>
          <a:xfrm>
            <a:off x="357120" y="3357720"/>
            <a:ext cx="50720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мволизирует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виз – «Я сам 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может, чем мож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Дева</a:t>
            </a:r>
            <a:br>
              <a:rPr sz="6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24 августа – 23 сентября)</a:t>
            </a:r>
            <a:br>
              <a:rPr sz="32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Артюхова Юли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Бугаева Татьяна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Глухих Юли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Иванова Светла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250920" y="3789360"/>
            <a:ext cx="51782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ятны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виз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Я анализирую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рудолюбивы, ответствен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Рисунок 3" descr="дева.gif"/>
          <p:cNvPicPr/>
          <p:nvPr/>
        </p:nvPicPr>
        <p:blipFill>
          <a:blip r:embed="rId1"/>
          <a:stretch/>
        </p:blipFill>
        <p:spPr>
          <a:xfrm>
            <a:off x="5651640" y="3716280"/>
            <a:ext cx="3492360" cy="314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Телец</a:t>
            </a:r>
            <a:br>
              <a:rPr sz="6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21 апреля – 21 мая)</a:t>
            </a:r>
            <a:br>
              <a:rPr sz="40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Дерябина Оль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285840" y="2571840"/>
            <a:ext cx="50720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мволизирует спокойств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виз – «Принятое решение не обсуждается, а исполняется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жет придать уверенность в своих сил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3" descr="телец.gif"/>
          <p:cNvPicPr/>
          <p:nvPr/>
        </p:nvPicPr>
        <p:blipFill>
          <a:blip r:embed="rId1"/>
          <a:stretch/>
        </p:blipFill>
        <p:spPr>
          <a:xfrm>
            <a:off x="5072040" y="2571840"/>
            <a:ext cx="3857760" cy="371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Весы</a:t>
            </a:r>
            <a:br>
              <a:rPr sz="6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24 сентября – 23 октября)</a:t>
            </a:r>
            <a:br>
              <a:rPr sz="32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Брялин Иль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Гаврилина Ксени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Никулина Поли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285840" y="3429000"/>
            <a:ext cx="50720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Добры, общительны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Девиз – «Я уважаю!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Помогут в трудную минуту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Рисунок 3" descr="весы.gif"/>
          <p:cNvPicPr/>
          <p:nvPr/>
        </p:nvPicPr>
        <p:blipFill>
          <a:blip r:embed="rId1"/>
          <a:stretch/>
        </p:blipFill>
        <p:spPr>
          <a:xfrm>
            <a:off x="5364000" y="3211560"/>
            <a:ext cx="3613320" cy="350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Лев</a:t>
            </a:r>
            <a:br>
              <a:rPr sz="6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24 июля – 23 августа)</a:t>
            </a:r>
            <a:br>
              <a:rPr sz="28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Булаева Полина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Волгина Анастасия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Голунов Дмитрий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Казаков Станислав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Котова Виктор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214200" y="3643200"/>
            <a:ext cx="4286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волизирует жи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виз – «Ко всем с любовью, ни к кому с осуждением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дёжный д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Рисунок 3" descr="лев.gif"/>
          <p:cNvPicPr/>
          <p:nvPr/>
        </p:nvPicPr>
        <p:blipFill>
          <a:blip r:embed="rId1"/>
          <a:stretch/>
        </p:blipFill>
        <p:spPr>
          <a:xfrm>
            <a:off x="5003640" y="3789360"/>
            <a:ext cx="3830760" cy="292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Скорпион</a:t>
            </a:r>
            <a:br>
              <a:rPr sz="6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24 октября – 22 ноября)</a:t>
            </a:r>
            <a:br>
              <a:rPr sz="40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Двойникова Я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214200" y="3071880"/>
            <a:ext cx="478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ры, общитель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из – «Всё в моих руках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могут в трудную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Рисунок 3" descr="скорпион.gif"/>
          <p:cNvPicPr/>
          <p:nvPr/>
        </p:nvPicPr>
        <p:blipFill>
          <a:blip r:embed="rId1"/>
          <a:stretch/>
        </p:blipFill>
        <p:spPr>
          <a:xfrm>
            <a:off x="4857840" y="2786040"/>
            <a:ext cx="4048200" cy="350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Стрелец</a:t>
            </a:r>
            <a:br>
              <a:rPr sz="6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23 ноября – 21 декабря)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Баранов Константин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Лягинсков Никита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Михайлова Валерия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Ткаченко Александр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Свистунова Татьяна Георгиевн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214200" y="4214880"/>
            <a:ext cx="507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шат на помощ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из – «Я виж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ходчивый, весё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Рисунок 3" descr="стрелец.gif"/>
          <p:cNvPicPr/>
          <p:nvPr/>
        </p:nvPicPr>
        <p:blipFill>
          <a:blip r:embed="rId1"/>
          <a:stretch/>
        </p:blipFill>
        <p:spPr>
          <a:xfrm>
            <a:off x="5364000" y="4054320"/>
            <a:ext cx="3640320" cy="26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Цель моего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722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больше о знаках Зодиака и Восточном гороско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сти работу по исследованию дат рождения ребят моего класса и распределить их на группы по знакам Зодиа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ать одноклассникам об особенностях характера каждого зна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68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68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Водолей</a:t>
            </a:r>
            <a:br>
              <a:rPr sz="6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21 января – 19 февраля)</a:t>
            </a:r>
            <a:br>
              <a:rPr sz="4000"/>
            </a:b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Бабаев Максим</a:t>
            </a:r>
            <a:br>
              <a:rPr sz="4000"/>
            </a:b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Касьянов Илья</a:t>
            </a:r>
            <a:br>
              <a:rPr sz="4000"/>
            </a:b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Шистеров Александ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357120" y="335772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бавный, свободолюбив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виз – «Я знаю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ного друз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Рисунок 3" descr="водолей.gif"/>
          <p:cNvPicPr/>
          <p:nvPr/>
        </p:nvPicPr>
        <p:blipFill>
          <a:blip r:embed="rId1"/>
          <a:stretch/>
        </p:blipFill>
        <p:spPr>
          <a:xfrm>
            <a:off x="4952880" y="3284640"/>
            <a:ext cx="4011840" cy="330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Рыбы</a:t>
            </a:r>
            <a:br>
              <a:rPr sz="6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20 февраля – 20 марта)</a:t>
            </a:r>
            <a:br>
              <a:rPr sz="32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Быкова Ксени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Задорин Александр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Лазарева Валери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Шебалина Дарь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Прямоугольник 4"/>
          <p:cNvSpPr/>
          <p:nvPr/>
        </p:nvSpPr>
        <p:spPr>
          <a:xfrm>
            <a:off x="285840" y="378612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виз – «Я верю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пешат на помощь своим друзья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Рисунок 3" descr="рыбы.gif"/>
          <p:cNvPicPr/>
          <p:nvPr/>
        </p:nvPicPr>
        <p:blipFill>
          <a:blip r:embed="rId1"/>
          <a:stretch/>
        </p:blipFill>
        <p:spPr>
          <a:xfrm>
            <a:off x="5143680" y="3857760"/>
            <a:ext cx="3714480" cy="271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Подвожу итоги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ая над проектом, узнала больше о Знаках Зодиак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училась работать с информацией, обрабатывать материал, оформлять работ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а над проектом доставила много удовольствия, так как я впервые выполняла эту раб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68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68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5"/>
          <p:cNvSpPr txBox="1"/>
          <p:nvPr/>
        </p:nvSpPr>
        <p:spPr>
          <a:xfrm>
            <a:off x="1187280" y="620640"/>
            <a:ext cx="691200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Откуда произошли Знаки Зодиа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5" descr="р"/>
          <p:cNvPicPr/>
          <p:nvPr/>
        </p:nvPicPr>
        <p:blipFill>
          <a:blip r:embed="rId1"/>
          <a:stretch/>
        </p:blipFill>
        <p:spPr>
          <a:xfrm>
            <a:off x="1908000" y="1628640"/>
            <a:ext cx="5715000" cy="484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215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вания знаков происходят от названий двенадцати соответствующих зодиакальных созвездий, в которых поочерёдно находится Солнце в своём годовом движ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428920" y="3071880"/>
            <a:ext cx="4762440" cy="35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54064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Группы зн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Каждый знак относится к одной из четырех стих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гонь (Овен, Лев, Стрелец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да (Рак, Скорпион, Рыб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емля (Телец, Дева, Козерог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здух ( Близнецы, Весы, Водолей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Небесные сказани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Мифы и легенд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1071720" y="2357280"/>
            <a:ext cx="3214440" cy="4114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4857840" y="2428920"/>
            <a:ext cx="3209760" cy="407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Змееносе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лгое время маги и астрологи не рассказывали о тринадцатом знаке Зодиака, когда силы добра и зла вступают в непримиримую борьбу над душами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ремя действий Змееносца дли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15 по 29 нояб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2071800" y="3571920"/>
            <a:ext cx="5048280" cy="314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9ffff"/>
                </a:solidFill>
                <a:latin typeface="Arial"/>
              </a:rPr>
              <a:t> 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Восточный гороскоп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ребят нашего клас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9 год рождения – 4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год кролика, к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000 год рождени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20 чел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год дракон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1 год рождения – 2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год зме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6215040" y="4286160"/>
            <a:ext cx="2571840" cy="24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99 год рождения –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ГОД КРОЛИКА (КОТА)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4 человека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5857920" y="3286080"/>
            <a:ext cx="2928960" cy="25718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3"/>
          <p:cNvSpPr/>
          <p:nvPr/>
        </p:nvSpPr>
        <p:spPr>
          <a:xfrm>
            <a:off x="285840" y="2071800"/>
            <a:ext cx="53578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 черты характер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чувствительность, благоразумность, осторожность, воспитанность, артистичность, скром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 черты характер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скрытность, педантичность, безразличность, убежденность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оей прав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8:57:09Z</dcterms:created>
  <dc:creator>XP GAME 2008</dc:creator>
  <dc:description/>
  <dc:language>en-US</dc:language>
  <cp:lastModifiedBy>001</cp:lastModifiedBy>
  <dcterms:modified xsi:type="dcterms:W3CDTF">2011-11-29T08:36:29Z</dcterms:modified>
  <cp:revision>41</cp:revision>
  <dc:subject/>
  <dc:title>Слайд 1</dc:title>
</cp:coreProperties>
</file>