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7E71-9408-416C-B875-93407B37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C299C-9EA8-4449-BBD3-2B2F9F29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EA0C8-ADF8-40EB-A115-C0B5BB0B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B6B35-C7B0-440F-A9DA-BC1CCF59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2F31-7321-40CA-848D-1552E6B8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B9A1-EE7E-4CE4-B087-6E102D7D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7F1A-D2C8-4997-A4ED-F351B484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331F-70DC-45EB-AC3E-124B2E3B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7822-6EDC-42A1-9C35-61A3D7FA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428A-00FD-43A7-840E-CC1DCD6A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52A0-DE87-4829-B38E-1AED7DDA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FC2D8-DAF7-4C98-9F57-9C7D21E2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4397-3716-4BAB-A8AA-98428E6E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5A65-713B-48B3-84FB-B00ACF01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D9E8-B146-4723-9162-FF93799B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66C2-6D88-4F1A-8803-11693A5A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4610-4617-434C-A511-4C9DF8CB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724BE-0D52-4365-83EB-BAD474AD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D28A9-7142-4A82-A7F1-6E4ED54D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7B539-171F-48CE-9F0F-AFD16B1C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34B61-5752-4E1B-8E0D-6ED54E8E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5BAF-EBEA-403A-ADD7-E0408926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2553E-F850-418F-84FD-29F2C966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60216-40EA-4CB6-8DC9-AA240B96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e8"/>
            </a:gs>
            <a:gs pos="50000">
              <a:srgbClr val="ffffff"/>
            </a:gs>
            <a:gs pos="100000">
              <a:srgbClr val="d0d0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1EE5-9CBA-45B4-98B0-80081E9375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e8"/>
            </a:gs>
            <a:gs pos="50000">
              <a:srgbClr val="ffffff"/>
            </a:gs>
            <a:gs pos="100000">
              <a:srgbClr val="d0d0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AC73-F928-4250-A98D-EE3AF6E970B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71640" y="2060640"/>
            <a:ext cx="6220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Адаптация первоклассника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 1 классе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мственное развитие в младшем школьном возрасте  проходит через три стад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действий с эталонами по выделению искомых свойств вещей и построение их мод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развернутых действий с эталонами и формирование действий в модел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моделей и переход к умственным действиям со свойствами вещей и их операц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560" y="593280"/>
            <a:ext cx="86295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личностные отношения состоят из двух независимых подструктур отношений мальчиков и девоч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личностные отношения строятся на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эмоциональн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сно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ения учащихся класса не являются для ребенка эталоном для самооценки, большее значение имеет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мнение взрослог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и младших школьников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девочк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бнаруживают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более высокий уровен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оциального поведения по сравнению с мальчиками. Они же показывают более высокий уровень рефлексии и социальной ответств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акторы, влияющие на успешность обучения в шк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1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чностная гото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11080" indent="-620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на себя роли уче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620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620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620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ая гото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497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нтеллектуальная гото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22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пам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развития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развитие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сылки учеб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4920" y="141264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2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Социально-психологическая гото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22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троить отношения с окружающ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Другие факт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2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физического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 в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квалификации и личностные качества 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9554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Цель обуч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достижение оптимального общего развития каждого ребенка при сохранении его психического и физического здоров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1e4649"/>
                </a:solidFill>
                <a:latin typeface="Arial"/>
              </a:rPr>
              <a:t>Л.В. За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Arial"/>
              </a:rPr>
              <a:t>Общее развитие – развитие ума, воли, чувств, нравственных представл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возрасте 6 - 7 лет ребенка ждут большие изменения в его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10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обучение,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являются новые люди,     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кладываются новые отно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дущей деятельностью станови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уч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е влечет за собой новые обязанности, изменяет весь уклад жизни ребенк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738648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Самооценк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о многом зависит от оценок уч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притязаний складывается под влиянием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успех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еуспех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 учеб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920" y="802800"/>
            <a:ext cx="82087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ход детей из сада в шко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вляется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новы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этап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жизни 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х ждет система обуч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-811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-811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-811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651640" y="4365720"/>
            <a:ext cx="277308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63520" y="1193760"/>
            <a:ext cx="82692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даптац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ление, вид взаимодействия личн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циальной средой, в которой согласовываются требов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жидания его участников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чины плохой адапт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бования со стороны учителя, необходимость их выпол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ой поток информации, незнакомые слова, терм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увство одиночества из-за отсутствия внимания со стороны учителя, т.к. время на уроке ограничено, и нет возможности опросить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63160" y="692280"/>
            <a:ext cx="81961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ьшое значение имеют для ребенка в этом возрасте </a:t>
            </a: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социальные мотивы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ривлекает домашний уют, семейное благополучие, это снижает степень школьной тревожности, которая обостряется с началом учебной дея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3640" y="954000"/>
            <a:ext cx="8281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ес к содержанию и процессу   учения у большинства младших школьников реализуются, в основном, через </a:t>
            </a: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успеваем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ом, часто доминирующим и придающим отрицательную окраску учебной деятельности, остается мотивация </a:t>
            </a: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избегания наказа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07:21:51Z</dcterms:created>
  <dc:creator>ивч</dc:creator>
  <dc:description/>
  <dc:language>en-US</dc:language>
  <cp:lastModifiedBy>Луиза</cp:lastModifiedBy>
  <dcterms:modified xsi:type="dcterms:W3CDTF">2011-11-07T08:33:39Z</dcterms:modified>
  <cp:revision>29</cp:revision>
  <dc:subject/>
  <dc:title>адаптация</dc:title>
</cp:coreProperties>
</file>