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34C42-87F1-4720-ACF3-54E5A41D5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AC9A5-F7E6-44B7-861D-D06993C4C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8D12B-EB4E-4BCF-A098-924840ED7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3D268-4C7C-425D-83E8-6C107F60D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96277-46CC-4A20-899E-AD81F8E44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75CDE-F274-4C82-B30A-89E0E531D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D2DBF-8A8A-4722-B258-95ACB3A51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1C467-E111-4BF6-9E63-51D4F5F30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044B7-7E65-4D27-957F-BCF93C7A2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2AE6A-9AEE-44CC-913D-D7DE31EEB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B9213-8CF8-4ED9-92A3-45D474521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80EFF-6078-427D-B890-919E36FE5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73BB1-B2BA-41D3-9BE6-919C7796F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4D18B-20F7-422B-A5F4-B397944E4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C7AFD-C848-4A1B-9067-161D6105A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B6073-C979-4A4C-B962-830011482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2F2C3-3502-44BF-988D-82E37581B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75D29-7131-418D-9B3A-ED92675ED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9DB02-E2A3-4783-84BB-36778C5EC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9CD5E-FF13-4ADF-9F24-1E3EE5125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A79CE-6970-439A-B669-207829451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AF381-4C81-49ED-B9B8-4E5F4DD51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5A37F-86EC-440D-A7AE-E765A9701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D2531-D93A-4C5A-B36D-C8E79CC6F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0d0e8"/>
            </a:gs>
            <a:gs pos="50000">
              <a:srgbClr val="ffffff"/>
            </a:gs>
            <a:gs pos="100000">
              <a:srgbClr val="d0d0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6054C-8467-41D5-BB82-C7DCF68EE1D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0d0e8"/>
            </a:gs>
            <a:gs pos="50000">
              <a:srgbClr val="ffffff"/>
            </a:gs>
            <a:gs pos="100000">
              <a:srgbClr val="d0d0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35B3D-88D4-41D4-9F2B-A2B1ADC403C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771640" y="2060640"/>
            <a:ext cx="622008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Адаптация первоклассника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Родительское собрание</a:t>
            </a:r>
            <a:br>
              <a:rPr sz="3400"/>
            </a:b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в 1 классе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250920" y="692280"/>
            <a:ext cx="864216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мственное развитие в младшем школьном возрасте  проходит через три стад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воение действий с эталонами по выделению искомых свойств вещей и построение их модел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воение развернутых действий с эталонами и формирование действий в моделя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воение моделей и переход к умственным действиям со свойствами вещей и их операци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250560" y="593280"/>
            <a:ext cx="86295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жличностные отношения состоят из двух независимых подструктур отношений мальчиков и девоче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жличностные отношения строятся на </a:t>
            </a: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эмоциональной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основ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нения учащихся класса не являются для ребенка эталоном для самооценки, большее значение имеет </a:t>
            </a: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мнение взрослог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реди младших школьников </a:t>
            </a: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девочк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обнаруживают </a:t>
            </a: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более высокий уровень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социального поведения по сравнению с мальчиками. Они же показывают более высокий уровень рефлексии и социальной ответствен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Факторы, влияющие на успешность обучения в школ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1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Личностная готов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811080" indent="-6206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ятие на себя роли уче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1080" indent="-6206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тив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1080" indent="-6206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оце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1080" indent="-6206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моциональная готов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94920" y="907920"/>
            <a:ext cx="8497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22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2216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Интеллектуальная готов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2216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22160" indent="-7221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и памя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22160" indent="-7221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вень развития мыш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22160" indent="-7221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е развитие ре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22160" indent="-7221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осылки учебной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94920" y="1412640"/>
            <a:ext cx="8435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2216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Социально-психологическая готов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2216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22160" indent="-7221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строить отношения с окружающи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22160" indent="-7221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акт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221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Другие факто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221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22160" indent="-7221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ние физического здоров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22160" indent="-7221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ношения в сем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22160" indent="-7221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вень квалификации и личностные качества учите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22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24000" y="955440"/>
            <a:ext cx="8229600" cy="59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Цель обучени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- достижение оптимального общего развития каждого ребенка при сохранении его психического и физического здоров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3200" spc="-1" strike="noStrike">
                <a:solidFill>
                  <a:srgbClr val="1e4649"/>
                </a:solidFill>
                <a:latin typeface="Arial"/>
              </a:rPr>
              <a:t>Л.В. Зан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e4649"/>
                </a:solidFill>
                <a:latin typeface="Arial"/>
              </a:rPr>
              <a:t>Общее развитие – развитие ума, воли, чувств, нравственных представл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возрасте 6 - 7 лет ребенка ждут большие изменения в его жизн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10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яется обучение, 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являются новые люди,      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кладываются новые отнош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дущей деятельностью становит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7d"/>
                </a:solidFill>
                <a:latin typeface="Arial"/>
              </a:rPr>
              <a:t>учени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ое влечет за собой новые обязанности, изменяет весь уклад жизни ребенка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971640" y="1413000"/>
            <a:ext cx="7386480" cy="49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Самооценк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во многом зависит от оценок учител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ровень притязаний складывается под влиянием </a:t>
            </a: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успехов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неуспехов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в учебной дея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50920" y="802800"/>
            <a:ext cx="820872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7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реход детей из сада в школ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87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является </a:t>
            </a: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новым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этапо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87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жизни ребен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87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87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Их ждет система обучения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87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87480" indent="-811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87480" indent="-811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87480" indent="-811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ме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5651640" y="4365720"/>
            <a:ext cx="2773080" cy="207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263520" y="1193760"/>
            <a:ext cx="82692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Адаптаци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пособление, вид взаимодействия личност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социальной средой, в которой согласовываются требован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ожидания его участников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ичины плохой адаптаци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ребования со стороны учителя, необходимость их выполн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ольшой поток информации, незнакомые слова, терм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увство одиночества из-за отсутствия внимания со стороны учителя, т.к. время на уроке ограничено, и нет возможности опросить все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263160" y="692280"/>
            <a:ext cx="819612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ольшое значение имеют для ребенка в этом возрасте </a:t>
            </a:r>
            <a:r>
              <a:rPr b="1" lang="ru-RU" sz="3600" spc="-1" strike="noStrike">
                <a:solidFill>
                  <a:srgbClr val="00007d"/>
                </a:solidFill>
                <a:latin typeface="Arial"/>
              </a:rPr>
              <a:t>социальные мотивы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о привлекает домашний уют, семейное благополучие, это снижает степень школьной тревожности, которая обостряется с началом учебной деятельности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23640" y="954000"/>
            <a:ext cx="82818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нтерес к содержанию и процессу   учения у большинства младших школьников реализуются, в основном, через </a:t>
            </a:r>
            <a:r>
              <a:rPr b="1" lang="ru-RU" sz="3600" spc="-1" strike="noStrike">
                <a:solidFill>
                  <a:srgbClr val="00007d"/>
                </a:solidFill>
                <a:latin typeface="Arial"/>
              </a:rPr>
              <a:t>успеваемость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тивом, часто доминирующим и придающим отрицательную окраску учебной деятельности, остается мотивация </a:t>
            </a:r>
            <a:r>
              <a:rPr b="1" lang="ru-RU" sz="32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избегания наказания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0T07:21:51Z</dcterms:created>
  <dc:creator>ивч</dc:creator>
  <dc:description/>
  <dc:language>en-US</dc:language>
  <cp:lastModifiedBy>Луиза</cp:lastModifiedBy>
  <dcterms:modified xsi:type="dcterms:W3CDTF">2011-11-07T08:33:39Z</dcterms:modified>
  <cp:revision>29</cp:revision>
  <dc:subject/>
  <dc:title>адаптация</dc:title>
</cp:coreProperties>
</file>