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0C80-0C75-4D20-B697-9404296E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B73BC-B01C-4A91-A535-C7EBF249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CB80-E364-4E2A-85D0-C86B09B3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52C7-6ACF-489F-807B-C66E598C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474E-FD5A-449B-8E31-A0190D3E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3FCA-F6D3-4210-A1A3-9B7786BF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CD83-84C9-49AC-B43B-866375F7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FB9B-46C5-4BA9-99EB-091AD93D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1685-15DB-4A12-9DBC-01C31786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A023-A6D5-4896-A0CA-957D93C7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D71C-15A3-4435-BCCD-F961FB6B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1125-3447-4EE3-BA1F-68CE3A02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D314-4C0B-43F5-A189-E74F90AB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88B3-6E4C-457D-93E5-A28A73E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6F70-5BC4-449A-93CB-90F780F4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5123-C9E2-4DA3-9888-349F01FB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69BD-9142-467C-AD93-16D79F91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B11D-4D90-4A95-87D6-A37D711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3DAC-5C7C-48BE-BEC0-9E7594D8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CD67-577E-44AA-9E66-5404DD87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DFA4-606D-4A3A-947B-A22FD9C9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9CBA-55A9-4C35-8F32-35F31824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7756-87C5-4671-A17D-B191DE2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7CC5-C4C5-4B78-85AA-69098006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e8"/>
            </a:gs>
            <a:gs pos="50000">
              <a:srgbClr val="ffffff"/>
            </a:gs>
            <a:gs pos="100000">
              <a:srgbClr val="d0d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5A6E-8B55-4379-8664-F46B5202F8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e8"/>
            </a:gs>
            <a:gs pos="50000">
              <a:srgbClr val="ffffff"/>
            </a:gs>
            <a:gs pos="100000">
              <a:srgbClr val="d0d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7F40-9475-49B2-AD05-98092017A9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71640" y="206064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Адаптация первоклассника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1 класс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 в младшем школьном возрасте  проходит через три стад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действий с эталонами по выделению искомых свойств вещей и построение их мод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развернутых действий с эталонами и формирование действий в модел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моделей и переход к умственным действиям со свойствами вещей и их опера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593280"/>
            <a:ext cx="8629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личностные отношения состоят из двух независимых подструктур отношений мальчиков и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личностные отношения строятся на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эмоциональ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сн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ния учащихся класса не являются для ребенка эталоном для самооценки, большее значение имеет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нение взросл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и младших школьников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евоч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наруживают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более высоки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циального поведения по сравнению с мальчиками. Они же показывают более высокий уровень рефлексии и социальной ответств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кторы, влияющие на успешность обучения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на себя роли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сылки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оциально-психологическ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роить отношения с окружающ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ругие фа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физического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квалификации и личностные качества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9554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Цель обуч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достижение оптимального общего развития каждого ребенка при сохранении его психического и физического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1e4649"/>
                </a:solidFill>
                <a:latin typeface="Arial"/>
              </a:rPr>
              <a:t>Л.В. За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Arial"/>
              </a:rPr>
              <a:t>Общее развитие – развитие ума, воли, чувств, нравстве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озрасте 6 - 7 лет ребенка ждут большие изменения в его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10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обучение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яются новые люди,    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ладываются новы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ущей деятельностью станов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 влечет за собой новые обязанности, изменяет весь уклад жизни ребенк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738648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амооцен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о многом зависит от оценок уч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притязаний складывается под влиянием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спех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успех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802800"/>
            <a:ext cx="82087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 детей из сада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ап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х ждет система обуч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27730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63520" y="1193760"/>
            <a:ext cx="8269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дапт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е, вид взаимодействия лич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циальной средой, в которой согласовываются 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жидания его участнико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чины плохой 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я со стороны учителя, необходимость их вы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ой поток информации, незнакомые слова, терм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вство одиночества из-за отсутствия внимания со стороны учителя, т.к. время на уроке ограничено, и нет возможности опросить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3160" y="692280"/>
            <a:ext cx="81961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е значение имеют для ребенка в этом возрасте 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оциальные мотив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ивлекает домашний уют, семейное благополучие, это снижает степень школьной тревожности, которая обостряется с началом учебной дея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3640" y="954000"/>
            <a:ext cx="8281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ес к содержанию и процессу   учения у большинства младших школьников реализуются, в основном, через 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успеваем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ом, часто доминирующим и придающим отрицательную окраску учебной деятельности, остается мотивация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збегания наказ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7:21:51Z</dcterms:created>
  <dc:creator>ивч</dc:creator>
  <dc:description/>
  <dc:language>en-US</dc:language>
  <cp:lastModifiedBy>Луиза</cp:lastModifiedBy>
  <dcterms:modified xsi:type="dcterms:W3CDTF">2011-11-07T08:33:39Z</dcterms:modified>
  <cp:revision>29</cp:revision>
  <dc:subject/>
  <dc:title>адаптация</dc:title>
</cp:coreProperties>
</file>