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53E2-0EF8-441A-ADB8-476B3768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CCB92-ADB5-4ACA-846C-E85E9B75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5055-A67A-45A1-A7D2-F4DD410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E978-5A17-4D1E-AC32-62BAB3E4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E823-D0A8-4081-8DF3-3FBE4505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F547-A35F-4ABC-BEFD-0F6F0111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C14E-DA3E-46A3-B8F6-BD067DF0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75EF-A53A-4738-9449-F6DA5AEB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CD50-B82F-4DA0-9932-114CBD1F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53DC-5618-4E5D-AE4F-641D9ABD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36B9-BFA6-43D0-BBA5-1020F26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9FC9-E5B4-4B5F-BDBB-B88D70CB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1EF2-2A09-4DDB-B1F9-346300B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F39C-A107-4A33-8FE9-82AA593E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8BEE-3300-445E-817B-3AA5E8FB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EEC8-C6AD-4630-9B65-0729A5F5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3002-32FE-4ED9-9DCF-6F8678F2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E76D-A2D8-4952-A80D-2B60C6AC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0860-46EF-4ABF-AC18-F3D8F3FB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EEB6-4EC1-4D41-A9B5-FEEC4CD3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381B-A229-499C-8C9B-F816C292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158E-BEF6-42B6-B559-9FB44CFA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19C3-C8BE-4563-81FE-0B87C2F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1643-4755-4B7F-B720-A4B2980B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e8"/>
            </a:gs>
            <a:gs pos="50000">
              <a:srgbClr val="ffffff"/>
            </a:gs>
            <a:gs pos="100000">
              <a:srgbClr val="d0d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3D28-9B8B-490E-A3C5-9C431C5C08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e8"/>
            </a:gs>
            <a:gs pos="50000">
              <a:srgbClr val="ffffff"/>
            </a:gs>
            <a:gs pos="100000">
              <a:srgbClr val="d0d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0355-6F22-454E-9E3D-06C194ED1D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71640" y="206064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Адаптация первоклассника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1 класс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 в младшем школьном возрасте  проходит через три стад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действий с эталонами по выделению искомых свойств вещей и построение их мод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развернутых действий с эталонами и формирование действий в модел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моделей и переход к умственным действиям со свойствами вещей и их опера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593280"/>
            <a:ext cx="8629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личностные отношения состоят из двух независимых подструктур отношений мальчиков и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личностные отношения строятся на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эмоциональ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сн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ния учащихся класса не являются для ребенка эталоном для самооценки, большее значение имеет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нение взросл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и младших школьников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евоч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наруживают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более высоки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циального поведения по сравнению с мальчиками. Они же показывают более высокий уровень рефлексии и социальной ответств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кторы, влияющие на успешность обучения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на себя роли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сылки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оциально-психологическ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роить отношения с окружающ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ругие фа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физического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квалификации и личностные качества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9554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Цель обуч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достижение оптимального общего развития каждого ребенка при сохранении его психического и физического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1e4649"/>
                </a:solidFill>
                <a:latin typeface="Arial"/>
              </a:rPr>
              <a:t>Л.В. За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Arial"/>
              </a:rPr>
              <a:t>Общее развитие – развитие ума, воли, чувств, нравстве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озрасте 6 - 7 лет ребенка ждут большие изменения в его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10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обучение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яются новые люди,    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ладываются новы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ущей деятельностью станов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 влечет за собой новые обязанности, изменяет весь уклад жизни ребенк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738648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амооцен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о многом зависит от оценок уч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притязаний складывается под влиянием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спех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успех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802800"/>
            <a:ext cx="82087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 детей из сада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ап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х ждет система обуч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27730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63520" y="1193760"/>
            <a:ext cx="8269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дапт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е, вид взаимодействия лич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циальной средой, в которой согласовываются 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жидания его участнико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чины плохой 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я со стороны учителя, необходимость их вы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ой поток информации, незнакомые слова, терм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вство одиночества из-за отсутствия внимания со стороны учителя, т.к. время на уроке ограничено, и нет возможности опросить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3160" y="692280"/>
            <a:ext cx="81961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е значение имеют для ребенка в этом возрасте 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оциальные мотив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ивлекает домашний уют, семейное благополучие, это снижает степень школьной тревожности, которая обостряется с началом учебной дея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3640" y="954000"/>
            <a:ext cx="8281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ес к содержанию и процессу   учения у большинства младших школьников реализуются, в основном, через 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успеваем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ом, часто доминирующим и придающим отрицательную окраску учебной деятельности, остается мотивация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збегания наказ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7:21:51Z</dcterms:created>
  <dc:creator>ивч</dc:creator>
  <dc:description/>
  <dc:language>en-US</dc:language>
  <cp:lastModifiedBy>Луиза</cp:lastModifiedBy>
  <dcterms:modified xsi:type="dcterms:W3CDTF">2011-11-07T08:33:39Z</dcterms:modified>
  <cp:revision>29</cp:revision>
  <dc:subject/>
  <dc:title>адаптация</dc:title>
</cp:coreProperties>
</file>