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FE582-6C27-4113-95EE-1FEC283B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438F-F672-48C6-83F7-4E6754E3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72A1D-C178-42D8-82F4-444952D8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42A7C-DEF2-4289-8709-B23514F5B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C3869-6690-4E8A-BE42-28987FEF7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C6DB-2677-43F4-A90A-1D0DB4196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2A47E-F296-44AE-938F-F1D14E254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2E5D9-D68E-4E8C-846E-34AEFDEC1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2D89B-5207-4790-9B30-17A3363AD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66B54-E7BE-4E0D-B278-3357F9ED9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92C72-50D1-431F-B6DB-C1C086DA5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6D096-F11F-4757-8F59-5FC83FFB5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D04C-8163-41CD-B481-922F4CCC8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416D4-C272-44E1-9771-5740C133C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1573E-FD6C-4D40-A14E-BA81350D7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C6776-98D6-4DE3-ACB9-346565E6E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2C906-86CA-4B62-9D03-B6520DCA8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E5122-B074-4580-82C3-766D00FD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0FAF-55A5-42A8-8BCB-ABCB5AA1B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CA65-E9DF-44FF-814E-420508FEE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74826-81C9-4EBB-957E-300B6E7C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9E99-38A7-4907-8A7B-227910A7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F6F5-6F24-4C94-9188-1E7FE9D46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6748-7B3E-45BF-9591-A302F2374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75C6-0685-4313-9867-5E644C4048A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AEFE-3634-4B14-85BE-012783A0118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vashpoputchik.ru/../photos/35/3771/.jpeg"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orks.usue.ru/Ivan/IVAN/Ottava/foto/ric111.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Известные часы Великобритании </a:t>
            </a:r>
            <a:br>
              <a:rPr sz="5100"/>
            </a:br>
            <a:r>
              <a:rPr b="0" lang="en-US" sz="5100" spc="-1" strike="noStrike">
                <a:solidFill>
                  <a:srgbClr val="ffffcc"/>
                </a:solidFill>
                <a:latin typeface="Arial"/>
              </a:rPr>
              <a:t>и Америки.</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Составила учитель </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ГОУ ЦО № 656 </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г.Москва</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им. А.С. Макаренко</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Воробьева Ольга Николаевна</a:t>
            </a:r>
            <a:endParaRPr b="0" lang="en-US" sz="2000" spc="-1" strike="noStrike">
              <a:solidFill>
                <a:srgbClr val="eaeaea"/>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Картинка 2 из 50"/>
          <p:cNvPicPr/>
          <p:nvPr/>
        </p:nvPicPr>
        <p:blipFill>
          <a:blip r:embed="rId1"/>
          <a:stretch/>
        </p:blipFill>
        <p:spPr>
          <a:xfrm>
            <a:off x="611280" y="260280"/>
            <a:ext cx="3085920" cy="5905440"/>
          </a:xfrm>
          <a:prstGeom prst="rect">
            <a:avLst/>
          </a:prstGeom>
          <a:ln w="0">
            <a:noFill/>
          </a:ln>
        </p:spPr>
      </p:pic>
      <p:pic>
        <p:nvPicPr>
          <p:cNvPr id="128" name="" descr="Картинка 9 из 50"/>
          <p:cNvPicPr/>
          <p:nvPr/>
        </p:nvPicPr>
        <p:blipFill>
          <a:blip r:embed="rId2"/>
          <a:stretch/>
        </p:blipFill>
        <p:spPr>
          <a:xfrm>
            <a:off x="4859280" y="765000"/>
            <a:ext cx="3529080" cy="532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0"/>
            <a:ext cx="8229600" cy="61308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США. Бостон.</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Бостонская часовая башня- самая старая в Америке. Башенные куранты украсили центр Бостона в 1668г. Христианские мотивы башенных часов в Хэзлтоне (Пенсильвания) были явлены публике в 1878г. Их оформление и дизайн в известной степени отражают американские идеалы и христианские ценности. 48 движущихся фигур среди которых Христос, апостолы, сатана, Бог времени и символы трёх возрастов человека, проплывая перед нами под органную музыку, заставляют задуматься о вечной борьбе добра и зла и важности достойного выбора.</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987640" y="981000"/>
            <a:ext cx="295272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0"/>
            <a:ext cx="8229600" cy="61308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Викторианская Башня с часами, расположена в сердце торгового центра «Клевендонский Треугольник», Сомерсете, Англии.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Башня с часами была дана городу в конце 19-ого столетия сэром Чарльзом Элтоном, чтобы ознаменовать шестидесятилетие Королевы Виктории. Элтоны играли большую роль в развитии Клеведона от маленького сельскохозяйственного городка до избранного Викторианского курорта. Они также предоставляли участки больницам, школам и церквям и проводили кампанию энергично за усовершенствования очистки и дренажа. Через сэра Чарлза Элтона Теннисон и Теккерей узнали Клеведон. Его внук, сэр Эдмунд, был производителем и проектировщиком глиняной посуды «Изделия Элтона».</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В основе башни питьевой фонтанчик, но он вышел из употребления уже много лет. На Северной стороне он поместил медальон с головой " Седого времени ", и использовал черепичную мозаику собственного производства, чтобы облицевать башню. Башня была закончена в 1898.</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Она представляет собой небольшую башню с пирамидальной крышей, ставшей восьмиугольной и поддерживающей флюгер. Каменные группы с цветными и фигурными черепицами делят башню на 3 яруса,</a:t>
            </a:r>
            <a:r>
              <a:rPr b="0" lang="en-US" sz="2000" spc="-1" strike="noStrike">
                <a:solidFill>
                  <a:srgbClr val="eaeaea"/>
                </a:solidFill>
                <a:latin typeface="Verdana"/>
              </a:rPr>
              <a:t> </a:t>
            </a:r>
            <a:r>
              <a:rPr b="0" lang="en-US" sz="2400" spc="-1" strike="noStrike">
                <a:solidFill>
                  <a:srgbClr val="eaeaea"/>
                </a:solidFill>
                <a:latin typeface="Verdana"/>
              </a:rPr>
              <a:t>верхняя группа также с цветными отдельными шахтами. Круглый циферблат к каждой стороне верхнего яруса.</a:t>
            </a:r>
            <a:r>
              <a:rPr b="0" lang="en-US" sz="2000" spc="-1" strike="noStrike">
                <a:solidFill>
                  <a:srgbClr val="eaeaea"/>
                </a:solidFill>
                <a:latin typeface="Verdana"/>
              </a:rPr>
              <a:t> </a:t>
            </a:r>
            <a:r>
              <a:rPr b="0" lang="en-US" sz="2400" spc="-1" strike="noStrike">
                <a:solidFill>
                  <a:srgbClr val="eaeaea"/>
                </a:solidFill>
                <a:latin typeface="Verdana"/>
              </a:rPr>
              <a:t>Заостренный дверной проем возвышается через постамент на первый этаж. Сделана арка для фонтана. Башня с часами формирует группу с Трактиром и</a:t>
            </a:r>
            <a:r>
              <a:rPr b="0" lang="en-US" sz="2000" spc="-1" strike="noStrike">
                <a:solidFill>
                  <a:srgbClr val="eaeaea"/>
                </a:solidFill>
                <a:latin typeface="Verdana"/>
              </a:rPr>
              <a:t> </a:t>
            </a:r>
            <a:r>
              <a:rPr b="0" lang="en-US" sz="2400" spc="-1" strike="noStrike">
                <a:solidFill>
                  <a:srgbClr val="eaeaea"/>
                </a:solidFill>
                <a:latin typeface="Verdana"/>
              </a:rPr>
              <a:t>Часовней. Все эти здания представляют местный интерес за исключением Башни с часами.</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29920" y="421920"/>
            <a:ext cx="800244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Часы в Солсбери</a:t>
            </a:r>
            <a:endParaRPr b="0" lang="en-US" sz="4000" spc="-1" strike="noStrike">
              <a:solidFill>
                <a:srgbClr val="ffffcc"/>
              </a:solidFill>
              <a:latin typeface="Arial"/>
            </a:endParaRPr>
          </a:p>
        </p:txBody>
      </p:sp>
      <p:pic>
        <p:nvPicPr>
          <p:cNvPr id="134" name="" descr="Картинка 12 из 693"/>
          <p:cNvPicPr/>
          <p:nvPr/>
        </p:nvPicPr>
        <p:blipFill>
          <a:blip r:embed="rId1"/>
          <a:stretch/>
        </p:blipFill>
        <p:spPr>
          <a:xfrm>
            <a:off x="1817640" y="1341360"/>
            <a:ext cx="4700520" cy="551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36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Есть в Британии, в Солсбери,  уникальный собор. Удивительность его заключается в том, например, что венчает его самый высокий в Англии шпиль, высотой в 123 метра. Или в том, что именно здесь хранится один из экземпляров Хартии Вольностей, которая легла впоследствии в основу Американской Конституции. А еще здесь, в Солсбери, находятся древнейшие башенные часы без циферблата.</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ru-RU" sz="2800" spc="-1" strike="noStrike">
                <a:solidFill>
                  <a:srgbClr val="eaeaea"/>
                </a:solidFill>
                <a:latin typeface="Verdana"/>
              </a:rPr>
              <a:t>Датируются эти куранты 1386 годом. Некоторые ученые даже считают, что созданы часы еще ранее. Однако, часы все еще продолжают работать.</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ru-RU" sz="2800" spc="-1" strike="noStrike">
                <a:solidFill>
                  <a:srgbClr val="eaeaea"/>
                </a:solidFill>
                <a:latin typeface="Verdana"/>
              </a:rPr>
              <a:t>Очень интересна судьба часов. Прожив долгую жизнь и повидав многое, в XVIII веке часы, изначально расположенные в колокольне, были перенесены центральную башню собора. Впоследствии, в 1884 году,  в соборе были построены новые часы, а про старые просто-напросто забыли. Нашли их случайно, на чердаке собора аж в 1929 году. И только в 56-ом часы-старожилы отреставрировали.  И теперь, отработав горожанам более 500 лет, часы вновь показывают точное время.</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Говоря о часах, никак нельзя пропустить часы, с которых, собственно, и начался всемирный отсчет времени. Речь, как вы уже наверное догадались, идет о часах, расположенных в королевской обсерватории города Гринвича. От времени именно этих часов отсчитывается разница в часовых поясах во всем мире. Любопытно еще и то, что это были первые в мире электрические часы, вывешенные на всеобщее обозрение. Еще в 1852 году знаменитый в то время изобретатель Чарльз Шеперд представил миру свою новинку. Примерно в то же время зародилась и сама идея синхронизировать время во всем мире с одними единственными часами. Так как Англия, в то время, была ведущей во всех отношениях державой и имела очень серьезный международный авторитет, решено было за нулевую точку отсчета принять местечко под Лондоном — Гринвич. Так как в Гринвиче уже имелись настенные электрические часы, бывшие в то время практически чудом, решено было вести отсчет времени именно по этим часам. Так как часы висят на воротах, каждый может узнать точное время, на которое ориентируется весь мир. </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ролевская Гринвичская обсерватория, в которой и </a:t>
            </a:r>
            <a:fld id="{2BAA8B12-642C-4449-962E-7EB36DD0E0C1}" type="slidenum">
              <a:rPr b="0" lang="ru-RU" sz="1600" spc="-1" strike="noStrike">
                <a:solidFill>
                  <a:srgbClr val="eaeaea"/>
                </a:solidFill>
                <a:latin typeface="Verdana"/>
              </a:rPr>
              <a:t>&lt;number&gt;</a:t>
            </a:fld>
            <a:r>
              <a:rPr b="0" lang="ru-RU" sz="1600" spc="-1" strike="noStrike">
                <a:solidFill>
                  <a:srgbClr val="eaeaea"/>
                </a:solidFill>
                <a:latin typeface="Verdana"/>
              </a:rPr>
              <a:t>по сей день находятся эти часы, стала очень популярным местом, огромное количество туристов стекается туда, чтобы увидеть, откуда именно идет отсчет времени во всем мире, и какие часы стали первым ориентиром для ученых 19 века. Надо сказать, что по поводу назначения Гринвича нулевой точкой отсчета времени было очень много споров, Англии, даже с ее неоспоримым авторитетом было очень сложно вырвать победу у Американцев, которые сами хотели иметь настолько знаменитую точку на территории своей страны.</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Хотя гринвичские часы и являются одними из первых электрических часов в мире, они были сделаны так, что не зная устройства этих часов, можно было со 100 процентной уверенностью сказать, что эти часы являются механическими.</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692360" y="393336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8" name="" descr="">
            <a:hlinkClick r:id="rId1"/>
          </p:cNvPr>
          <p:cNvPicPr/>
          <p:nvPr/>
        </p:nvPicPr>
        <p:blipFill>
          <a:blip r:embed="rId2"/>
          <a:stretch/>
        </p:blipFill>
        <p:spPr>
          <a:xfrm>
            <a:off x="1763640" y="0"/>
            <a:ext cx="626436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Verdana"/>
              </a:rPr>
              <a:t>ЧАСЫ ГРИНВИЧ</a:t>
            </a:r>
            <a:br>
              <a:rPr sz="2000"/>
            </a:br>
            <a:r>
              <a:rPr b="1" lang="ru-RU" sz="2000" spc="-1" strike="noStrike">
                <a:solidFill>
                  <a:srgbClr val="eaeaea"/>
                </a:solidFill>
                <a:latin typeface="Verdana"/>
              </a:rPr>
              <a:t>     Где: </a:t>
            </a:r>
            <a:r>
              <a:rPr b="0" lang="ru-RU" sz="2000" spc="-1" strike="noStrike">
                <a:solidFill>
                  <a:srgbClr val="eaeaea"/>
                </a:solidFill>
                <a:latin typeface="Verdana"/>
              </a:rPr>
              <a:t>Королевская обсерватория в Гринвиче, Лондон, Великобритания.</a:t>
            </a:r>
            <a:br>
              <a:rPr sz="2000"/>
            </a:br>
            <a:r>
              <a:rPr b="0" lang="ru-RU" sz="2000" spc="-1" strike="noStrike">
                <a:solidFill>
                  <a:srgbClr val="eaeaea"/>
                </a:solidFill>
                <a:latin typeface="Verdana"/>
              </a:rPr>
              <a:t>     </a:t>
            </a:r>
            <a:r>
              <a:rPr b="1" lang="ru-RU" sz="2000" spc="-1" strike="noStrike">
                <a:solidFill>
                  <a:srgbClr val="eaeaea"/>
                </a:solidFill>
                <a:latin typeface="Verdana"/>
              </a:rPr>
              <a:t> Год создания: </a:t>
            </a:r>
            <a:r>
              <a:rPr b="0" lang="ru-RU" sz="2000" spc="-1" strike="noStrike">
                <a:solidFill>
                  <a:srgbClr val="eaeaea"/>
                </a:solidFill>
                <a:latin typeface="Verdana"/>
              </a:rPr>
              <a:t>1852.</a:t>
            </a:r>
            <a:br>
              <a:rPr sz="2000"/>
            </a:br>
            <a:r>
              <a:rPr b="0" lang="ru-RU" sz="2000" spc="-1" strike="noStrike">
                <a:solidFill>
                  <a:srgbClr val="eaeaea"/>
                </a:solidFill>
                <a:latin typeface="Verdana"/>
              </a:rPr>
              <a:t>     </a:t>
            </a:r>
            <a:r>
              <a:rPr b="1" lang="ru-RU" sz="2000" spc="-1" strike="noStrike">
                <a:solidFill>
                  <a:srgbClr val="eaeaea"/>
                </a:solidFill>
                <a:latin typeface="Verdana"/>
              </a:rPr>
              <a:t> Размер:</a:t>
            </a:r>
            <a:r>
              <a:rPr b="0" lang="ru-RU" sz="2000" spc="-1" strike="noStrike">
                <a:solidFill>
                  <a:srgbClr val="eaeaea"/>
                </a:solidFill>
                <a:latin typeface="Verdana"/>
              </a:rPr>
              <a:t> Диаметр часов, сделанных из металла и стекла, всего 92 сантиметра.</a:t>
            </a:r>
            <a:br>
              <a:rPr sz="2000"/>
            </a:br>
            <a:r>
              <a:rPr b="0" lang="ru-RU" sz="2000" spc="-1" strike="noStrike">
                <a:solidFill>
                  <a:srgbClr val="eaeaea"/>
                </a:solidFill>
                <a:latin typeface="Verdana"/>
              </a:rPr>
              <a:t>     </a:t>
            </a:r>
            <a:r>
              <a:rPr b="1" lang="ru-RU" sz="2000" spc="-1" strike="noStrike">
                <a:solidFill>
                  <a:srgbClr val="eaeaea"/>
                </a:solidFill>
                <a:latin typeface="Verdana"/>
              </a:rPr>
              <a:t> Факт:</a:t>
            </a:r>
            <a:r>
              <a:rPr b="0" lang="ru-RU" sz="2000" spc="-1" strike="noStrike">
                <a:solidFill>
                  <a:srgbClr val="eaeaea"/>
                </a:solidFill>
                <a:latin typeface="Verdana"/>
              </a:rPr>
              <a:t> 24-часовые часы Гринвич, которые также носят названия Главные электрочасы, Часы Шеперда (по имени их создателя Чарльза Шеперда) и Часы Королевской обсерватории, стали первыми часами, наглядно демонстрировавшими время, с которого ведут отсчет во всем мире. Они расположены на воротах обсерватории.</a:t>
            </a:r>
            <a:br>
              <a:rPr sz="2000"/>
            </a:br>
            <a:r>
              <a:rPr b="0" lang="ru-RU" sz="2000" spc="-1" strike="noStrike">
                <a:solidFill>
                  <a:srgbClr val="eaeaea"/>
                </a:solidFill>
                <a:latin typeface="Verdana"/>
              </a:rPr>
              <a:t> </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268360" y="260280"/>
            <a:ext cx="4104000" cy="59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Монреальская часовая башня, также называемая "Часами, возведёнными в память мореходов", была заложена Принцем Уэльским 31 октября 1919 года. Через два года 45-метровая башня, призванная хранить память о моряках, погибших в ходе Первой мировой войны, была полностью достроена.</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Первоначально планировалось соединить часовые механизмы с пятью колоколами, которые бы отбивали каждый час. Однако, этим планам сбыться было не суждено: работы по изготовлению механизма боя не начаты до сих пор.</a:t>
            </a: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Собственно часовые механизмы были изготовлены в британском городе Крйодоне предприятием Джилбетта и Джонсона. По своему устройству они чрезвычайно близки к тем, что установлены во всемирно известном Биг Бене.</a:t>
            </a:r>
            <a:endParaRPr b="0" lang="en-US" sz="20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Башня расположена в Старом порту Монреаля. Она служит не только для того, чтобы нести на себе огромные часы. Туристы, посещающие Монреаль, очень любят забираться на её вершину по огромной лестнице, имеющей сто девяносто две ступеньки, для того, чтобы с восхищением осматривать потрясающий вид на воду и окрестности.</a:t>
            </a:r>
            <a:endParaRPr b="0" lang="en-US" sz="1800" spc="-1" strike="noStrike">
              <a:solidFill>
                <a:srgbClr val="eaeaea"/>
              </a:solidFill>
              <a:latin typeface="Verdana"/>
            </a:endParaRPr>
          </a:p>
          <a:p>
            <a:pPr marL="343080" indent="-343080">
              <a:lnSpc>
                <a:spcPct val="80000"/>
              </a:lnSpc>
              <a:spcBef>
                <a:spcPts val="2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Verdana"/>
              </a:rPr>
              <a:t> </a:t>
            </a:r>
            <a:endParaRPr b="0" lang="en-US" sz="1000" spc="-1" strike="noStrike">
              <a:solidFill>
                <a:srgbClr val="eaeaea"/>
              </a:solidFill>
              <a:latin typeface="Verdana"/>
            </a:endParaRPr>
          </a:p>
        </p:txBody>
      </p:sp>
      <p:sp>
        <p:nvSpPr>
          <p:cNvPr id="122" name=""/>
          <p:cNvSpPr/>
          <p:nvPr/>
        </p:nvSpPr>
        <p:spPr>
          <a:xfrm>
            <a:off x="4572000" y="6305400"/>
            <a:ext cx="271440" cy="214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Картинка 3 из 100936">
            <a:hlinkClick r:id="rId1"/>
          </p:cNvPr>
          <p:cNvPicPr/>
          <p:nvPr/>
        </p:nvPicPr>
        <p:blipFill>
          <a:blip r:embed="rId2"/>
          <a:stretch/>
        </p:blipFill>
        <p:spPr>
          <a:xfrm>
            <a:off x="2050920" y="476280"/>
            <a:ext cx="410544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Башня Мира</a:t>
            </a:r>
            <a:r>
              <a:rPr b="0" lang="en-US" sz="3200" spc="-1" strike="noStrike">
                <a:solidFill>
                  <a:srgbClr val="eaeaea"/>
                </a:solidFill>
                <a:latin typeface="Verdana"/>
              </a:rPr>
              <a:t> - башня в комплексе зданий Канадского Парламента в Оттаве, Онтарио. Она стоит перед главным зданием Парламента, и присоединена к Центральному Блоку, в котором расположена Палата общин и Сенат Канады.</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Башня содержит обзорную галерею, предлагающую красивые виды города. Ее часы установлены Национальным Советом Исследования Канады и оборудованы подбором колоколов с 53 колоколами. Колокола весят от 4.5 кг до 10 160 кг (10 фунтов - 22 399 фунтам). </a:t>
            </a:r>
            <a:br>
              <a:rPr sz="2400"/>
            </a:br>
            <a:r>
              <a:rPr b="0" lang="en-US" sz="2400" spc="-1" strike="noStrike">
                <a:solidFill>
                  <a:srgbClr val="eaeaea"/>
                </a:solidFill>
                <a:latin typeface="Verdana"/>
              </a:rPr>
              <a:t>Как весь интерьер и экстерьер здания, башня украшена приблизительно 370 каменными резными фигурками, включая горгульи, гротески, и бордюры. Подобно колокольне в Вестминстере и фонаре купола Американского Капитолия, фонарь на Башне Мира зажигается всегда, когда в Парламенте проходит сессия. До начала 1970-ых годов Башня Мира доминировала над горизонтом Оттавы, поскольку строгая 150-футовая (45.7-метровая) граница высоты была установлена для других зданий; это было отменено. </a:t>
            </a:r>
            <a:endParaRPr b="0" lang="en-US" sz="2400" spc="-1" strike="noStrike">
              <a:solidFill>
                <a:srgbClr val="eaeaea"/>
              </a:solidFill>
              <a:latin typeface="Verdana"/>
            </a:endParaRPr>
          </a:p>
        </p:txBody>
      </p:sp>
      <p:sp>
        <p:nvSpPr>
          <p:cNvPr id="126" name=""/>
          <p:cNvSpPr/>
          <p:nvPr/>
        </p:nvSpPr>
        <p:spPr>
          <a:xfrm>
            <a:off x="3204000" y="5524560"/>
            <a:ext cx="340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06:22:33Z</dcterms:created>
  <dc:creator>Ольга</dc:creator>
  <dc:description/>
  <dc:language>en-US</dc:language>
  <cp:lastModifiedBy>Ольга</cp:lastModifiedBy>
  <dcterms:modified xsi:type="dcterms:W3CDTF">2011-11-30T09:01:28Z</dcterms:modified>
  <cp:revision>5</cp:revision>
  <dc:subject/>
  <dc:title>Слайд 1</dc:title>
</cp:coreProperties>
</file>