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4989-FEC7-470E-A3FE-EF3C99E47A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AA67-6C64-41A5-A0B9-4C081D6FC13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AE2F-3DCF-4C2D-9477-A3284815A51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DD27-CE2B-43FA-B7AB-AE2222DD22E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FE02-F7AA-4DB1-900B-56173501D1A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6937-0929-407D-9727-99E6B0C3A6F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4492-9E70-422E-A16F-990D7C1F271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5EE5-A4B0-49F4-B3A2-D9BC42733DD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6A50-3890-4920-9F2D-E2C2D181B54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2090-DCF7-47E1-B29B-F512B53925E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9B67-2FDA-4AE5-A925-CEA3A8CC271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8178-FB72-4174-B4F5-6399D98B278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12CB-3B4B-4937-8B69-9C5EECD9EC4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E7AC-AE69-43F0-9A67-F1C826547F1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1FE5-57A2-4882-B748-3DA4EAD14CA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F2FF-D2F4-4224-BD2E-CBB281FCD78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B491-69E2-4509-9F67-4BD6B707668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2A23-2AE2-4BDE-943E-285F682DD83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0D67-EA16-40BD-8885-D82C720FCCB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A7C4-B936-4255-B00C-7893CAD12AB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E5E7-EC2C-40B7-9D09-95FB4E7ED15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DBA4-9F68-4AAF-854F-82FE832FF64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6B48-1381-486C-BB8F-CCDE397F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05A5-5BB6-495A-9D45-2C994349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4DF0-0E57-4483-8BE0-5D160965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C47F-FDCA-4F2B-9B3C-9FA7F57D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7CB6-61E9-48A4-A797-E38D8702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3A70-1BCD-45AD-8092-301D2F64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E634-A5EA-4FED-8DA2-30CB539A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4A29-5165-4DD9-AB08-7A696F65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244F-AA11-46CF-899A-E0E9E375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94A9-8CE6-4D63-9F56-3EB3CF22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F20C-E094-4C3B-BBA5-A6210F6E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C3A2-41B0-4D0D-B382-1EE6B83C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F572-F72F-427F-BB62-0C64D381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FC33-29F6-4491-B9CB-D74213CF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851A-9E9D-4945-A51D-5691A42D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EEEE-828C-4648-A143-89A00050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3BE6-C068-4AC4-88EB-4E864C86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7056-7870-4025-A280-3E82CF4A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F7FF-A282-418A-903B-9A4B3F3E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7A13-9B67-4D3D-8A64-DED47F4F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E4B5-74F1-46F2-8A13-0621EFD9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33CF-4FEF-4314-B239-1DA20367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198F-C62D-43B0-8A51-BAAB4E58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107A-6588-4FD1-B435-2507E801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ABE1-78A8-4E46-84C8-14B661E8B4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BDD3-8C97-49BE-B5DD-F5F84BC8DDE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http://ncsgame.ru/images/chess/desk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3141360"/>
            <a:ext cx="91440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imes New Roman"/>
              </a:rPr>
              <a:t>МОУ Бояркинская СОШ им. М. Е. Катукова, Московская обл., Озёрский р-он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61616"/>
                </a:solidFill>
                <a:latin typeface="Times New Roman"/>
              </a:rPr>
              <a:t> Ученик 4 класса Соколов  Никит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61616"/>
                </a:solidFill>
                <a:latin typeface="Times New Roman"/>
              </a:rPr>
              <a:t>Первый разряд по шахматам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61616"/>
                </a:solidFill>
                <a:latin typeface="Times New Roman"/>
              </a:rPr>
              <a:t>Бронзовый призёр областного первенства по шахматам г.Коломн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61616"/>
                </a:solidFill>
                <a:latin typeface="Times New Roman"/>
              </a:rPr>
              <a:t>Серебряный призёр по шахматам Центрального Федерального Округа России . 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Times New Roman"/>
              </a:rPr>
              <a:t>Автомобиль как наград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8" name="Picture 4" descr="авто-3"/>
          <p:cNvPicPr/>
          <p:nvPr/>
        </p:nvPicPr>
        <p:blipFill>
          <a:blip r:embed="rId2"/>
          <a:stretch/>
        </p:blipFill>
        <p:spPr>
          <a:xfrm>
            <a:off x="1547640" y="1628640"/>
            <a:ext cx="604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Times New Roman"/>
              </a:rPr>
              <a:t>Орден «Знак Почет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1" name="Picture 4" descr="знак почета"/>
          <p:cNvPicPr/>
          <p:nvPr/>
        </p:nvPicPr>
        <p:blipFill>
          <a:blip r:embed="rId2"/>
          <a:stretch/>
        </p:blipFill>
        <p:spPr>
          <a:xfrm>
            <a:off x="2987640" y="1484280"/>
            <a:ext cx="315288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стреча с Алехины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4" name="Picture 4" descr="Алехин-1"/>
          <p:cNvPicPr/>
          <p:nvPr/>
        </p:nvPicPr>
        <p:blipFill>
          <a:blip r:embed="rId2"/>
          <a:stretch/>
        </p:blipFill>
        <p:spPr>
          <a:xfrm>
            <a:off x="826920" y="2276640"/>
            <a:ext cx="2971800" cy="4000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Алехин-2"/>
          <p:cNvPicPr/>
          <p:nvPr/>
        </p:nvPicPr>
        <p:blipFill>
          <a:blip r:embed="rId3"/>
          <a:stretch/>
        </p:blipFill>
        <p:spPr>
          <a:xfrm>
            <a:off x="5940360" y="1628640"/>
            <a:ext cx="254016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оенное врем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8" name="Picture 4" descr="война-3"/>
          <p:cNvPicPr/>
          <p:nvPr/>
        </p:nvPicPr>
        <p:blipFill>
          <a:blip r:embed="rId2"/>
          <a:stretch/>
        </p:blipFill>
        <p:spPr>
          <a:xfrm>
            <a:off x="684360" y="1989000"/>
            <a:ext cx="2477880" cy="3627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война-1"/>
          <p:cNvPicPr/>
          <p:nvPr/>
        </p:nvPicPr>
        <p:blipFill>
          <a:blip r:embed="rId3"/>
          <a:stretch/>
        </p:blipFill>
        <p:spPr>
          <a:xfrm>
            <a:off x="4067280" y="3141720"/>
            <a:ext cx="473544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-90000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Михаил Ботвинни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92360" y="4941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Человек-эпох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3" name="Picture 7" descr="sgz039"/>
          <p:cNvPicPr/>
          <p:nvPr/>
        </p:nvPicPr>
        <p:blipFill>
          <a:blip r:embed="rId2"/>
          <a:stretch/>
        </p:blipFill>
        <p:spPr>
          <a:xfrm>
            <a:off x="5867280" y="981000"/>
            <a:ext cx="2880000" cy="1979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Smyslov-01-K"/>
          <p:cNvPicPr/>
          <p:nvPr/>
        </p:nvPicPr>
        <p:blipFill>
          <a:blip r:embed="rId3"/>
          <a:stretch/>
        </p:blipFill>
        <p:spPr>
          <a:xfrm>
            <a:off x="684360" y="2205000"/>
            <a:ext cx="40320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Times New Roman"/>
              </a:rPr>
              <a:t>Высшая похвал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7" name="Picture 4" descr="Сталин-2"/>
          <p:cNvPicPr/>
          <p:nvPr/>
        </p:nvPicPr>
        <p:blipFill>
          <a:blip r:embed="rId2"/>
          <a:stretch/>
        </p:blipFill>
        <p:spPr>
          <a:xfrm>
            <a:off x="2627280" y="1700280"/>
            <a:ext cx="40006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Times New Roman"/>
              </a:rPr>
              <a:t>Шестой чемпион мир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0" name="Picture 4" descr="interregnum11"/>
          <p:cNvPicPr/>
          <p:nvPr/>
        </p:nvPicPr>
        <p:blipFill>
          <a:blip r:embed="rId2"/>
          <a:stretch/>
        </p:blipFill>
        <p:spPr>
          <a:xfrm>
            <a:off x="900000" y="1700280"/>
            <a:ext cx="71233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рден Ленин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3" name="Picture 4" descr="Орден Ленина-2"/>
          <p:cNvPicPr/>
          <p:nvPr/>
        </p:nvPicPr>
        <p:blipFill>
          <a:blip r:embed="rId2"/>
          <a:stretch/>
        </p:blipFill>
        <p:spPr>
          <a:xfrm>
            <a:off x="1908000" y="1844640"/>
            <a:ext cx="53215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16"/>
                </a:solidFill>
                <a:latin typeface="Times New Roman"/>
              </a:rPr>
              <a:t>Орден Трудового Красного </a:t>
            </a:r>
            <a:br>
              <a:rPr sz="4000"/>
            </a:br>
            <a:r>
              <a:rPr b="1" lang="ru-RU" sz="4000" spc="-1" strike="noStrike">
                <a:solidFill>
                  <a:srgbClr val="161616"/>
                </a:solidFill>
                <a:latin typeface="Times New Roman"/>
              </a:rPr>
              <a:t>Знамен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6" name="Picture 4" descr="орден Красного Знамени"/>
          <p:cNvPicPr/>
          <p:nvPr/>
        </p:nvPicPr>
        <p:blipFill>
          <a:blip r:embed="rId2"/>
          <a:stretch/>
        </p:blipFill>
        <p:spPr>
          <a:xfrm>
            <a:off x="2700360" y="1557360"/>
            <a:ext cx="38098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16"/>
                </a:solidFill>
                <a:latin typeface="Times New Roman"/>
              </a:rPr>
              <a:t>Орден Октябрьской революци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9" name="Picture 4" descr="орден Октябрьской революции"/>
          <p:cNvPicPr/>
          <p:nvPr/>
        </p:nvPicPr>
        <p:blipFill>
          <a:blip r:embed="rId2"/>
          <a:stretch/>
        </p:blipFill>
        <p:spPr>
          <a:xfrm>
            <a:off x="2340000" y="1557360"/>
            <a:ext cx="46512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Times New Roman"/>
              </a:rPr>
              <a:t>Ботвинник в Коломн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5" descr="input-01"/>
          <p:cNvPicPr/>
          <p:nvPr/>
        </p:nvPicPr>
        <p:blipFill>
          <a:blip r:embed="rId2"/>
          <a:stretch/>
        </p:blipFill>
        <p:spPr>
          <a:xfrm>
            <a:off x="900000" y="1784520"/>
            <a:ext cx="7488360" cy="3449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teplovoz"/>
          <p:cNvPicPr/>
          <p:nvPr/>
        </p:nvPicPr>
        <p:blipFill>
          <a:blip r:embed="rId3"/>
          <a:stretch/>
        </p:blipFill>
        <p:spPr>
          <a:xfrm>
            <a:off x="1332000" y="1413000"/>
            <a:ext cx="673236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757080" y="501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Человек-эпох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34000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61616"/>
                </a:solidFill>
                <a:latin typeface="Times New Roman"/>
              </a:rPr>
              <a:t>Михаил Ботвинни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7" descr="news_2006_bronstein03"/>
          <p:cNvPicPr/>
          <p:nvPr/>
        </p:nvPicPr>
        <p:blipFill>
          <a:blip r:embed="rId2"/>
          <a:stretch/>
        </p:blipFill>
        <p:spPr>
          <a:xfrm>
            <a:off x="6516720" y="3357720"/>
            <a:ext cx="2228760" cy="2741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botvinnik01-ew"/>
          <p:cNvPicPr/>
          <p:nvPr/>
        </p:nvPicPr>
        <p:blipFill>
          <a:blip r:embed="rId3"/>
          <a:stretch/>
        </p:blipFill>
        <p:spPr>
          <a:xfrm>
            <a:off x="468360" y="333360"/>
            <a:ext cx="2343240" cy="3095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botvinnik-2"/>
          <p:cNvPicPr/>
          <p:nvPr/>
        </p:nvPicPr>
        <p:blipFill>
          <a:blip r:embed="rId4"/>
          <a:stretch/>
        </p:blipFill>
        <p:spPr>
          <a:xfrm>
            <a:off x="3203640" y="1413000"/>
            <a:ext cx="28972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61616"/>
                </a:solidFill>
                <a:latin typeface="Times New Roman"/>
              </a:rPr>
              <a:t>Деньги потеряны – </a:t>
            </a:r>
            <a:br>
              <a:rPr sz="4800"/>
            </a:br>
            <a:r>
              <a:rPr b="1" lang="ru-RU" sz="4800" spc="-1" strike="noStrike">
                <a:solidFill>
                  <a:srgbClr val="161616"/>
                </a:solidFill>
                <a:latin typeface="Times New Roman"/>
              </a:rPr>
              <a:t>ничего не потеряно.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161616"/>
                </a:solidFill>
                <a:latin typeface="Times New Roman"/>
              </a:rPr>
              <a:t>Здоровье потеряно – </a:t>
            </a:r>
            <a:br>
              <a:rPr sz="4800"/>
            </a:br>
            <a:r>
              <a:rPr b="1" lang="ru-RU" sz="4800" spc="-1" strike="noStrike">
                <a:solidFill>
                  <a:srgbClr val="161616"/>
                </a:solidFill>
                <a:latin typeface="Times New Roman"/>
              </a:rPr>
              <a:t>многое потеряно.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161616"/>
                </a:solidFill>
                <a:latin typeface="Times New Roman"/>
              </a:rPr>
              <a:t>Мужество потеряно – </a:t>
            </a:r>
            <a:br>
              <a:rPr sz="4800"/>
            </a:br>
            <a:r>
              <a:rPr b="1" lang="ru-RU" sz="4800" spc="-1" strike="noStrike">
                <a:solidFill>
                  <a:srgbClr val="161616"/>
                </a:solidFill>
                <a:latin typeface="Times New Roman"/>
              </a:rPr>
              <a:t>всё потеряно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612720" y="450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61616"/>
                </a:solidFill>
                <a:latin typeface="Times New Roman"/>
              </a:rPr>
              <a:t>Человек-эпох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34000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61616"/>
                </a:solidFill>
                <a:latin typeface="Times New Roman"/>
              </a:rPr>
              <a:t>Михаил Ботвинни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interregnum12"/>
          <p:cNvPicPr/>
          <p:nvPr/>
        </p:nvPicPr>
        <p:blipFill>
          <a:blip r:embed="rId2"/>
          <a:stretch/>
        </p:blipFill>
        <p:spPr>
          <a:xfrm>
            <a:off x="324000" y="260280"/>
            <a:ext cx="2871720" cy="3959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larsen18"/>
          <p:cNvPicPr/>
          <p:nvPr/>
        </p:nvPicPr>
        <p:blipFill>
          <a:blip r:embed="rId3"/>
          <a:stretch/>
        </p:blipFill>
        <p:spPr>
          <a:xfrm>
            <a:off x="4356000" y="1557360"/>
            <a:ext cx="3313080" cy="2513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mikhailbotvinnik"/>
          <p:cNvPicPr/>
          <p:nvPr/>
        </p:nvPicPr>
        <p:blipFill>
          <a:blip r:embed="rId4"/>
          <a:stretch/>
        </p:blipFill>
        <p:spPr>
          <a:xfrm>
            <a:off x="6732720" y="4437000"/>
            <a:ext cx="2081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Times New Roman"/>
              </a:rPr>
              <a:t>Встреча с Х.Р. Капабланко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4" descr="kapablanka"/>
          <p:cNvPicPr/>
          <p:nvPr/>
        </p:nvPicPr>
        <p:blipFill>
          <a:blip r:embed="rId2"/>
          <a:stretch/>
        </p:blipFill>
        <p:spPr>
          <a:xfrm>
            <a:off x="3059280" y="1628640"/>
            <a:ext cx="336852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16"/>
                </a:solidFill>
                <a:latin typeface="Times New Roman"/>
              </a:rPr>
              <a:t>«Как важно быть серьезным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Picture 4" descr="Как важно быть серьезным-2"/>
          <p:cNvPicPr/>
          <p:nvPr/>
        </p:nvPicPr>
        <p:blipFill>
          <a:blip r:embed="rId2"/>
          <a:stretch/>
        </p:blipFill>
        <p:spPr>
          <a:xfrm>
            <a:off x="324000" y="1989000"/>
            <a:ext cx="2609640" cy="4176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Как важно быть серьезным"/>
          <p:cNvPicPr/>
          <p:nvPr/>
        </p:nvPicPr>
        <p:blipFill>
          <a:blip r:embed="rId3"/>
          <a:stretch/>
        </p:blipFill>
        <p:spPr>
          <a:xfrm>
            <a:off x="6156360" y="2060640"/>
            <a:ext cx="2693880" cy="4176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О"/>
          <p:cNvPicPr/>
          <p:nvPr/>
        </p:nvPicPr>
        <p:blipFill>
          <a:blip r:embed="rId4"/>
          <a:stretch/>
        </p:blipFill>
        <p:spPr>
          <a:xfrm>
            <a:off x="3635280" y="1413000"/>
            <a:ext cx="19051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612720" y="450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Человек-эпох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34000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61616"/>
                </a:solidFill>
                <a:latin typeface="Times New Roman"/>
              </a:rPr>
              <a:t>Михаил Ботвинни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7" descr="774_1_max"/>
          <p:cNvPicPr/>
          <p:nvPr/>
        </p:nvPicPr>
        <p:blipFill>
          <a:blip r:embed="rId2"/>
          <a:stretch/>
        </p:blipFill>
        <p:spPr>
          <a:xfrm>
            <a:off x="6300720" y="2852640"/>
            <a:ext cx="2571840" cy="3524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28409334_Botvinnik_copy"/>
          <p:cNvPicPr/>
          <p:nvPr/>
        </p:nvPicPr>
        <p:blipFill>
          <a:blip r:embed="rId3"/>
          <a:stretch/>
        </p:blipFill>
        <p:spPr>
          <a:xfrm>
            <a:off x="468360" y="476280"/>
            <a:ext cx="2708280" cy="3633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153014463"/>
          <p:cNvPicPr/>
          <p:nvPr/>
        </p:nvPicPr>
        <p:blipFill>
          <a:blip r:embed="rId4"/>
          <a:stretch/>
        </p:blipFill>
        <p:spPr>
          <a:xfrm>
            <a:off x="3780000" y="2849400"/>
            <a:ext cx="194436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Танец с Галиной Уланово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4" descr="Уланова"/>
          <p:cNvPicPr/>
          <p:nvPr/>
        </p:nvPicPr>
        <p:blipFill>
          <a:blip r:embed="rId2"/>
          <a:stretch/>
        </p:blipFill>
        <p:spPr>
          <a:xfrm>
            <a:off x="1187280" y="2492280"/>
            <a:ext cx="2606760" cy="3645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Уланова-2"/>
          <p:cNvPicPr/>
          <p:nvPr/>
        </p:nvPicPr>
        <p:blipFill>
          <a:blip r:embed="rId3"/>
          <a:stretch/>
        </p:blipFill>
        <p:spPr>
          <a:xfrm>
            <a:off x="5508720" y="1413000"/>
            <a:ext cx="2574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Times New Roman"/>
              </a:rPr>
              <a:t>Жена Гаянэ Анан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Picture 4" descr="Ананова"/>
          <p:cNvPicPr/>
          <p:nvPr/>
        </p:nvPicPr>
        <p:blipFill>
          <a:blip r:embed="rId2"/>
          <a:stretch/>
        </p:blipFill>
        <p:spPr>
          <a:xfrm>
            <a:off x="684360" y="2421000"/>
            <a:ext cx="2887560" cy="4032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Ананова-2"/>
          <p:cNvPicPr/>
          <p:nvPr/>
        </p:nvPicPr>
        <p:blipFill>
          <a:blip r:embed="rId3"/>
          <a:stretch/>
        </p:blipFill>
        <p:spPr>
          <a:xfrm>
            <a:off x="5076720" y="1484280"/>
            <a:ext cx="35118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973080" y="450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Человек-эпох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042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61616"/>
                </a:solidFill>
                <a:latin typeface="Times New Roman"/>
              </a:rPr>
              <a:t>Михаил Ботвинни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7" descr="big79871311713756"/>
          <p:cNvPicPr/>
          <p:nvPr/>
        </p:nvPicPr>
        <p:blipFill>
          <a:blip r:embed="rId2"/>
          <a:stretch/>
        </p:blipFill>
        <p:spPr>
          <a:xfrm>
            <a:off x="5651640" y="1628640"/>
            <a:ext cx="3057480" cy="4578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botvinnik_mikhael"/>
          <p:cNvPicPr/>
          <p:nvPr/>
        </p:nvPicPr>
        <p:blipFill>
          <a:blip r:embed="rId3"/>
          <a:stretch/>
        </p:blipFill>
        <p:spPr>
          <a:xfrm>
            <a:off x="395280" y="2205000"/>
            <a:ext cx="4648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09:46:29Z</dcterms:created>
  <dc:creator>Александр</dc:creator>
  <dc:description/>
  <dc:language>en-US</dc:language>
  <cp:lastModifiedBy>123</cp:lastModifiedBy>
  <dcterms:modified xsi:type="dcterms:W3CDTF">2011-11-30T16:16:07Z</dcterms:modified>
  <cp:revision>27</cp:revision>
  <dc:subject/>
  <dc:title>Человек-эпоха</dc:title>
</cp:coreProperties>
</file>