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BC9-82E4-4E20-ABFE-4E9A31A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61D-3A0B-4A62-8BF4-FEB5D8A4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3E0DE-68C9-4B5C-9323-59EF67F5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A6849-D6D5-498E-BD85-0E7F6992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72927-E694-4DC2-BFD1-547AC2A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3B74-B5E9-4F32-B038-D26C314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D9EE0-2553-496F-BF51-BAFC964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73014-E5A4-420D-BCB1-5F5459F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8EE29-1854-4CB5-A643-13F3912F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B065-FA67-427A-8B8E-7BF5A257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7439-2230-4081-BF6C-1CFB68A9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478CC-DC83-4159-8EB9-73239647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A67-D560-426C-A6AA-B2E6F384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3091F-EBD0-4BA2-A8DD-CA0C92F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FBAB3-F702-4E01-91C7-86BE497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D0739-E88E-405B-8D1B-15EB07C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1825-EBB2-4901-8D4F-66B37999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54AA8-E705-4255-875A-ECACB89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B2E1-A3E8-4A4D-A8D2-E14E2E4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8E4E7-6BC1-45B5-B92F-240B2FB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231FB-2B97-4B82-874C-54812A6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87B04-C952-4708-99EC-915C0505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4321D-9E6A-4121-B081-08E3AFF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10E-CC77-48E3-8326-50DD3604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B216-11A3-4E63-9109-9C3555D0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CEFCA-7120-432F-9D7C-7B1EE777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94E5-F7E6-4E1B-A257-F324171D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8562-46F6-4967-89B1-A6CDD96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AD6A-087B-47BA-80D1-5FA38158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52FD5-4E71-489E-A811-5C1F803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FAB8-817D-4E46-B82D-53B5B0E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7B8D4-963E-41F7-A336-D3F07BD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CB9E-7B84-4F7C-A9DF-548E666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DE8E8-9F13-4BFF-9347-90C8EF11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0E8-24A8-437A-8D97-CDD6ABC3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65DA-EE18-4FC0-AE40-E22829F1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6C5BC-252F-4B44-8402-3BE62305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A3AB5-DA23-46E7-BD35-CFE72F35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5A656-23C2-4846-B9AA-ABFCB901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B19C3-6F19-4778-BC61-CF5A561A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7A38D-174B-44EF-A05E-2BCED1B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A25DB-FC3D-451D-A068-F2422E4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BC241-7905-4304-A9F5-18BD8B0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3BAB4-6279-4256-8D25-915B834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EFEB4-F081-4C7A-820D-0E848F5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CBE0-7339-4FCA-A15A-3693157B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7BD71-603B-48B5-9032-9FCB334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3A0E4-128D-4C1D-82B8-3AB4236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B705-3316-4FE5-9FEF-43115CD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B000B-51B7-4D4B-B548-46DCC328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B755E-1416-4E48-87F3-6B1E59DE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E4F3E-8955-4107-B6EC-33CB3548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D6603-B7D7-4471-8702-909E2DB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559CE-2E29-40CB-8FCB-4F8C80C0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596B8-F366-4E05-BC83-C92A0B6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2A63D-8F7E-4992-BB3F-96E09F03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C5C1-5265-4DBE-9F97-1D72710B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01C6E-F1FF-4D4F-9E52-D9E413EB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526E8-58D1-461C-ADFD-F025343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4093C-A03C-4D03-8894-FEC7D889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7BC0D-2C14-4AB1-8476-CED112C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94B2E-EA21-44D7-B5C1-065A2517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E0DBC-AC21-40E0-AC92-5668D09D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3EC51-AF4A-433B-9567-F512C791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5ADCF-512E-46F7-B7E6-C62B2FF7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3BCBE-C34F-4ECB-801F-8773ECE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82217-0FEA-4D4E-9788-41CE33EA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D0FE-6EF9-466E-8C8B-D8F4D87B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DD2B8-5A81-4C93-A55B-E18360B2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EBC0F-6F13-4F54-A0A8-4B3169AB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84238-2692-4299-AC71-E25DEB4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92CBE-FC42-448B-AD5D-AE248A8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DC49F-BF86-443E-A8C7-10E6273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22D1B-CB0C-41A1-A8F3-CF18AF2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9CD9C-C7A5-4CE5-9BC4-806E6FE6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E8EA9-083D-4851-96D0-EDABF756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79E8C-82AB-484B-939B-B1B912DA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D3ED5-5CFA-48B6-9409-92D1EED1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EB06-E216-4FFE-8B8B-A13B0F88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A3C75-D8B0-4D2F-B53C-AF86D2D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F5322-A26F-4A3A-AA8D-C8024D75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8CB58-56FE-447C-9CC9-FB60126B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0438A-AD71-4D2B-85AF-BCC7204B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5F077-A2F6-413C-A93A-39E2749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5CA3B-B754-4680-AE16-97B87F7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5C259-0796-4BAF-879A-F42566C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6A9E2-64D0-4B7A-89EA-95D7968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799DB-0CE3-4473-98DE-825EE1E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C951C-30C8-4624-8B6D-0D782E92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2861-EDCB-472C-9006-3F5B2076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F8BF0-3FD0-437E-B97A-C1581C5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E4136-41DD-45C4-8E80-01F080D1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2A623-AD25-452E-8BCE-5CF4F32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FDF03-873D-4DEA-A7F1-A2ED270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3DD45-9458-4DD1-BBD0-513A8C0C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8ECF7-F701-49A8-873E-C472840F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6EA37-6FFB-4C09-90EA-9A7B5E23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9E3C5-0025-4FD8-9B9B-D790A31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4A2E4-C6A8-4F80-A894-8055EF4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0424A-2AF3-49E0-BA3C-70FD0C8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0E14-B93E-4C44-84C4-468AA00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2E051-99A5-4511-A6E5-E15D4FA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275BA-D753-4C78-97D7-AEB2C678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15AD8-2B78-4477-B9C6-6FA5F9EC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22461-7F12-4CEF-A7DA-7F817FF8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89311-0F7E-4B99-A8A5-574126FB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4C0A0-67A7-4090-8921-709C8BC9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C1B4A-DA60-49FF-9BA5-7116FC5A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4BF26-BAC7-4660-BB16-9A68EF52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335C3-3ED2-4E0D-A066-FE124CE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C3F39-9ACE-4B00-B91B-2AD25E8E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BC6-0D4B-4309-9B81-4C0F9AB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767A-1F61-4CA4-96CD-F30DF81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2EF5F-2BB2-4A7D-9D73-B49EDA9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3EB55-DF48-4FA0-8628-D47CC11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98C4D-5547-4929-BD9E-2ECE1BB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D1639-131D-4B5D-AE6D-6F73B562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E6CE8-0F45-403C-AA1A-27E459CC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DD4A3-49ED-4C49-93BF-ADF73743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48CF5-2A01-4B04-98DF-B76EC18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4439A-7141-4DCC-83DB-31ABA8BF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5B519-1F78-4A86-A485-CCAC9CC2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D9D6F-74F9-409F-BA2E-15C61C74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1F8D-4735-4732-AF55-C762A869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B725D1-5CAE-4678-A0D0-29C72426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02FA2-2ADF-46EE-A76A-E73EDD3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27593-180A-40C7-B1CC-8B851D2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F39D1-B127-463A-B339-9BB8BE31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94368-177E-4A08-8F28-67F84D5D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9CA4B-23DB-4900-A541-2B86120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B5F7D-D112-4CEA-8827-37F9ED35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12F51B-5DE7-4663-9659-55920015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EDFC7C-8C31-4D37-B924-8C80ADF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EF1ACD-A300-41E1-A524-FBF6FDD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5DCB-4A5A-4399-8A27-B4A4FF0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767D77-FBE6-4C66-852C-63B07A9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BF6F46-6B9A-4ECC-BB10-54484AEE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FB6039-D420-41BA-85CD-65550BBB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FDCE39-4EDA-4729-B9FF-D5C8C04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C558D4-9EB8-4CB8-A81C-D7E282F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CE69C2-C29B-41B0-A1A6-53145E8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7BCFDE-C84F-4547-95D5-0EDB24D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C5AAE0-0BF4-4A30-9F67-ECE16B18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DACB49-99CD-4189-8D40-3304A87A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AA66C-4B81-4EAD-9ADD-CE0189ED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99D9-0681-47AD-A0B3-F1FB5409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36F6D-B414-4960-A779-531196B8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B03F9-74A9-4985-BF5A-0396AE3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2EE8F-56FA-4058-8121-74B5A533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A6DEF-1A95-40EB-8161-BA0F792C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ACFF6-97D7-4422-9923-2756BF2D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44E31-F3B8-40BA-9BB4-1AD5780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E9AA3-6ECD-4BA6-AC58-EA616FE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F96FE-2C6B-4B59-8C86-3B8CE74E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821D8-2ED9-4BF8-B36A-0B5679BD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35234-6E3F-417F-99E2-2087E2FE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B689-54AE-49D1-8B06-4B6E861C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4C8FA-CDBA-4D24-AD5E-AFD94629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18AE62E-121D-4387-AA97-69AC1CB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4750AF-DD74-4A53-9D3F-0C0CDE4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9D8B1C-8E65-476E-838A-FA7DD7C8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BB7A2A-B77D-4E03-BAB9-11AA4DD2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E0A702-7DA3-4B96-BC6E-721D792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7D2CDA-A44F-4FB0-88D1-494505A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960A9F-1D67-4AD1-8C76-8EFDD2B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BD9495-21EC-465E-890E-BC0C28C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44FF021-9C27-407B-A93E-4F0E336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70BD-CC5E-4D3B-8561-BEE65248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60C026-253B-4056-B7D8-D08966C7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C99FD6-FA04-452C-B81C-90238FF1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8B111A-1E5C-44AE-8FD5-0A521B65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1CC81-0795-4F66-A69C-59C5DDFA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CE61D-C283-483D-894B-3AD14B06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F5F81-AFB7-4C83-8A22-1EF9729C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432D0B-0539-4CB2-9279-BC11B15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03866-40FD-4E53-AF26-D482E380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CE16A-E750-40DC-A2AB-0BA96216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FF38D2-48C7-465F-A213-72BEC3A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C5C0-BF7C-4AF2-95CF-72150D9E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43F5E-5392-4CD9-A971-C7ED677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32503-3C07-46B4-A4BA-E9C41AAA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44BC72-E1A3-40E4-852B-840E8F11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14C74-20D1-4D7B-8DB1-4BB8AD10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A3CEB-5742-42A4-B910-AC20F989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4F94-37C4-4183-9362-61E00FC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FCFD-9DBA-4EC5-A2D5-830D8BC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4DC4-F0F4-45E9-A649-6CB912A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EA6-9B73-445B-A5A2-6ED7BDA8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3F68-34D4-4681-8E76-19FA95BA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FE44-1FC7-4E5D-A3C1-EEC37A8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2714-1970-494C-BE8D-75A112C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9DB8-2AFA-4963-8C24-A400954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C296-D269-4D73-B147-505B8093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5DAF-42A0-4B65-86D1-80EF7107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2C1B-E5CD-4CF4-B4EE-08EF6DDB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8340-9E3E-43AB-A72F-4A8DB98B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220A-8584-4555-ABF5-8245E064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9728-1E8A-4297-A4E0-8A43E40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36A-B35C-4A45-9A19-6374765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4EBD-04A3-46D7-BF95-FB5C85D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AF41-A2E9-4FFC-AC86-BC7FF3FB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BA7A-187E-4C72-8532-D1368AF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D096-F326-43CF-995E-1C91C3C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6C0B-E3F0-4F0C-BBE6-D8BBE10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2002-CBB0-44F7-A89A-3F08F7A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FB0A-7F38-4473-942B-5FC9782F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DCB4-446E-4662-B373-8A48915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4F74D-3BD8-4504-8F48-B12FC3A2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F0B4D6-19C0-4884-832C-F0E7EE4D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D89-E591-48D5-A604-5533C77F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D0999-A02F-4DEA-92E0-558CA2F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BA4FF-6014-4740-812D-D3371D5B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C1983-77ED-4E06-B11C-E1615AE9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9EF39-5442-4CDE-8E1A-E0905CE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80FB73-E307-4BA3-B299-921E4FB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EC309-0731-4AE8-8641-A4005E4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9FEF1-25C8-407B-8638-80AA8F4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72295-3CA9-401B-84EE-73468D9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A4FE8-910E-4045-AB8F-3BB0C3B8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09824-9865-442E-9F59-A58651B0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4AB-3B9E-4AA1-93B6-96699B2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87C761-304D-49B8-9AA6-C41D602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212E-1328-4A0B-80BF-A199387C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5A2C-7DAE-474F-BCC2-A52B2FB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B4B5F-E0C9-47F8-BDED-A3F5B55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D1E5-30E0-4B65-9A09-5EF7A0E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9D87-99C9-4378-B39C-92498830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AA2F-5AB7-4777-B173-15D43C19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6EF7-ECE6-437C-9055-94F2756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25B8-B322-4FB9-B56C-169C029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EE73-ABA4-45C2-927E-2FEA29F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D2A-851E-47DE-85F8-6779783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9284-F357-4E13-AABC-323A2B69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251F-B923-45BC-98D3-DC87E7D9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2465B-6C5D-4DFB-B8B9-2E64CA3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B135-17A9-4345-9826-D3293F3E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6A249-555A-409E-9BB4-A73BEB2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1396-4640-4166-BE6B-433E507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A706-5B67-491C-9F06-479D6A9C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5D0C-B520-4C2A-9705-BDD772E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497D-6BA1-4AF5-9092-C7D440C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AFA28-75B7-48B4-AB41-3D4530B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0A9-AEEA-4F2A-888A-0EE4158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C4C9-4376-485D-A39B-A8702B4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0320-84F2-4AC2-9449-14AF7CC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A511-2CB9-41D0-912E-73E6171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CC0C9-4E13-4301-97CA-D268F7CE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BAB4-29A2-4D40-9474-45DD802C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DAC8-419E-4822-ACC0-2CD7BCE9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F5B84-D7AA-4CE5-92E9-235445BC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7337-CDC8-4CEC-B997-A89BE489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E2F3-8B52-48FA-995B-75526B33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6A8F-6046-4925-80E6-C0C1909C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8A4-40DE-429F-AEB8-3C99FA3D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A8E28-1F75-4A07-9B8B-0CD0263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CC751-8239-4195-B9EA-C338D3A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13CD9-42B1-443F-B7BD-79C24533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4DE5F-D584-4D82-B668-AAF73ADC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7DD63-296F-484A-A36A-D4D1BDA0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0CD9D-56CA-4750-8A0B-96790C2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15BD-3F2B-46D6-89F4-3162B7A1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8C9E4-6BA7-4680-963A-CACB3F6B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87C4A-8BEF-484B-8ED3-CABB38D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FCF67-82D3-40F2-B792-97CAEC7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592-88F9-4825-9C53-A7B50850E0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E7CA-B402-4068-A152-2D88BE6A1B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2723-7B9F-48CB-99D4-31E9C34F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F264-FB1F-4CF4-B0C6-3D9D5980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2E1-26DA-4A79-AAC3-813F786A18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3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E59-440A-491C-B28E-4C6C0DFCBE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D2D-6DEA-41EA-B7CF-B1B79E46D6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1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4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4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5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0EE-85FD-45BA-BCA8-1E92E56872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0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61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1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5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6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6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6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7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7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1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5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6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7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D48-5673-4B03-BE3F-67772612804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83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3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4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4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86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86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87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87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87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88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89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89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0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91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91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91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91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92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92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93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93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93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94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4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95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2224-92D6-4F56-89FC-2DA325E7DAC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0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E99E-9990-4D6F-8E86-F1FE295B81D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A04-4B12-408C-8DE3-1DC8F1FA80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7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660-8CC2-4F18-92C9-039550E831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dt" idx="6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sldNum" idx="6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2EE-25D5-4FF3-9228-9D2B1BF7E2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 type="ftr" idx="6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829-5007-42C7-85EA-57FF7A9BB3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B0A7-B3D9-4F4E-86BD-A439E442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13D-B581-48C9-A622-9B9F5794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89D0-E444-4999-998B-967D79B4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ED06-24BE-4404-84E3-50070E3A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EF36-9F6D-4224-AC14-DF4889C49C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8B1-BD62-47D6-93EB-F4BD8F1B85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5D5-4927-4F0E-AC9C-16764A4271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9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/>
          </p:nvPr>
        </p:nvSpPr>
        <p:spPr>
          <a:xfrm>
            <a:off x="4932000" y="1917720"/>
            <a:ext cx="3809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Изгой – чужак, лишенный каких-либо прав в ряду себе подобных, преследуемый или игнорируем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2" name="" descr=""/>
          <p:cNvPicPr/>
          <p:nvPr/>
        </p:nvPicPr>
        <p:blipFill>
          <a:blip r:embed="rId1"/>
          <a:stretch/>
        </p:blipFill>
        <p:spPr>
          <a:xfrm>
            <a:off x="609480" y="2271600"/>
            <a:ext cx="3956040" cy="281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Любим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c00d8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660066"/>
                </a:solidFill>
                <a:latin typeface="Book Antiqua"/>
              </a:rPr>
              <a:t>Дети не любят тех сверстников, которых выделяет учитель или воспитатель. Особенно если они не могут понять, чем "любимчик" лучше их. Взрослые, зная о нелегкой судьбе своего подопечного, жалеют его и берут под свое покровительство и защиту, обрекая на одиночество и оскорбления со стороны одноклассников, которым не известна причина такого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6" name="" descr=""/>
          <p:cNvPicPr/>
          <p:nvPr/>
        </p:nvPicPr>
        <p:blipFill>
          <a:blip r:embed="rId1"/>
          <a:stretch/>
        </p:blipFill>
        <p:spPr>
          <a:xfrm>
            <a:off x="4648320" y="2036880"/>
            <a:ext cx="4038480" cy="37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Прилип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0066"/>
                </a:solidFill>
                <a:latin typeface="Book Antiqua"/>
              </a:rPr>
              <a:t>Подобная назойливость является результатом чувства незащищенности ребенка. Такие дети буквально виснут на людях, захватывая их физически, чтобы почувствовать себя в большей безопасности. Естественно, что окружающие, особенно дети, начинают избегать их. А на новые попытки сблизиться таким образом отвечают агрессией. Ребенок же не умеет общаться иным способом и часто рад даже агрессивному вниманию со стороны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83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Шут или «козел отпущен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Ребенок, избравший подобную тактику поведения, как бы предупреждает нападки со стороны окружающих. Его перестают воспринимать всерьез и поэтому особо не обижают. А он, слыша смех одноклассников, не чувствует себя в изоляции. Самое опасное в выбранной тактике то, что изжить однажды сложившуюся репутацию "шута" практичес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38240" cy="381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66"/>
                </a:solidFill>
                <a:uFillTx/>
                <a:latin typeface="Arial"/>
              </a:rPr>
              <a:t>Озлобле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Book Antiqua"/>
              </a:rPr>
              <a:t>Некоторые дети, не сумев установить контакт с одноклассниками, начинают вести себя так, будто мстят окружающим за свои неудачи.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ипы отвергаемых де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660066"/>
                </a:solidFill>
                <a:uFillTx/>
                <a:latin typeface="Arial"/>
              </a:rPr>
              <a:t>Непопуля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Book Antiqua"/>
              </a:rPr>
              <a:t>Такой ребенок не умеет инициировать общение, он застенчив, не знает, как привлечь внимание одноклассников, поэтому его не замечают, с ним никто не играет. Нередко это бывает, когда ребенок пришел в уже сложившийся коллектив или часто пропускает школу. К такому ребенку никто не бросится радостно при встрече после каникул, никто не заметит, что его нет в классе. Это ранит не меньше, чем трав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дительская любовь, никак не проявляющаяся в теплых чувствах, может вызвать у ребенка устойчивое ощущения своей ненужности, сформировать у него чувство беспомощности и незащищенности, а следовательно и неуверенности в себе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Преодолеть это чувство помогает телесный контакт, личное общ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9" name="" descr=""/>
          <p:cNvPicPr/>
          <p:nvPr/>
        </p:nvPicPr>
        <p:blipFill>
          <a:blip r:embed="rId1"/>
          <a:stretch/>
        </p:blipFill>
        <p:spPr>
          <a:xfrm>
            <a:off x="6227640" y="1268280"/>
            <a:ext cx="2772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показала практика, у активно отвергаемых подростков обычно нет устойчивых дружеских отношений и вне школы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Однако если непопулярный в школе подросток имеет возможность общаться со сверстниками помимо школы – во дворе или кружках, где его принимают и ценят, - то отсутствие признания в школе его не травмир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2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3024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идчиков заводит именно то, что жертву задели их издевки, им нравится видеть реакцию.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Необходимо тренировать в подростке умение не обращать внимание на насме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1"/>
          <a:stretch/>
        </p:blipFill>
        <p:spPr>
          <a:xfrm>
            <a:off x="4648320" y="2249640"/>
            <a:ext cx="403848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 научить подростка защищать себя. Уверенно держаться с обидчиком, смотреть прямо в глаза, высоко подняв голову, отвечать ровным и спокойным голо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обходимо подсказать подростку как можно правильно и эффективно общать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Отреагировать «никак» т.е. проигнорировать, не обращать внимание. (Это сложно сделать, но в некоторых случаях эффектив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1"/>
          <a:stretch/>
        </p:blipFill>
        <p:spPr>
          <a:xfrm>
            <a:off x="5105520" y="2421000"/>
            <a:ext cx="40384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Book Antiqua"/>
              </a:rPr>
              <a:t>Остракизм – процедура изгн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любом детском коллективе неизбежно есть популярные дети и дети-изгои . В стремлении добиться лидерской позиций, оказаться в центре внимания, но при этом не умея добиваться желаемого, выбирают неадекватные формы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5" name="" descr=""/>
          <p:cNvPicPr/>
          <p:nvPr/>
        </p:nvPicPr>
        <p:blipFill>
          <a:blip r:embed="rId2"/>
          <a:stretch/>
        </p:blipFill>
        <p:spPr>
          <a:xfrm>
            <a:off x="5195880" y="1919160"/>
            <a:ext cx="336060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Tahoma"/>
              </a:rPr>
              <a:t>Отреагировать нестандартно. Необычное поведение жертвы способно пресечь агрессию. Например можно согласиться с прозвищем или вместе посмеяться, можно предложить собственный вариант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ahoma"/>
              </a:rPr>
              <a:t>Можно просто объясниться: « Мне очень обидно это слышать, знаешь что-то мне не хочется с тобой дружить!» Подобная реакция может впечатлить агрессора и привести его в чув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828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Tahoma"/>
              </a:rPr>
              <a:t>Не позволять собой манипулировать. Очень часто дети стремятся с помощью обзывательств заставить сверстника что-то сделать. Например, всем известен прием "брать на слабо". Здесь очень сложно помочь ребенку выйти из нее с достоинством, потому что противостоять мнению большинства, тем более тех, с кем тебе предстоит общаться и впредь, нелегко и взрослому человек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помочь своему ребенку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Ответить. Иногда полезно ответить обидчику тем же, не быть пассивной жертвой, а стать с обидчиком на равны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Отговориться. очень важно суметь в ответ на обзывание выкрикнуть отговорку - своеобразную защиту от словесного нападения. Знание подобных отговорок помогает не оставить оскорбление без ответа, пресечь конфликт, сохранить спокойствие (хотя бы внешне), удивить и соответственно остановить нападающ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32702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азвитие навыков общ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749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оворят, истинная цель воспитания ребенка не в том, чтобы тот стал популярным, а в том, чтобы помочь ему развить умение общаться, чувство уверенности в себе, так необходимое для достижения успеха всегда и везде при любых обстоятельствах. А для этого нужно уметь дружить, комфортно чувствовать себя в коллекти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3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980080" cy="22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ступать в общение и поддерживать его. Обращаться к другим детям, задавать вопросы, поддерживать разговор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4648320" y="2644920"/>
            <a:ext cx="380988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рганизовывать совместное времяпровождение: вместе играть, проявлять юмор, выступать с инициативой и поддерживать чужую инициатив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9492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 Blac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правлять выражением своих чувств: не подавлять их, но подбирать хорошие способы для выражения себя. Конструктивно выражать агрессию, реагируя сообразно ситуац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мечать и уважать свои и чужие границы: телесные, психологические (например уметь отказывать и принимать отказ), границы собств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5 вещей, которые должен уметь подросток чтобы успешно адаптироваться в коллектив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6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33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щущать и поддерживать эмоциональный контакт с другими людьми, быть эмоционально включенным в общение, выражать свои чувства и разделять чувства други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06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93364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то такие подростки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несовершеннолетний мальчик или девочка в возрасте от 12 до 16/17 лет, находящийся на этапе развития личности, характеризующейся коренной психофизиологической перестройкой организма, формированием новых адаптационных мех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3419640" cy="341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85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ледств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е страшное, что регулярные издевательства способны спровоцировать попытку самоубийства или покушение на кого-то из преследователей. Травля наносит непоправимый ущерб не только психике жертвы. Не менее вредна ситуация травли для преследователей и наблюдателей. Они рискуют так и остаться безвольными пешками в руках более сильных и предприимчивых. А решение, принятое под влиянием большинства, вопреки голосу совести, и постоянный страх оказаться на месте жертвы способствуют снижению самооценки, потере уважения к себе. Зачинщиков же развращает безнаказанность, они усваивают, что подобными методами можно управлять окружающи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9" name="" descr=""/>
          <p:cNvPicPr/>
          <p:nvPr/>
        </p:nvPicPr>
        <p:blipFill>
          <a:blip r:embed="rId1"/>
          <a:stretch/>
        </p:blipFill>
        <p:spPr>
          <a:xfrm>
            <a:off x="5435640" y="1793880"/>
            <a:ext cx="34574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Знаете ли вы, насколько хорошо относятся к вашему ребенку окружающие? Родителям порой нелегко определить, насколько их ребенок популярен среди сверстников. Маленьким детям недостает перспективы мышления, чтобы понять абстрактную идею популярности, а дети постарше и подростки нередко просто не хотят делиться этими сведениями с родителями. Однако в целом можно утверждать, что чем больше времени ребенок проводит со сверстниками и чем разнообразнее их времяпрепровождение, тем он популярнее. Ответьте на приведенные ниже вопросы (они касаются детей 6 лет и старше). Чем больше раз вы ответите "ДА", тем популярнее ваш ребенок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ежедневно разговаривает по телефону с другими деть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каждые выходные общается со сверстникам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рассказывает о своем "лучшем друге"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состоит в спортивной команде или участвует в каких-то спортивных мероприятиях по меньшей мере раз в недел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состоит в каком-либо внешкольном кружке, не связанном со спортом (в отряде юных бойскаутов, клубе по интересам и т. д.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его ребенка регулярно приглашают в гости на вечеринки к другим детям и на другие социальные мероприятия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Мой ребенок переписывается с другими детьми по обычной или электронной почт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ест «Насколько популярен мой ребенок?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часто ходит в гости к другим детям на длительное время (4 часа и дольше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время от времени ночует в гостях у кого-то из друзей или кто-то из его друзей ночует у нас дом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Мой ребенок (вопрос для детей 8 лет и старше) вместе с другими детьми участвует во внеклассных образовательных занятиях, например, в научных проектах, групповых исследованиях или в совместном приготовлении уроков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60202"/>
                </a:solidFill>
                <a:uFillTx/>
                <a:latin typeface="Tahoma"/>
              </a:rPr>
              <a:t>Не такой как все…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ebf9f9"/>
                </a:solidFill>
                <a:latin typeface="Tahoma"/>
              </a:rPr>
              <a:t>Чаще всего становятся жертвами издевательств подростки с явными проблемами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9152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с необычной внешностью (заметные шрамы, хромота, косоглазие и т.д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страдающий энурезом или энкопорезом (недержанием мочи и кал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e7e7"/>
                </a:solidFill>
                <a:latin typeface="Tahoma"/>
              </a:rPr>
              <a:t>тихий и слабый, не умеющий за себя постоя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0202"/>
                </a:solidFill>
                <a:uFillTx/>
                <a:latin typeface="Tahoma"/>
              </a:rPr>
              <a:t>Не такой как все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опрятно одет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часто пропускающий за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успешный в учеб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слишком опекаемый родител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7e7"/>
                </a:solidFill>
                <a:latin typeface="Tahoma"/>
              </a:rPr>
              <a:t>не умеющий общать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3" name="" descr=""/>
          <p:cNvPicPr/>
          <p:nvPr/>
        </p:nvPicPr>
        <p:blipFill>
          <a:blip r:embed="rId2"/>
          <a:stretch/>
        </p:blipFill>
        <p:spPr>
          <a:xfrm>
            <a:off x="4648320" y="2243160"/>
            <a:ext cx="40384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ин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691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чительные культурные, социальные и национальные разли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ная самооц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чно развитые социальные навы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бенок воспроизводит модель поведения жерт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6" name="" descr=""/>
          <p:cNvPicPr/>
          <p:nvPr/>
        </p:nvPicPr>
        <p:blipFill>
          <a:blip r:embed="rId2"/>
          <a:stretch/>
        </p:blipFill>
        <p:spPr>
          <a:xfrm>
            <a:off x="5195880" y="2011320"/>
            <a:ext cx="349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чин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основе травли, чаще всего, лежит стремление самоутвердиться, выделиться. Реже травля – это результат личной мести. Это могут быть подростки, как не уверенные в себя, так и самоуверенны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9" name="" descr=""/>
          <p:cNvPicPr/>
          <p:nvPr/>
        </p:nvPicPr>
        <p:blipFill>
          <a:blip r:embed="rId1"/>
          <a:stretch/>
        </p:blipFill>
        <p:spPr>
          <a:xfrm>
            <a:off x="5143680" y="2722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ктивные, общительные подростки, претендующие на роль лиде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Агрессивные подростки, нашедшие для самоутверждения безответную жертв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ростки, стремящиеся любой ценой быть в центре внима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ростки, привыкшие относиться к окружающим с чувством превосходст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гоцентрики - подростки, не умеющие ставить себя на место други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аксималисты - подростки не желающие идти на компромисс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отвер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79280" y="232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АВЛЯ ( не дают проходу, обзывают, бьют, преследуя какую-то це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вное неприятие (возникает в ответ на инициативу, исходящую от жертвы, дают понять, что он никто, что его мнение ничего не значит, делают его козлом отпущ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ссивное непринятие возникающее только в определенных ситуациях (принять в игру, сесть за парту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норирование (просто не обращают внимание, не общаются, не замечают, забывают, ничего против не имеют, но и не интересу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3" name="" descr=""/>
          <p:cNvPicPr/>
          <p:nvPr/>
        </p:nvPicPr>
        <p:blipFill>
          <a:blip r:embed="rId1"/>
          <a:stretch/>
        </p:blipFill>
        <p:spPr>
          <a:xfrm>
            <a:off x="6227640" y="189000"/>
            <a:ext cx="26751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9:33:14Z</dcterms:created>
  <dc:creator>Tendenza</dc:creator>
  <dc:description/>
  <dc:language>en-US</dc:language>
  <cp:lastModifiedBy>адм</cp:lastModifiedBy>
  <dcterms:modified xsi:type="dcterms:W3CDTF">2010-07-29T09:04:10Z</dcterms:modified>
  <cp:revision>83</cp:revision>
  <dc:subject/>
  <dc:title>Изгои - подростки</dc:title>
</cp:coreProperties>
</file>