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C4F-6CB0-442A-B9BB-016C088B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277-05AE-4374-8B5C-7D54FA9C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D237D-3794-4A4F-96F8-7DFCB9C2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1F408-0AC6-4081-92EF-AEEC5B57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F0324-324C-4E4A-B259-FE9A7892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D279A-7FC6-427E-833A-889FA520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B6743-E57D-4CA9-9959-0A9E5FA8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8E19C-6622-48A1-B7F2-68D8A1A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8B0B8-92D5-46DA-BE99-53FD6E0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B229E-0BD1-427E-9518-C3E98694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4DF7A-0700-4377-980A-A0764FCB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3CB4F-5B69-4E16-A4DE-5EA62FB7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6E1-34BA-4BE0-BD89-DA01E898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8DBEA-2743-49AF-8892-C60B2CA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A0CEF-DE81-47C2-AA02-680A94E0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D26A4-43F0-4319-AA7D-BED4C788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C1816-C84D-4484-9131-12829DD7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2E60B-2FF3-49E0-9ECB-33F056CE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D26B8-BA86-45EA-814C-62E9C74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2790B-971D-43F3-B651-570EC73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82BDB-1ED6-40C9-AEB6-89597D52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C5AC2-70CB-4C9A-AF31-1459195E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A7ACD-2BD7-4322-B04D-FE738CA8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A7B-0D53-4ADB-9B36-DCF1981D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B3A3E-DB3A-4419-A1CD-AE06535B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F26BD-E435-48D3-983D-ED73D0C9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4D8D1-CC50-4FE7-9A55-F52B9FF9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861E3-22F0-4C27-9A90-F9BAAF25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A2A3F-D9CC-47D0-97EB-9C9AD32E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E33BC-0B57-4741-B290-3D23E9BA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EFCE2-3C12-4406-BCA5-7BD369F1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FA94E-F09E-482F-B3DC-926BD79F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DECC0-34A0-4742-A2BC-09E24BFD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AD53E-9CD8-4597-B785-25A5CA5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58F0-9BDA-48E9-8E29-B6D3331B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CFD7A-C051-48F2-A46E-1BFCEE0F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0D086-29B6-4E63-BE55-8FB98655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54B64-143B-4FBD-BCA5-1C870BE9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2D563-25A3-4DFA-8BEE-EC272E69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984A2-8E49-47DC-8135-DAB76F89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35FEC-6722-437B-A275-422BEF8C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BFAD8-EF28-4553-B3F1-3D562CA3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92AC5-8403-4B75-8EE4-28DB3153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69358-BC0F-4E00-A970-8CED83DA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F5E64-3322-41E4-9976-A75D63A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1416-194A-4038-AF6A-8D9123F3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A93AF-952B-4805-81C0-C31BFD7E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E421D-3E46-472A-8503-6C166A7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3AE09-5E75-4DD9-BE20-8A2C2E6B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BC5F4-C418-420F-8C52-7EA7572B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72A6E-ECCC-49F1-957B-BAE55A31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4427A-285B-46C6-8C1C-5E9F5552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9A188-7D0E-469B-B276-1A18D4DD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AC9CC-ACF6-4636-8216-B3E0CB9D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34CD1-0C88-4957-A287-DCBA4B70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66BDA-8D11-4AEE-B34A-EBA831F1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BCE9-6211-45E9-AD9C-A1D18955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42CFE-00C5-4D1B-BA6C-347F5D5B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91784-B7BC-4E68-82F1-A3402DA5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21043-7426-45C4-B679-4380A052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1267F-9E9F-4393-B7E7-7DDB381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8A569-42E7-4B63-B9E1-62ECA8F4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A8CAE-E0FC-4F35-B5E0-7C519EF0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2AE0D-98CE-4831-9F03-D9923692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78157-3699-465A-9BC2-1FBEC276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8F83A-37F5-473C-B6F3-55943905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D6B8C-C260-471A-A9E1-AAAD782E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A491-1F87-4370-B0D6-30717CE9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B21BF-D925-4157-866E-648EA2F0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9B507-29DF-479A-B9AC-CAD2B8CD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69962-E9B4-4475-8936-619B2DF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910A0-44D9-4B37-A22C-FDC7654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D8F54-5722-4F56-83B9-FCB4F4A5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B6646-37E7-497D-B11E-B733417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EFFC2-48CE-4D56-A251-61A52CBD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36BC2-04A0-41CA-A400-0B51F002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094DB-C7E4-48A7-8329-FD8F63C1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C0D4D-7EB3-40C4-AD8B-2D649D55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CEB2-8ED6-4D44-8858-57D57583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F5704-769B-4647-876D-3DAD7770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D001E-B92F-4380-8FD2-9880690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A0684-6CB3-4486-B2EA-6C3B4CF5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8A952-8FF3-44D0-8C7B-132E4FEE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9BDB1-AB18-4D71-8E2E-980FE562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B3F6B-7EC4-4F8B-92CC-2C3DD1B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32628-19BC-4BD6-A9DB-90374DBE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2DBDE-D681-497F-90F2-6395C782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D4FB0-A5CC-40F5-8799-CDB56609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F8E79-3FD8-4A34-BC96-817E3A3D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8E83-68EF-49FF-9521-04F15AD0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ED0CD-C301-462E-9A21-6050C7D8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C2152-2114-4190-9389-094F5718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4E9C7-2EA5-442F-BC18-B8EB336E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89A28-ABC4-4B59-AA90-3A33FAA1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0E513-BB71-498A-846D-8731D2BE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C7C9C-CF8E-4400-A596-4EA4CB26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B3A4A-E1C0-4DDE-AD58-0E21E32B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34394-CD85-48EE-87F7-A53794A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73BFB-5DA1-41FE-81DA-35D83F2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1EE451-59B1-448F-8CC5-2F5D2D0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8EC3-3725-4CE3-9591-0216C5B3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4C380-073A-43EC-AF67-03113177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4B67E-16FC-4A07-BD48-81566365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28871-2BE4-4117-A269-5DB4976B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D0538-3157-46AE-B75D-94DB0803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A07B8-E572-4E42-933F-67186940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E5741-8B20-41E9-ACD9-FD1489DF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A39EC-F54A-43A1-86BE-3292638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77224-75D0-4EB2-B29F-C69379E4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D1D47-C9F4-40A1-86F6-27E68151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0143D-F6DF-4D6F-86E1-B0491540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818-8B3C-4CD1-A116-DA1939DB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4FD2-F52F-4C9A-8E44-E7F80ADB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30ACF-F6DB-4827-BA61-C18B79C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CD243-3143-49B1-B990-BA28883E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447E1-04DE-43FF-8630-A028E310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2C736-EBA2-44CE-8E2A-8FA2FBFC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9E83C-C493-4035-83D9-7B0AAE16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DB06F-DD5D-45B2-9887-1574FBDC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86412-0C25-4C04-8015-726E0748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BAD217-CD37-414B-BFEC-C35625D6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A6F99-BCDD-4614-A31D-6222382C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DE270E-D75F-471C-87BB-2D784453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C005-F72F-4B98-BB5B-1F531B97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E6E6E-6A74-4F53-A256-4BD1D2A9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46C50-FBAB-4600-8523-072E9F2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5239D-C7FE-4DDD-A39B-F90E3EE1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F9F3A-0C5F-44EC-85E1-6F0C39D4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B82D0-6FF8-48B4-B958-0C2AB04B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42FC2-9ED5-4EC5-9C38-2D73C25A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A25D0-C3D5-4BCD-BCFF-2182093F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D1FB3EA-F21B-4E77-95FE-1E37EB69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A9561D-6493-476F-B349-ED6F52B9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45C2E3-B55A-4D31-887C-886E7B61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C023-8F40-4DD3-A6AA-595548F0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160297-99AA-4EEC-9AA0-A9C03FEC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7A4FF6-2FD1-4B1D-A37A-D6BB33E2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E295E9-D573-4074-9E88-6238B9B4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CE5E44-2769-482C-BCC7-AB82C5E7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A2B4EA-3B29-4FA3-B19B-F8B642A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40347AF-E255-4CC0-9AB0-0315705B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E039E3-646C-450A-8F77-FA4338F5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C193A4-6B87-4175-A1D0-18E899BB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52B3A5-52E2-4970-9484-C1B170B8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1289CE-8034-4FC1-B9FC-68ABEE94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C97E-8B9B-4AFC-9391-DD43E884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624FAF-170C-4EAE-9F9D-37057C3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05919-5D01-4CE2-AD1C-8ED82C6C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9B22F4-950A-4BFB-B82A-D095981A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BD7FE-F2E6-4666-A3A7-3340297A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35FE8-EF8B-4961-B6A1-9CDFE14C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CAE0F-02EC-42C1-A96A-36B03694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53895-B62E-45AD-BE66-9CCA6814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8B4D3C-72AD-462C-82B1-6F0C0E3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A493D-DC85-4DB6-87EE-E004B7DC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47C30-5FE6-4C0A-AF30-CC829B7D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80E2-4F41-4579-A9AC-3F81FC1F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E39E3B-2898-465E-81C9-F9F20997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E507D0-4B9C-4EF9-AB07-347DA518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7FFB11-6B4C-4A31-979A-26D94906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49535F-0AB7-41F0-ADEA-BEECB4AF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803027-AB2A-4EE2-8A5D-F2DBD568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41823C7-C5E8-4FBB-A222-310810B4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82E725B-46A1-4B65-80EA-1C91CF2E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84DB6D-C7F4-4F24-B96E-80CEB40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73CA42-9A09-4315-BD23-77349109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05B5881-FC08-4D0E-A042-CBA3A96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DC5E-0931-4BDF-BF3B-5AE64E91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5C7BA9-0658-48D6-B2A9-CDA81D1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71F656-13BB-407B-9C50-74937610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D634A5-C68F-43E2-831D-3139C8DA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638BE-22AD-4124-BEAB-584155D3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328FA7-5AA1-4C4A-87EE-B095E637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40631-AD8E-48B3-8EC6-2444FFEB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990C0F-0A43-4183-90F3-70FE353F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E60F57-B658-4FB5-A4EF-DC275701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2AA2F2-9545-41FC-AFDB-9804DDA1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5919C7-301D-4AD0-B862-5BEF08A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21FF-CC9F-407D-B2B6-3FF5B4A8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085E61-52BB-4F7D-95F5-6EC282AE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140E40-9635-4DD3-98A4-AD20BACC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E5EF1E-AE55-4AF2-96A5-3CE95266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68A48-8E60-4F8D-97C3-34227D8F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82EA90-3AC7-40B0-A05F-BB7F8E7A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55CC-23A7-45F0-B359-C446F407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0156-D929-4C53-BBBF-8B7885AD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275D-DCC8-42F8-9001-BBBC9CAB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FD2-764A-404B-859A-8ADDF2FA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C087-D9C3-43ED-BDCB-3D0A4195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4468-D236-4B61-A889-19EEC57B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4FE7-8216-4892-917A-405D91A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6844C-6A76-40A8-B935-0FAEFCCD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25BB-F779-467C-B4D1-3BEEFADC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4863-0A16-4FA1-9253-9B6387AA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D04F4-19E6-4804-AE89-B69F8887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7BF02-A60D-42C2-97BF-E188FBE4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ED37-10AA-4C56-A1B7-CEB09CA7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8506-38AD-42C8-9C9A-8DFD50E5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2F0-F9AA-42C5-975C-5AA6F4AD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7691-B85E-464D-9B43-F1974D27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A984-7B2D-49E5-82DC-C96A1B3C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75B8-AA59-4CCE-A0A4-F4346F3E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8149-5FF1-41D8-A313-13A8D8CE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D9EE-8B22-4E2B-91DB-C093AAA5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0E18-72B2-4C2A-9530-7E2EC52F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9EA46-1220-4E08-AC0F-A8401752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264AE-D9B5-4E48-9194-1A8D6660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C5F4-B069-472B-8A72-41451FF9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33359F-728B-4AD6-83DD-78E41059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2B4-9140-40D3-8E8D-995B7E74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C2DDCA-2734-4FBB-947A-8B9297E4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93FFB4-332C-49DA-B19F-961DD017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F2EDC6-92EA-438E-9E62-7537CBB3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63029D-C6AC-4082-8A93-B6E50223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6C7D2B-0015-4FD5-9CD2-B1D636E2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7866F9-C136-4957-9624-71DE11D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87E9DF-BCA0-448C-9997-58B3A61F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DDC56F-0500-44D9-934B-31CCD060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495011-F480-4060-A97E-9619DC43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DD38B-045A-43B0-947E-DDA3ABD4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677-4E68-4F77-B795-6FC2DA4F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D00E4D-6699-4125-898B-18ADDD32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36413-4792-4017-A890-4412489E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1C17-4230-4FD7-8046-BD86F93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E7B3-2EF6-471A-B038-7ED21775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34503-9541-4615-A507-1265982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14D08-BF7C-466E-AA48-4BAB601C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386DF-FE7C-46CE-9011-19A06664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9CCA-7D6E-4278-ABD4-4D4AA27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C40F-CDCD-4B13-A712-B67D8FC9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C4C6-B807-43CC-99ED-7A2F1771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6E3-DD33-49A9-85C7-7D43FE4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9D526-6150-48BE-A896-54D8B340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457D8-393D-4C7E-AF25-0267CF60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7A0E2-7DBE-4CDD-AD65-112A7A0F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C062B-5ECC-44C3-A74F-5496E632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D061E-79DE-4ACA-8699-207C7945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C66D0-AA24-49B6-83DE-ED53BA1B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5F795-C8FC-49F1-9034-CD7C8AD0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A41D9-9BDF-4FAC-AF23-DC6DD19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27AC7-4BC4-45F6-9C68-0427753A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559C2-E478-410C-AAF9-6E340A66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1AA-6FB5-481A-BFCD-84633EE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0921F-6078-4B11-BB0D-10B3C31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59C6-94C7-47FB-AAF5-561A24E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88FC5-0E8F-47D5-8697-30B1EA20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D1A82-6AC4-48AD-B943-441A3512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C4998-C033-4D18-9D8A-A354620B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3536-F4AB-4BA2-A153-7B21760D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1B0B6-3382-4C6C-9A16-82865BA7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4905B-8759-4D19-8575-CB579AA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867E-6B3C-4D35-BCAB-2B68CFCA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5D3CE-B39A-410D-876E-8850A798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896-2A74-4171-81CF-B81C113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37AE6-E80A-437B-A3AB-EBDCACC1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3552A-8F42-40B9-825A-322601B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A7DEA-9A78-41EF-ADDE-DB3BFE97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1191F-86CC-4FEA-90A4-10CA649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08258-7E5D-4078-9AEC-6B403D80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E3034-4B9C-4F59-9708-9BB0C5CC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5C239-33B6-4F51-8FA0-966195A3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346C8-AF65-49EE-B828-F87003C5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9B7AF-E9CF-463C-B251-F6A4F88E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76DD9-488A-43E5-8B5D-FB033FCD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FF98-789F-4A06-93B0-304A4628B2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6B10-28E9-4886-B83D-D799032E89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0272-7A84-4BD9-887E-ED82CE7EE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B6DB-CEA0-40CA-971A-77FB48606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5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BB62-6CF3-495C-8495-848580159F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3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8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D17E-B63C-4019-A43D-1BF9F6618A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F6CF-E5F6-45CE-B8F9-CA62C768A2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1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4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4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4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DE71-936D-4CBE-8CA6-3D98C3550E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60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60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61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61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5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6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6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6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66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7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7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7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8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8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9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9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0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1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1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1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2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2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2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3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4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4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5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76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76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7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EE7C-8120-4FBF-83ED-9B714A5D329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83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83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3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4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4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4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4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84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85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85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86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86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86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86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87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87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87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88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88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89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89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89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89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90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90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0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91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91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91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91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92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92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92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93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93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93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94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4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94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94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95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D4F7-D61F-4DD6-ACC6-460AB2F3A52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0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4287-E726-4376-B808-F38FC1CA55F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6147-3885-453D-A764-01535BED08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7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009F-BAB7-49DC-B2C0-C0F6CC0C15E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dt" idx="6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0FC3-F1CC-4A1A-8F0D-B02CE57C9A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 type="ftr" idx="6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8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8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5555-BF55-4E39-BC1D-DA3512FF44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E10-8061-4BD1-8DF1-314C7D9CB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91F1-5B9D-44ED-8828-9658F116B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6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B032-BE78-4032-BA61-60D40F0AE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2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D649-ACC3-4866-A88D-4E153EC4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E605-57EF-43F3-B2E4-D450628D7F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55E9-9F65-41A5-9E60-95E92C3981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6794-C56D-4B54-8EA6-A481647CB1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9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/>
          </p:nvPr>
        </p:nvSpPr>
        <p:spPr>
          <a:xfrm>
            <a:off x="4932000" y="1917720"/>
            <a:ext cx="3809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Изгой – чужак, лишенный каких-либо прав в ряду себе подобных, преследуемый или игнорируем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2" name="" descr=""/>
          <p:cNvPicPr/>
          <p:nvPr/>
        </p:nvPicPr>
        <p:blipFill>
          <a:blip r:embed="rId1"/>
          <a:stretch/>
        </p:blipFill>
        <p:spPr>
          <a:xfrm>
            <a:off x="609480" y="2271600"/>
            <a:ext cx="3956040" cy="281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Arial"/>
              </a:rPr>
              <a:t>Любим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c00d8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66"/>
                </a:solidFill>
                <a:latin typeface="Book Antiqua"/>
              </a:rPr>
              <a:t>Дети не любят тех сверстников, которых выделяет учитель или воспитатель. Особенно если они не могут понять, чем "любимчик" лучше их. Взрослые, зная о нелегкой судьбе своего подопечного, жалеют его и берут под свое покровительство и защиту, обрекая на одиночество и оскорбления со стороны одноклассников, которым не известна причина такого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6" name="" descr=""/>
          <p:cNvPicPr/>
          <p:nvPr/>
        </p:nvPicPr>
        <p:blipFill>
          <a:blip r:embed="rId1"/>
          <a:stretch/>
        </p:blipFill>
        <p:spPr>
          <a:xfrm>
            <a:off x="4648320" y="2036880"/>
            <a:ext cx="4038480" cy="377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Прилип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0066"/>
                </a:solidFill>
                <a:latin typeface="Book Antiqua"/>
              </a:rPr>
              <a:t>Подобная назойливость является результатом чувства незащищенности ребенка. Такие дети буквально виснут на людях, захватывая их физически, чтобы почувствовать себя в большей безопасности. Естественно, что окружающие, особенно дети, начинают избегать их. А на новые попытки сблизиться таким образом отвечают агрессией. Ребенок же не умеет общаться иным способом и часто рад даже агрессивному вниманию со стороны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83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Arial"/>
              </a:rPr>
              <a:t>Шут или «козел отпущени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60066"/>
                </a:solidFill>
                <a:latin typeface="Book Antiqua"/>
              </a:rPr>
              <a:t>Ребенок, избравший подобную тактику поведения, как бы предупреждает нападки со стороны окружающих. Его перестают воспринимать всерьез и поэтому особо не обижают. А он, слыша смех одноклассников, не чувствует себя в изоляции. Самое опасное в выбранной тактике то, что изжить однажды сложившуюся репутацию "шута" практичес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1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838240" cy="3810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Озлобле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Book Antiqua"/>
              </a:rPr>
              <a:t>Некоторые дети, не сумев установить контакт с одноклассниками, начинают вести себя так, будто мстят окружающим за свои неудачи.</a:t>
            </a:r>
            <a:r>
              <a:rPr b="0" lang="en-US" sz="2000" spc="-1" strike="noStrike">
                <a:solidFill>
                  <a:srgbClr val="660066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Arial"/>
              </a:rPr>
              <a:t>Непопуляр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Book Antiqua"/>
              </a:rPr>
              <a:t>Такой ребенок не умеет инициировать общение, он застенчив, не знает, как привлечь внимание одноклассников, поэтому его не замечают, с ним никто не играет. Нередко это бывает, когда ребенок пришел в уже сложившийся коллектив или часто пропускает школу. К такому ребенку никто не бросится радостно при встрече после каникул, никто не заметит, что его нет в классе. Это ранит не меньше, чем трав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6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дительская любовь, никак не проявляющаяся в теплых чувствах, может вызвать у ребенка устойчивое ощущения своей ненужности, сформировать у него чувство беспомощности и незащищенности, а следовательно и неуверенности в себе.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Преодолеть это чувство помогает телесный контакт, личное общ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9" name="" descr=""/>
          <p:cNvPicPr/>
          <p:nvPr/>
        </p:nvPicPr>
        <p:blipFill>
          <a:blip r:embed="rId1"/>
          <a:stretch/>
        </p:blipFill>
        <p:spPr>
          <a:xfrm>
            <a:off x="6227640" y="1268280"/>
            <a:ext cx="2772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показала практика, у активно отвергаемых подростков обычно нет устойчивых дружеских отношений и вне школы.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Однако если непопулярный в школе подросток имеет возможность общаться со сверстниками помимо школы – во дворе или кружках, где его принимают и ценят, - то отсутствие признания в школе его не травмир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2" name="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3024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идчиков заводит именно то, что жертву задели их издевки, им нравится видеть реакцию.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Необходимо тренировать в подростке умение не обращать внимание на насмеш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1"/>
          <a:stretch/>
        </p:blipFill>
        <p:spPr>
          <a:xfrm>
            <a:off x="4648320" y="2249640"/>
            <a:ext cx="403848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о научить подростка защищать себя. Уверенно держаться с обидчиком, смотреть прямо в глаза, высоко подняв голову, отвечать ровным и спокойным голос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обходимо подсказать подростку как можно правильно и эффективно общатьс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ahoma"/>
              </a:rPr>
              <a:t>Отреагировать «никак» т.е. проигнорировать, не обращать внимание. (Это сложно сделать, но в некоторых случаях эффекти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1"/>
          <a:stretch/>
        </p:blipFill>
        <p:spPr>
          <a:xfrm>
            <a:off x="5105520" y="2421000"/>
            <a:ext cx="4038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Book Antiqua"/>
              </a:rPr>
              <a:t>Остракизм – процедура изгнан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любом детском коллективе неизбежно есть популярные дети и дети-изгои . В стремлении добиться лидерской позиций, оказаться в центре внимания, но при этом не умея добиваться желаемого, выбирают неадекватные формы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5" name="" descr=""/>
          <p:cNvPicPr/>
          <p:nvPr/>
        </p:nvPicPr>
        <p:blipFill>
          <a:blip r:embed="rId2"/>
          <a:stretch/>
        </p:blipFill>
        <p:spPr>
          <a:xfrm>
            <a:off x="5195880" y="1919160"/>
            <a:ext cx="336060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ahoma"/>
              </a:rPr>
              <a:t>Отреагировать нестандартно. Необычное поведение жертвы способно пресечь агрессию. Например можно согласиться с прозвищем или вместе посмеяться, можно предложить собственный вариант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ahoma"/>
              </a:rPr>
              <a:t>Можно просто объясниться: « Мне очень обидно это слышать, знаешь что-то мне не хочется с тобой дружить!» Подобная реакция может впечатлить агрессора и привести его в чув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5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828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ahoma"/>
              </a:rPr>
              <a:t>Не позволять собой манипулировать. Очень часто дети стремятся с помощью обзывательств заставить сверстника что-то сделать. Например, всем известен прием "брать на слабо". Здесь очень сложно помочь ребенку выйти из нее с достоинством, потому что противостоять мнению большинства, тем более тех, с кем тебе предстоит общаться и впредь, нелегко и взрослому человеку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ahoma"/>
              </a:rPr>
              <a:t>Ответить. Иногда полезно ответить обидчику тем же, не быть пассивной жертвой, а стать с обидчиком на равны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ahoma"/>
              </a:rPr>
              <a:t>Отговориться. очень важно суметь в ответ на обзывание выкрикнуть отговорку - своеобразную защиту от словесного нападения. Знание подобных отговорок помогает не оставить оскорбление без ответа, пресечь конфликт, сохранить спокойствие (хотя бы внешне), удивить и соответственно остановить нападающ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0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32702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звитие навыков общ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749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оворят, истинная цель воспитания ребенка не в том, чтобы тот стал популярным, а в том, чтобы помочь ему развить умение общаться, чувство уверенности в себе, так необходимое для достижения успеха всегда и везде при любых обстоятельствах. А для этого нужно уметь дружить, комфортно чувствовать себя в коллектив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3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98008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ступать в общение и поддерживать его. Обращаться к другим детям, задавать вопросы, поддерживать разговор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6" name="" descr=""/>
          <p:cNvPicPr/>
          <p:nvPr/>
        </p:nvPicPr>
        <p:blipFill>
          <a:blip r:embed="rId1"/>
          <a:stretch/>
        </p:blipFill>
        <p:spPr>
          <a:xfrm>
            <a:off x="4648320" y="2644920"/>
            <a:ext cx="380988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рганизовывать совместное времяпровождение: вместе играть, проявлять юмор, выступать с инициативой и поддерживать чужую инициатив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9492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 Blac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правлять выражением своих чувств: не подавлять их, но подбирать хорошие способы для выражения себя. Конструктивно выражать агрессию, реагируя сообразно ситуац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01" name="" descr=""/>
          <p:cNvPicPr/>
          <p:nvPr/>
        </p:nvPicPr>
        <p:blipFill>
          <a:blip r:embed="rId1"/>
          <a:stretch/>
        </p:blipFill>
        <p:spPr>
          <a:xfrm>
            <a:off x="4648320" y="2793960"/>
            <a:ext cx="380988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мечать и уважать свои и чужие границы: телесные, психологические (например уметь отказывать и принимать отказ), границы собств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67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33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щущать и поддерживать эмоциональный контакт с другими людьми, быть эмоционально включенным в общение, выражать свои чувства и разделять чувства других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06" name="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93364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Кто такие подростки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несовершеннолетний мальчик или девочка в возрасте от 12 до 16/17 лет, находящийся на этапе развития личности, характеризующейся коренной психофизиологической перестройкой организма, формированием новых адаптационных мех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3419640" cy="341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85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следств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ое страшное, что регулярные издевательства способны спровоцировать попытку самоубийства или покушение на кого-то из преследователей. Травля наносит непоправимый ущерб не только психике жертвы. Не менее вредна ситуация травли для преследователей и наблюдателей. Они рискуют так и остаться безвольными пешками в руках более сильных и предприимчивых. А решение, принятое под влиянием большинства, вопреки голосу совести, и постоянный страх оказаться на месте жертвы способствуют снижению самооценки, потере уважения к себе. Зачинщиков же развращает безнаказанность, они усваивают, что подобными методами можно управлять окружающи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9" name="" descr=""/>
          <p:cNvPicPr/>
          <p:nvPr/>
        </p:nvPicPr>
        <p:blipFill>
          <a:blip r:embed="rId1"/>
          <a:stretch/>
        </p:blipFill>
        <p:spPr>
          <a:xfrm>
            <a:off x="5435640" y="1793880"/>
            <a:ext cx="34574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ест «Насколько популярен мой ребенок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наете ли вы, насколько хорошо относятся к вашему ребенку окружающие? Родителям порой нелегко определить, насколько их ребенок популярен среди сверстников. Маленьким детям недостает перспективы мышления, чтобы понять абстрактную идею популярности, а дети постарше и подростки нередко просто не хотят делиться этими сведениями с родителями. Однако в целом можно утверждать, что чем больше времени ребенок проводит со сверстниками и чем разнообразнее их времяпрепровождение, тем он популярнее. Ответьте на приведенные ниже вопросы (они касаются детей 6 лет и старше). Чем больше раз вы ответите "ДА", тем популярнее ваш ребенок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ест «Насколько популярен мой ребенок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ежедневно разговаривает по телефону с другими деть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каждые выходные общается со сверстникам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рассказывает о своем "лучшем друге"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состоит в спортивной команде или участвует в каких-то спортивных мероприятиях по меньшей мере раз в недел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ест «Насколько популярен мой ребенок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состоит в каком-либо внешкольном кружке, не связанном со спортом (в отряде юных бойскаутов, клубе по интересам и т. д.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его ребенка регулярно приглашают в гости на вечеринки к другим детям и на другие социальные мероприятия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переписывается с другими детьми по обычной или электронной почт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ест «Насколько популярен мой ребенок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Мой ребенок (вопрос для детей 8 лет и старше) часто ходит в гости к другим детям на длительное время (4 часа и дольше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Мой ребенок (вопрос для детей 8 лет и старше) время от времени ночует в гостях у кого-то из друзей или кто-то из его друзей ночует у нас дом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Мой ребенок (вопрос для детей 8 лет и старше) вместе с другими детьми участвует во внеклассных образовательных занятиях, например, в научных проектах, групповых исследованиях или в совместном приготовлении уроков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60202"/>
                </a:solidFill>
                <a:uFillTx/>
                <a:latin typeface="Tahoma"/>
              </a:rPr>
              <a:t>Не такой как все…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ebf9f9"/>
                </a:solidFill>
                <a:latin typeface="Tahoma"/>
              </a:rPr>
              <a:t>Чаще всего становятся жертвами издевательств подростки с явными проблемами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9152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e7e7"/>
                </a:solidFill>
                <a:latin typeface="Tahoma"/>
              </a:rPr>
              <a:t>с необычной внешностью (заметные шрамы, хромота, косоглазие и т.д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e7e7"/>
                </a:solidFill>
                <a:latin typeface="Tahoma"/>
              </a:rPr>
              <a:t>страдающий энурезом или энкопорезом (недержанием мочи и кал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e7e7"/>
                </a:solidFill>
                <a:latin typeface="Tahoma"/>
              </a:rPr>
              <a:t>тихий и слабый, не умеющий за себя постоя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0202"/>
                </a:solidFill>
                <a:uFillTx/>
                <a:latin typeface="Tahoma"/>
              </a:rPr>
              <a:t>Не такой как все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неопрятно одет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часто пропускающий заня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неуспешный в учеб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слишком опекаемый родителя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не умеющий общать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3" name="" descr=""/>
          <p:cNvPicPr/>
          <p:nvPr/>
        </p:nvPicPr>
        <p:blipFill>
          <a:blip r:embed="rId2"/>
          <a:stretch/>
        </p:blipFill>
        <p:spPr>
          <a:xfrm>
            <a:off x="4648320" y="2243160"/>
            <a:ext cx="403848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чин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469116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чительные культурные, социальные и национальные различ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ная самооц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достаточно развитые социальные навы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бенок воспроизводит модель поведения жертв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6" name="" descr=""/>
          <p:cNvPicPr/>
          <p:nvPr/>
        </p:nvPicPr>
        <p:blipFill>
          <a:blip r:embed="rId2"/>
          <a:stretch/>
        </p:blipFill>
        <p:spPr>
          <a:xfrm>
            <a:off x="5195880" y="2011320"/>
            <a:ext cx="34909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чинщ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 основе травли, чаще всего, лежит стремление самоутвердиться, выделиться. Реже травля – это результат личной мести. Это могут быть подростки, как не уверенные в себя, так и самоуверенны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9" name="" descr=""/>
          <p:cNvPicPr/>
          <p:nvPr/>
        </p:nvPicPr>
        <p:blipFill>
          <a:blip r:embed="rId1"/>
          <a:stretch/>
        </p:blipFill>
        <p:spPr>
          <a:xfrm>
            <a:off x="5143680" y="2722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ктивные, общительные подростки, претендующие на роль лиде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грессивные подростки, нашедшие для самоутверждения безответную жертв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дростки, стремящиеся любой ценой быть в центре внима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дростки, привыкшие относиться к окружающим с чувством превосходст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Эгоцентрики - подростки, не умеющие ставить себя на место други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Максималисты - подростки не желающие идти на компромисс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отвер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179280" y="2327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АВЛЯ ( не дают проходу, обзывают, бьют, преследуя какую-то цел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вное неприятие (возникает в ответ на инициативу, исходящую от жертвы, дают понять, что он никто, что его мнение ничего не значит, делают его козлом отпущ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ссивное непринятие возникающее только в определенных ситуациях (принять в игру, сесть за парту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норирование (просто не обращают внимание, не общаются, не замечают, забывают, ничего против не имеют, но и не интересу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3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7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9:33:14Z</dcterms:created>
  <dc:creator>Tendenza</dc:creator>
  <dc:description/>
  <dc:language>en-US</dc:language>
  <cp:lastModifiedBy>адм</cp:lastModifiedBy>
  <dcterms:modified xsi:type="dcterms:W3CDTF">2010-07-29T09:04:10Z</dcterms:modified>
  <cp:revision>83</cp:revision>
  <dc:subject/>
  <dc:title>Изгои - подростки</dc:title>
</cp:coreProperties>
</file>