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90B-74F8-4772-9EBC-B7964E7C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40A-340A-4256-A673-CB45A69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C49DA-8970-40D3-8F74-AAF6E8F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8A2C-85CF-45EB-AD07-2A74088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1C31-3683-434D-BE27-14E3344F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1C4B5-B4F5-4C32-B152-314B613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17ACC-5B21-40E8-83BD-3F21A89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0406F-AB1E-42E8-8EBA-4F0BB11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708FA-1A0E-4186-A7A1-1597DA3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7E841-FFF7-4958-9F91-F6794D74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1DE0-AB80-4B4A-A3C3-BADF3ADB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F4EC4-0310-4234-BCE3-8A686353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890-E7AE-40CE-96E9-3B592E89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8D733-2267-48A3-A1CB-7C1F0EB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CAA3B-79EE-40B6-ABFD-67068CC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958B4-D8FF-4C06-B44B-B5740F1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CF3D7-DABC-4C9B-9234-D3D2FA4D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E23C6-C84E-4FC5-840D-1D3B2CFC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D9208-29F6-4616-B716-5123B02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4F46A-5DE6-4B4E-9517-7DE2241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CD36E-987D-48E9-9376-31816D0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C025C-5E59-4965-9F43-4DE6E11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11E0-2742-4809-AC15-7F3DBE8B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B3A-F0DB-45B0-A5A5-FCB3768B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93F94-637E-4B78-9D0B-8FF8D899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04A5-FEDD-458D-BDDF-68C1FD5E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9B6E5-D2AE-495C-86A1-A60C29C0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1A24A-9E29-4FBF-AB35-347F2797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E44E-C2D3-4B2D-9A7A-995F742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272E-9C05-43A9-A182-5CFF0702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C05D-0E9B-4244-9894-DF75B3C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CEBC6-C891-4E67-A1D1-27D3DF2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4D1C8-CF0D-40D3-8610-5EEEA81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12DEF-757C-49DD-B5AC-8DE6391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6076-1497-4BB3-88E8-F80DF8BF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71FAE-59DD-4E3F-9139-BE0934A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348D1-D2AC-456E-AA78-4872CB6C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B835C-D36C-4992-BAF7-DF43EBF3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58709-B879-4075-A212-74E52BFF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9400E-ED51-45C5-AD44-11C8932E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6CF25-DEB5-4DA8-AD4D-A5231B80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29E0-4E14-4F21-8555-8045529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889BC-B4A0-4955-9ADB-A629C7D2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58042-039E-417B-B1AB-6E2BA3E2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7FA45-01C7-40B7-81D6-87D213D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59BA-3F40-48FA-8454-CC0E2BAF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1FB11-7677-426E-ABAB-FD74CF5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FA724-863C-4B42-AA67-3D4484D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59C52-5FD3-4B1D-90F5-A2CC8F85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9900B-721E-42D8-AD6C-21A671DA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A3668-4666-493B-AE13-7A1D0B43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05A33-3BD3-4ECA-916C-5B7BC15C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3D9F2-C73C-4532-A8E8-90AB0556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1EB39-417D-48BD-92F0-FFE9D266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D0F57-F330-4250-9A62-113B7B0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33346-5323-44A1-A123-F99F62A8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71F0-7113-4CCD-B644-12FDEDD6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5E80A-AA3B-4217-86BD-075660DF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59DD1-8315-4FFB-B392-0AFB5D8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5A082-80E1-48E2-85FD-EE262187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9B41F-6B65-4215-94B6-18D2579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0BFC9-3459-4CE4-848C-AA2190E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0D4B1-C4DF-4C88-B76E-9760A02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1F027-E638-4038-BEAC-EAB0694E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5E643-BED4-4068-A491-C621526A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ED161-EBCB-4704-929F-E7EDDEF5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5E05D-6CED-43C2-8595-510D3161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E1C-4F91-4BBC-83D4-0887FF6E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E5992-4CAD-4C8A-B7AB-0E7977F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6C997-4586-44E9-8DE9-C90B85A2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25743-7EAB-45D7-93DD-9BDA51B5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BBBCC-E9CF-49A9-802C-9695C16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413AD-F949-4F28-BF92-64D0C7F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50418-3A5D-4205-A314-3ABE063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AA757-76A4-458C-B678-4446B0F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57A89-79C7-4EF2-8807-97AECE34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A915B-7309-4AEA-8474-D0C3B5FE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196F0-3A08-418B-BF3B-9C85CA47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5109-29B7-499F-A1A6-0CEC1E2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75E87-AE9C-47B4-8F7D-6565DBA1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7675C-0CC2-40D9-91D5-60589EEE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5B543-92B4-4CE9-9E3D-4DFE2ED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25C2E-DC2D-48D8-8265-6F9A0377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79EA3-19F9-4B6A-B039-3B4B9142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959E0-BA4A-40D1-A472-26F1132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61271-3950-4B90-ADD1-9AFB08AA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E822D-AA90-4C70-86AB-17761BD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78C94-04BE-4DD6-A628-9AB8D862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1779D-152E-47B6-B593-CE3BA0B9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54B-562E-4027-B935-23F3970D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213D6-239B-456A-9F9E-61821DA1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6EF1-43D4-4102-9D48-F87E823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595-FECF-4DDA-B77C-A1451624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5CD7-AF91-431F-B767-980C387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3647-13C3-46A9-BE0B-5095FB1C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6E5-60D6-4168-A5FE-BEBF281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359C-84AB-4682-80B8-CF4E51D6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3963-AFEE-4115-A3CC-B046E684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A4B6-B995-4987-8115-0B9929C2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2735-F9B3-4B63-A2B6-6C75419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80E5-235F-4753-85F1-E9231C2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0910-64C0-4281-8A84-2955E5E5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01CF-FEAF-4204-80AC-2CBA2C0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F32-D6A6-4841-8FFC-040E87E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B593-B2EA-4A86-975E-1BFF3779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23E6-AC7E-4DD7-A649-ED041FB3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FB61-15F7-4734-85AE-C0BC61E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B32A-1FC1-484E-A1F5-80A226B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D560-4329-4B14-918B-C3BDD34B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F3E7-29A5-4D55-B6A8-CF33B81B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8D69-6EAD-4C9C-8C46-7CE51750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B4A2-94DB-4DDA-BCB5-4DAB7418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BC94-7B08-49ED-86D9-2F8CDDA4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CCF7-BBB2-4402-8ABF-23F57C01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710-3F1C-44AF-8E07-7C38754E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51B1-1DD0-46D4-959F-2B6B3435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3D49-155A-496A-95A7-D53FBFB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AC66-80B6-412A-ABA2-ED7FD33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496D-A4C0-4DB5-91F5-DB3FCCF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AFC9-B23A-4CE7-A0FF-CC0F5069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7317-3DD2-4728-84B9-B746FA0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CC18-9E30-4840-A567-F2A0C86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5A74-4867-4AC0-9940-A529D9B7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1AFA-5EA5-4F35-8B11-D3397C13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C2C5-1F1E-418B-89C7-728A55CE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A8D-D901-4AF2-B40C-858A7A31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DB69D-D813-4C6D-A7C2-9DE4E60F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F398-2CB3-4E9D-9079-FB8B4B2E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EF1DE-22EC-4E8A-B041-E5364329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75EF-54D3-404D-8DF8-45C0CAE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218A-0CF5-474C-A730-E0FD3B6D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25B5-8EC2-44A9-BFA1-A65B77C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B018-3221-48D4-931F-2EA0E93A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4631-2C5B-43FF-9790-C050A9A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809A-08C5-499B-88CC-D5D9EB57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6E57-8A33-4A4A-BE95-8600E3C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F32-345F-49A4-A832-241D768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2B73-0D76-413A-808F-CC8E39DD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5CD1-40FC-43CF-9FEB-969332A5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AFEB-0F1E-46FD-9C1B-9B489D3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2809-8D49-4CD2-8F72-E95ABBAE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63F5-E1A3-4472-A08D-7DC65614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CC17-C2E9-4A9F-9852-06E3C750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C114-0510-4C18-B3A6-FF653F4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6B35F-0510-404A-A2EB-D505893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02A8B-E123-45BF-A941-6195C3B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2DF28-EB0D-4834-B2B6-71B6543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62D-147D-405C-8ABA-53D86021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8274-A15C-4917-AFAF-79C2AAA5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3E7E-C17D-4D79-84D1-6974B40D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7698-2200-4CF6-8443-D6A70F76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44EC-437A-49F7-B506-1A16CE3F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C9EA-1701-415C-AE86-12E460BB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BDA76-2A57-4C99-990E-A4844337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0BA15-5ED1-4CD5-8F05-81EF14EE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E009-013C-470A-82E2-0CD11D74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3FC0D-42B9-442D-8E45-9687A09D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B9E74-ACB1-41CF-9D08-904510F2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931-BA0D-4445-A90B-E8AB7DA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4BAC8-14AC-4D71-9994-EFB3B9D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E0C72-B8C0-4D2B-80BD-8792ADF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DCB81-4D0C-45EA-B63C-26DE6DB6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B1EA-58E4-4B67-9984-0F166B0E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01490-EBDC-4894-AAD2-94F420D8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871BA-C850-4A1F-9255-3945F89B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41D4-2340-4FA6-AC7B-639B5FDB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08081-AD1F-49DE-80C7-F92189DC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2ADB-49DA-4DF2-89BA-0224EAD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55A76-5C09-41B3-B9B3-571DD8FE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9B9-DED5-49DB-80F8-371CF6C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0F5AF-817B-43D1-A8A2-5F4F2435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9DC3F-F217-47D4-BAA1-4726DF86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8D3E-56C5-4B4A-9DF3-050F1B0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FD51-B2BA-4EC7-A59E-92D0EE73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8BEE6-0452-4DBA-82E0-94E7DDF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F6C15-AC11-47E2-AB69-68F54DBF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05BE1-D78C-4297-990F-B6121AA9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F4E3B-CA3D-47D9-8790-35EEB505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1EFA1-CF58-4FBB-A898-82509F6A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3A25F-CC7A-4B83-B6C2-6A005463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3FF3-B010-406C-B221-0FF26C9EA6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B6A1-E8DC-42D2-871C-1854E8D72B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7A8-3019-45E5-B8E0-32B172E3B8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3D9-8891-4D79-AC0B-1408CB7B1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EC11-02D1-4AB5-8980-78E959F4A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4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4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4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3573-C45B-4879-8AC3-BB32A2364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6A0-0CF3-4F1E-BB78-9CB28779C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3F5E-19CD-447C-BB34-704B04F249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D01-8322-489E-9156-78E9D093D9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34F7-7518-4EB3-A0F7-21277A6D8F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97F5-D02E-4DC7-8B56-B6C691ACB7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4C94-C8D1-4780-A45A-5284826F14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32CE-2C91-40F4-B71E-951C9AED8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6A7-3FD1-401D-B797-643A71B871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5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6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7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32A1-C06C-4AF6-B0F9-CB0D44E6AA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74200" cy="11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айонный конкурс научно-практической конференции молодых исследователей посвященной 50-летию первого полета человека в космос «Юность - будущему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810432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чественный анализ загрязнения природных осадков на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станции Мстёра и её окрестностях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втор работы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лупова Мария 8 класс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лупова Ольга Юрьевн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Учитель хим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ОУ « Вязовская СОШ 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танция Мстёра 2011г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65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5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40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325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125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75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85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325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80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04760" y="142920"/>
            <a:ext cx="666756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ложение 1.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аблица №1Физические показатели исследованных проб снега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42920" y="1357200"/>
          <a:ext cx="8858160" cy="5357880"/>
        </p:xfrm>
        <a:graphic>
          <a:graphicData uri="http://schemas.openxmlformats.org/drawingml/2006/table">
            <a:tbl>
              <a:tblPr/>
              <a:tblGrid>
                <a:gridCol w="1406520"/>
                <a:gridCol w="1054080"/>
                <a:gridCol w="561960"/>
                <a:gridCol w="914400"/>
                <a:gridCol w="1546200"/>
                <a:gridCol w="1125720"/>
                <a:gridCol w="842760"/>
                <a:gridCol w="773280"/>
                <a:gridCol w="6332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сто отб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робы,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пробы, м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, г/м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, 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й остаток,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ра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2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слаб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7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ба №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ая мут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а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68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8880" y="-285840"/>
            <a:ext cx="8924760" cy="12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иложение 2.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Анализ химических примесей исследованных проб снег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0" y="428760"/>
          <a:ext cx="9001080" cy="6357960"/>
        </p:xfrm>
        <a:graphic>
          <a:graphicData uri="http://schemas.openxmlformats.org/drawingml/2006/table">
            <a:tbl>
              <a:tblPr/>
              <a:tblGrid>
                <a:gridCol w="1295280"/>
                <a:gridCol w="965160"/>
                <a:gridCol w="1479600"/>
                <a:gridCol w="1322640"/>
                <a:gridCol w="1527120"/>
                <a:gridCol w="1004760"/>
                <a:gridCol w="1406520"/>
              </a:tblGrid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N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l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 амм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+t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ёмно-красный раст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, хлопьевид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образ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ий запах амми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-жёлт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Приложение 3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Анализ химических примесей исследованных проб дождевой воды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85840" y="1096920"/>
          <a:ext cx="8715240" cy="5619960"/>
        </p:xfrm>
        <a:graphic>
          <a:graphicData uri="http://schemas.openxmlformats.org/drawingml/2006/table">
            <a:tbl>
              <a:tblPr/>
              <a:tblGrid>
                <a:gridCol w="1255680"/>
                <a:gridCol w="931680"/>
                <a:gridCol w="1433520"/>
                <a:gridCol w="1281240"/>
                <a:gridCol w="1479600"/>
                <a:gridCol w="969840"/>
                <a:gridCol w="1363680"/>
              </a:tblGrid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тив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NO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l</a:t>
                      </a:r>
                      <a:r>
                        <a:rPr b="1" i="1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лат аммо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+t</a:t>
                      </a:r>
                      <a:r>
                        <a:rPr b="1" i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ёмно-красный раст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, хлопьевид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образн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ий запах аммиа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-жёлтый осад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й зап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а №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е помутн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оватая му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Приложение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9" name="Object 10"/>
          <p:cNvGraphicFramePr/>
          <p:nvPr/>
        </p:nvGraphicFramePr>
        <p:xfrm>
          <a:off x="285840" y="1568520"/>
          <a:ext cx="840096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68520"/>
                    <a:ext cx="84009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4"/>
          <p:cNvGraphicFramePr/>
          <p:nvPr/>
        </p:nvGraphicFramePr>
        <p:xfrm>
          <a:off x="285840" y="1643040"/>
          <a:ext cx="8400960" cy="488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1643040"/>
                    <a:ext cx="84009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85348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Некоторые результаты загрязнения проб сн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14200" y="199980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оны свинца                                             Хлорид - ион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тандарт,     </a:t>
            </a:r>
            <a:r>
              <a:rPr b="0" lang="ru-RU" sz="1400" spc="-1" strike="noStrike">
                <a:solidFill>
                  <a:srgbClr val="fde3ba"/>
                </a:solidFill>
                <a:latin typeface="Arial Narrow"/>
              </a:rPr>
              <a:t>№5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№7             №11           №13              стандарт               №3,             №7           №9            №11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05" name="Picture 6" descr=""/>
          <p:cNvPicPr/>
          <p:nvPr/>
        </p:nvPicPr>
        <p:blipFill>
          <a:blip r:embed="rId1"/>
          <a:stretch/>
        </p:blipFill>
        <p:spPr>
          <a:xfrm>
            <a:off x="87480" y="2857680"/>
            <a:ext cx="4305240" cy="36432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"/>
          <p:cNvPicPr/>
          <p:nvPr/>
        </p:nvPicPr>
        <p:blipFill>
          <a:blip r:embed="rId2"/>
          <a:stretch/>
        </p:blipFill>
        <p:spPr>
          <a:xfrm>
            <a:off x="4857840" y="2857680"/>
            <a:ext cx="4143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63892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Загрязнение снежного покрова сульфат - ио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0" lang="ru-RU" sz="2800" spc="-1" strike="noStrike">
                <a:solidFill>
                  <a:srgbClr val="fde3ba"/>
                </a:solidFill>
                <a:latin typeface="Arial Narrow"/>
              </a:rPr>
              <a:t>стандарт         №2         №7        №11       №1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09" name="Picture 9" descr=""/>
          <p:cNvPicPr/>
          <p:nvPr/>
        </p:nvPicPr>
        <p:blipFill>
          <a:blip r:embed="rId1"/>
          <a:stretch/>
        </p:blipFill>
        <p:spPr>
          <a:xfrm>
            <a:off x="2050920" y="2714760"/>
            <a:ext cx="60008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380520"/>
            <a:ext cx="89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бор осадк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2" name="Содержимое 5" descr="100_4527.jpg"/>
          <p:cNvPicPr/>
          <p:nvPr/>
        </p:nvPicPr>
        <p:blipFill>
          <a:blip r:embed="rId1"/>
          <a:stretch/>
        </p:blipFill>
        <p:spPr>
          <a:xfrm>
            <a:off x="428760" y="1643040"/>
            <a:ext cx="8358120" cy="4857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5522400" y="4305240"/>
            <a:ext cx="316404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2560" y="380520"/>
            <a:ext cx="892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6" name="Содержимое 5" descr="100_4530.jpg"/>
          <p:cNvPicPr/>
          <p:nvPr/>
        </p:nvPicPr>
        <p:blipFill>
          <a:blip r:embed="rId1"/>
          <a:stretch/>
        </p:blipFill>
        <p:spPr>
          <a:xfrm>
            <a:off x="857160" y="1500120"/>
            <a:ext cx="7491600" cy="51436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 txBox="1"/>
          <p:nvPr/>
        </p:nvSpPr>
        <p:spPr>
          <a:xfrm>
            <a:off x="5522400" y="4305240"/>
            <a:ext cx="316404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180"/>
          <p:cNvPicPr/>
          <p:nvPr/>
        </p:nvPicPr>
        <p:blipFill>
          <a:blip r:embed="rId1"/>
          <a:stretch/>
        </p:blipFill>
        <p:spPr>
          <a:xfrm>
            <a:off x="0" y="3546360"/>
            <a:ext cx="3084480" cy="331164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428760"/>
            <a:ext cx="892476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Гипотез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626920" y="2285640"/>
            <a:ext cx="6265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родные осадки являются индикатором загрязнения воздуха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, проанализировав состав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сей в снеге и дожде , можно определить наиболее загрязнённые участки горо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476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3ba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следование проб снега и дождя в населенном пункте станции Мстёра на содержание некоторых соединений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я достижения поставленной цели выдвинуты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пределение состава дождевой и талой воды в различных районах ст.Мстёра, которое позволит выявить загрязнения местности (сульфатами, нитратами и др. соединениями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 основе анализа данных, полученных в процессе исследований, сделать вывод о возможных источниках загрязнения снега в нашей местности и наиболее загрязненных участках 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2" name="Picture 4" descr="16"/>
          <p:cNvPicPr/>
          <p:nvPr/>
        </p:nvPicPr>
        <p:blipFill>
          <a:blip r:embed="rId1"/>
          <a:stretch/>
        </p:blipFill>
        <p:spPr>
          <a:xfrm rot="20395800">
            <a:off x="-184320" y="3042720"/>
            <a:ext cx="2403720" cy="25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06768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Методы исслед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2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Unicode MS"/>
              </a:rPr>
              <a:t>Экспери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 Narrow"/>
              </a:rPr>
              <a:t>Сравнительный</a:t>
            </a: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Arial Narrow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1403280" y="2276640"/>
            <a:ext cx="832500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124000" y="393372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6" descr="121"/>
          <p:cNvPicPr/>
          <p:nvPr/>
        </p:nvPicPr>
        <p:blipFill>
          <a:blip r:embed="rId1"/>
          <a:stretch/>
        </p:blipFill>
        <p:spPr>
          <a:xfrm>
            <a:off x="2771640" y="3500280"/>
            <a:ext cx="41054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7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71720" y="785880"/>
            <a:ext cx="716256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Данная работа состоит из трёх этапов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дготовительный – взятие и подготовка проб снега и дождевой воды из разных точек станции Мстёра и её окрестностях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характеристика физических свойств воды, образовавшейся при таянии проб снега и дождевой вод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характеристика химического состава разных проб талой и дождевой воды, т.е. определение содержания различных  побочных ио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4" descr="27"/>
          <p:cNvPicPr/>
          <p:nvPr/>
        </p:nvPicPr>
        <p:blipFill>
          <a:blip r:embed="rId1"/>
          <a:stretch/>
        </p:blipFill>
        <p:spPr>
          <a:xfrm rot="729600">
            <a:off x="379080" y="2354400"/>
            <a:ext cx="2395440" cy="28810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71720" y="571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Методика работ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627280" y="1571760"/>
            <a:ext cx="605952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ля проведения данной работы были взяты  пробы снега. Точки для отбора проб снега были выбраны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-  ул. Сосновый бор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2- ул.Железнодорожная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3 –ул.Мир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4 – лесная зон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5-  ФАБ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6- стадион школы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7-  Железная дорог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8- ул. Кирзаводская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9- ул.Хлебозаводск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0- ул. Лесн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1-территория кирпичного завод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2-ул. Молодежн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ба №13- ул. Шоссейна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тановление таких характеристик талой воды, как прозрачность, цвет, запах, наличие осадка, рH, наличие растворённых сол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наружение в пробах талой воды различных ионов и соединений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85348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Результаты исследова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208240" y="1356840"/>
            <a:ext cx="6478560" cy="48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нализ проб показал, что места, где были взяты пробы оказались разной степени загрязнённости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 рН-среды снег в жилой зоне слабо кислотный, что объясняется наличием продуктов жизне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 физическим параметрам все пробы, кроме лесной, достаточно сильно отличаются от стандарт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 химическим параметрам в пробах наиболее часто встречаются хлорид-ионы: в малой концентрации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,5,8,10,12,13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 в довольно большой концентрации в пробе №.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, 7,9,11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 Это можно объяснить наличием соли в смеси, которой посыпают дороги и тротуары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оны аммония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бнаружены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,5,6,10,12,13,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где их концентрация довольно мала и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,8,9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 достаточно большой концентраци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рбонат-ионы - были обнаружены в пробах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,3,5,7,9,11,1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ульфат-ионы - обнаружены в очень малой концентрации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, 7,10,11,13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 проведении анализа на содержание ионов свинца , последние были обнаружены  в пробе №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,5,7,10,11,13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в небольшой концентрации, что объясняется близостью дороги (выбросы автотранспорта) Здесь же велика доля нерастворимых соединений свинца (сухой остаток)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5" name="Picture 4" descr="28"/>
          <p:cNvPicPr/>
          <p:nvPr/>
        </p:nvPicPr>
        <p:blipFill>
          <a:blip r:embed="rId1"/>
          <a:stretch/>
        </p:blipFill>
        <p:spPr>
          <a:xfrm>
            <a:off x="0" y="3573360"/>
            <a:ext cx="21574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4" descr="13"/>
          <p:cNvPicPr/>
          <p:nvPr/>
        </p:nvPicPr>
        <p:blipFill>
          <a:blip r:embed="rId1"/>
          <a:stretch/>
        </p:blipFill>
        <p:spPr>
          <a:xfrm rot="660600">
            <a:off x="6300360" y="0"/>
            <a:ext cx="2551320" cy="23749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892476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Выводы по результатам работ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847260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1). Анализ физических свойств талой воды взятых проб снега  и дождя и исследования химического состава показал, что наиболее близки к контролю – дистиллированной воде – пробы,  взятые в точках наименьшего присутствия продуктов  жизнедеятельности человека (зелёная  -ул. Сосновый бори лесная зона .) В микрорайонах снег содержит физические примеси – песок, листья деревьев, отходы жизнедеятельности человека  (биогенный и антропогенный фактор)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). Сопоставляя все результаты наблюдений и исследований, можно предположить, что потенциальные источники загрязнения снежного покрова в нашей местности – автодороги и железная дорога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нализ результатов исследования показал, что химические примеси в пробах снега и дождевой воды невелики, т.е. загрязнение природных осадков, а, следовательно, воздуха умеренное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3). Из исследуемых микрорайонов наиболее  загрязнёнными участками станции являются улица Шоссейная, кирпичный завод и ул. Мира, территория ФАПа, где близость предприятия, автодороги, практически не отделены от жилой зоны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813888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Рекоменд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208240" y="928440"/>
            <a:ext cx="6478560" cy="52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.к. содержание примесей в снежном покрове наибольшее около автодорог, то необходимо отделять жилую зону от них с помощью активного озеленения станции. Особенно это касается микрорайонов с малой санитарной зелёной зоной. Довести до сведения  администрацию станции Мстёра о результатах работы. Провести работу в школе и принять участие в благоустройстве и озеленении 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алая и дождевая вода содержит меньше различных ионов, чем водопроводная, значит при дополнительной фильтрации или отстаивания, ею можно пользоваться для полива комнатных растений и рассады, особенно если брать снег подальше от дороги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91" name="Picture 4" descr="54"/>
          <p:cNvPicPr/>
          <p:nvPr/>
        </p:nvPicPr>
        <p:blipFill>
          <a:blip r:embed="rId1"/>
          <a:stretch/>
        </p:blipFill>
        <p:spPr>
          <a:xfrm>
            <a:off x="-714240" y="-268200"/>
            <a:ext cx="3357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5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5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5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5:26:33Z</dcterms:created>
  <dc:creator>школа 2</dc:creator>
  <dc:description/>
  <dc:language>en-US</dc:language>
  <cp:lastModifiedBy>1</cp:lastModifiedBy>
  <dcterms:modified xsi:type="dcterms:W3CDTF">2011-11-30T19:06:32Z</dcterms:modified>
  <cp:revision>39</cp:revision>
  <dc:subject/>
  <dc:title>МОУ «СОШ №2» г. Нефтеюганск-2005г.</dc:title>
</cp:coreProperties>
</file>