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E3D-C448-4D39-89ED-58D758DA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8A5-2C76-4A2B-A1F3-BF4C61C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98E0B-ED17-4B73-8D99-0ED831FC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DC46D-DD0A-4E8C-926D-9DD189B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8EB84-E09E-4679-8A36-A7964E2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BE25-8B33-4B30-8160-B9B8BD7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BBFD-AECA-46FF-ADCF-3E12B23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16EE5-28A5-428F-9A2C-1B2A09A5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4DCEB-5B18-47AA-BE85-73B3ED6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A1FB9-636F-474A-A1C0-DEA10784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31F3-1FC4-47A3-A357-983CAA50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7DAE-2275-4F2C-8147-ABB7F6E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497-6F47-4EB1-9DAE-E2FC06F8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2B018-7D1E-4572-87BC-97C2871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D03E7-4459-4AA7-9361-42FAEB0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04D4-A661-40A9-B783-3FC132F6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A8DD0-03D8-4A5F-BA66-A8307C1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B48C2-A152-4B42-AD3A-1FA88AC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D2A02-F3F5-415A-814F-E9F9CC2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573ED-579F-42AA-A5A7-6D8FD60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4A63C-FCE8-4980-A999-BA43E66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4796-A900-439F-85C2-B69AA1F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EE28F-800F-4762-8CF4-DCFCD271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50E-C79E-4DE2-A82D-A0C9ABE0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61416-3147-433E-957C-49E2FE94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438D4-A34E-43FA-A4E3-2099967E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95B9-8A7D-40E4-8792-CADB96E3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5A525-6F9A-4E3C-BE3C-29EDFCF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19467-2EB1-41B2-B1FA-3E8D84EB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D38B5-06B2-4705-8161-BC3F21A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B8C9-B50B-4269-B2AE-474F984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5C2B-7B12-4619-BB42-B98EFCA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72885-2789-4950-8D9E-D9B14C7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79B7F-06EA-49E6-89C1-96CDDB6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26A-8CE9-45EA-BA71-213279B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56B9E-2513-47B4-8D04-BEA886C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F50F-FABC-40F0-BB5D-F175E17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236F-E162-4173-886C-97057A4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FAE42-17E6-4CC1-8FC7-51F24F5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43658-F359-47EE-8BD8-D4AF9F3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697A3-15F3-415F-9CF9-A1056C57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C2C62-5F72-4C87-888F-CEF707B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69AF3-D144-47B2-8538-AA4BF15C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E77E1-5C03-4E44-A5FF-6D467624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BEF9E-155C-4F98-AB28-2AB08A2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C942-34B9-4C68-9CD9-7D38D3F5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5A3AF-496E-4EAC-BA7A-8D2F7A6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9C93A-5958-4222-B424-9906834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1404-3799-48E1-8F77-3A34E08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88BE4-E69D-412D-A8D8-D913670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CA3DA-A260-4A03-8DF0-983747E1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D7AB9-4963-4EE0-B98E-1C94CD4C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59C56-07C0-4272-A89C-CA323A6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B4435-1AED-42E7-A5DF-8B4E73B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E287C-DCD2-45D4-B99C-115FAA3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CF7BF-7851-401C-83EC-5426175A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180A-2B8F-4305-8FCD-B63AACF4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1B900-B03E-432E-8787-7B8775E9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7E5A5-256F-46A0-89D8-DCE730D4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C0B41-1C08-4CA8-8D87-4C19138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08DB5-2050-4FBA-A6AF-F47308D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8B05B-6164-4921-9020-DED9409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3CB2E-75A0-41DC-A51E-445A07F9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E3EA1-594B-46EE-8E38-3361E688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0515D-26B7-40E0-93D4-BBDAE2E6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A1182-E668-4171-8F16-9964F0A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6A635-9D78-4E85-9B34-2F9BC02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38C2-C270-47EC-B64D-BE37168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5D2C4-4908-4D0A-AFC3-50E98D3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CE55B-1632-46E2-981E-CE38878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23282-BBDC-4D7E-8FB2-04A09972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F1238-BD6D-49EE-98CA-5FC36AE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A1918-8002-4DDE-96A4-59D5644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E124E-7469-48C6-9BA3-FD0CFAC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F8D85-094F-438F-BEB2-5042A1A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672E6-F107-400E-82DC-633357E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71672-A99A-4A15-A2D4-CCF0CE30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7E1A9-03E2-4551-AD0D-08AF927A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951-2D58-4A1E-9C71-DC818556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E7BCA-6F56-40B3-9751-A81B170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B3D50-B7E3-4C34-9437-82DEAB3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F661B-65A1-40F9-999B-756DF8D6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7E5B5-EB6E-4990-8E98-973C024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0F79B-A397-4CA6-B2FF-F146B48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B0F6B-CC02-4D09-ACB9-6ED4EE7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31CE2-F28C-4689-8C43-67C7827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443E5-627E-457D-A3D2-D23F614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5C9AD-3EDD-485F-A1F4-5B5E845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036BE-B445-4D2C-8B48-F13F9EE2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85A-6D35-42D7-8111-A4ED4E2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C33D5-B3E3-4B2E-A918-708ABF89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B71-2277-4146-8D50-50509C0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B1C-E168-485F-B7C7-6BC4AEC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CC8-170E-490D-B9A4-139FF8A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F82-4AEB-4901-B6DB-0E03B57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A43-3F87-4594-B542-1D925C1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279F-9FE1-4D19-A4D7-DBDE487E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BF8-A4A2-4BBC-BC96-A231D601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1A75-AEB9-40EC-A71E-8BDA9970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152B-D48F-4EF3-AAAA-BD06C57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C2A3-74F0-4FD9-B055-82D736B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BE46-9EEB-4566-91BC-F8A1AEC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7D71-ACF4-4628-AC67-4B604EB8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F4D-5C30-420A-8E26-8E00D05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36D9-E9FB-462B-8079-2BD10B8D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EAEC-84EE-44E4-AB95-D4D6454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E91F-996C-45CD-899E-522EEC6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15EF-34F7-4CAA-8347-D831140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A3BF-EEDE-40C3-8F89-532B397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6C45-AFB0-45F9-ABE6-6DD96EB4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A36D-378A-4C58-BA74-213A2144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FA26-D15F-407D-8124-80FAB82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74A6-ABB0-4392-A83E-753EC3E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2EF9-4A45-4355-A881-64793EF3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3F8-5FAE-43EF-912E-C8400FC6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A932-38D9-418C-9F57-7B2D67C0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9AA5-3E6A-472A-9A04-A0B2FABB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0C70-28D1-4FE1-B5AC-85AEB8D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7EF6-97EB-4E7B-BD18-30923ED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EEF0-7627-43BA-8A92-773C38D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F43C-1985-4A77-939B-9590D33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ACB5-C2F1-49F0-B202-57CA8F3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3400-31CF-41CA-8762-C2ACFDCA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FD4B-54E2-4B2D-8119-29F9A372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7969-D309-4059-A3B2-85D42402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ACD-0FA4-4067-B4C8-EC0571A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74BDB-124D-44CC-87C7-B8451E51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4D93-E0B9-4FFD-BEC2-2EFE5A10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6D6A-D3CB-490B-800B-35BBF76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CAED-849C-448B-BB09-2BFDC03A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CB26-0E69-4571-8601-A069314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8578-E49C-41A3-986B-62FED9D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3769-C11F-4940-89B5-6BE7B2B6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4387-450F-4C69-88D5-E569BA8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F1E0-83E4-4D30-91B1-85449A5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78BD-F511-4B25-97DA-23750E17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62F-85D4-46B3-8D6D-89806C83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AB96-472A-4D7E-B355-B7885D31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15D7-E717-48D6-8E9A-3EAB2587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80EE-BCB8-4EF6-ADDB-E7BE196F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7C49-BA95-4E33-9C32-3A1C5DE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EF81-A84E-40ED-BA38-2ACE2F0C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1AF2-DF2D-4067-93DB-9C93EFF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F9E3-745F-406D-A5E2-E2DC3CC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71C7-DE0E-4C53-B708-2257328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BF27-4450-4B44-848D-66F64CA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CA70A-97B2-43CB-9AEA-F57ED321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42D-F517-4650-9BA8-1F2C2FA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8636A-5D59-4958-9787-D52175FF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DA4A-A95A-45C8-AFC2-F862EC26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C759-1F2F-47EC-8484-D5F7B2AF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111E-0070-47A2-B847-FF92972E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D17B-6A62-403E-A965-D19D6DAF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E2ED0-0987-4543-8233-1B4E095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35E2-2FE0-4E87-A6C6-5832141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08FEA-6482-46DB-A104-7949BF3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95E5-F6B6-47B0-82BE-E3BC013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C559-6DEE-4A36-9737-F970509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2CB-BBFD-4829-AE38-1DE054AE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1519-3670-4F14-90B8-6647CF4C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EA4A-88F8-4D83-A9ED-515962C9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D3E4-51A5-464E-8105-D80949EA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B40B-07C5-439A-A8A1-950199CE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0ED1-9978-489A-8995-2EEE41CB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429D-85E3-4FEB-AB16-F47C23D5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52D2F-2520-40F6-ABCB-C9D64BD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6FAF-799B-4559-B02A-83A9126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75F5-6024-4731-BC1F-AE6349F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E123-CBEC-4C0C-AB3F-0A9786E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20F-61CB-40F0-AF28-AF638C9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376E1-4D1F-4DF2-BA4B-B7F4556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13DC4-ADFA-4781-90FC-432F2AB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502E-35D4-42BF-822F-F9DAE24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EC87-FDE1-49FE-8991-7506ED1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F87F-CBB3-4F94-AA63-257E46C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AC4C-B28E-4E4A-8298-782434ED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AC2BB-7404-40FE-8D24-8B8CCAB5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327D3-D052-4038-89A2-2CD9D73D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F4623-B1E9-46A2-A1F1-5375D711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58944-B72F-4C1D-921A-756F9FE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697-2DA7-4A8E-8848-9409D7746A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BD0B-688D-465A-8C68-1928145648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27C1-B5BF-4707-A2B3-55D308D994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41D8-0D84-47EA-A5FA-D2BEA2533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DFD9-8C09-4AA0-A064-5E0068471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535-9BA3-43E0-A932-1C0021FB0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601-0001-4764-B7E9-8D6C14AA9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F0B-64F5-4B7F-9F09-F2D3CC86C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2998-2225-414F-81F8-827D03E44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81AB-2791-48DE-B298-7390EEABA6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409-C67A-4C59-BE1A-D48BA6A439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30F-95F7-4DB7-BD2C-557DC8A97E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6502-A81D-4E17-8CC6-5269669B41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5B5-7797-492B-A12C-7C79440CD5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1D1-AF7D-41D0-970C-6BE86043DA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74200" cy="11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айонный конкурс научно-практической конференции молодых исследователей посвященной 50-летию первого полета человека в космос «Юность - будущем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810432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чественный анализ загрязнения природных осадков на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станции Мстёра и её окрестностях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втор работы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лупова Мария 8 класс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лупова Ольга Юрьевн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Учитель хим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ОУ « Вязовская СОШ 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танция Мстёра 2011г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5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4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325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125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75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85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325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8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04760" y="142920"/>
            <a:ext cx="666756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ложение 1.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аблица №1Физические показатели исследованных проб снега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42920" y="1357200"/>
          <a:ext cx="8858160" cy="5357880"/>
        </p:xfrm>
        <a:graphic>
          <a:graphicData uri="http://schemas.openxmlformats.org/drawingml/2006/table">
            <a:tbl>
              <a:tblPr/>
              <a:tblGrid>
                <a:gridCol w="1406520"/>
                <a:gridCol w="1054080"/>
                <a:gridCol w="561960"/>
                <a:gridCol w="914400"/>
                <a:gridCol w="1546200"/>
                <a:gridCol w="1125720"/>
                <a:gridCol w="842760"/>
                <a:gridCol w="773280"/>
                <a:gridCol w="6332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сто отб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робы,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пробы, м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, г/м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, 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й остаток,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7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68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8880" y="-285840"/>
            <a:ext cx="892476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ложение 2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Анализ химических примесей исследованных проб снег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0" y="428760"/>
          <a:ext cx="9001080" cy="6357960"/>
        </p:xfrm>
        <a:graphic>
          <a:graphicData uri="http://schemas.openxmlformats.org/drawingml/2006/table">
            <a:tbl>
              <a:tblPr/>
              <a:tblGrid>
                <a:gridCol w="1295280"/>
                <a:gridCol w="965160"/>
                <a:gridCol w="1479600"/>
                <a:gridCol w="1322640"/>
                <a:gridCol w="1527120"/>
                <a:gridCol w="1004760"/>
                <a:gridCol w="1406520"/>
              </a:tblGrid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N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l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 амм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+t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ёмно-красный раст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хлопьевид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образ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ий запах амми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жёлт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ложение 3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Анализ химических примесей исследованных проб дождевой воды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85840" y="1096920"/>
          <a:ext cx="8715240" cy="5619960"/>
        </p:xfrm>
        <a:graphic>
          <a:graphicData uri="http://schemas.openxmlformats.org/drawingml/2006/table">
            <a:tbl>
              <a:tblPr/>
              <a:tblGrid>
                <a:gridCol w="1255680"/>
                <a:gridCol w="931680"/>
                <a:gridCol w="1433520"/>
                <a:gridCol w="1281240"/>
                <a:gridCol w="1479600"/>
                <a:gridCol w="969840"/>
                <a:gridCol w="1363680"/>
              </a:tblGrid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N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l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 амм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+t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ёмно-красный раст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хлопьевид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образ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ий запах амми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жёлт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Приложение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9" name="Object 10"/>
          <p:cNvGraphicFramePr/>
          <p:nvPr/>
        </p:nvGraphicFramePr>
        <p:xfrm>
          <a:off x="285840" y="1568520"/>
          <a:ext cx="840096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68520"/>
                    <a:ext cx="84009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4"/>
          <p:cNvGraphicFramePr/>
          <p:nvPr/>
        </p:nvGraphicFramePr>
        <p:xfrm>
          <a:off x="285840" y="1643040"/>
          <a:ext cx="8400960" cy="488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1643040"/>
                    <a:ext cx="84009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85348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екоторые результаты загрязнения проб сн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оны свинца                                             Хлорид - ион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тандарт,     </a:t>
            </a:r>
            <a:r>
              <a:rPr b="0" lang="ru-RU" sz="1400" spc="-1" strike="noStrike">
                <a:solidFill>
                  <a:srgbClr val="fde3ba"/>
                </a:solidFill>
                <a:latin typeface="Arial Narrow"/>
              </a:rPr>
              <a:t>№5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№7             №11           №13              стандарт               №3,             №7           №9            №11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87480" y="2857680"/>
            <a:ext cx="4305240" cy="36432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4143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63892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Загрязнение снежного покрова сульфат - и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ru-RU" sz="2800" spc="-1" strike="noStrike">
                <a:solidFill>
                  <a:srgbClr val="fde3ba"/>
                </a:solidFill>
                <a:latin typeface="Arial Narrow"/>
              </a:rPr>
              <a:t>стандарт         №2         №7        №11       №1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1"/>
          <a:stretch/>
        </p:blipFill>
        <p:spPr>
          <a:xfrm>
            <a:off x="2050920" y="2714760"/>
            <a:ext cx="60008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380520"/>
            <a:ext cx="89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бор осад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2" name="Содержимое 5" descr="100_4527.jpg"/>
          <p:cNvPicPr/>
          <p:nvPr/>
        </p:nvPicPr>
        <p:blipFill>
          <a:blip r:embed="rId1"/>
          <a:stretch/>
        </p:blipFill>
        <p:spPr>
          <a:xfrm>
            <a:off x="428760" y="1643040"/>
            <a:ext cx="8358120" cy="4857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5522400" y="4305240"/>
            <a:ext cx="316404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2560" y="380520"/>
            <a:ext cx="89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6" name="Содержимое 5" descr="100_4530.jpg"/>
          <p:cNvPicPr/>
          <p:nvPr/>
        </p:nvPicPr>
        <p:blipFill>
          <a:blip r:embed="rId1"/>
          <a:stretch/>
        </p:blipFill>
        <p:spPr>
          <a:xfrm>
            <a:off x="857160" y="1500120"/>
            <a:ext cx="7491600" cy="51436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 txBox="1"/>
          <p:nvPr/>
        </p:nvSpPr>
        <p:spPr>
          <a:xfrm>
            <a:off x="5522400" y="4305240"/>
            <a:ext cx="316404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180"/>
          <p:cNvPicPr/>
          <p:nvPr/>
        </p:nvPicPr>
        <p:blipFill>
          <a:blip r:embed="rId1"/>
          <a:stretch/>
        </p:blipFill>
        <p:spPr>
          <a:xfrm>
            <a:off x="0" y="3546360"/>
            <a:ext cx="3084480" cy="331164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428760"/>
            <a:ext cx="892476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ипотез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26920" y="2285640"/>
            <a:ext cx="626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родные осадки являются индикатором загрязнения воздух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, проанализировав соста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сей в снеге и дожде , можно определить наиболее загрязнённые участки горо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476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следование проб снега и дождя в населенном пункте станции Мстёра на содержание некоторых соединени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достижения поставленной цели выдвинуты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пределение состава дождевой и талой воды в различных районах ст.Мстёра, которое позволит выявить загрязнения местности (сульфатами, нитратами и др. соединениями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основе анализа данных, полученных в процессе исследований, сделать вывод о возможных источниках загрязнения снега в нашей местности и наиболее загрязненных участках 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2" name="Picture 4" descr="16"/>
          <p:cNvPicPr/>
          <p:nvPr/>
        </p:nvPicPr>
        <p:blipFill>
          <a:blip r:embed="rId1"/>
          <a:stretch/>
        </p:blipFill>
        <p:spPr>
          <a:xfrm rot="20395800">
            <a:off x="-184320" y="3042720"/>
            <a:ext cx="240372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06768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Методы исслед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Unicode MS"/>
              </a:rPr>
              <a:t>Экспери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Narrow"/>
              </a:rPr>
              <a:t>Сравнительный</a:t>
            </a: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 Narrow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403280" y="2276640"/>
            <a:ext cx="832500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124000" y="393372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6" descr="121"/>
          <p:cNvPicPr/>
          <p:nvPr/>
        </p:nvPicPr>
        <p:blipFill>
          <a:blip r:embed="rId1"/>
          <a:stretch/>
        </p:blipFill>
        <p:spPr>
          <a:xfrm>
            <a:off x="2771640" y="3500280"/>
            <a:ext cx="41054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7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71720" y="785880"/>
            <a:ext cx="716256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Данная работа состоит из трёх этап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готовительный – взятие и подготовка проб снега и дождевой воды из разных точек станции Мстёра и её окрестностях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характеристика физических свойств воды, образовавшейся при таянии проб снега и дождевой вод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характеристика химического состава разных проб талой и дождевой воды, т.е. определение содержания различных  побочных ио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4" descr="27"/>
          <p:cNvPicPr/>
          <p:nvPr/>
        </p:nvPicPr>
        <p:blipFill>
          <a:blip r:embed="rId1"/>
          <a:stretch/>
        </p:blipFill>
        <p:spPr>
          <a:xfrm rot="729600">
            <a:off x="379080" y="2354400"/>
            <a:ext cx="2395440" cy="28810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71720" y="571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Методика работ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27280" y="1571760"/>
            <a:ext cx="605952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ля проведения данной работы были взяты  пробы снега. Точки для отбора проб снега были выбраны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-  ул. Сосновый бор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2- ул.Железнодорожная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3 –ул.Мир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4 – лесная зон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5-  ФАБ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6- стадион школы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7-  Железная дорог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8- ул. Кирзаводская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9- ул.Хлебозаводск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0- ул. Лес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1-территория кирпичного завод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2-ул. Молодеж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3- ул. Шоссей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тановление таких характеристик талой воды, как прозрачность, цвет, запах, наличие осадка, рH, наличие растворённых сол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наружение в пробах талой воды различных ионов и соединений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85348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Результаты исследова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08240" y="1356840"/>
            <a:ext cx="647856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нализ проб показал, что места, где были взяты пробы оказались разной степени загрязнённости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рН-среды снег в жилой зоне слабо кислотный, что объясняется наличием продуктов жизне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физическим параметрам все пробы, кроме лесной, достаточно сильно отличаются от стандарт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химическим параметрам в пробах наиболее часто встречаются хлорид-ионы: в малой концентраци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,5,8,10,12,13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в довольно большой концентрации в пробе №.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, 7,9,11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 Это можно объяснить наличием соли в смеси, которой посыпают дороги и тротуары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оны аммония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наружены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,5,6,10,12,13,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где их концентрация довольно мала 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8,9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 достаточно большой концентраци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рбонат-ионы - были обнаружены в пробах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3,5,7,9,11,1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ульфат-ионы - обнаружены в очень малой концентраци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 7,10,11,13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 проведении анализа на содержание ионов свинца , последние были обнаружены 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,5,7,10,11,13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 небольшой концентрации, что объясняется близостью дороги (выбросы автотранспорта) Здесь же велика доля нерастворимых соединений свинца (сухой остаток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5" name="Picture 4" descr="28"/>
          <p:cNvPicPr/>
          <p:nvPr/>
        </p:nvPicPr>
        <p:blipFill>
          <a:blip r:embed="rId1"/>
          <a:stretch/>
        </p:blipFill>
        <p:spPr>
          <a:xfrm>
            <a:off x="0" y="3573360"/>
            <a:ext cx="21574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4" descr="13"/>
          <p:cNvPicPr/>
          <p:nvPr/>
        </p:nvPicPr>
        <p:blipFill>
          <a:blip r:embed="rId1"/>
          <a:stretch/>
        </p:blipFill>
        <p:spPr>
          <a:xfrm rot="660600">
            <a:off x="6300360" y="0"/>
            <a:ext cx="2551320" cy="23749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892476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ыводы по результатам рабо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847260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). Анализ физических свойств талой воды взятых проб снега  и дождя и исследования химического состава показал, что наиболее близки к контролю – дистиллированной воде – пробы,  взятые в точках наименьшего присутствия продуктов  жизнедеятельности человека (зелёная  -ул. Сосновый бори лесная зона .) В микрорайонах снег содержит физические примеси – песок, листья деревьев, отходы жизнедеятельности человека  (биогенный и антропогенный фактор)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). Сопоставляя все результаты наблюдений и исследований, можно предположить, что потенциальные источники загрязнения снежного покрова в нашей местности – автодороги и железная дорога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нализ результатов исследования показал, что химические примеси в пробах снега и дождевой воды невелики, т.е. загрязнение природных осадков, а, следовательно, воздуха умеренно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3). Из исследуемых микрорайонов наиболее  загрязнёнными участками станции являются улица Шоссейная, кирпичный завод и ул. Мира, территория ФАПа, где близость предприятия, автодороги, практически не отделены от жилой зоны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813888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екоменд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08240" y="928440"/>
            <a:ext cx="6478560" cy="52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.к. содержание примесей в снежном покрове наибольшее около автодорог, то необходимо отделять жилую зону от них с помощью активного озеленения станции. Особенно это касается микрорайонов с малой санитарной зелёной зоной. Довести до сведения  администрацию станции Мстёра о результатах работы. Провести работу в школе и принять участие в благоустройстве и озеленении 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алая и дождевая вода содержит меньше различных ионов, чем водопроводная, значит при дополнительной фильтрации или отстаивания, ею можно пользоваться для полива комнатных растений и рассады, особенно если брать снег подальше от дорог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91" name="Picture 4" descr="54"/>
          <p:cNvPicPr/>
          <p:nvPr/>
        </p:nvPicPr>
        <p:blipFill>
          <a:blip r:embed="rId1"/>
          <a:stretch/>
        </p:blipFill>
        <p:spPr>
          <a:xfrm>
            <a:off x="-714240" y="-268200"/>
            <a:ext cx="3357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5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5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5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5:26:33Z</dcterms:created>
  <dc:creator>школа 2</dc:creator>
  <dc:description/>
  <dc:language>en-US</dc:language>
  <cp:lastModifiedBy>1</cp:lastModifiedBy>
  <dcterms:modified xsi:type="dcterms:W3CDTF">2011-11-30T19:06:32Z</dcterms:modified>
  <cp:revision>39</cp:revision>
  <dc:subject/>
  <dc:title>МОУ «СОШ №2» г. Нефтеюганск-2005г.</dc:title>
</cp:coreProperties>
</file>