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CE8B-1E6B-4B14-AF1C-59A75FCA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0BA0-31ED-4643-82E3-4AC8072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5EE86-83ED-41D1-81D0-A06AFD4B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6C78B-B315-4549-942F-F96B64CD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82DC-71D8-46ED-9DBB-1CA9044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99D06-3A25-439B-A3A8-14E03A3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7325-F0D9-494C-9E17-AA97401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16F58-68F9-4B5A-BE1C-A8A627B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1CFD9-5FD6-4DF2-B000-F7F189E8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A2C23-21F2-4CF0-B9CB-A8DD8A7D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9611-E726-48F5-ACB7-46EB0253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EE265-1FA7-48E0-BE3E-2E37DA1A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88F6-2093-47C8-8E37-1FE76261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79577-40EC-47FA-A5B5-75D8CAC8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A19B4-522B-4D16-A5CF-95FF2052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6760E-B586-4D2A-896C-CAA35F30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53EC2-8300-47AF-A89D-679CA0B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26FF0-4D0D-4D64-A29B-B23F9DAE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278D8-EBBC-4AF0-AD46-3A41953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EC22E-383B-43CA-93D0-EC57176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EC9DE-A450-4BD8-87C5-25B29BA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119AD-EBA5-4524-A719-ED1A9DD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B220D-8A27-4458-B696-CC9CFEFE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B819-21B8-4838-A692-641B200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DB3DD-9C51-4BD0-8D84-52E2DF22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6D4C-AC37-4BFD-8F97-4A68C418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25349-506F-4DD3-AF03-3F1D3F4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D28B4-3B1A-4DA7-800D-8C9824E2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1D5BA-67A5-47FA-A773-441E568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8A2F2-CD05-43E1-8294-17B3CD2C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07F8B-9346-48DF-A896-AEF6A83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8DC7A-E4F4-4D0D-AFC5-1ECA4C9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7221C-9BF3-4560-8C22-4391A95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69978-CDE2-4EEA-9E75-39E0EEA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32DF-237E-482E-943C-BE0F9D3E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3B4CE-4E80-4A1A-A718-CF61149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FD175-9D6A-4793-B944-87EAD628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AEFF8-0D5C-44D4-B588-9E763200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1FB66-B0BF-48F1-8A8A-FAE8035F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6130D-49B5-442E-83E2-FDEFBAA6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7D52C-5078-406C-9CE0-7C0E87B1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40BEB-BE8B-45B1-828E-C148584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FF9DB-2ABC-40F0-9190-46D4A71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B6FE8-D318-4D08-896E-1080488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43FD3-3713-4CD9-A993-1ED99BD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EE6C-AEE7-41B2-ACF1-06CA7AC1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73DCA-729C-414D-BDE4-DBCA89C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9B043-FECD-45E5-B48F-133AE5A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96A5A-B5BD-4BE4-B358-23E36DB3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B0230-D957-40DD-B95F-BDBF293F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E030-4463-4D86-A2D3-99E80C81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1C3-E573-4581-B43C-350B9FA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3D1-8CF1-48FC-94FE-E6F4F832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463-AD47-444E-96FF-90BC660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45C-429F-4B71-850B-62FEFDB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DA5C-0A65-4276-99AB-D8C8E14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5C34-3B65-4D01-88CF-E32CE292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7FC0-F785-46F2-82A2-18D6393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AAB3-75E8-44D4-9F73-2DB7F6B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6515-F7F3-4F36-9CEB-164EC17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5BA1-AF95-4A7D-91C0-B50DBD71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0D0-C2F5-4761-8E9A-70B0DE11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4AC6-6540-44F1-8931-373CC427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2A8F-E3E8-4BDF-9A1C-C44BF7D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D1EC-9BA0-4763-A8CF-435B6D6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D143-EDC1-4B3B-A20A-38AC3680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9F7C-F34D-4E5C-AC76-E982D301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69A2-E038-4754-8657-48009C5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67A0-E537-477D-B3E9-A7E39FE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857E-E546-47A6-8277-E2CD62B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71A9-EA87-4FBA-BF15-C47551A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72AF-4B1E-4737-A95E-357BBF8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2FBB-97E9-4479-B086-C518A02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47B2-CB6F-4C82-AB59-D785B220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A6E0-7FA2-48F3-A8BB-05CF0752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E2D0-9801-497A-A08F-F2523DB1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DFDD-C1A3-4A95-B358-7247ED7C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FBE3-0F51-48BE-9D6B-B96CC57F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158F-1F74-40C1-9CD5-385A7EEE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E01EB-6243-46EA-A371-F69CD8D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C92E-1F79-4C7F-8DAD-CD6F0DF1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2A24E-7D98-469F-979C-DE9846EC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B6B4-D83D-491C-BBA0-AF37F75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9607-A99F-4B2F-B08E-85EBFBA8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3691-675F-4F54-B1B3-A695E560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86AC-0B50-49C5-9C5A-E1E67BFA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19F7-43A5-4D92-A94A-CC58762E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C420-9B9D-4437-BCF7-569B9904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F7D2D-E29B-47AB-BBCF-7A1D04A7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48CE-5CF0-48C3-99F7-0F0AB3C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E320-417F-4A7D-8782-9B26DC5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53738-EFEA-448E-B8FA-D1F47811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DB82-C4B1-4495-8BF4-DD59D1E4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7620-9256-47FC-B505-1F6B6FBB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9034-F166-46E6-A55C-3CE88300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557E-A3C8-458A-B341-1D901ABE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C9A7-145F-4857-83F7-1ADF6C64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25F8-FC99-4DFB-A886-33230A6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43EB-423B-4FC5-9FE6-8E6EAC42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F08B-387F-481F-AFE1-5DB6476F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158D-4430-49C8-85E3-8C3DB7D3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5C223-AF62-4362-AA99-C141F9A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D075-B2EF-452A-88B1-69FB89A4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FAD51-7EFA-421A-9963-4ECDA8CD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E1ED-2325-4B3D-A4B6-D576982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E1FA1-D92C-42E3-93CB-C3C1F22B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2001-C985-492E-A8D3-6976CCC3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142FD-BB9B-4702-A211-75E2844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68017-78E9-45A5-93CE-314ED9A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FB9B-FE73-41F7-BA1F-F4F8080B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B6B6-9087-4EB2-9283-F755B08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327E-F372-4AC8-B755-72F4EE6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F202-DBC2-4EC3-8863-A62BDFB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EDBE-09C7-4D58-ABCE-49963F00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A657-FEA3-4CE9-9F39-6B3C615C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560A-3ABE-4536-BD55-9BF498E5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9231-37C0-4227-BD63-567D1C6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BD786-560C-4B73-ADDF-52718B82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77FD-CCE4-4C08-92EC-71AADC18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A3F94-DB9C-46DD-963D-91284A6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F1C5-88B7-48DA-B206-C66BC276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37D5-3376-4607-B9FD-33035E5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FF10-4DF1-454F-B07C-11C70C8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F4C5-0DA8-4C5C-80A8-7401766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0CD62-6274-470B-B57F-5A49A02C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D0AB9-017B-4C58-A90F-58DEDB4E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77CD-97FE-4D05-B262-1FFD05EB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B88D-C4D3-451A-8783-123AAA5A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5FC1-8D0C-4D8E-A2F6-D6F66CAE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9866-C3C6-4E47-BB40-12A26FD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FDAF-9B18-472C-BEC7-14064415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E8653-A0C8-4382-8D79-A824BCCC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37429-90F7-43A9-8810-3658D452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5FC7-C8A1-4D0B-8C52-7AB9207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0AB1F-9612-40AB-9BFA-4833E7BD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6D598-972A-4D26-AA7C-135C69F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F5C3C-B416-46F7-B59C-7380548D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0BC8C-5C4B-48CF-9044-7FA1CAC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EE8B4-12CF-47BA-890A-DA39FE2F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911C-7488-4C20-AA60-C2A7C6BB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9C22-0FCB-4F7E-8B33-DD0D535F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EB6B0-84B7-4FAC-8CF2-9987E832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D8EBB-B368-4ACF-8D10-C0FA1F8B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40696-85B2-40A1-A63F-2BF121F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736-E138-405F-BACC-17D63D7EB6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1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FAA3-1F7F-4FA4-87CB-7027538F9F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94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D240-C34F-4EA8-B645-7BA2EC0818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4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AA5-22AF-47B9-8BB2-9AF158AB7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4CC-20BD-4775-B43B-1A7F5783D7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B0D1-1B03-4795-BC99-9F792352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71D7-3360-4B35-99BE-7C3AEC86D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C3F-DDBC-4350-967E-DBB5F32D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208-629E-4B76-8BA0-27671A43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2865-D849-4886-AE93-37D5D26DE6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D5F7-C8A5-447D-9923-65D27403CC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6CD1-17BE-4E2F-B098-38DCEDA8F2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«Нельзя открыть нового мира, не зная старого»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ь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уппа родственников, живущих в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ство, объединение людей, сплоченных общими интерес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Определить понятие «семья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Выяснить, какая семья может называться счастливой семьей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rcRect l="-430" t="20599" r="103" b="1842"/>
          <a:stretch/>
        </p:blipFill>
        <p:spPr>
          <a:xfrm>
            <a:off x="1116000" y="225360"/>
            <a:ext cx="68407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79280" y="304920"/>
            <a:ext cx="878544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ТЫ И ТВОЯ СЕМЬЯ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пределить понятие «семья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Выяснить, какая семья может называться счастливой семьей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Члены семьи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АБУ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С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Т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П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ЕДУ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Р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ЯД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1000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bd71"/>
                </a:solidFill>
                <a:latin typeface="Arial"/>
              </a:rPr>
              <a:t>СЧАСТЛИВАЯ СЕМЬЯ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Arial"/>
              </a:rPr>
              <a:t>СЕМЬ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67ff"/>
                </a:solidFill>
                <a:latin typeface="Arial"/>
              </a:rPr>
              <a:t>7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1484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2:15:10Z</dcterms:created>
  <dc:creator>Лиля</dc:creator>
  <dc:description/>
  <dc:language>en-US</dc:language>
  <cp:lastModifiedBy>Лиля</cp:lastModifiedBy>
  <dcterms:modified xsi:type="dcterms:W3CDTF">2009-12-03T01:07:00Z</dcterms:modified>
  <cp:revision>6</cp:revision>
  <dc:subject/>
  <dc:title>«Нельзя открыть нового мира, не зная старого»</dc:title>
</cp:coreProperties>
</file>