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73E24-B349-4CE4-A0AF-2131FD48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003AC-F1C4-4BF1-9304-0775C21A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928BF-EF19-4BF3-977E-B0E8CF53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3B12D-C706-4839-860D-F271096E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186CD-FC70-468A-944E-1673B6DB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7B287-6B70-4BB0-9290-F942BE23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7EE1D-01C3-4439-9D76-B1E73C43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22F83-DF66-4795-B716-C06AAC8F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40A2E-3453-4545-802A-AF9263A1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593F1-E8D8-4860-851B-E9357766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DEAA7-CEE2-48AE-98DF-0AC6E8EC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218B5-2B33-45DE-9C53-87A598AC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908E9-8804-45D4-9A31-A932B715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B5ED2-7F89-4D52-B99C-E013DADD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72D0F-2FE9-42C7-B216-6C7819E0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050DB-654E-4660-B183-32BAB253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5CDBB-DB4E-4A52-BBAB-56E5A6D0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8B7F0-716C-4611-8A58-813F337C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EDF4E-FF4A-436C-98E7-E1676B1D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E4945-1B54-4533-B7C1-30221559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49A3F-CCC3-4BFE-A1CA-319ECD29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0E8D9-151D-4117-9B2A-9D5B05CF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6349D-BE29-4BEA-B39C-6F1B0C9D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45157-0C5B-4D28-8C61-69F05756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11517-42F2-4A8C-A605-E215BA35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F6BD1-0558-43DE-8973-CD3D49C5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E6FC3-170B-41C2-A031-BC3EE57B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FF075-A025-4B04-B21F-F0FD8E4B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E22E5-B6C7-4A86-BF5C-2EB7CEEA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68535-13F2-49B0-99CF-F8E2B959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852DC-5EA3-4D59-9071-3F0F0890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50EB5-7E8E-4067-AA59-1C589879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B7F87-1F6F-45E6-A748-69E585E5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93555-FE08-4FA4-A3D3-86A46D99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511B-9428-453A-A524-04941FC9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38D0F-DB8E-46F1-824A-0614FA0C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CAC64-6738-416B-9E37-E4677DCB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3E1A0-2926-4C6E-8D89-283B7E36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0BAEA-F241-4135-8716-657A62DA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9A240-D7E8-4B7F-B25E-76C2D8A0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85A22-6096-4084-A928-6DE0617E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C2EC9-94C7-4B6F-B688-FC2A7ED2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E8149-0BC3-4FB4-81D3-A30B621F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9CEDF-AF55-46A2-B281-8F1710C5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E893F-D922-4365-B923-1F4951CB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E1EC-4482-4995-BED7-E9E277F2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79336-75E4-4075-A2BF-EBA055EF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C90C2-86BC-458D-BB19-1F871E85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F1A1B-4FF3-4920-8FE7-09A9EF12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7CD8B-87CB-4067-A36F-31109459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54FCB-3B11-4127-AC19-DE026D35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F5B2-49CD-429C-A7DD-715B4A05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67C6-8D29-4BBE-829B-C11A845A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ADA8-D789-4172-AEC3-FE507A5E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45A1-CAAF-4A00-BFE4-FA137700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42CA-CC8E-4293-903E-438533BC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F0FC7-170D-4745-AEBF-486076F0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B382-B22D-49CB-B3F7-74D43C15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0E2F-95C4-4B43-81AC-EA787577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7901-78EB-4765-AE02-06A289CD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5B0D-88DD-4852-9C01-894DA038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0A55-DFE7-424F-8ADD-0179F553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C9B6D-B6E6-4291-A0BC-4F66270D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9F0AA-EF55-41C9-9FB6-1E5A7907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A7CB9-6E4A-4E19-AA73-1AB51C8F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17700-D9A2-4AA7-9AE7-215544F2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087BC-23B1-410A-8490-A557730A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D4355-A865-48C5-90A4-B7598F65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06FEF-CE03-4AE9-8092-57FA55B6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4DA8A-0E96-4D09-B1E7-0FB9A5C7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6ED58-AA4A-4B68-9CE7-F921A707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3D653-2613-4FC7-931C-9ADCEE7E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D0D4B-43FB-49E4-BABB-85FCC8E7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89110-BC27-4A3D-83F7-F22F133A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7B4EC-A5DF-424D-AB7F-694AF318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EC97A-99F1-48E4-B933-B8266AB4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B0516-56B5-42F6-BE1D-3C443E5D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C86F5-5511-4DFE-A531-C4992470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4F825-2FC0-4EB9-902E-661175EA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8B863-1632-4950-B55A-B991B7DC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B8DD8-EE5D-488F-B544-454715B3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6F72F-9B26-4091-A59A-34C8727D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DB7F9-A27F-4CF3-834E-164AE23B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EF6B3-B4C6-4B05-B75E-7A352F73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BC8C6-C575-4AB3-BE9A-5F94C9C3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1759D-1778-44B7-9C5B-6B0C3011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0A0FB-CADD-4BDE-90D3-C631E57C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C393B-2D08-49FF-BC90-1972CF95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8E525-0852-49A9-8A35-0F6242A2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73323-B0E6-48E6-9C69-82E21368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AC75F-D0B7-4E0C-AC19-94B80044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55453-898E-427E-821C-1B898325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82840-F519-40FD-B617-026BC1EB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78ED2-34A2-41CF-88B2-CFEAF69B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10326-C298-487E-B36A-BDC83C2F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3B6F4-E915-4AA2-AC8C-C91CC1BA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03055-EC61-43AB-86A2-16325C8D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EB8D3-DCFA-46F8-914F-1A2249A8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44F73-D15D-4CFE-BB56-9657F04E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7E246-8F99-4150-85C9-2B8DFA5F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8B4D0-0EE5-472A-8624-5908B264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8EF2A-F052-497B-A3A2-F5172E36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7BC9C-6BC8-4FF0-B497-2184296A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72B6C-AB97-47D9-9FAE-986C86EA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BA0E0-986A-48A2-A1FD-897B2F23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8BA7F-33DC-4F47-A97A-B24E896C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1B9B6-A8A3-4EBD-A30B-31B38375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90F27-1B99-497B-904E-F66B2537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62B8E-2C5E-4584-BDF3-2D91D16F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B378C-6838-4517-910A-AD6D3751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8D988-8CC1-4797-A8F0-CB76767C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C65CA-7082-44FB-9551-A2B61865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8253D-825B-456B-BBFF-437BB972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D73EA-0605-4210-A316-F4579B99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8EB5F-C579-4ED1-933C-1F32C7BE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0086C-4966-4AAA-8E18-C65D6D2E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77119-3986-49F7-A78F-91ACC0A0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AD13F-66E4-4D9E-BCA9-66191D68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8FB5D-E09B-48E8-B104-EF1777B1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C9245-6168-4AF7-9568-8A721D9F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74FBF-51E0-4FE8-AEA1-78CBD759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85C02-1DCF-4CE5-8BCF-E90CDB90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29936-AE2C-4892-AEF9-1B6F1E7D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2037B-E970-4B7B-A175-CFF7ACFC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9FEEF-FD2B-4216-AA48-B27F6334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82B3F-2840-4A2F-83C6-9D0CF4CF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0B26C-6A41-43A3-833E-30484DCC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ABD8E-1A16-4EEF-849C-87163DF5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FB592-9053-44B3-8554-B2BF070A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55A10-428B-4674-9BDD-64189193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04EEC-86FD-4F4D-AA9E-FA89E0D0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4878B-C172-4442-83F8-B18BC36C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39CAD-AFA3-448D-BB7D-83A49362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7EC70-5F5C-4A62-8D6C-3EF1BDEA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B4C40-19DD-4903-A682-A0F344F1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7DB52-C8A4-44FD-BBF9-489A7728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C591E-9BB6-4BC1-9A87-BCF30776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69C5F-D1A8-4EA3-9826-54C11E58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98CF5-42F5-457A-91C1-5BEEEE59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B8975-DD5E-4AD2-A9B7-62C2E226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355E5-5731-4BF2-BB4A-C52AD7A8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AB6F8-18C4-444D-8233-EA4CEF3D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1640B-B53C-4DF3-BB77-E3E69541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A8485-FFCA-4C48-BAB5-4F734508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C16A-6B4E-468B-8B0E-578D4683DEC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1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7872-BE0C-42BA-8616-78351A15FB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694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7BD6-4414-4B59-8283-956075398D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741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F9CC-9E36-4EDC-93C7-C5096DC44B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26AF-82B3-488F-951F-ADF48FF9302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1A9A-1EF2-4EA3-957F-31F3441EB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1BBD-8AFE-4A67-BBBC-987933BBE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4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6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8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9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053A-8B02-4FC4-B7C7-4757CF1B6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5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6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8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0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45E0-C5AD-42D5-A675-94A97C4F7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C0E4-8510-43ED-AAFE-E48FDD40EB2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0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515D-BBAF-4F33-90BD-782C612F4A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4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AEA2-1DE3-4902-B5DC-E97F52AB36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Tahoma"/>
              </a:rPr>
              <a:t>«Нельзя открыть нового мира, не зная старого»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мь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уппа родственников, живущих вмес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динство, объединение людей, сплоченных общими интерес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Определить понятие «семья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Выяснить, какая семья может называться счастливой семьей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rcRect l="-430" t="20599" r="103" b="1842"/>
          <a:stretch/>
        </p:blipFill>
        <p:spPr>
          <a:xfrm>
            <a:off x="1116000" y="225360"/>
            <a:ext cx="684072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179280" y="304920"/>
            <a:ext cx="878544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4175280" cy="61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64216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ТЫ И ТВОЯ СЕМЬЯ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Arial"/>
              </a:rPr>
              <a:t>Цели урока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Определить понятие «семья»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Выяснить, какая семья может называться счастливой семьей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Члены семьи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АМ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БАБУШ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ЕСТ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ТЕТ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АП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ЕДУШ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БРА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ЯД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0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0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1000" fill="hold"/>
                                        <p:tgtEl>
                                          <p:spTgt spid="8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bbd71"/>
                </a:solidFill>
                <a:latin typeface="Arial"/>
              </a:rPr>
              <a:t>СЧАСТЛИВАЯ СЕМЬЯ: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00"/>
                </a:solidFill>
                <a:latin typeface="Arial"/>
              </a:rPr>
              <a:t>СЕМЬ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767ff"/>
                </a:solidFill>
                <a:latin typeface="Arial"/>
              </a:rPr>
              <a:t>7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572000" y="1484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572000" y="429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22:15:10Z</dcterms:created>
  <dc:creator>Лиля</dc:creator>
  <dc:description/>
  <dc:language>en-US</dc:language>
  <cp:lastModifiedBy>Лиля</cp:lastModifiedBy>
  <dcterms:modified xsi:type="dcterms:W3CDTF">2009-12-03T01:07:00Z</dcterms:modified>
  <cp:revision>6</cp:revision>
  <dc:subject/>
  <dc:title>«Нельзя открыть нового мира, не зная старого»</dc:title>
</cp:coreProperties>
</file>