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0.jpeg" ContentType="image/jpeg"/>
  <Override PartName="/ppt/media/image3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DFD2-8C6F-457A-A026-51A1E8622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A70B-6436-45F7-86ED-BCDCECB9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2545-5690-4E28-A2ED-EA6CB95EA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56C7-004B-4C37-92DC-91382E3F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9E9C-95D9-4730-A654-6C0972AB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C66C-8130-42D3-8C68-CE881A2A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0CFC-9172-4E8E-B8A8-4050F8AA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4286-0B19-4DF3-A002-18977C4A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B5F4-2A20-4631-A273-0C6311D6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729A-74D5-489C-80F0-616DE28C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C127-B690-43E4-91D5-A7FBF141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B1B0-260E-4286-BA1D-73E713A1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D24A-E8C3-49F1-988C-E438721DE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819520" y="2819520"/>
            <a:ext cx="5918040" cy="355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20834400">
            <a:off x="225360" y="1123560"/>
            <a:ext cx="8534520" cy="93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4268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"Пленительное кружево ладони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4268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4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830840" y="152280"/>
            <a:ext cx="4087800" cy="5334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41482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686040" cy="5105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657600" y="27432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7960" y="717480"/>
            <a:ext cx="812808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962520" y="3963960"/>
            <a:ext cx="518148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03680" y="0"/>
            <a:ext cx="454032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5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930920" y="533520"/>
            <a:ext cx="4213080" cy="6324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8769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5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258840"/>
            <a:ext cx="914400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4608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3520" y="-14400"/>
            <a:ext cx="80769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02160" y="0"/>
            <a:ext cx="464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1-30T18:52:3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