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6DB-F8CF-47C1-8DB5-7C7A2A5A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91C-8539-45C5-92D6-19CA5BC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E1F-22AE-4275-8FAB-964CA4AE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E57-3147-4E9F-86FC-851C8D7A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AB6-9B41-415C-89A7-5B902A5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6F3-CBF4-46C4-A7E0-BD89A930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581-2850-426A-8DFB-BD6965B3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9FE-A211-4045-98FC-DE3E404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37A-02D8-47D0-A829-B6632D0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814-4F08-496A-B784-B5140E9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4BF-3D24-47A8-B48A-E5B8ECF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580-74F7-479C-B330-203E6E1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2C41-78C9-4537-A707-1C0A849D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5918040" cy="35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0834400">
            <a:off x="225360" y="1123560"/>
            <a:ext cx="853452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268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"Пленительное кружево ладони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268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30840" y="152280"/>
            <a:ext cx="4087800" cy="533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4148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86040" cy="510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62520" y="3963960"/>
            <a:ext cx="5181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03680" y="0"/>
            <a:ext cx="45403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30920" y="533520"/>
            <a:ext cx="4213080" cy="63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-14400"/>
            <a:ext cx="807696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02160" y="0"/>
            <a:ext cx="46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30T18:5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