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1.gif" ContentType="image/gif"/>
  <Override PartName="/ppt/media/image14.png" ContentType="image/png"/>
  <Override PartName="/ppt/media/image10.jpeg" ContentType="image/jpeg"/>
  <Override PartName="/ppt/media/image7.jpeg" ContentType="image/jpeg"/>
  <Override PartName="/ppt/media/image15.gif" ContentType="image/gif"/>
  <Override PartName="/ppt/media/image20.png" ContentType="image/png"/>
  <Override PartName="/ppt/media/wind.wav" ContentType="audio/x-wav"/>
  <Override PartName="/ppt/media/image6.png" ContentType="image/png"/>
  <Override PartName="/ppt/media/image21.gif" ContentType="image/gif"/>
  <Override PartName="/ppt/media/image19.gif" ContentType="image/gif"/>
  <Override PartName="/ppt/media/image1.gif" ContentType="image/gif"/>
  <Override PartName="/ppt/media/image16.gif" ContentType="image/gif"/>
  <Override PartName="/ppt/media/image9.jpeg" ContentType="image/jpeg"/>
  <Override PartName="/ppt/media/image18.gif" ContentType="image/gif"/>
  <Override PartName="/ppt/media/image13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8.gif" ContentType="image/gi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1B56-5CC5-439F-8268-66A37915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1E71-CB5E-4B60-A44E-C280ED7C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37F4-9A33-4143-AB6A-D6E0BEC5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6E5B-013B-4421-8DF3-8558D1919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D10E-B77B-4F25-B2F3-8F01B0F0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B118-E523-4269-92C8-11786D39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D9FD-7A81-4F3C-B898-C5FF4FF4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1333-0D72-4856-98AB-2E638B6F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1591-FA97-40CD-A258-C494D709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834F-7277-426C-A779-292D1B8C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1F1C-62A2-4E48-B2B5-A291486C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E929-32A2-47C9-91E6-DD15BF01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ED3A-60A3-4E4D-9365-91BBAE291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png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audio" Target="file:///tmp/home/.config/libreoffice/4/user/gallery/drumroll.wav" TargetMode="External"/><Relationship Id="rId5" Type="http://schemas.microsoft.com/office/2007/relationships/media" Target="file:///tmp/home/.config/libreoffice/4/user/gallery/drumroll.wav" TargetMode="External"/><Relationship Id="rId6" Type="http://schemas.openxmlformats.org/officeDocument/2006/relationships/image" Target="../media/image6.png"/><Relationship Id="rId7" Type="http://schemas.openxmlformats.org/officeDocument/2006/relationships/audio" Target="../media/wind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600720" cy="3673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00000" y="476280"/>
            <a:ext cx="727236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оценты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4292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371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64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9999"/>
                </a:solidFill>
                <a:latin typeface="Arial"/>
              </a:rPr>
              <a:t>1/100= 1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54764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9999"/>
                </a:solidFill>
                <a:latin typeface="Arial"/>
              </a:rPr>
              <a:t>0,01=1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659640" y="4149720"/>
            <a:ext cx="208908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Arial"/>
              </a:rPr>
              <a:t>Правила перевода десятичной</a:t>
            </a:r>
            <a:r>
              <a:rPr b="0" lang="en-US" sz="40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66ff"/>
                </a:solidFill>
                <a:latin typeface="Arial"/>
              </a:rPr>
              <a:t>дроби в проц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О, 85 * 100 = 85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4,25 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0,4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1,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716360" y="3068640"/>
            <a:ext cx="3456000" cy="2936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Arial"/>
              </a:rPr>
              <a:t>Правила перевода процентов в десятичные дроб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45%= 45 : 100 =0,4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24,5% 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5%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1,2%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64000" y="3500280"/>
            <a:ext cx="3456000" cy="25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Forte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79280" y="1600200"/>
          <a:ext cx="8507520" cy="4525920"/>
        </p:xfrm>
        <a:graphic>
          <a:graphicData uri="http://schemas.openxmlformats.org/drawingml/2006/table">
            <a:tbl>
              <a:tblPr/>
              <a:tblGrid>
                <a:gridCol w="2376720"/>
                <a:gridCol w="720720"/>
                <a:gridCol w="1008000"/>
                <a:gridCol w="718920"/>
                <a:gridCol w="936720"/>
                <a:gridCol w="936720"/>
                <a:gridCol w="790560"/>
                <a:gridCol w="101916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Дроб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/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/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/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/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Десятичная дроб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,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,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,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,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Процен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Вопросы по те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Что называют процент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Как обратить десятичную дробь в процен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Как перевести проценты в десятичную дроб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580000" y="4076640"/>
            <a:ext cx="1930320" cy="24973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788000" y="234936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91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508720" y="1844640"/>
            <a:ext cx="2270160" cy="2808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139840" y="538200"/>
            <a:ext cx="4737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187280" y="4581360"/>
            <a:ext cx="6769440" cy="201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ОЗДРАВЛЯЮ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0"/>
            <a:ext cx="61927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990033"/>
                </a:solidFill>
                <a:latin typeface="Arial"/>
              </a:rPr>
              <a:t>Очень хорошо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1916280"/>
            <a:ext cx="374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66ff"/>
                </a:solidFill>
                <a:latin typeface="Arial"/>
              </a:rPr>
              <a:t>Вы изучили процен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684360" y="501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7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70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4745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508720" y="765000"/>
            <a:ext cx="1846080" cy="2519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26920" y="981000"/>
            <a:ext cx="3457800" cy="4896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333399"/>
              </a:gs>
              <a:gs pos="100000">
                <a:srgbClr val="bbe0e3"/>
              </a:gs>
            </a:gsLst>
            <a:lin ang="5400000"/>
          </a:gradFill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32000" y="1628640"/>
            <a:ext cx="2448000" cy="37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8080"/>
                </a:solidFill>
                <a:uFillTx/>
                <a:latin typeface="Arial"/>
              </a:rPr>
              <a:t>Домаш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8080"/>
                </a:solidFill>
                <a:uFillTx/>
                <a:latin typeface="Arial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98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468360" y="6391440"/>
            <a:ext cx="8207280" cy="1378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8604360" y="189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250920" y="5516640"/>
            <a:ext cx="61920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5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44444E-006 1.48148E-006 L 0.94879 1.48148E-006 E">
                                      <p:cBhvr>
                                        <p:cTn id="210" dur="5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1" dur="1" fill="hold">
                                    <p:stCondLst>
                                      <p:cond evt="end">
                                        <p:tn val="209"/>
                                      </p:cond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зн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АУЧИТЬСЯ переводить десятичную дробь в проц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АУЧИТЬСЯ переводить обыкновенную дробь в проц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АУЧИТЬСЯ переводить проценты в обыкновенную дроб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АУЧИТЬСЯ переводить проценты в десятичную дроб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148360" y="1600200"/>
          <a:ext cx="3095640" cy="434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8360" y="1600200"/>
                    <a:ext cx="3095640" cy="43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533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3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3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3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1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3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9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3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0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Задание №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Выясните, в каком кружке верно записано число, нажмите букву, ему соответствующую. В результате получите слово, которое мы будем использовать в дальнейшем на уроках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1) Пять целых две десят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2) Нуль целых восемь тысяч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Arial"/>
              </a:rPr>
              <a:t>3) Три целых двадцать пять тысяч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4) Шестнадцать целых пять сот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5) Восемнадцать целых восемь сот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6) Пять целых пятнадцать десятитысяч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7) Тридцать четыре целых сто пять тысяч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1916280"/>
            <a:ext cx="64764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67640" y="1916280"/>
            <a:ext cx="72072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1916280"/>
            <a:ext cx="64764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716360" y="1844640"/>
            <a:ext cx="36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659640" y="1844640"/>
            <a:ext cx="36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459640" y="1844640"/>
            <a:ext cx="36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/>
          <p:nvPr/>
        </p:nvSpPr>
        <p:spPr>
          <a:xfrm>
            <a:off x="4643280" y="2565360"/>
            <a:ext cx="720720" cy="647640"/>
          </a:xfrm>
          <a:prstGeom prst="ellipse">
            <a:avLst/>
          </a:prstGeom>
          <a:gradFill rotWithShape="0">
            <a:gsLst>
              <a:gs pos="0">
                <a:srgbClr val="c40839"/>
              </a:gs>
              <a:gs pos="100000">
                <a:srgbClr val="cc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27640" y="2637000"/>
            <a:ext cx="720720" cy="647640"/>
          </a:xfrm>
          <a:prstGeom prst="ellipse">
            <a:avLst/>
          </a:prstGeom>
          <a:gradFill rotWithShape="0">
            <a:gsLst>
              <a:gs pos="0">
                <a:srgbClr val="c40839"/>
              </a:gs>
              <a:gs pos="100000">
                <a:srgbClr val="cc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96360" y="2637000"/>
            <a:ext cx="720720" cy="647640"/>
          </a:xfrm>
          <a:prstGeom prst="ellipse">
            <a:avLst/>
          </a:prstGeom>
          <a:gradFill rotWithShape="0">
            <a:gsLst>
              <a:gs pos="0">
                <a:srgbClr val="c40839"/>
              </a:gs>
              <a:gs pos="100000">
                <a:srgbClr val="cc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435640" y="2637000"/>
            <a:ext cx="360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020000" y="2637000"/>
            <a:ext cx="288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8360" y="2637000"/>
            <a:ext cx="289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/>
          <p:nvPr/>
        </p:nvSpPr>
        <p:spPr>
          <a:xfrm>
            <a:off x="3995640" y="3213000"/>
            <a:ext cx="720720" cy="64764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92720" y="3357720"/>
            <a:ext cx="720720" cy="64764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48360" y="3357720"/>
            <a:ext cx="720720" cy="64764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0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716360" y="3284640"/>
            <a:ext cx="295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012000" y="3357720"/>
            <a:ext cx="257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667640" y="3357720"/>
            <a:ext cx="209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/>
          <p:nvPr/>
        </p:nvSpPr>
        <p:spPr>
          <a:xfrm>
            <a:off x="4427640" y="3933720"/>
            <a:ext cx="720720" cy="647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27640" y="3933720"/>
            <a:ext cx="720720" cy="647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028000" y="3860640"/>
            <a:ext cx="720720" cy="6480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,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00720" y="4005360"/>
            <a:ext cx="792360" cy="647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,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093080" y="4076640"/>
            <a:ext cx="228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219640" y="4005360"/>
            <a:ext cx="190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748720" y="3933720"/>
            <a:ext cx="247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/>
          <p:nvPr/>
        </p:nvSpPr>
        <p:spPr>
          <a:xfrm>
            <a:off x="5651640" y="4653000"/>
            <a:ext cx="720720" cy="64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,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885080" y="4724280"/>
            <a:ext cx="720720" cy="648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96360" y="6021360"/>
            <a:ext cx="1009440" cy="647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,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96000" y="6021360"/>
            <a:ext cx="1008000" cy="647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,1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360" y="5300640"/>
            <a:ext cx="936720" cy="64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0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4581360"/>
            <a:ext cx="863640" cy="719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,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6093000"/>
            <a:ext cx="1152360" cy="576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,01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72360" y="5300640"/>
            <a:ext cx="1081080" cy="64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00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32360" y="5373720"/>
            <a:ext cx="1008000" cy="64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292720" y="6093000"/>
            <a:ext cx="257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04000" y="6093000"/>
            <a:ext cx="257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677440" y="6093000"/>
            <a:ext cx="323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427640" y="5300640"/>
            <a:ext cx="228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940360" y="5373720"/>
            <a:ext cx="209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451640" y="5373720"/>
            <a:ext cx="247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788000" y="465300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372360" y="4653000"/>
            <a:ext cx="247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604360" y="4724280"/>
            <a:ext cx="257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79280" y="907920"/>
            <a:ext cx="87138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верь! Ответ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79280" y="2060640"/>
            <a:ext cx="828216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оце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940360" y="4527720"/>
            <a:ext cx="2521080" cy="214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Задание №4</a:t>
            </a:r>
            <a:br>
              <a:rPr sz="2800"/>
            </a:b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Переведите десятичные дроби в обыкновенные. Вы узнаете, кто впервые ввел понятие «процен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1)  1/4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2) 3/4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) 1/5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) 4/25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5) 2/25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6)10/25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7) 12/25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loud"/>
          <p:cNvSpPr/>
          <p:nvPr/>
        </p:nvSpPr>
        <p:spPr>
          <a:xfrm>
            <a:off x="1835280" y="1916280"/>
            <a:ext cx="1224000" cy="626760"/>
          </a:xfrm>
          <a:prstGeom prst="pi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loud"/>
          <p:cNvSpPr/>
          <p:nvPr/>
        </p:nvSpPr>
        <p:spPr>
          <a:xfrm>
            <a:off x="1835280" y="5445000"/>
            <a:ext cx="1008000" cy="676440"/>
          </a:xfrm>
          <a:prstGeom prst="pi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loud"/>
          <p:cNvSpPr/>
          <p:nvPr/>
        </p:nvSpPr>
        <p:spPr>
          <a:xfrm>
            <a:off x="3203640" y="2349360"/>
            <a:ext cx="936720" cy="62712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loud"/>
          <p:cNvSpPr/>
          <p:nvPr/>
        </p:nvSpPr>
        <p:spPr>
          <a:xfrm>
            <a:off x="2771640" y="3573360"/>
            <a:ext cx="1295640" cy="6764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loud"/>
          <p:cNvSpPr/>
          <p:nvPr/>
        </p:nvSpPr>
        <p:spPr>
          <a:xfrm>
            <a:off x="1979640" y="4292640"/>
            <a:ext cx="1079640" cy="676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loud"/>
          <p:cNvSpPr/>
          <p:nvPr/>
        </p:nvSpPr>
        <p:spPr>
          <a:xfrm>
            <a:off x="2050920" y="2997360"/>
            <a:ext cx="1152720" cy="62856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9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loud"/>
          <p:cNvSpPr/>
          <p:nvPr/>
        </p:nvSpPr>
        <p:spPr>
          <a:xfrm>
            <a:off x="2916360" y="4869000"/>
            <a:ext cx="1150920" cy="676080"/>
          </a:xfrm>
          <a:prstGeom prst="pi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,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loud"/>
          <p:cNvSpPr/>
          <p:nvPr/>
        </p:nvSpPr>
        <p:spPr>
          <a:xfrm>
            <a:off x="5435640" y="2492280"/>
            <a:ext cx="1079640" cy="62388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,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loud"/>
          <p:cNvSpPr/>
          <p:nvPr/>
        </p:nvSpPr>
        <p:spPr>
          <a:xfrm>
            <a:off x="7667640" y="2421000"/>
            <a:ext cx="1154160" cy="62712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0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loud"/>
          <p:cNvSpPr/>
          <p:nvPr/>
        </p:nvSpPr>
        <p:spPr>
          <a:xfrm>
            <a:off x="4716360" y="1916280"/>
            <a:ext cx="935280" cy="626760"/>
          </a:xfrm>
          <a:prstGeom prst="pi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loud"/>
          <p:cNvSpPr/>
          <p:nvPr/>
        </p:nvSpPr>
        <p:spPr>
          <a:xfrm>
            <a:off x="6948360" y="1916280"/>
            <a:ext cx="935280" cy="626760"/>
          </a:xfrm>
          <a:prstGeom prst="pi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loud"/>
          <p:cNvSpPr/>
          <p:nvPr/>
        </p:nvSpPr>
        <p:spPr>
          <a:xfrm>
            <a:off x="4500720" y="2997360"/>
            <a:ext cx="936360" cy="62856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loud"/>
          <p:cNvSpPr/>
          <p:nvPr/>
        </p:nvSpPr>
        <p:spPr>
          <a:xfrm>
            <a:off x="6516720" y="2924280"/>
            <a:ext cx="936720" cy="62856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loud"/>
          <p:cNvSpPr/>
          <p:nvPr/>
        </p:nvSpPr>
        <p:spPr>
          <a:xfrm>
            <a:off x="5796000" y="3573360"/>
            <a:ext cx="1008000" cy="6764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loud"/>
          <p:cNvSpPr/>
          <p:nvPr/>
        </p:nvSpPr>
        <p:spPr>
          <a:xfrm>
            <a:off x="7956720" y="3500280"/>
            <a:ext cx="1008000" cy="6764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loud"/>
          <p:cNvSpPr/>
          <p:nvPr/>
        </p:nvSpPr>
        <p:spPr>
          <a:xfrm>
            <a:off x="4572000" y="4292640"/>
            <a:ext cx="1079640" cy="676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loud"/>
          <p:cNvSpPr/>
          <p:nvPr/>
        </p:nvSpPr>
        <p:spPr>
          <a:xfrm>
            <a:off x="6804000" y="4292640"/>
            <a:ext cx="1297080" cy="676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loud"/>
          <p:cNvSpPr/>
          <p:nvPr/>
        </p:nvSpPr>
        <p:spPr>
          <a:xfrm>
            <a:off x="5580000" y="4869000"/>
            <a:ext cx="1079640" cy="676080"/>
          </a:xfrm>
          <a:prstGeom prst="pi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loud"/>
          <p:cNvSpPr/>
          <p:nvPr/>
        </p:nvSpPr>
        <p:spPr>
          <a:xfrm>
            <a:off x="7885080" y="4869000"/>
            <a:ext cx="1008000" cy="676080"/>
          </a:xfrm>
          <a:prstGeom prst="pi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loud"/>
          <p:cNvSpPr/>
          <p:nvPr/>
        </p:nvSpPr>
        <p:spPr>
          <a:xfrm>
            <a:off x="3995640" y="5516640"/>
            <a:ext cx="1297080" cy="676080"/>
          </a:xfrm>
          <a:prstGeom prst="pi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loud"/>
          <p:cNvSpPr/>
          <p:nvPr/>
        </p:nvSpPr>
        <p:spPr>
          <a:xfrm>
            <a:off x="6443640" y="5516640"/>
            <a:ext cx="1297080" cy="676080"/>
          </a:xfrm>
          <a:prstGeom prst="pi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,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667640" y="1628640"/>
            <a:ext cx="4316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300720" y="227664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308720" y="285264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580000" y="177336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771640" y="184464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995640" y="2349360"/>
            <a:ext cx="503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640720" y="342900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Ю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987640" y="292428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148360" y="314172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588000" y="357336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435640" y="407664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885080" y="414972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640720" y="486900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740720" y="566100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780000" y="3573360"/>
            <a:ext cx="502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843280" y="414972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067280" y="465300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771640" y="558972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640720" y="2349360"/>
            <a:ext cx="503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219640" y="530064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516720" y="486900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image0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611280" y="476280"/>
            <a:ext cx="838836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верь! Ответ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619280" y="3168720"/>
            <a:ext cx="6408720" cy="25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имлян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Brush Script MT"/>
              </a:rPr>
              <a:t>Из истории математ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43280" y="1600200"/>
            <a:ext cx="584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 Древнем риме была интересная система дробей. Она основывалась на делении на 12 долей единицы веса, которая называлась асс. Двенадцатую долю асса называли унцией. А путь, время и другие величины сравнивали с наглядной вещью- весом. В ходу были такие названия : «семис»-половина асса, «сектанс» - шестая доля, «семиунция»- полунции и тд. Чтобы работать с дробями, нужно было помнить таблицу сложения, умножения. Для облегчения работы составляли специальные таблицы, некоторые из которых дошли до н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2592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ff"/>
                </a:solidFill>
                <a:latin typeface="Arial"/>
              </a:rPr>
              <a:t>Из истории матема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71280" y="1600200"/>
            <a:ext cx="59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з-за того, что в двенадцатиричной системе нет дробей со знаменателями 10 или 100, римляне затруднялись делить на 10, 100 и т.д. При делении 1001 асса на 100 один римский математик сначала получил 10 ассов, потом раздробил асс на унции и тд. Но от остатка не избавился. Чтобы не иметь дела с такими величинами, римляне стали использовать проценты. Они брали с должника лихву ( то есть деньги сверх того, что было дано в долг). При этом говорили : « не лихва составит 16 сотых суммы долга», а « на каждые 100 сестерциев долга заплатишь 16 сестерциев лихвы». И сказано то же самое и дробей использовать не пришлось! Так как « на сто» звучали по-латыни « про центум», то сотую часть и стали называть процентом». И хотя теперь дроби, а особенно десятичные, известны всем, проценты все-таки применяются и в финансовых отчетах, и в планировании, то есть в различных областях человече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23666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4:46:11Z</dcterms:created>
  <dc:creator>Дима</dc:creator>
  <dc:description/>
  <dc:language>en-US</dc:language>
  <cp:lastModifiedBy>Дима</cp:lastModifiedBy>
  <dcterms:modified xsi:type="dcterms:W3CDTF">2009-01-29T18:35:07Z</dcterms:modified>
  <cp:revision>6</cp:revision>
  <dc:subject/>
  <dc:title>Слайд 1</dc:title>
</cp:coreProperties>
</file>