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464-35AF-4F42-A428-111700EE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8BB-CA58-44EC-9AB4-FC664F9B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CD9-B98F-4E50-A15F-27E7E1DC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9984-7ED5-4674-BF16-E13846E5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8228-599F-4D16-8325-4829B593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FF9F-D2FD-4679-8FAC-049E66D5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0CA0-B1D6-48DC-9509-2803D76A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8FE5-43BD-4AF6-AEC1-52319577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9802-631E-487C-9E84-1CDFEEE7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CB76-1A17-4139-BCA6-680B05B2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FC3A-ACC0-4A09-AF5B-996A2FF8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EC4-2CCF-47DD-B26A-65F8B3A8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BAE3-1D44-4B62-BA69-46D56868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8047-0077-4522-B88B-9177330B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03B9-814B-4C93-A4E2-F400C395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BE8A-9A1E-43AE-8C2D-0F106993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1972-1C76-4699-A08F-E85B1345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D49-5AFD-4F16-8373-E3429596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3F6-63CF-4A6A-88A6-E662F673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A90-41CF-44DC-BE08-23E08935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362-38D0-492E-8ED3-B3E02606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830-84CC-49E8-B5CF-C0171A3B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C5E-A68D-45E0-91CC-9D6448C3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21FB-1D17-426F-9ECD-A14D2A9F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37F9-04A3-432B-8AF0-74E2013A83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BC42-AB8C-41D9-8E1C-F3D43E0986D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Человек  - Природа.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Кто кого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 учащихся 4 класса по предмету «Окружающий мир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У «Гимназия №21» г.Каза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ководитель: Хакимова Л.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Вырубка лесополос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Picture 7" descr="29-11-08_1546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8320" y="2351160"/>
            <a:ext cx="3811320" cy="2859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29-11-08_1551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39640" y="2349360"/>
            <a:ext cx="3888000" cy="28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Organization Chart 6"/>
          <p:cNvGrpSpPr/>
          <p:nvPr/>
        </p:nvGrpSpPr>
        <p:grpSpPr>
          <a:xfrm>
            <a:off x="431640" y="243000"/>
            <a:ext cx="8208360" cy="5830560"/>
            <a:chOff x="431640" y="243000"/>
            <a:chExt cx="8208360" cy="5830560"/>
          </a:xfrm>
        </p:grpSpPr>
        <p:cxnSp>
          <p:nvCxnSpPr>
            <p:cNvPr id="143" name="_s1028"/>
            <p:cNvCxnSpPr>
              <a:stCxn id="144" idx="0"/>
              <a:endCxn id="145" idx="2"/>
            </p:cNvCxnSpPr>
            <p:nvPr/>
          </p:nvCxnSpPr>
          <p:spPr>
            <a:xfrm flipV="1" rot="16200000">
              <a:off x="5347080" y="1512360"/>
              <a:ext cx="1250280" cy="2873520"/>
            </a:xfrm>
            <a:prstGeom prst="bentConnector3">
              <a:avLst>
                <a:gd name="adj1" fmla="val 913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1029"/>
            <p:cNvCxnSpPr>
              <a:stCxn id="147" idx="0"/>
              <a:endCxn id="145" idx="2"/>
            </p:cNvCxnSpPr>
            <p:nvPr/>
          </p:nvCxnSpPr>
          <p:spPr>
            <a:xfrm flipV="1">
              <a:off x="4536000" y="2324160"/>
              <a:ext cx="3600" cy="1250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1030"/>
            <p:cNvCxnSpPr>
              <a:stCxn id="149" idx="0"/>
              <a:endCxn id="145" idx="2"/>
            </p:cNvCxnSpPr>
            <p:nvPr/>
          </p:nvCxnSpPr>
          <p:spPr>
            <a:xfrm flipH="1" flipV="1" rot="5400000">
              <a:off x="2474280" y="1512720"/>
              <a:ext cx="1250280" cy="2873520"/>
            </a:xfrm>
            <a:prstGeom prst="bentConnector3">
              <a:avLst>
                <a:gd name="adj1" fmla="val 913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5" name="_s1031"/>
            <p:cNvSpPr/>
            <p:nvPr/>
          </p:nvSpPr>
          <p:spPr>
            <a:xfrm>
              <a:off x="2988360" y="243000"/>
              <a:ext cx="3095280" cy="2081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Полное или частично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уничтожени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лесополо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_s1032"/>
            <p:cNvSpPr/>
            <p:nvPr/>
          </p:nvSpPr>
          <p:spPr>
            <a:xfrm>
              <a:off x="431640" y="3574440"/>
              <a:ext cx="2462400" cy="24991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99120"/>
                <a:gd name="textAreaBottom" fmla="*/ 2379240 h 2499120"/>
              </a:gdLst>
              <a:ahLst/>
              <a:rect l="textAreaLeft" t="textAreaTop" r="textAreaRight" b="textAreaBottom"/>
              <a:pathLst>
                <a:path w="21600" h="21922">
                  <a:moveTo>
                    <a:pt x="3600" y="0"/>
                  </a:moveTo>
                  <a:arcTo wR="3600" hR="3600" stAng="16200000" swAng="-5400000"/>
                  <a:lnTo>
                    <a:pt x="0" y="18322"/>
                  </a:lnTo>
                  <a:arcTo wR="3600" hR="3600" stAng="10800000" swAng="-5400000"/>
                  <a:lnTo>
                    <a:pt x="18000" y="219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Выдувани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почвы,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снижение запасо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влаг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_s1033"/>
            <p:cNvSpPr/>
            <p:nvPr/>
          </p:nvSpPr>
          <p:spPr>
            <a:xfrm>
              <a:off x="3304440" y="3574440"/>
              <a:ext cx="2462400" cy="24991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99120"/>
                <a:gd name="textAreaBottom" fmla="*/ 2379240 h 2499120"/>
              </a:gdLst>
              <a:ahLst/>
              <a:rect l="textAreaLeft" t="textAreaTop" r="textAreaRight" b="textAreaBottom"/>
              <a:pathLst>
                <a:path w="21600" h="21922">
                  <a:moveTo>
                    <a:pt x="3600" y="0"/>
                  </a:moveTo>
                  <a:arcTo wR="3600" hR="3600" stAng="16200000" swAng="-5400000"/>
                  <a:lnTo>
                    <a:pt x="0" y="18322"/>
                  </a:lnTo>
                  <a:arcTo wR="3600" hR="3600" stAng="10800000" swAng="-5400000"/>
                  <a:lnTo>
                    <a:pt x="18000" y="219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Снижени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урожайност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_s1034"/>
            <p:cNvSpPr/>
            <p:nvPr/>
          </p:nvSpPr>
          <p:spPr>
            <a:xfrm>
              <a:off x="6177600" y="3574440"/>
              <a:ext cx="2462400" cy="24991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99120"/>
                <a:gd name="textAreaBottom" fmla="*/ 2379240 h 2499120"/>
              </a:gdLst>
              <a:ahLst/>
              <a:rect l="textAreaLeft" t="textAreaTop" r="textAreaRight" b="textAreaBottom"/>
              <a:pathLst>
                <a:path w="21600" h="21922">
                  <a:moveTo>
                    <a:pt x="3600" y="0"/>
                  </a:moveTo>
                  <a:arcTo wR="3600" hR="3600" stAng="16200000" swAng="-5400000"/>
                  <a:lnTo>
                    <a:pt x="0" y="18322"/>
                  </a:lnTo>
                  <a:arcTo wR="3600" hR="3600" stAng="10800000" swAng="-5400000"/>
                  <a:lnTo>
                    <a:pt x="18000" y="219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Изменение облик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территории,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превращени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в «голую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равнин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емка земли на склона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5" descr="01-12-08_1548"/>
          <p:cNvPicPr/>
          <p:nvPr/>
        </p:nvPicPr>
        <p:blipFill>
          <a:blip r:embed="rId1"/>
          <a:stretch/>
        </p:blipFill>
        <p:spPr>
          <a:xfrm>
            <a:off x="2122560" y="2133720"/>
            <a:ext cx="50418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Разрушение поверхности земли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468360" y="2565360"/>
            <a:ext cx="3816360" cy="2664000"/>
          </a:xfrm>
          <a:prstGeom prst="rightArrow">
            <a:avLst>
              <a:gd name="adj1" fmla="val 50000"/>
              <a:gd name="adj2" fmla="val 358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ушение технологии пахоты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здание карьеров, уничтож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тительности на склон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5076720" y="1916280"/>
            <a:ext cx="3382920" cy="1706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мыв территори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меньшение площади пол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луг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13"/>
          <p:cNvSpPr/>
          <p:nvPr/>
        </p:nvSpPr>
        <p:spPr>
          <a:xfrm>
            <a:off x="5076720" y="4149720"/>
            <a:ext cx="3240360" cy="17780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грязнение воздуха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мывание земли в водоём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ода!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ы не просто необходима для жизни,  ты и есть сама жизнь!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              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                      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А. де Сент-Экзюпери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заботясь о чистоте рек и озёр, челове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м роет себе могил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водопад"/>
          <p:cNvPicPr/>
          <p:nvPr/>
        </p:nvPicPr>
        <p:blipFill>
          <a:blip r:embed="rId1"/>
          <a:stretch/>
        </p:blipFill>
        <p:spPr>
          <a:xfrm>
            <a:off x="971640" y="2852640"/>
            <a:ext cx="34560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грязнение ре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63" name="Diagram 13"/>
          <p:cNvGrpSpPr/>
          <p:nvPr/>
        </p:nvGrpSpPr>
        <p:grpSpPr>
          <a:xfrm>
            <a:off x="755640" y="1413360"/>
            <a:ext cx="7829640" cy="4584240"/>
            <a:chOff x="755640" y="1413360"/>
            <a:chExt cx="7829640" cy="4584240"/>
          </a:xfrm>
        </p:grpSpPr>
        <p:sp>
          <p:nvSpPr>
            <p:cNvPr id="164" name="_s2052"/>
            <p:cNvSpPr/>
            <p:nvPr/>
          </p:nvSpPr>
          <p:spPr>
            <a:xfrm flipV="1">
              <a:off x="4500720" y="2492640"/>
              <a:ext cx="1440" cy="565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_s2053"/>
            <p:cNvSpPr/>
            <p:nvPr/>
          </p:nvSpPr>
          <p:spPr>
            <a:xfrm>
              <a:off x="2771640" y="1413360"/>
              <a:ext cx="3456000" cy="11174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Вода становится непригодно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для питья и хозяйственных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нужд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_s2054"/>
            <p:cNvSpPr/>
            <p:nvPr/>
          </p:nvSpPr>
          <p:spPr>
            <a:xfrm>
              <a:off x="5435640" y="3715560"/>
              <a:ext cx="53496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_s2055"/>
            <p:cNvSpPr/>
            <p:nvPr/>
          </p:nvSpPr>
          <p:spPr>
            <a:xfrm>
              <a:off x="6012000" y="2996640"/>
              <a:ext cx="2573280" cy="13687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Нарушение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круговорота вод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_s2056"/>
            <p:cNvSpPr/>
            <p:nvPr/>
          </p:nvSpPr>
          <p:spPr>
            <a:xfrm>
              <a:off x="4535640" y="4255200"/>
              <a:ext cx="0" cy="564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_s2057"/>
            <p:cNvSpPr/>
            <p:nvPr/>
          </p:nvSpPr>
          <p:spPr>
            <a:xfrm>
              <a:off x="2843280" y="4797720"/>
              <a:ext cx="3311280" cy="11998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Развит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инфекционны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бактерий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_s2058"/>
            <p:cNvSpPr/>
            <p:nvPr/>
          </p:nvSpPr>
          <p:spPr>
            <a:xfrm flipH="1">
              <a:off x="3132000" y="3645360"/>
              <a:ext cx="75096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_s2059"/>
            <p:cNvSpPr/>
            <p:nvPr/>
          </p:nvSpPr>
          <p:spPr>
            <a:xfrm>
              <a:off x="755640" y="2996640"/>
              <a:ext cx="2448000" cy="13687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Гибель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обитателей   водоёма,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заиление, заболачива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_s2060"/>
            <p:cNvSpPr/>
            <p:nvPr/>
          </p:nvSpPr>
          <p:spPr>
            <a:xfrm>
              <a:off x="3635280" y="2852640"/>
              <a:ext cx="1800360" cy="1673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Сброс отходов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и ядовиты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вещест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троительство плотин на рек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539640" y="1700280"/>
            <a:ext cx="1440000" cy="1368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2771640" y="1773360"/>
            <a:ext cx="2808360" cy="1224000"/>
          </a:xfrm>
          <a:prstGeom prst="rightArrowCallout">
            <a:avLst>
              <a:gd name="adj1" fmla="val 25002"/>
              <a:gd name="adj2" fmla="val 25000"/>
              <a:gd name="adj3" fmla="val 38240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меньш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оро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ч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5724360" y="1844640"/>
            <a:ext cx="2087640" cy="1944720"/>
          </a:xfrm>
          <a:prstGeom prst="downArrowCallout">
            <a:avLst>
              <a:gd name="adj1" fmla="val 26840"/>
              <a:gd name="adj2" fmla="val 26837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витие в стояч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д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кроорганизм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13"/>
          <p:cNvSpPr/>
          <p:nvPr/>
        </p:nvSpPr>
        <p:spPr>
          <a:xfrm>
            <a:off x="5219640" y="4221000"/>
            <a:ext cx="2665440" cy="1584360"/>
          </a:xfrm>
          <a:prstGeom prst="leftArrowCallout">
            <a:avLst>
              <a:gd name="adj1" fmla="val 25002"/>
              <a:gd name="adj2" fmla="val 25000"/>
              <a:gd name="adj3" fmla="val 28039"/>
              <a:gd name="adj4" fmla="val 6667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6351480" y="431496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6156360" y="436572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потреб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ды животны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человек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AutoShape 19"/>
          <p:cNvSpPr/>
          <p:nvPr/>
        </p:nvSpPr>
        <p:spPr>
          <a:xfrm>
            <a:off x="2340000" y="4437000"/>
            <a:ext cx="2592360" cy="1368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ие заболева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гибел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1"/>
          <p:cNvSpPr/>
          <p:nvPr/>
        </p:nvSpPr>
        <p:spPr>
          <a:xfrm>
            <a:off x="539640" y="191628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трой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лот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22"/>
          <p:cNvSpPr/>
          <p:nvPr/>
        </p:nvSpPr>
        <p:spPr>
          <a:xfrm>
            <a:off x="1979640" y="220500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брос и сжигание мусор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5" name="Picture 7" descr="19-12-08_1256"/>
          <p:cNvPicPr/>
          <p:nvPr/>
        </p:nvPicPr>
        <p:blipFill>
          <a:blip r:embed="rId1"/>
          <a:stretch/>
        </p:blipFill>
        <p:spPr>
          <a:xfrm>
            <a:off x="611280" y="2060640"/>
            <a:ext cx="3609720" cy="3359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19-12-08_1257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5080" y="2060640"/>
            <a:ext cx="35924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следствия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10920" y="1628280"/>
            <a:ext cx="60483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1403280" y="2349360"/>
            <a:ext cx="1511280" cy="1762200"/>
          </a:xfrm>
          <a:prstGeom prst="wedgeRoundRectCallout">
            <a:avLst>
              <a:gd name="adj1" fmla="val -38023"/>
              <a:gd name="adj2" fmla="val 92611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8"/>
          <p:cNvSpPr/>
          <p:nvPr/>
        </p:nvSpPr>
        <p:spPr>
          <a:xfrm>
            <a:off x="900000" y="4797360"/>
            <a:ext cx="3095640" cy="1346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жигание мусора, солом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бытовых   отход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478880" y="2684520"/>
            <a:ext cx="1509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де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глекисл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аз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995640" y="2852640"/>
            <a:ext cx="1778040" cy="1833840"/>
          </a:xfrm>
          <a:prstGeom prst="wedgeRoundRectCallout">
            <a:avLst>
              <a:gd name="adj1" fmla="val -61430"/>
              <a:gd name="adj2" fmla="val 69652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4140360" y="3213000"/>
            <a:ext cx="152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дел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ядовит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щест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AutoShape 13"/>
          <p:cNvSpPr/>
          <p:nvPr/>
        </p:nvSpPr>
        <p:spPr>
          <a:xfrm>
            <a:off x="3851280" y="1484280"/>
            <a:ext cx="2735280" cy="897120"/>
          </a:xfrm>
          <a:prstGeom prst="cloudCallout">
            <a:avLst>
              <a:gd name="adj1" fmla="val -29453"/>
              <a:gd name="adj2" fmla="val 7973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3995640" y="162864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денсация с пар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6732720" y="3789360"/>
            <a:ext cx="1726920" cy="1727280"/>
          </a:xfrm>
          <a:prstGeom prst="downArrow">
            <a:avLst>
              <a:gd name="adj1" fmla="val 50000"/>
              <a:gd name="adj2" fmla="val 2500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ислот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жд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18" descr="дождь"/>
          <p:cNvPicPr/>
          <p:nvPr/>
        </p:nvPicPr>
        <p:blipFill>
          <a:blip r:embed="rId1"/>
          <a:stretch/>
        </p:blipFill>
        <p:spPr>
          <a:xfrm>
            <a:off x="6877080" y="1557360"/>
            <a:ext cx="1727280" cy="1584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анализировав свои наблюдения и материалы из литературы, мы поняли, что, уничтожая природу, человек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традает са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ем сильнее изменения , тем хуже на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ша гипотеза верн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Цели проекта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явить факты воздействия человеческой деятельности на природу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яснить последствия этого воздействия для природ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ить, как отражается на жизни и здоровье человека ухудшение состояния окружающей сре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4400" spc="-1" strike="noStrike" u="sng">
                <a:solidFill>
                  <a:srgbClr val="feec94"/>
                </a:solidFill>
                <a:uFillTx/>
                <a:latin typeface="Times New Roman"/>
              </a:rPr>
              <a:t>Основной вопрос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Как деятельность человека отражается на его здоровье?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Гипотез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человек не прекратит бездумное уничтожение природы, то сам может погибнуть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Ход исследовани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йти примеры мало изменённой человеком приро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тодами наблюдения и работы с книгами найти примеры воздействия человека на природу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анализировать примеры и сделать выводы о последствиях воздейств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ить презентацию – отчёт о рабо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тап 1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екрасен мир и свете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еловек, всё это ты заметил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7" descr="земля"/>
          <p:cNvPicPr/>
          <p:nvPr/>
        </p:nvPicPr>
        <p:blipFill>
          <a:blip r:embed="rId1"/>
          <a:stretch/>
        </p:blipFill>
        <p:spPr>
          <a:xfrm>
            <a:off x="3635280" y="3789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Лес – наше богатств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5" descr="04-08-08_1224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ека моя, прекрасна  ты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5" descr="DSCN3005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сенняя пора, очей очарованье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6" descr="13-10-08_1610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403280" y="1844640"/>
            <a:ext cx="640872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тап 2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еловек, посмотри вокруг!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 мало ты оставил первозданной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асоты!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с миром сделал ты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4:58:12Z</dcterms:created>
  <dc:creator>user</dc:creator>
  <dc:description/>
  <dc:language>en-US</dc:language>
  <cp:lastModifiedBy>Луиза</cp:lastModifiedBy>
  <dcterms:modified xsi:type="dcterms:W3CDTF">2011-11-30T19:45:42Z</dcterms:modified>
  <cp:revision>54</cp:revision>
  <dc:subject/>
  <dc:title>Человек,  ты раб или убийца природы?</dc:title>
</cp:coreProperties>
</file>