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95C-C291-4582-932D-DF034D4E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CBF-EE7E-40EE-A079-35A1ACB1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EC1-7677-40B6-AB83-623ADF9F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CFB-45D2-48DF-8529-0006607E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28D2-F4E3-45A4-99F2-616D8471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280-A5D3-4D19-956A-5D0A611B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174E-A866-49DE-8470-24AEC32D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19A-8ADC-4C5A-B80D-0D0F1AF5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B63-F683-4821-AD50-7493417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C820-55B4-473A-AB2D-EE725F7D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F66A-2C9F-4E7C-A4AE-DF13572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C64-444D-4279-AD17-43360AD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117E-3567-4167-8370-AB9B954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A655-05E9-4AB6-8D09-66329D2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589E-E0FC-4FC6-A3D0-AEC4F9F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5E55-8BDA-43BC-8811-77A30031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9795-1EB8-4BDF-8B3C-DCC25B38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5E9-1CA4-4E5D-8BC4-14A072B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502-0F35-4FCA-9DE8-572BF3FB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6DE-914B-4B6F-86B0-A1B2A8D3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438-9018-4DA2-A581-52E3B00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4B3-F9DC-4DC3-8890-8EFACAC8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69D-3D79-49D7-B738-7E10B83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866-2666-4CFB-B770-4A4B0A8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68AB-078D-48DC-89FE-34ACFF9855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F8A-6A98-4B90-9CB7-4FF87E4721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Человек  - Природа.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Кто кого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 учащихся 4 класса по предмету «Окружающий мир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Гимназия №21» г.Каз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: Хакимова Л.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Вырубка лесополос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7" descr="29-11-08_154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2351160"/>
            <a:ext cx="3811320" cy="28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29-11-08_1551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9640" y="2349360"/>
            <a:ext cx="388800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Organization Chart 6"/>
          <p:cNvGrpSpPr/>
          <p:nvPr/>
        </p:nvGrpSpPr>
        <p:grpSpPr>
          <a:xfrm>
            <a:off x="431640" y="243000"/>
            <a:ext cx="8208360" cy="5830560"/>
            <a:chOff x="431640" y="243000"/>
            <a:chExt cx="8208360" cy="5830560"/>
          </a:xfrm>
        </p:grpSpPr>
        <p:cxnSp>
          <p:nvCxnSpPr>
            <p:cNvPr id="143" name="_s1028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347080" y="1512360"/>
              <a:ext cx="1250280" cy="2873520"/>
            </a:xfrm>
            <a:prstGeom prst="bentConnector3">
              <a:avLst>
                <a:gd name="adj1" fmla="val 91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029"/>
            <p:cNvCxnSpPr>
              <a:stCxn id="147" idx="0"/>
              <a:endCxn id="145" idx="2"/>
            </p:cNvCxnSpPr>
            <p:nvPr/>
          </p:nvCxnSpPr>
          <p:spPr>
            <a:xfrm flipV="1">
              <a:off x="4536000" y="2324160"/>
              <a:ext cx="3600" cy="1250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030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474280" y="1512720"/>
              <a:ext cx="1250280" cy="2873520"/>
            </a:xfrm>
            <a:prstGeom prst="bentConnector3">
              <a:avLst>
                <a:gd name="adj1" fmla="val 91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1031"/>
            <p:cNvSpPr/>
            <p:nvPr/>
          </p:nvSpPr>
          <p:spPr>
            <a:xfrm>
              <a:off x="2988360" y="243000"/>
              <a:ext cx="3095280" cy="20818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олное или частично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уничтож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лесополо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>
              <a:off x="43164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ува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очвы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нижение запасо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лаг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033"/>
            <p:cNvSpPr/>
            <p:nvPr/>
          </p:nvSpPr>
          <p:spPr>
            <a:xfrm>
              <a:off x="330444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ниж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урожайност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034"/>
            <p:cNvSpPr/>
            <p:nvPr/>
          </p:nvSpPr>
          <p:spPr>
            <a:xfrm>
              <a:off x="6177600" y="3574440"/>
              <a:ext cx="2462400" cy="24991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99120"/>
                <a:gd name="textAreaBottom" fmla="*/ 2379240 h 2499120"/>
              </a:gdLst>
              <a:ahLst/>
              <a:rect l="textAreaLeft" t="textAreaTop" r="textAreaRight" b="textAreaBottom"/>
              <a:pathLst>
                <a:path w="21600" h="21922">
                  <a:moveTo>
                    <a:pt x="3600" y="0"/>
                  </a:moveTo>
                  <a:arcTo wR="3600" hR="3600" stAng="16200000" swAng="-5400000"/>
                  <a:lnTo>
                    <a:pt x="0" y="18322"/>
                  </a:lnTo>
                  <a:arcTo wR="3600" hR="3600" stAng="10800000" swAng="-5400000"/>
                  <a:lnTo>
                    <a:pt x="18000" y="21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Изменение обли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территории,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евращени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 «голую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внин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емка земли на склон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01-12-08_1548"/>
          <p:cNvPicPr/>
          <p:nvPr/>
        </p:nvPicPr>
        <p:blipFill>
          <a:blip r:embed="rId1"/>
          <a:stretch/>
        </p:blipFill>
        <p:spPr>
          <a:xfrm>
            <a:off x="2122560" y="2133720"/>
            <a:ext cx="50418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рушение поверхности земл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68360" y="2565360"/>
            <a:ext cx="3816360" cy="2664000"/>
          </a:xfrm>
          <a:prstGeom prst="rightArrow">
            <a:avLst>
              <a:gd name="adj1" fmla="val 50000"/>
              <a:gd name="adj2" fmla="val 358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ушение технологии пахоты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карьеров, уничто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ительности на скло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5076720" y="1916280"/>
            <a:ext cx="3382920" cy="1706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мыв территори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ньшение площади пол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луг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5076720" y="4149720"/>
            <a:ext cx="3240360" cy="177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грязнение воздух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мывание земли в водоём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да!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ы не просто необходима для жизни,  ты и есть сама жизнь!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. де Сент-Экзюпер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заботясь о чистоте рек и озёр, 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 роет себе могил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водопад"/>
          <p:cNvPicPr/>
          <p:nvPr/>
        </p:nvPicPr>
        <p:blipFill>
          <a:blip r:embed="rId1"/>
          <a:stretch/>
        </p:blipFill>
        <p:spPr>
          <a:xfrm>
            <a:off x="971640" y="2852640"/>
            <a:ext cx="3456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грязнение ре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63" name="Diagram 13"/>
          <p:cNvGrpSpPr/>
          <p:nvPr/>
        </p:nvGrpSpPr>
        <p:grpSpPr>
          <a:xfrm>
            <a:off x="755640" y="1413360"/>
            <a:ext cx="7829640" cy="4584240"/>
            <a:chOff x="755640" y="1413360"/>
            <a:chExt cx="7829640" cy="4584240"/>
          </a:xfrm>
        </p:grpSpPr>
        <p:sp>
          <p:nvSpPr>
            <p:cNvPr id="164" name="_s2052"/>
            <p:cNvSpPr/>
            <p:nvPr/>
          </p:nvSpPr>
          <p:spPr>
            <a:xfrm flipV="1">
              <a:off x="4500720" y="2492640"/>
              <a:ext cx="1440" cy="56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_s2053"/>
            <p:cNvSpPr/>
            <p:nvPr/>
          </p:nvSpPr>
          <p:spPr>
            <a:xfrm>
              <a:off x="2771640" y="1413360"/>
              <a:ext cx="3456000" cy="1117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Вода становится непригод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для питья и хозяйственных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нужд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_s2054"/>
            <p:cNvSpPr/>
            <p:nvPr/>
          </p:nvSpPr>
          <p:spPr>
            <a:xfrm>
              <a:off x="5435640" y="3715560"/>
              <a:ext cx="534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_s2055"/>
            <p:cNvSpPr/>
            <p:nvPr/>
          </p:nvSpPr>
          <p:spPr>
            <a:xfrm>
              <a:off x="6012000" y="2996640"/>
              <a:ext cx="2573280" cy="1368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Нарушение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круговорота воды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4535640" y="4255200"/>
              <a:ext cx="0" cy="56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_s2057"/>
            <p:cNvSpPr/>
            <p:nvPr/>
          </p:nvSpPr>
          <p:spPr>
            <a:xfrm>
              <a:off x="2843280" y="4797720"/>
              <a:ext cx="3311280" cy="1199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Развит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инфекционны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бактер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 flipH="1">
              <a:off x="3132000" y="3645360"/>
              <a:ext cx="7509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_s2059"/>
            <p:cNvSpPr/>
            <p:nvPr/>
          </p:nvSpPr>
          <p:spPr>
            <a:xfrm>
              <a:off x="755640" y="2996640"/>
              <a:ext cx="2448000" cy="13687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Гибел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обитателей   водоёма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заиление, заболачив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635280" y="2852640"/>
              <a:ext cx="1800360" cy="1673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Сброс отходов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и ядовиты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вещест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роительство плотин на рек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39640" y="1700280"/>
            <a:ext cx="144000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2771640" y="1773360"/>
            <a:ext cx="2808360" cy="1224000"/>
          </a:xfrm>
          <a:prstGeom prst="rightArrowCallout">
            <a:avLst>
              <a:gd name="adj1" fmla="val 25002"/>
              <a:gd name="adj2" fmla="val 25000"/>
              <a:gd name="adj3" fmla="val 38240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ор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5724360" y="1844640"/>
            <a:ext cx="2087640" cy="1944720"/>
          </a:xfrm>
          <a:prstGeom prst="downArrowCallout">
            <a:avLst>
              <a:gd name="adj1" fmla="val 26840"/>
              <a:gd name="adj2" fmla="val 26837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витие в стояч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кроорганизм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5219640" y="4221000"/>
            <a:ext cx="2665440" cy="1584360"/>
          </a:xfrm>
          <a:prstGeom prst="leftArrowCallout">
            <a:avLst>
              <a:gd name="adj1" fmla="val 25002"/>
              <a:gd name="adj2" fmla="val 25000"/>
              <a:gd name="adj3" fmla="val 28039"/>
              <a:gd name="adj4" fmla="val 6667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6351480" y="431496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6156360" y="4365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тре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ы живот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человеко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19"/>
          <p:cNvSpPr/>
          <p:nvPr/>
        </p:nvSpPr>
        <p:spPr>
          <a:xfrm>
            <a:off x="2340000" y="4437000"/>
            <a:ext cx="259236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заболе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гиб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539640" y="19162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рой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от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22"/>
          <p:cNvSpPr/>
          <p:nvPr/>
        </p:nvSpPr>
        <p:spPr>
          <a:xfrm>
            <a:off x="1979640" y="220500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ос и сжигание мусо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Picture 7" descr="19-12-08_1256"/>
          <p:cNvPicPr/>
          <p:nvPr/>
        </p:nvPicPr>
        <p:blipFill>
          <a:blip r:embed="rId1"/>
          <a:stretch/>
        </p:blipFill>
        <p:spPr>
          <a:xfrm>
            <a:off x="611280" y="2060640"/>
            <a:ext cx="3609720" cy="335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19-12-08_125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5080" y="2060640"/>
            <a:ext cx="35924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следств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10920" y="1628280"/>
            <a:ext cx="604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1403280" y="2349360"/>
            <a:ext cx="1511280" cy="1762200"/>
          </a:xfrm>
          <a:prstGeom prst="wedgeRoundRectCallout">
            <a:avLst>
              <a:gd name="adj1" fmla="val -38023"/>
              <a:gd name="adj2" fmla="val 92611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900000" y="4797360"/>
            <a:ext cx="3095640" cy="1346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жигание мусора, соло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бытовых   от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478880" y="2684520"/>
            <a:ext cx="150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лекисл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995640" y="2852640"/>
            <a:ext cx="1778040" cy="1833840"/>
          </a:xfrm>
          <a:prstGeom prst="wedgeRoundRectCallout">
            <a:avLst>
              <a:gd name="adj1" fmla="val -61430"/>
              <a:gd name="adj2" fmla="val 69652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140360" y="3213000"/>
            <a:ext cx="152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довит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ще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3851280" y="1484280"/>
            <a:ext cx="2735280" cy="897120"/>
          </a:xfrm>
          <a:prstGeom prst="cloudCallout">
            <a:avLst>
              <a:gd name="adj1" fmla="val -29453"/>
              <a:gd name="adj2" fmla="val 7973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995640" y="1628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денсация с пар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6732720" y="3789360"/>
            <a:ext cx="1726920" cy="1727280"/>
          </a:xfrm>
          <a:prstGeom prst="downArrow">
            <a:avLst>
              <a:gd name="adj1" fmla="val 50000"/>
              <a:gd name="adj2" fmla="val 25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сло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ж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18" descr="дождь"/>
          <p:cNvPicPr/>
          <p:nvPr/>
        </p:nvPicPr>
        <p:blipFill>
          <a:blip r:embed="rId1"/>
          <a:stretch/>
        </p:blipFill>
        <p:spPr>
          <a:xfrm>
            <a:off x="6877080" y="155736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анализировав свои наблюдения и материалы из литературы, мы поняли, что, уничтожая природу, человек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радает с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м сильнее изменения , тем хуже на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ша гипотеза верн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ли проект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вить факты воздействия человеческой деятельности на природ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ть последствия этого воздействия для природ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ть, как отражается на жизни и здоровье человека ухудшение состояния окружающей ср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сновной вопрос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Как деятельность человека отражается на его здоровье?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Гипотез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не прекратит бездумное уничтожение природы, то сам может погибну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од исследовани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йти примеры мало изменённой человеком прир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ами наблюдения и работы с книгами найти примеры воздействия человека на природ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ть примеры и сделать выводы о последствиях воздейств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ть презентацию – отчёт о рабо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 1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красен мир и свете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еловек, всё это ты заметил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земля"/>
          <p:cNvPicPr/>
          <p:nvPr/>
        </p:nvPicPr>
        <p:blipFill>
          <a:blip r:embed="rId1"/>
          <a:stretch/>
        </p:blipFill>
        <p:spPr>
          <a:xfrm>
            <a:off x="3635280" y="3789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с – наше богат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04-08-08_1224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ека моя, прекрасна  ты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DSCN3005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сенняя пора, очей очарованье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Picture 6" descr="13-10-08_1610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03280" y="1844640"/>
            <a:ext cx="64087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 2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ловек, посмотри вокруг!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мало ты оставил первозданной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оты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с миром сделал т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58:12Z</dcterms:created>
  <dc:creator>user</dc:creator>
  <dc:description/>
  <dc:language>en-US</dc:language>
  <cp:lastModifiedBy>Луиза</cp:lastModifiedBy>
  <dcterms:modified xsi:type="dcterms:W3CDTF">2011-11-30T19:45:42Z</dcterms:modified>
  <cp:revision>54</cp:revision>
  <dc:subject/>
  <dc:title>Человек,  ты раб или убийца природы?</dc:title>
</cp:coreProperties>
</file>