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3E08-7111-465B-8C63-C6BE48EB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6D2-22E4-47F8-BD56-BA5F281B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454-A9AB-416B-9292-B5A84A70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22D-DAB6-4532-B1C0-0AB89215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D06D-B89E-4831-B361-F02206C8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C057-5B9C-47E2-97E0-842FA8BD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FE83-969C-4CE9-83D5-CB37816C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6DF0-C95F-45EC-AD20-21AE8CC3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CE3C-34A8-4255-BCAA-7D4C2C12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A4C5-797E-4D7E-A3D0-D655B96F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9F45-97CB-48F9-BA88-9B3A0683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AE30-2F16-448D-93B7-84A26C28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1D30-B9BB-4D5B-BD3F-454F8A5F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A053-AC12-43A6-AB75-A947BD63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A073-B8C1-4CF2-B961-A60CA12F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ABE7-5853-4EF5-A0FA-A830D153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5887-E0A9-4D7C-B017-65E73048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68A-ED2B-43F5-AE89-8FDFE696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91B-ED4C-4E86-982C-5A323336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FA62-B80C-4C42-9559-08770F20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FB3F-815F-498C-A9DE-A21216DA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E2E-0C5A-47F2-BDBE-6E87F739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6A0-87F1-45A3-8C7F-2B2EDFC1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5DE-9D17-4210-B3C2-1E8B2952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9544-A08E-4F2D-BBAD-CBB332C34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38F7-0EFC-4A39-845F-54CCB58491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Унылая пора, дух осени везде, 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  А с нами - милый Пушкин, наш учитель и 5 «в»!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095640" cy="2374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40360" y="4221000"/>
            <a:ext cx="4176720" cy="2376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042920" y="2133720"/>
            <a:ext cx="244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7:56:38Z</dcterms:created>
  <dc:creator>Сергей</dc:creator>
  <dc:description/>
  <dc:language>en-US</dc:language>
  <cp:lastModifiedBy>Сергей</cp:lastModifiedBy>
  <dcterms:modified xsi:type="dcterms:W3CDTF">2011-11-18T18:37:41Z</dcterms:modified>
  <cp:revision>3</cp:revision>
  <dc:subject/>
  <dc:title>Слайд 1</dc:title>
</cp:coreProperties>
</file>