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186-3456-4ABF-97CC-B2CAFFBB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5D9-A95C-4CD6-8651-F10A12C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E29-188E-4AB8-9CA0-0B0946FE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2BF-31A3-4441-BB04-9AB2C001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DC74-349A-4E47-8BC8-58A153C1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2E9-BD23-436A-BEAB-658D27A0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0B3-C01A-4C5F-8D8F-00056A6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DDAA-31EC-44FF-BD35-FDAD113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AA6E-51C7-40BF-BA36-37FB712E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CF9-E3FA-47B4-A3AE-BB86EE69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B18-9AFC-49BE-8671-90C46CB2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DE8-FEBA-4579-A2B3-9F353872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9512-438C-4725-BA0F-0AED258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A0A4-D367-422A-B6BD-B785C89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C8A0-08BC-4783-AA21-516658D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B85C-6E22-4848-BFFF-57BC1DFE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7519-0224-4635-9C92-F57DD860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9E8-89BC-4571-BE05-AE36660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304-77CC-4383-87CE-BF078E5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CF0-6AE2-4218-91B2-11F4686E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511-1ACC-48C2-84B3-A2FB914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674-4CDC-48DA-B2DD-959C6BF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498-591A-49A2-8C31-44957D2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344-145D-4E6F-8E86-6F8AB791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48D5-0A21-4053-A5CD-D52A327F4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2E9-D27C-4018-B5F8-DBA083D8A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Унылая пора, дух осени везде,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А с нами - милый Пушкин, наш учитель и 5 «в»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09564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41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4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56:38Z</dcterms:created>
  <dc:creator>Сергей</dc:creator>
  <dc:description/>
  <dc:language>en-US</dc:language>
  <cp:lastModifiedBy>Сергей</cp:lastModifiedBy>
  <dcterms:modified xsi:type="dcterms:W3CDTF">2011-11-18T18:37:41Z</dcterms:modified>
  <cp:revision>3</cp:revision>
  <dc:subject/>
  <dc:title>Слайд 1</dc:title>
</cp:coreProperties>
</file>