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gif" ContentType="image/gif"/>
  <Override PartName="/ppt/media/image12.jpeg" ContentType="image/jpeg"/>
  <Override PartName="/ppt/media/image1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BA0-032D-44D3-BAE3-8B24C889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7B1-5979-4415-827A-4F7FF9B1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180-E4E8-4049-A18F-188E4100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880-7BE3-4722-8BDE-A5D81BCD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3B32-90E8-4145-8AF8-77D5095F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9E45-3304-4F41-9B60-51C2EFC6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7B4E-477A-4F7B-A3F7-CC47B84E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3989-82BD-4848-A66F-466D6B45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603E-8861-4C09-8BAB-43231931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F773-E39D-4550-A153-F1FC05C8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3DD4-0C5F-40DA-AE36-97DBEADE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6E4-F6A3-44C0-8E50-3A752FBD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6F4A-FD3D-4AD0-BED7-C126C8F4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0B3F-99A0-4BB9-B963-12239146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299B-CF34-4D04-9BDC-BD76C1CA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652B-ACF9-40E7-8748-DF462E2C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011D-9C40-4D41-A00B-200A04AE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2FE-EF32-419F-BFED-3AC2F2A7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04F-982F-4F06-92E8-ACD1973F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81C-E664-49B4-8055-BB010C94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614-CCF7-49DF-8E53-33AEBE04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18A-8F3D-409F-89B3-488FBB09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831-DF04-475D-96F7-472C22BE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A70-11EB-478E-805D-69E4CD8A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6517-ABD9-43A8-9D43-007BE4D96D7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C161-C322-4F2B-BA00-29A1FD9C102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1640" y="692280"/>
            <a:ext cx="6264360" cy="46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днё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Р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890720" y="404640"/>
            <a:ext cx="4427640" cy="590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7477200" cy="5608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7477200" cy="5608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7200720" cy="5383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164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5876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19240" y="277920"/>
            <a:ext cx="7476840" cy="5767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7201080" cy="5392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15960" y="189000"/>
            <a:ext cx="5205600" cy="6335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ПОЗДРАВЛЯЕМ!!!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6735600" cy="5051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521480" cy="39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ДОБРОТА – этим качеством обладает каждая любящая дитя мать!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640" y="836280"/>
            <a:ext cx="7488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ЕЖНОСТЬ – это свойство души можно увидеть во взгляде мамы, услышать в её голос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3771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УДРОСТЬ – умение разумно решать разные сложные вопросы, давать мудрые советы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95560" y="189000"/>
            <a:ext cx="5756040" cy="6192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023920" y="260280"/>
            <a:ext cx="4224600" cy="6337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19160" y="115920"/>
            <a:ext cx="4338720" cy="6481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7272360" cy="5457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4371840" cy="5869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380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477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05:23:57Z</dcterms:created>
  <dc:creator>N</dc:creator>
  <dc:description/>
  <dc:language>en-US</dc:language>
  <cp:lastModifiedBy>N</cp:lastModifiedBy>
  <dcterms:modified xsi:type="dcterms:W3CDTF">2011-11-24T06:18:38Z</dcterms:modified>
  <cp:revision>2</cp:revision>
  <dc:subject/>
  <dc:title>Слайд 1</dc:title>
</cp:coreProperties>
</file>