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B15-6A23-42DA-A909-4F362D50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083-E847-44E6-A955-97A23FDA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DB8-D9CC-435B-B928-C6B3DA75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1BD-7729-41F7-A410-33B58CF7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6E9E-B82B-4F76-B0F7-00711F80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0F5-918F-4A45-8B3E-E22E406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2F8E-44F4-49CD-8CAC-26C8CD5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BA24-2F10-499D-83C8-B70DB64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805-D13C-4CAA-A6F2-C689ED2A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6BC9-347A-45A6-B2F0-353EB33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6B07-6E06-4047-90BF-F33C9DD5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8FA-2B82-433D-B498-9F70081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37D-0B69-450A-9221-55DF4995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03E-4678-4836-9772-C518808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47C7-6A1D-4EE0-B478-2E1A53FA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C66A-C328-4ACE-8931-0B641CD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59FF-BD98-487D-9BED-30D60744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679-816A-452A-B755-D4CFE73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54B-D666-4CBC-942A-CEA34A3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60C-EA1B-4DA5-802E-9C048999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BE0-C059-46B3-9522-C70E03F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6BC-1442-4105-9A1F-574D9EA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53F-4A5C-472E-8AA4-DDF374E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CDC-5AB0-4826-8D14-9AA7475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58D0-1DF1-448E-9E3A-0E9D1E0D9DD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411-C14B-43B8-94D7-B37B006B1B7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1640" y="692280"/>
            <a:ext cx="6264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днё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90720" y="404640"/>
            <a:ext cx="4427640" cy="590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7477200" cy="5608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7477200" cy="560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200720" cy="538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164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876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240" y="277920"/>
            <a:ext cx="7476840" cy="5767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201080" cy="539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15960" y="189000"/>
            <a:ext cx="520560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ПОЗДРАВЛЯЕМ!!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6735600" cy="5051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2148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ДОБРОТА – этим качеством обладает каждая любящая дитя мать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836280"/>
            <a:ext cx="748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ЕЖНОСТЬ – это свойство души можно увидеть во взгляде мамы, услышать в её голос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3771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УДРОСТЬ – умение разумно решать разные сложные вопросы, давать мудрые совет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95560" y="189000"/>
            <a:ext cx="5756040" cy="61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23920" y="260280"/>
            <a:ext cx="422460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19160" y="115920"/>
            <a:ext cx="433872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7272360" cy="545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4371840" cy="586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7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5:23:57Z</dcterms:created>
  <dc:creator>N</dc:creator>
  <dc:description/>
  <dc:language>en-US</dc:language>
  <cp:lastModifiedBy>N</cp:lastModifiedBy>
  <dcterms:modified xsi:type="dcterms:W3CDTF">2011-11-24T06:18:38Z</dcterms:modified>
  <cp:revision>2</cp:revision>
  <dc:subject/>
  <dc:title>Слайд 1</dc:title>
</cp:coreProperties>
</file>