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269-A006-4373-A5DD-65E0340D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112-78FB-437F-B021-B8DFA86D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1AB-1CC1-4621-BB76-3EC6FF40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F45-3E61-4CA1-B704-240865B0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384-1EE3-4764-A294-92C6D751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273-7D6D-43F1-B451-1535B414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F19-8A0F-4779-934E-69967EB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24B-181B-4DD7-94C7-24DF5F8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7FD-6D21-4168-B4FE-2BD905BA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764-CF68-40F4-BFA1-AE88A03E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343-D37E-45ED-9AD4-DAA1C49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832-E0F1-47CC-9A0F-152CF64C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DD65-EC00-4A2F-BC75-C085A3E39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95408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2149560" cy="150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868400" cy="245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825560" cy="138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1112760" cy="148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308720" y="5157720"/>
            <a:ext cx="1333800" cy="110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763640" y="278136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З               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0:01:05Z</dcterms:created>
  <dc:creator>tester</dc:creator>
  <dc:description/>
  <dc:language>en-US</dc:language>
  <cp:lastModifiedBy>tester</cp:lastModifiedBy>
  <dcterms:modified xsi:type="dcterms:W3CDTF">2010-04-19T00:09:37Z</dcterms:modified>
  <cp:revision>2</cp:revision>
  <dc:subject/>
  <dc:title>Слайд 1</dc:title>
</cp:coreProperties>
</file>