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F39-8B1C-4274-A96D-C9CD0446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C14-6C0F-4BE6-8A1A-BBA46F2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E1F-675C-4665-B3EC-E47BDAC3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6AF-2B90-4CC8-A95A-C76F8EA3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26E-5BE7-41D7-AC39-2CC6E3C0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4AF-B2B2-4489-8139-AF0BA25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FB8-807F-45DD-AC50-D2934EB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151-24AE-4D8F-8893-7B850E7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BD1-D5D1-4C92-B807-A3807AB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353-00FB-4EA5-B7E5-A4DE114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B55-6755-4CBE-8037-D16517E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D0D-9DBF-4B73-8DD4-2511AD3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6653-DB65-4D52-937E-6FCC62CD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95408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149560" cy="15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868400" cy="245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825560" cy="138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1112760" cy="148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08720" y="5157720"/>
            <a:ext cx="1333800" cy="110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63640" y="278136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З               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0:01:05Z</dcterms:created>
  <dc:creator>tester</dc:creator>
  <dc:description/>
  <dc:language>en-US</dc:language>
  <cp:lastModifiedBy>tester</cp:lastModifiedBy>
  <dcterms:modified xsi:type="dcterms:W3CDTF">2010-04-19T00:09:37Z</dcterms:modified>
  <cp:revision>2</cp:revision>
  <dc:subject/>
  <dc:title>Слайд 1</dc:title>
</cp:coreProperties>
</file>