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19E-697F-4D20-8641-4D84F20D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3B1-6D24-464D-8A8B-2E493BDD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5E4-6746-416E-BA26-C21A3755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3BF-E637-43CF-96AD-95FB2616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644F-00EB-49F4-A63C-41227C07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8303-4EF5-4D8C-90EE-AFBFEBE8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83F8-2348-46BF-98BC-AB550495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F147-531D-4ADD-BC46-F95D5839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A02F-964B-49A8-958B-A41A30AE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72B9-52DE-40CB-B13C-847A5169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C3FA-D397-4E8B-A2D5-BB777095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F3D-8E58-49A8-97CF-AE914A93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F3AA-A27D-4FDA-B174-7BE4C35C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6FA8-22B7-4461-B992-25B54281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B688-3E33-4881-BD7E-B0C0C146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02B9-D806-4BF9-9C76-2E4E9101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8ACE-7E0E-4911-9752-1A779D93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243-1366-4E09-B827-671EEC8A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FFF-90E9-4CA2-9F3D-990DA4C4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13B-3A16-4F0F-BDF8-AFF543C0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5A8-9518-4C27-B090-D9BD32AB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4C5-D1EF-47A9-A487-921026CC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039-F959-49B1-A6CB-83D40B4B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611-7BA6-4520-8944-0AC9BA37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B068-39F6-43A4-BC5F-ACAA1FA79C0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EFB4-8D4F-4032-9C30-EF3E7C2729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c4f5"/>
                </a:solidFill>
                <a:latin typeface="Blackadder ITC"/>
              </a:rPr>
              <a:t>           </a:t>
            </a:r>
            <a:r>
              <a:rPr b="1" lang="en-US" sz="5400" spc="-1" strike="noStrike">
                <a:solidFill>
                  <a:srgbClr val="57c4f5"/>
                </a:solidFill>
                <a:latin typeface="Blackadder ITC"/>
              </a:rPr>
              <a:t>Диффузия в газах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2276280"/>
            <a:ext cx="369576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ект по физике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851280" cy="4103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35280" y="2602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У Лицей №1 г.Волж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4581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прель 2009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8137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езультаты эксперимен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66680" y="1981080"/>
          <a:ext cx="7543800" cy="411660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6040"/>
                <a:gridCol w="18856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ы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щ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м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Спир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м20с  1м30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Тройной  одекол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м20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м38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м07с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09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Аммиа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с      47с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м   1м10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ти вещества мы использовали в опытах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9372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42120" y="198108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435640" y="436572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ывод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орость диффузии оказалась наибольшей у аммиака, меньше у спирта и самая маленькая у одеколо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связано с тем, что у аммиака самые маленькие молекулы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олекулы      используемых вещест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2376360" cy="2014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4752720" cy="2021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7164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ммиак                            Спи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редложение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выполнении опытов в которых помощь оказывали старшеклассники, первым почувствовал запах  испытатель 4м, остальные ничего не почувствовали. Мы предполагаем, что ребята недавно переболели ОРЗ и не выздоровели до конца.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Диффузию можно использовать для проверки качества лечения ОРЗ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280" y="2133360"/>
            <a:ext cx="799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благодарим учащихся 7, 9, 10 классов за помощь в проведении экспери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так же благодарны руководителю проекта Крученку Эрику Николаевич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езультате работы мы получили много дополнительных знаний и ум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476280"/>
            <a:ext cx="74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Благодарн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f467"/>
                </a:solidFill>
                <a:latin typeface="Tahoma"/>
              </a:rPr>
              <a:t>НАД ПРОЕКТОМ РАБОТАЛ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157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8f467"/>
                </a:solidFill>
                <a:latin typeface="Tahoma"/>
              </a:rPr>
              <a:t>Трофимов Владимир 7 А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8f467"/>
                </a:solidFill>
                <a:latin typeface="Tahoma"/>
              </a:rPr>
              <a:t>Порунов Антон 7 А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ководитель проек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ученок Эрик Николае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236000" y="3573360"/>
            <a:ext cx="1657080" cy="2232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36000" y="981000"/>
            <a:ext cx="158724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Цели проект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следовать явление диффузия в газ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учить зависимость  скорости  диффузии  ароматических веще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ложить использование явления диффузия на основании проведённого эксперимен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дачи проек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73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знакомиться с теор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явлению диффу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ть явление диффузия с различными ароматическими  веществ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учиться использовать для подготовки отчёта приложени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soft PowerPoin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ипотеза                                                                        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ффузия в газ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висит от размера молекул вещества, которое проникает между молекулами га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88000" y="1994040"/>
            <a:ext cx="410508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предел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ДИФФУЗ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от латинского diffusio - распространение, растекание, рассеивание), движение частиц среды, приводящее к переносу вещества и выравниванию концентраций или установлению их равновесного распреде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хема эксперимен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хема эксперимен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6193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хема эксперимен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3060720" cy="2295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547640" y="458964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651640" y="453564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0:49:58Z</dcterms:created>
  <dc:creator>ERIK</dc:creator>
  <dc:description/>
  <dc:language>en-US</dc:language>
  <cp:lastModifiedBy>ERIK</cp:lastModifiedBy>
  <dcterms:modified xsi:type="dcterms:W3CDTF">2011-12-01T14:21:16Z</dcterms:modified>
  <cp:revision>16</cp:revision>
  <dc:subject/>
  <dc:title>Проект по физике</dc:title>
</cp:coreProperties>
</file>