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884-6CFB-4552-ABE0-8B80B42F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345-7C52-4AA6-A639-32B26BD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B8A-2AB1-4543-B926-CF07A33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1FC-7DAB-46BD-84E0-1538E97A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D309-FBD9-4AA2-AE33-82CE1531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65EE-EAA7-4D49-B4B2-05D1C787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DBB-D48E-4F7B-8921-CC080B1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2467-8CF2-472C-9C0F-F3F6F323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AEC-DD3B-4853-BB1A-1DE3909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AB0-C501-410F-B003-FA34E0F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D94-8CD2-4FBF-BF69-BEF4F5F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BCD-8F76-4695-BFB5-22CCD038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37E-735D-4F2D-8951-731B968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3F88-F932-4E23-BB7C-1C23FF36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D0DB-60C2-4A6B-957C-04868B0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2932-3089-48C7-A502-56542CDE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AB93-48ED-45B2-87F7-4104DC90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14A-D15B-4837-B361-3BE4960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D29-D907-48D3-8A86-1BDB1D2E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33D-0589-47C5-AC59-238343EF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8DE-EFD3-4370-A970-E5ADB89F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C03-64AC-4E75-B511-A6777ADF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A7D-4F17-4627-9F9F-50B3F10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832-F0FF-41EF-A375-145B791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8196-2A0D-4874-A604-CA2BA57B4E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4C45-D6B3-4038-92A4-D05CDF5849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c4f5"/>
                </a:solidFill>
                <a:latin typeface="Blackadder ITC"/>
              </a:rPr>
              <a:t>           </a:t>
            </a:r>
            <a:r>
              <a:rPr b="1" lang="en-US" sz="5400" spc="-1" strike="noStrike">
                <a:solidFill>
                  <a:srgbClr val="57c4f5"/>
                </a:solidFill>
                <a:latin typeface="Blackadder ITC"/>
              </a:rPr>
              <a:t>Диффузия в газах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2276280"/>
            <a:ext cx="369576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ект по физике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851280" cy="410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2602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Лицей №1 г.Волж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прель 2009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8137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зультаты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1981080"/>
          <a:ext cx="7543800" cy="4116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6040"/>
                <a:gridCol w="1885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щ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м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пир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м20с  1м30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Тройной  одекол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м20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м38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м07с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09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Амми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с      47с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м   1м10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Эти вещества мы использовали в опыта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937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4212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35640" y="4365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рость диффузии оказалась наибольшей у аммиака, меньше у спирта и самая маленькая у одекол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связано с тем, что у аммиака самые маленькие молекулы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олекулы      используемых вещест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376360" cy="201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4752720" cy="2021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ммиак                           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едложе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выполнении опытов в которых помощь оказывали старшеклассники, первым почувствовал запах  испытатель 4м, остальные ничего не почувствовали. Мы предполагаем, что ребята недавно переболели ОРЗ и не выздоровели до конца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Диффузию можно использовать для проверки качества лечения ОРЗ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благодарим учащихся 7, 9, 10 классов за помощь в проведении экспери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так же благодарны руководителю проекта Крученку Эрику Николаевич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езультате работы мы получили много дополнительных знаний и ум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47628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Благодарн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8f467"/>
                </a:solidFill>
                <a:latin typeface="Tahoma"/>
              </a:rPr>
              <a:t>НАД ПРОЕКТОМ РАБОТАЛ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157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f467"/>
                </a:solidFill>
                <a:latin typeface="Tahoma"/>
              </a:rPr>
              <a:t>Трофимов Владимир 7 А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8f467"/>
                </a:solidFill>
                <a:latin typeface="Tahoma"/>
              </a:rPr>
              <a:t>Порунов Антон 7 А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 проек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ченок Эрик Никола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36000" y="3573360"/>
            <a:ext cx="165708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5872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и проект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следовать явление диффузия в газ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ить зависимость  скорости  диффузии  ароматически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ложить использование явления диффузия на основании проведённого эксперим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дачи проек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накомиться с теор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явлению диффу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 явление диффузия с различными ароматическими  веществ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читься использовать для подготовки отчёта приложени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oft PowerPoin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потеза                                                                                  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ффузия в газ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исит от размера молекул вещества, которое проникает между молекулами г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1994040"/>
            <a:ext cx="41050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преде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ИФФУЗ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от латинского diffusio - распространение, растекание, рассеивание), движение частиц среды, приводящее к переносу вещества и выравниванию концентраций или установлению их равновесного распред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хема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хема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19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хема эксперимен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3060720" cy="229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547640" y="4589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453564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49:58Z</dcterms:created>
  <dc:creator>ERIK</dc:creator>
  <dc:description/>
  <dc:language>en-US</dc:language>
  <cp:lastModifiedBy>ERIK</cp:lastModifiedBy>
  <dcterms:modified xsi:type="dcterms:W3CDTF">2011-12-01T14:21:16Z</dcterms:modified>
  <cp:revision>16</cp:revision>
  <dc:subject/>
  <dc:title>Проект по физике</dc:title>
</cp:coreProperties>
</file>