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C27-6230-4F5F-A10F-61FD0157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11B-86F8-4873-8A55-7526680D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183-1CEE-4510-BD87-9EC85CBF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F86-AED9-4EB7-B087-ADED9790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E30-BEB5-4C9B-97B2-3E5B569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387-78B6-4E83-B6CF-E78FE5F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6C8-3FC2-4DE5-9C65-ACEF45D5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E5F-B7B8-4EC8-B9FF-00BA921B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5D4-EF22-49DE-A99F-79A9D854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554-B346-46D2-8B06-DA40E95C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FB0-A108-4CF3-99C6-8E626978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52D-D373-4A14-9CCB-104A735D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F32E-4ABA-4E85-850A-0904CDBA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hyperlink" Target="file:///&#1057;&#1086;&#1076;&#1077;&#1088;&#1078;&#1072;&#1085;&#1080;&#1077;.ppt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620640"/>
            <a:ext cx="8064720" cy="5616720"/>
          </a:xfrm>
          <a:prstGeom prst="rect">
            <a:avLst/>
          </a:prstGeom>
          <a:solidFill>
            <a:srgbClr val="ffffb7"/>
          </a:solidFill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00"/>
                </a:solidFill>
                <a:latin typeface="Monotype Corsiva"/>
              </a:rPr>
              <a:t>Microsoft Power</a:t>
            </a: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 </a:t>
            </a:r>
            <a:r>
              <a:rPr b="1" i="1" lang="en-US" sz="6000" spc="-1" strike="noStrike">
                <a:solidFill>
                  <a:srgbClr val="990000"/>
                </a:solidFill>
                <a:latin typeface="Monotype Corsiva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Упражнения по анимации объектов, выполненных из автофиг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360" y="2349360"/>
            <a:ext cx="1214640" cy="1214640"/>
          </a:xfrm>
          <a:prstGeom prst="cube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2637000"/>
            <a:ext cx="1214280" cy="1214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349360"/>
            <a:ext cx="1214640" cy="121464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263700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26160" y="22050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2520" y="2781360"/>
            <a:ext cx="5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9800" y="299736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6720" y="3284640"/>
            <a:ext cx="5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6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78035E-008 L 0.15434 -0.11977 E">
                                      <p:cBhvr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86 -0.01503 C -0.06198 0.02798 -0.13263 0.07098 -0.16093 0.08647 E">
                                      <p:cBhvr>
                                        <p:cTn id="7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0800000">
            <a:off x="3995640" y="1700280"/>
            <a:ext cx="914400" cy="914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gradFill rotWithShape="0">
            <a:gsLst>
              <a:gs pos="0">
                <a:srgbClr val="e5f4ff"/>
              </a:gs>
              <a:gs pos="100000">
                <a:srgbClr val="ffffb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734080"/>
            <a:ext cx="7920000" cy="863640"/>
          </a:xfrm>
          <a:prstGeom prst="rtTriangl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loud"/>
          <p:cNvSpPr/>
          <p:nvPr/>
        </p:nvSpPr>
        <p:spPr>
          <a:xfrm>
            <a:off x="395280" y="476280"/>
            <a:ext cx="2743200" cy="183816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9746400">
            <a:off x="1401840" y="2133000"/>
            <a:ext cx="205200" cy="517320"/>
          </a:xfrm>
          <a:custGeom>
            <a:avLst/>
            <a:gdLst>
              <a:gd name="textAreaLeft" fmla="*/ 48240 w 205200"/>
              <a:gd name="textAreaRight" fmla="*/ 156960 w 205200"/>
              <a:gd name="textAreaTop" fmla="*/ 60840 h 517320"/>
              <a:gd name="textAreaBottom" fmla="*/ 324360 h 517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9746400">
            <a:off x="1978200" y="2565000"/>
            <a:ext cx="205200" cy="517680"/>
          </a:xfrm>
          <a:custGeom>
            <a:avLst/>
            <a:gdLst>
              <a:gd name="textAreaLeft" fmla="*/ 48240 w 205200"/>
              <a:gd name="textAreaRight" fmla="*/ 156960 w 205200"/>
              <a:gd name="textAreaTop" fmla="*/ 60840 h 517680"/>
              <a:gd name="textAreaBottom" fmla="*/ 324720 h 517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rot="9746400">
            <a:off x="2266920" y="5373000"/>
            <a:ext cx="205200" cy="517320"/>
          </a:xfrm>
          <a:custGeom>
            <a:avLst/>
            <a:gdLst>
              <a:gd name="textAreaLeft" fmla="*/ 48240 w 205200"/>
              <a:gd name="textAreaRight" fmla="*/ 156960 w 205200"/>
              <a:gd name="textAreaTop" fmla="*/ 60840 h 517320"/>
              <a:gd name="textAreaBottom" fmla="*/ 324360 h 517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9746400">
            <a:off x="2482920" y="1988640"/>
            <a:ext cx="205200" cy="517680"/>
          </a:xfrm>
          <a:custGeom>
            <a:avLst/>
            <a:gdLst>
              <a:gd name="textAreaLeft" fmla="*/ 48240 w 205200"/>
              <a:gd name="textAreaRight" fmla="*/ 156960 w 205200"/>
              <a:gd name="textAreaTop" fmla="*/ 60840 h 517680"/>
              <a:gd name="textAreaBottom" fmla="*/ 324720 h 517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981000"/>
            <a:ext cx="914400" cy="9144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2022200">
            <a:off x="3347640" y="4508280"/>
            <a:ext cx="217440" cy="79200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647800">
            <a:off x="3203280" y="4788000"/>
            <a:ext cx="290520" cy="94464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2117000">
            <a:off x="2998440" y="5095800"/>
            <a:ext cx="431640" cy="866880"/>
          </a:xfrm>
          <a:prstGeom prst="triangle">
            <a:avLst>
              <a:gd name="adj" fmla="val 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117400">
            <a:off x="3058560" y="5589720"/>
            <a:ext cx="433080" cy="79200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734080"/>
            <a:ext cx="7920000" cy="863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7099400">
            <a:off x="3247200" y="4503960"/>
            <a:ext cx="647640" cy="716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nt"/>
          <p:cNvSpPr/>
          <p:nvPr/>
        </p:nvSpPr>
        <p:spPr>
          <a:xfrm>
            <a:off x="2627280" y="357336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5607E-006 L 0.17118 0.52162 E">
                                      <p:cBhvr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20231E-007 L 0.17796 0.49711 E">
                                      <p:cBhvr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3064E-006 L 0.18125 0.54543 E">
                                      <p:cBhvr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1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rot="253800">
            <a:off x="7093080" y="2924280"/>
            <a:ext cx="936360" cy="4356000"/>
          </a:xfrm>
          <a:custGeom>
            <a:avLst/>
            <a:gdLst>
              <a:gd name="textAreaLeft" fmla="*/ 0 w 936360"/>
              <a:gd name="textAreaRight" fmla="*/ 936720 w 936360"/>
              <a:gd name="textAreaTop" fmla="*/ 0 h 4356000"/>
              <a:gd name="textAreaBottom" fmla="*/ 4356360 h 4356000"/>
            </a:gdLst>
            <a:ahLst/>
            <a:rect l="textAreaLeft" t="textAreaTop" r="textAreaRight" b="textAreaBottom"/>
            <a:pathLst>
              <a:path w="21600" h="21600">
                <a:moveTo>
                  <a:pt x="3463" y="7235"/>
                </a:moveTo>
                <a:arcTo wR="-8157" hR="-8157" stAng="-9245111" swAng="-9349475"/>
                <a:lnTo>
                  <a:pt x="3871" y="2516"/>
                </a:lnTo>
                <a:arcTo wR="10800" hR="10800" stAng="-7794586" swAng="9349475"/>
                <a:lnTo>
                  <a:pt x="22943" y="16700"/>
                </a:lnTo>
                <a:lnTo>
                  <a:pt x="17568" y="18560"/>
                </a:lnTo>
                <a:lnTo>
                  <a:pt x="15708" y="13185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625440" y="2383560"/>
            <a:ext cx="1509840" cy="115272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582800">
            <a:off x="1115640" y="5734080"/>
            <a:ext cx="2592360" cy="28872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3687840" cy="2981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166400">
            <a:off x="6876720" y="5661000"/>
            <a:ext cx="973080" cy="1484280"/>
          </a:xfrm>
          <a:custGeom>
            <a:avLst/>
            <a:gdLst>
              <a:gd name="textAreaLeft" fmla="*/ 0 w 973080"/>
              <a:gd name="textAreaRight" fmla="*/ 973440 w 97308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21600" h="21600">
                <a:moveTo>
                  <a:pt x="2073" y="12059"/>
                </a:moveTo>
                <a:arcTo wR="-8817" hR="-8817" stAng="10307452" swAng="-6942297"/>
                <a:lnTo>
                  <a:pt x="4774" y="1837"/>
                </a:lnTo>
                <a:arcTo wR="10800" hR="10800" stAng="-7434846" swAng="6942297"/>
                <a:lnTo>
                  <a:pt x="24162" y="8872"/>
                </a:lnTo>
                <a:lnTo>
                  <a:pt x="21035" y="13053"/>
                </a:lnTo>
                <a:lnTo>
                  <a:pt x="16854" y="9927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1841400" y="47196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4365720"/>
            <a:ext cx="93672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292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4292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013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5373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5084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4941720"/>
            <a:ext cx="647640" cy="64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4941720"/>
            <a:ext cx="914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4221000"/>
            <a:ext cx="914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5229360"/>
            <a:ext cx="914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00720" y="278136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5905080" y="3321000"/>
            <a:ext cx="1366920" cy="100836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34400">
            <a:off x="6476760" y="3227040"/>
            <a:ext cx="1582560" cy="112068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349200">
            <a:off x="6999840" y="2921400"/>
            <a:ext cx="1223640" cy="86364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342900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278136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3816360" y="4831920"/>
            <a:ext cx="2374920" cy="129564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4161200">
            <a:off x="2643840" y="3676680"/>
            <a:ext cx="3413160" cy="216072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1659200">
            <a:off x="1902960" y="3906360"/>
            <a:ext cx="3240360" cy="297684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179320" y="2892960"/>
            <a:ext cx="765000" cy="716436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93080" y="4797360"/>
            <a:ext cx="914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4797360"/>
            <a:ext cx="648000" cy="647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7319600">
            <a:off x="7961040" y="50796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314172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321300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3141720"/>
            <a:ext cx="504720" cy="431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11640" y="422100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3933720"/>
            <a:ext cx="280836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933720"/>
            <a:ext cx="38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708280"/>
            <a:ext cx="1800000" cy="122544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50000">
                <a:srgbClr val="ff5353"/>
              </a:gs>
              <a:gs pos="100000">
                <a:srgbClr val="3a3a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1916280"/>
            <a:ext cx="1943280" cy="2017440"/>
          </a:xfrm>
          <a:prstGeom prst="rect">
            <a:avLst/>
          </a:prstGeom>
          <a:gradFill rotWithShape="0">
            <a:gsLst>
              <a:gs pos="0">
                <a:srgbClr val="515151"/>
              </a:gs>
              <a:gs pos="50000">
                <a:srgbClr val="252525"/>
              </a:gs>
              <a:gs pos="100000">
                <a:srgbClr val="51515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72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2205000"/>
            <a:ext cx="5760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773360"/>
            <a:ext cx="244764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3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557360"/>
            <a:ext cx="360360" cy="115236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50000">
                <a:srgbClr val="808080"/>
              </a:gs>
              <a:gs pos="100000">
                <a:srgbClr val="3a3a3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860640"/>
            <a:ext cx="144360" cy="792360"/>
          </a:xfrm>
          <a:prstGeom prst="rect">
            <a:avLst/>
          </a:prstGeom>
          <a:gradFill rotWithShape="0">
            <a:gsLst>
              <a:gs pos="0">
                <a:srgbClr val="ff5353"/>
              </a:gs>
              <a:gs pos="100000">
                <a:srgbClr val="3a3a3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1916280"/>
            <a:ext cx="2808360" cy="2017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1773360"/>
            <a:ext cx="309744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3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2205000"/>
            <a:ext cx="72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2205000"/>
            <a:ext cx="72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2205000"/>
            <a:ext cx="72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63280" y="3969360"/>
            <a:ext cx="431640" cy="503280"/>
          </a:xfrm>
          <a:custGeom>
            <a:avLst/>
            <a:gdLst>
              <a:gd name="textAreaLeft" fmla="*/ 0 w 431640"/>
              <a:gd name="textAreaRight" fmla="*/ 432000 w 431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7"/>
          </p:cNvPr>
          <p:cNvSpPr/>
          <p:nvPr/>
        </p:nvSpPr>
        <p:spPr>
          <a:xfrm>
            <a:off x="395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8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9:51:35Z</dcterms:created>
  <dc:creator>Татьяна</dc:creator>
  <dc:description/>
  <dc:language>en-US</dc:language>
  <cp:lastModifiedBy>Татьяна</cp:lastModifiedBy>
  <dcterms:modified xsi:type="dcterms:W3CDTF">2006-11-27T16:35:21Z</dcterms:modified>
  <cp:revision>9</cp:revision>
  <dc:subject/>
  <dc:title>Слайд 1</dc:title>
</cp:coreProperties>
</file>