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C1B-7775-4924-BDF1-955F807B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BC42-F538-4A93-B305-9BCB097E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DEC4-1EB5-439B-96FA-8F146B17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FB1F-983F-493B-A1D9-0E2D4FD8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7B31-363E-4E94-A7E0-A0439C32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A647-28F7-4AAF-8CC6-6D93C25E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2C77-1FBA-42DA-9852-343E614C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778E-930B-40AE-9589-FD1FAB92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0D83-798D-46B3-BC17-8A024B27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A213-5862-49AB-9E57-6DF69834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FC4D-67C9-4A44-AC7D-E01201A0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93F8-5BBC-4445-9BBD-E30B8C00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EF35-C1C2-4622-ABDF-3C454817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DEFD-B9C7-4EC4-8274-6BE30975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58D8-DAA8-4215-BB62-8A7DD8F3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F7A9-ACA5-4901-8CED-FF7CED04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4462-CB09-4F39-8FB8-6EB3ED89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9CBC8-04A5-40AB-9F9D-8E1D5531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51D1-D792-42A3-8FFE-DF875482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C9C5D-FC8F-4481-B539-30AB8260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B40A5-DC22-4489-846E-DDB9EE3A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19708-A6F6-41BA-BCCF-52D56C35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195C-19D2-47EF-A6F8-CA3C789B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81C91-6118-49BD-847C-7B28DCCD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3A766-1A90-428B-BA09-F4DE51C2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FFCB4-5046-431E-98BC-17F48600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1AA33-95DC-48F9-AFCB-034A0AF7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30FA4-EE61-4330-8BF8-07BC6058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7B4C3-16DC-40C8-85E6-0F3CE61E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FBCB2-0AD2-407E-99CB-AAEF6C3A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8559-1728-417E-9474-AB1809F1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7C6-2725-4E02-A795-432A52F6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F7C-A122-4AFB-ADA1-203CF318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7180-D0A8-43BD-916F-BED7FB7C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C9E7-9A5F-4EB1-AE51-F34C09D9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F67-5985-4E2A-9FEF-25A4BA11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904F-0039-4D67-90A1-E922B1E969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6BAD-5EA4-4EB5-BD09-E6DE34F59F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BC5A-0ECB-4599-A96B-C980AB4810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457200" y="3808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роект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600200" y="190512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как условие формирования УУ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724280" y="4800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838080" y="838080"/>
            <a:ext cx="7848720" cy="53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800000"/>
                </a:solidFill>
                <a:uFillTx/>
                <a:latin typeface="Times New Roman"/>
              </a:rPr>
              <a:t>Этапы работы над проек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1 этап. Мотивацио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2 этап. Планирующе-подготовите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3 этап. Информационно-операцио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4 этап. Рефлексивно-оценоч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838080" y="609480"/>
            <a:ext cx="815364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Степень активности - самосто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1 этап         УЧИТЕЛЬ - обучающи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2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учитель- ОБУЧАЮЩИ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3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4 этап       учитель - ОБУЧАЮЩИЙ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2971800" y="297180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1295280" y="685800"/>
            <a:ext cx="685800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00000"/>
                </a:solidFill>
                <a:latin typeface="Times New Roman"/>
              </a:rPr>
              <a:t>Загад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И у мамы есть, и у папы есть, и у дочки есть, и у внучки есть. Чтобы его назвать, надо вслух сказ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                     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Имя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Влияет ли имя на характер человека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ша гипотеза или гипоте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уя представленные материалы и  свой жизненный опыт, подтвердите или опровергните свои гипоте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делайте вывод  по  поставленной пробл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Прямоугольник 2" descr=""/>
          <p:cNvPicPr/>
          <p:nvPr/>
        </p:nvPicPr>
        <p:blipFill>
          <a:blip r:embed="rId1"/>
          <a:stretch/>
        </p:blipFill>
        <p:spPr>
          <a:xfrm>
            <a:off x="701640" y="225360"/>
            <a:ext cx="8021520" cy="11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285840" y="5715000"/>
          <a:ext cx="8572320" cy="925560"/>
        </p:xfrm>
        <a:graphic>
          <a:graphicData uri="http://schemas.openxmlformats.org/drawingml/2006/table">
            <a:tbl>
              <a:tblPr/>
              <a:tblGrid>
                <a:gridCol w="4214880"/>
                <a:gridCol w="435744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рупп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ет с именем,  которое чаще всего встречает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групп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ет с именем, которое реже всего встреч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 буду использовать в своей работе проектный метод, потому что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 Использование метода проектов позволило мне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Для меня было новым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 Я не готова использовать этот метод, потому что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Прямоугольник 4" descr=""/>
          <p:cNvPicPr/>
          <p:nvPr/>
        </p:nvPicPr>
        <p:blipFill>
          <a:blip r:embed="rId1"/>
          <a:stretch/>
        </p:blipFill>
        <p:spPr>
          <a:xfrm>
            <a:off x="493560" y="73080"/>
            <a:ext cx="81867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457200" y="685800"/>
            <a:ext cx="83059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Расскажи мне – и я забуду, покажи мне – и я запомню, сделай вместе со мной – и я науч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5f8350820dd8"/>
          <p:cNvPicPr/>
          <p:nvPr/>
        </p:nvPicPr>
        <p:blipFill>
          <a:blip r:embed="rId1"/>
          <a:stretch/>
        </p:blipFill>
        <p:spPr>
          <a:xfrm>
            <a:off x="3124080" y="2590920"/>
            <a:ext cx="29354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Прямоугольник 2" descr=""/>
          <p:cNvPicPr/>
          <p:nvPr/>
        </p:nvPicPr>
        <p:blipFill>
          <a:blip r:embed="rId1"/>
          <a:stretch/>
        </p:blipFill>
        <p:spPr>
          <a:xfrm>
            <a:off x="3419640" y="450720"/>
            <a:ext cx="2182680" cy="10861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3"/>
          <p:cNvSpPr/>
          <p:nvPr/>
        </p:nvSpPr>
        <p:spPr>
          <a:xfrm>
            <a:off x="762120" y="1447920"/>
            <a:ext cx="7391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, замысел, в результате которого автор должен получить что-то новое: продукт, программу, отношение, модель, книгу, фильм, сценарий и т.д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окупность приёмов, операций, которые помогают овладеть определённой областью практических или теоретических знаний в той или иной деятельност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 ПРОЕКТОВ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 ДОСТИЖЕНИЯ ДИДАКТИЧЕСКОЙ ЦЕЛИ ЧЕРЕЗ ДЕТАЛЬНУЮ РАЗРАБОТКУ ПРОБЛЕМЫ, КОТОРАЯ ЗАВЕРШИТСЯ ПРАКТИЧЕСКИМ РЕЗУЛЬТА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143000" y="457200"/>
            <a:ext cx="7238880" cy="57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ЛЮСЫ проект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5 П: проблема –проектирование – поиск – продукт – презентация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;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развитие творческого мышления, приобретаются навыки самообразования и контро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социальные и коммуникативные   навы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мыслительные навы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исследовательские навы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авая фигурная скобка 4"/>
          <p:cNvSpPr/>
          <p:nvPr/>
        </p:nvSpPr>
        <p:spPr>
          <a:xfrm>
            <a:off x="7543800" y="2362320"/>
            <a:ext cx="457200" cy="388620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3886200"/>
              <a:gd name="textAreaBottom" fmla="*/ 387432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2"/>
                </a:cubicBezTo>
                <a:lnTo>
                  <a:pt x="10800" y="10588"/>
                </a:lnTo>
                <a:cubicBezTo>
                  <a:pt x="10800" y="10694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2"/>
                </a:cubicBezTo>
                <a:lnTo>
                  <a:pt x="10800" y="21388"/>
                </a:lnTo>
                <a:cubicBezTo>
                  <a:pt x="10800" y="2149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8077320" y="2514600"/>
            <a:ext cx="914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готовка к поисково-исследовательско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228600" y="1238040"/>
            <a:ext cx="8763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блемное введение в тему уро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ановку цели и задач урока совместно с учащими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 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местное или самостоятельное планирование выпол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ктического зад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 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овые работы на уроке, в том числе и с ролев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м работы    в групп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вижение идеи (мозговой штур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ановку вопроса (поиск гипотез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улировку предположения (гипотез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снованный выбор способа выполнения зад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иск дополнительной литера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готовку доклада (сообщ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анализ и самооценку, рефлекс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иск альтернативных способов решения проблемы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2133720" y="228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0880" y="1397160"/>
          <a:ext cx="8534520" cy="4449600"/>
        </p:xfrm>
        <a:graphic>
          <a:graphicData uri="http://schemas.openxmlformats.org/drawingml/2006/table">
            <a:tbl>
              <a:tblPr/>
              <a:tblGrid>
                <a:gridCol w="4648320"/>
                <a:gridCol w="3886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АЮЩИЙ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ь творчески раскрыться, проявить себя индивидуально или в коллектив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о деятельность, направленная на решение интересной проблемы, сформулированной самим учащим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ыт поиска информации, практического применения самообучения, саморазвития, самореализации и самоанализа своей деятель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средство обучения, которое позволяет развивать умение проектирова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990720" y="838080"/>
            <a:ext cx="731520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Виды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По профилю зна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монопроекты – в рамках одного учебного предм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межпредметные – по двум или более предметам; чаще выполняются во внеурочно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066680" y="91440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286000" y="762120"/>
            <a:ext cx="4724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По уровню контак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внутрикласс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внутришколь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региональ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международ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шк2"/>
          <p:cNvPicPr/>
          <p:nvPr/>
        </p:nvPicPr>
        <p:blipFill>
          <a:blip r:embed="rId1"/>
          <a:stretch/>
        </p:blipFill>
        <p:spPr>
          <a:xfrm>
            <a:off x="6477120" y="44197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914400" y="152280"/>
            <a:ext cx="716292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По количеству участ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индивидуальные (личностны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ар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группов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По продолжи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краткосрочные (мини-проекты) –  1 урок, максимум 3-6 уро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среднесрочные (1-2 месяц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долговременные (до го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523880" y="914400"/>
            <a:ext cx="64008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По доминирующей деятельности обучающих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исследовательск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творческ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игро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информацион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социально-значи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48521796_20_1"/>
          <p:cNvPicPr/>
          <p:nvPr/>
        </p:nvPicPr>
        <p:blipFill>
          <a:blip r:embed="rId1"/>
          <a:stretch/>
        </p:blipFill>
        <p:spPr>
          <a:xfrm>
            <a:off x="6705720" y="4038480"/>
            <a:ext cx="20383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11-11-17T19:56:0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