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DA7B-A23A-4299-9DC5-945143024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F955-E63A-40B6-A5FC-7D3D86A0F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A974-6DAD-461C-9F29-466D6A780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DA18-4943-4B1C-863C-BB5C0710F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7EFA0-54E5-4CE5-AC84-3AA137A0A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24F98-0B4A-415A-8CE4-B0765D60B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2B212-3FE7-4673-9891-A56EA2A91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17D00-EA8A-4C8E-9229-596C20A55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809AD-9DD1-4A2A-98D5-6637F85B5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53C6D-9FD2-4587-9C73-ABCCEF05B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6E7B3-E83C-4EF2-A70F-F377DB5C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8732-4664-43BE-AE5E-EBAA42A72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E9A07-6428-4581-AA8C-AF0DAF12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6B39E-9E64-4C0B-96D9-A0B5B18B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21333-AB45-473A-B1A9-974DE85BC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DC0F6-5EB9-4339-8919-56CD6AE31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04158-8AB1-45A1-899C-C4EE82072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1298F-CDE8-4131-A950-781A5AD56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0D31C-7402-4639-AA99-96FEB1FB6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8624D-DB65-4C3D-9CC7-D76067630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D26D0-41C5-4D84-BF9E-35F8648CB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8CE3D-4A54-42F5-9413-DB7972BC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EAA5-28F4-473C-90FD-E22B4B5CE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C880B-0407-4D2D-8852-F98E2B91B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FFD45-38D5-41FE-8E33-528FE6A7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3FD53-E29B-4684-A694-DE3D3A99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CA0FB-9CBA-41AE-9C00-11C678DF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852BA-BDE7-46EC-A3ED-8A25E3BA9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08487-2F19-496B-B369-A8C08963A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483F7-2389-48E2-B0A7-1090C5EBD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49B1-1821-4E4E-84CF-D8B93392A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CB06-2152-4C7E-97E4-BCF721A61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9E86-EA6D-421F-9242-C6B563987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F04D-6301-4E50-B54D-E7C77BF8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8543-E927-4836-AD59-4D88EB14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4D9F-09CA-4D59-8768-7987EBA8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3C31C-148C-4FAB-AF18-ED99CE69E1C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4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768C8-7286-49DE-9E90-B4D4307AF63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87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EA32D-4AE8-45B0-AFD7-637E4C0C08E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457200" y="380880"/>
            <a:ext cx="72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Проектная деяте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1600200" y="1905120"/>
            <a:ext cx="655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Times New Roman"/>
              </a:rPr>
              <a:t>как условие формирования УУД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4724280" y="48006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838080" y="838080"/>
            <a:ext cx="7848720" cy="53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800000"/>
                </a:solidFill>
                <a:uFillTx/>
                <a:latin typeface="Times New Roman"/>
              </a:rPr>
              <a:t>Этапы работы над проект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1 этап. Мотивацион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2 этап. Планирующе-подготовитель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3 этап. Информационно-операцион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4 этап. Рефлексивно-оценоч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4"/>
          <p:cNvSpPr/>
          <p:nvPr/>
        </p:nvSpPr>
        <p:spPr>
          <a:xfrm>
            <a:off x="838080" y="609480"/>
            <a:ext cx="815364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Times New Roman"/>
              </a:rPr>
              <a:t>Степень активности - самостоятель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1 этап         УЧИТЕЛЬ - обучающий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2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                       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учитель- ОБУЧАЮЩИЙ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3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4 этап       учитель - ОБУЧАЮЩИЙ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5"/>
          <p:cNvSpPr/>
          <p:nvPr/>
        </p:nvSpPr>
        <p:spPr>
          <a:xfrm>
            <a:off x="2971800" y="2971800"/>
            <a:ext cx="304920" cy="1828800"/>
          </a:xfrm>
          <a:custGeom>
            <a:avLst/>
            <a:gdLst>
              <a:gd name="textAreaLeft" fmla="*/ 0 w 304920"/>
              <a:gd name="textAreaRight" fmla="*/ 110160 w 304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1295280" y="685800"/>
            <a:ext cx="6858000" cy="48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800000"/>
                </a:solidFill>
                <a:latin typeface="Times New Roman"/>
              </a:rPr>
              <a:t>Загад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И у мамы есть, и у папы есть, и у дочки есть, и у внучки есть. Чтобы его назвать, надо вслух сказа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                       </a:t>
            </a: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(</a:t>
            </a:r>
            <a:r>
              <a:rPr b="1" i="1" lang="ru-RU" sz="3600" spc="-1" strike="noStrike">
                <a:solidFill>
                  <a:srgbClr val="800000"/>
                </a:solidFill>
                <a:latin typeface="Times New Roman"/>
              </a:rPr>
              <a:t>Имя</a:t>
            </a: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блема: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«Влияет ли имя на характер человека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аша гипотеза или гипоте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пользуя представленные материалы и  свой жизненный опыт, подтвердите или опровергните свои гипоте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делайте вывод  по  поставленной пробле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Прямоугольник 2" descr=""/>
          <p:cNvPicPr/>
          <p:nvPr/>
        </p:nvPicPr>
        <p:blipFill>
          <a:blip r:embed="rId1"/>
          <a:stretch/>
        </p:blipFill>
        <p:spPr>
          <a:xfrm>
            <a:off x="701640" y="225360"/>
            <a:ext cx="8021520" cy="118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9" name=""/>
          <p:cNvGraphicFramePr/>
          <p:nvPr/>
        </p:nvGraphicFramePr>
        <p:xfrm>
          <a:off x="285840" y="5715000"/>
          <a:ext cx="8572320" cy="925560"/>
        </p:xfrm>
        <a:graphic>
          <a:graphicData uri="http://schemas.openxmlformats.org/drawingml/2006/table">
            <a:tbl>
              <a:tblPr/>
              <a:tblGrid>
                <a:gridCol w="4214880"/>
                <a:gridCol w="4357440"/>
              </a:tblGrid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групп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ает с именем,  которое чаще всего встречаетс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групп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ет с именем, которое реже всего встречает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Я буду использовать в своей работе проектный метод, потому что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 Использование метода проектов позволило мне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Для меня было новым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 Я не готова использовать этот метод, потому что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Прямоугольник 4" descr=""/>
          <p:cNvPicPr/>
          <p:nvPr/>
        </p:nvPicPr>
        <p:blipFill>
          <a:blip r:embed="rId1"/>
          <a:stretch/>
        </p:blipFill>
        <p:spPr>
          <a:xfrm>
            <a:off x="493560" y="73080"/>
            <a:ext cx="818676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457200" y="685800"/>
            <a:ext cx="830592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Расскажи мне – и я забуду, покажи мне – и я запомню, сделай вместе со мной – и я научу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imes New Roman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5f8350820dd8"/>
          <p:cNvPicPr/>
          <p:nvPr/>
        </p:nvPicPr>
        <p:blipFill>
          <a:blip r:embed="rId1"/>
          <a:stretch/>
        </p:blipFill>
        <p:spPr>
          <a:xfrm>
            <a:off x="3124080" y="2590920"/>
            <a:ext cx="293544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5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1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0"/>
                            </p:stCondLst>
                            <p:childTnLst>
                              <p:par>
                                <p:cTn id="8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7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6000"/>
                            </p:stCondLst>
                            <p:childTnLst>
                              <p:par>
                                <p:cTn id="8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0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Прямоугольник 2" descr=""/>
          <p:cNvPicPr/>
          <p:nvPr/>
        </p:nvPicPr>
        <p:blipFill>
          <a:blip r:embed="rId1"/>
          <a:stretch/>
        </p:blipFill>
        <p:spPr>
          <a:xfrm>
            <a:off x="3419640" y="450720"/>
            <a:ext cx="2182680" cy="1086120"/>
          </a:xfrm>
          <a:prstGeom prst="rect">
            <a:avLst/>
          </a:prstGeom>
          <a:ln w="0">
            <a:noFill/>
          </a:ln>
        </p:spPr>
      </p:pic>
      <p:sp>
        <p:nvSpPr>
          <p:cNvPr id="137" name="TextBox 3"/>
          <p:cNvSpPr/>
          <p:nvPr/>
        </p:nvSpPr>
        <p:spPr>
          <a:xfrm>
            <a:off x="762120" y="1447920"/>
            <a:ext cx="7391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ан, замысел, в результате которого автор должен получить что-то новое: продукт, программу, отношение, модель, книгу, фильм, сценарий и т.д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вокупность приёмов, операций, которые помогают овладеть определённой областью практических или теоретических знаний в той или иной деятельности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ОД ПРОЕКТОВ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ОСОБ ДОСТИЖЕНИЯ ДИДАКТИЧЕСКОЙ ЦЕЛИ ЧЕРЕЗ ДЕТАЛЬНУЮ РАЗРАБОТКУ ПРОБЛЕМЫ, КОТОРАЯ ЗАВЕРШИТСЯ ПРАКТИЧЕСКИМ РЕЗУЛЬТА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1143000" y="457200"/>
            <a:ext cx="7238880" cy="57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ПЛЮСЫ проектной деятель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8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5 П: проблема –проектирование – поиск – продукт – презентация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; 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8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развитие творческого мышления, приобретаются навыки самообразования и контрол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8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социальные и коммуникативные   навы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8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мыслительные навы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8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исследовательские навы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авая фигурная скобка 4"/>
          <p:cNvSpPr/>
          <p:nvPr/>
        </p:nvSpPr>
        <p:spPr>
          <a:xfrm>
            <a:off x="7543800" y="2362320"/>
            <a:ext cx="457200" cy="3886200"/>
          </a:xfrm>
          <a:custGeom>
            <a:avLst/>
            <a:gdLst>
              <a:gd name="textAreaLeft" fmla="*/ 0 w 457200"/>
              <a:gd name="textAreaRight" fmla="*/ 164880 w 457200"/>
              <a:gd name="textAreaTop" fmla="*/ 11880 h 3886200"/>
              <a:gd name="textAreaBottom" fmla="*/ 3874320 h 388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6"/>
                  <a:pt x="10800" y="212"/>
                </a:cubicBezTo>
                <a:lnTo>
                  <a:pt x="10800" y="10588"/>
                </a:lnTo>
                <a:cubicBezTo>
                  <a:pt x="10800" y="10694"/>
                  <a:pt x="16200" y="10800"/>
                  <a:pt x="21600" y="10800"/>
                </a:cubicBezTo>
                <a:cubicBezTo>
                  <a:pt x="16200" y="10800"/>
                  <a:pt x="10800" y="10906"/>
                  <a:pt x="10800" y="11012"/>
                </a:cubicBezTo>
                <a:lnTo>
                  <a:pt x="10800" y="21388"/>
                </a:lnTo>
                <a:cubicBezTo>
                  <a:pt x="10800" y="21494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5"/>
          <p:cNvSpPr/>
          <p:nvPr/>
        </p:nvSpPr>
        <p:spPr>
          <a:xfrm>
            <a:off x="8077320" y="2514600"/>
            <a:ext cx="914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готовка к поисково-исследовательской рабо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"/>
          <p:cNvSpPr/>
          <p:nvPr/>
        </p:nvSpPr>
        <p:spPr>
          <a:xfrm>
            <a:off x="228600" y="1238040"/>
            <a:ext cx="87631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блемное введение в тему уро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•   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тановку цели и задач урока совместно с учащими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•   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овместное или самостоятельное планирование выполн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актического зад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• 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рупповые работы на уроке, в том числе и с ролевы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пределением работы    в групп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•   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ыдвижение идеи (мозговой штурм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•   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тановку вопроса (поиск гипотезы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•   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формулировку предположения (гипотезы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•   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боснованный выбор способа выполнения зад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•   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иск дополнительной литерату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•   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готовку доклада (сообщения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•   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оанализ и самооценку, рефлекс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•   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иск альтернативных способов решения проблемы и т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1"/>
          <p:cNvSpPr/>
          <p:nvPr/>
        </p:nvSpPr>
        <p:spPr>
          <a:xfrm>
            <a:off x="2133720" y="22860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Е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80880" y="1397160"/>
          <a:ext cx="8534520" cy="4449600"/>
        </p:xfrm>
        <a:graphic>
          <a:graphicData uri="http://schemas.openxmlformats.org/drawingml/2006/table">
            <a:tbl>
              <a:tblPr/>
              <a:tblGrid>
                <a:gridCol w="4648320"/>
                <a:gridCol w="3886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УЧАЮЩИЙ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05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можность творчески раскрыться, проявить себя индивидуально или в коллективе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о деятельность, направленная на решение интересной проблемы, сформулированной самим учащимс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ыт поиска информации, практического применения самообучения, саморазвития, самореализации и самоанализа своей деятельност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дактическое средство обучения, которое позволяет развивать умение проектирования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990720" y="838080"/>
            <a:ext cx="7315200" cy="50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Times New Roman"/>
              </a:rPr>
              <a:t>Виды проек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800000"/>
                </a:solidFill>
                <a:uFillTx/>
                <a:latin typeface="Times New Roman"/>
              </a:rPr>
              <a:t>По профилю знан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8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монопроекты – в рамках одного учебного предме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8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межпредметные – по двум или более предметам; чаще выполняются во внеурочное врем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4"/>
          <p:cNvSpPr/>
          <p:nvPr/>
        </p:nvSpPr>
        <p:spPr>
          <a:xfrm>
            <a:off x="1066680" y="914400"/>
            <a:ext cx="685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2286000" y="762120"/>
            <a:ext cx="47242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800000"/>
                </a:solidFill>
                <a:uFillTx/>
                <a:latin typeface="Times New Roman"/>
              </a:rPr>
              <a:t>По уровню контакт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8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внутриклассн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8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внутришкольн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8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региональн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8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международ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6" descr="шк2"/>
          <p:cNvPicPr/>
          <p:nvPr/>
        </p:nvPicPr>
        <p:blipFill>
          <a:blip r:embed="rId1"/>
          <a:stretch/>
        </p:blipFill>
        <p:spPr>
          <a:xfrm>
            <a:off x="6477120" y="441972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4"/>
          <p:cNvSpPr/>
          <p:nvPr/>
        </p:nvSpPr>
        <p:spPr>
          <a:xfrm>
            <a:off x="914400" y="152280"/>
            <a:ext cx="7162920" cy="67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800000"/>
                </a:solidFill>
                <a:uFillTx/>
                <a:latin typeface="Times New Roman"/>
              </a:rPr>
              <a:t>По количеству участник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8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индивидуальные (личностные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8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парн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8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группов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8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800000"/>
                </a:solidFill>
                <a:uFillTx/>
                <a:latin typeface="Times New Roman"/>
              </a:rPr>
              <a:t>По продолжительно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8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краткосрочные (мини-проекты) –  1 урок, максимум 3-6 урок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среднесрочные (1-2 месяца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долговременные (до год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8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1523880" y="914400"/>
            <a:ext cx="640080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800000"/>
                </a:solidFill>
                <a:uFillTx/>
                <a:latin typeface="Times New Roman"/>
              </a:rPr>
              <a:t>По доминирующей деятельности обучающих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8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исследовательск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8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творческ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8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игров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8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информационн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8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социально-значим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48521796_20_1"/>
          <p:cNvPicPr/>
          <p:nvPr/>
        </p:nvPicPr>
        <p:blipFill>
          <a:blip r:embed="rId1"/>
          <a:stretch/>
        </p:blipFill>
        <p:spPr>
          <a:xfrm>
            <a:off x="6705720" y="4038480"/>
            <a:ext cx="203832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К</cp:lastModifiedBy>
  <dcterms:modified xsi:type="dcterms:W3CDTF">2011-11-17T19:56:08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