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F78D-B4A5-4663-BFFC-C5D74DF53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1394-484B-482F-B681-3B4D6D486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C984-524A-455D-8C08-16B3DC11A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93E6-5BF6-4D51-B467-241A2B52D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19B5C-4D2A-484C-8221-FCC568DC4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67BF5-D4F6-4071-A9CB-2E451422F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33617-83B3-4312-B1E7-5B8B4D3A7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39E7A-4441-49D6-8E7E-55B21DDDD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935E1-2895-482A-ACE1-0E776B2D0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22F32-71B5-4438-A2EE-8B23F1D69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2E2F6-5CB4-4A3E-9B9A-BB7551658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317B-BB4D-4FA3-A529-4D3A5DC01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04C90-4FC4-44DA-8E63-1FDF061F9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FC98E-4F4B-4684-BF4D-46084E20B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B913E-E8F7-42E7-A267-56841F05D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8DB24-48E5-47F6-B931-AA368D1C5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7C863-2E64-4F5A-B6D4-7A3A8C9D0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16CE-2224-496C-AD7B-C0FC19502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AB6E-2CA4-44AE-AFD6-BB1663BC5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A927-EE9E-46D5-AA5C-57EDD812D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98A2-71FD-45AA-AE70-E52FEECC2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017D-66C6-4BBD-A1D7-7C0824D5B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85B6-2D5F-4489-95CF-6B0811D6A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DB8C-D8E7-4004-99A4-94F7F3E00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A2621-E923-477A-8B8F-27A597ADE8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F649B-0C82-4F84-AA9E-B13FDB7023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1412640"/>
            <a:ext cx="9320040" cy="209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 u="sng">
                <a:solidFill>
                  <a:srgbClr val="ffffb7"/>
                </a:solidFill>
                <a:uFillTx/>
                <a:latin typeface="Arial Black"/>
              </a:rPr>
              <a:t>Минералы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1116000" y="2421000"/>
            <a:ext cx="727236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Определение минералов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Минера́л— природное тело с определённым химическим составом и кристаллической структурой, образующееся в результате природных физико-химических процессов и обладающее определёнными физическими, механическими и химическими свойствам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971640" y="2997360"/>
            <a:ext cx="7993080" cy="36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Розовый кварц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13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Кварц - самый распространённый минерал земной коры, встречающийся в магматических, осадочных и метаморфических породах. Цвет кварца может быть различным и зависит от тех или иных примесей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755640" y="2997360"/>
            <a:ext cx="813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 незапамятных времён кварц играл важную роль в жизни человека. Он широко использовался в изготовление оружия, утвари, инструмента, украшений, орнаментов и магических кристаллов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5" descr=""/>
          <p:cNvPicPr/>
          <p:nvPr/>
        </p:nvPicPr>
        <p:blipFill>
          <a:blip r:embed="rId1"/>
          <a:stretch/>
        </p:blipFill>
        <p:spPr>
          <a:xfrm>
            <a:off x="1116000" y="4076640"/>
            <a:ext cx="3743280" cy="23479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"/>
          <p:cNvPicPr/>
          <p:nvPr/>
        </p:nvPicPr>
        <p:blipFill>
          <a:blip r:embed="rId2"/>
          <a:stretch/>
        </p:blipFill>
        <p:spPr>
          <a:xfrm>
            <a:off x="5148360" y="4005360"/>
            <a:ext cx="3384360" cy="24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Аметист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7479000" cy="145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Аметист - это кристаллический минерал. Его легко узнать по фиолетовому цвету с оттенками от светло-розового до тёмно-фиолетового. Окраска кристалла особенно интенсивна на концах из-за наличий примесей желез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Rectangle 4"/>
          <p:cNvSpPr/>
          <p:nvPr/>
        </p:nvSpPr>
        <p:spPr>
          <a:xfrm flipV="1" rot="10765200">
            <a:off x="539280" y="2996280"/>
            <a:ext cx="810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Аметист издревле пользовался большой популярностью, его высоко ценили ещё ювелиры Древнего Египт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5" descr=""/>
          <p:cNvPicPr/>
          <p:nvPr/>
        </p:nvPicPr>
        <p:blipFill>
          <a:blip r:embed="rId1"/>
          <a:stretch/>
        </p:blipFill>
        <p:spPr>
          <a:xfrm>
            <a:off x="684360" y="3716280"/>
            <a:ext cx="3382920" cy="29224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"/>
          <p:cNvPicPr/>
          <p:nvPr/>
        </p:nvPicPr>
        <p:blipFill>
          <a:blip r:embed="rId2"/>
          <a:stretch/>
        </p:blipFill>
        <p:spPr>
          <a:xfrm>
            <a:off x="4643280" y="3645000"/>
            <a:ext cx="331344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Благодарю за внимание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5" name="Picture 3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747900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33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"/>
              </a:rPr>
              <a:t>                  </a:t>
            </a:r>
            <a:r>
              <a:rPr b="1" lang="en-US" sz="4400" spc="-1" strike="noStrike">
                <a:solidFill>
                  <a:srgbClr val="ffffb7"/>
                </a:solidFill>
                <a:latin typeface="Arial"/>
              </a:rPr>
              <a:t>СПАСИБО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"/>
              </a:rPr>
              <a:t>                          ЗА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"/>
              </a:rPr>
              <a:t>                  ВНИМАНИЕ!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987640" y="4653000"/>
            <a:ext cx="585792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аботу выполнил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ченица 4 «Б» класс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узьмина Анастаси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1T02:39:21Z</dcterms:created>
  <dc:creator>User</dc:creator>
  <dc:description/>
  <dc:language>en-US</dc:language>
  <cp:lastModifiedBy>User</cp:lastModifiedBy>
  <dcterms:modified xsi:type="dcterms:W3CDTF">2011-12-01T18:08:52Z</dcterms:modified>
  <cp:revision>4</cp:revision>
  <dc:subject/>
  <dc:title>Минералы</dc:title>
</cp:coreProperties>
</file>