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1C6-4908-40E9-802C-98DD5293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E91-E259-4A2A-8F10-CE310D9B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47B-01C4-4E7F-B2C5-8B77605E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59D-AD4B-4FF1-B1C7-D6593174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640A-BFA0-4A0A-9C62-5F2D9A8B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021B-5081-4709-9D47-08E91E73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3D6-1D3E-420A-AA00-764869DB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9AC2-AD67-4965-840E-7145AD9D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22A8-56A0-4917-860F-0E3F1B9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2E5D-4501-4205-9383-C673542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4D9E-3CEB-4881-9F81-CA8AFE1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2DB-541D-42D7-897B-EE556073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48D4-DBF9-406B-9126-CF3A33AF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0836-E577-4965-AB8F-8689001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CD29-C569-4F90-80CD-480D530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0387-2D20-4D8E-968B-5CCE98CB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2430-4598-4982-A0CA-D2CF5F01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E5D-6168-4A55-84A7-690F324F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494-797E-40F4-97AE-744267F3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5D5-17E1-4BDA-A8B1-91025D5C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557-74B1-4C5B-A897-5B1D8DF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500-2C4A-419C-ADF4-9AB5670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8E0-70C0-4809-B6DE-394FF615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6B8-9D95-45DE-BF85-6AB87ED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FFB-2A66-4153-8C92-3E0DA84C0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E948-6BA5-4F36-82A8-6FC9B2B6C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932004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Минерал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727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е минера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нера́л— природное тело с определённым химическим составом и кристаллической структурой, образующееся в результате природных физико-химических процессов и обладающее определёнными физическими, механическими и химически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7993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зовый квар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варц - самый распространённый минерал земной коры, встречающийся в магматических, осадочных и метаморфических породах. Цвет кварца может быть различным и зависит от тех или иных примес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997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незапамятных времён кварц играл важную роль в жизни человека. Он широко использовался в изготовление оружия, утвари, инструмента, украшений, орнаментов и магических кристалл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116000" y="4076640"/>
            <a:ext cx="3743280" cy="234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3843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мети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790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метист - это кристаллический минерал. Его легко узнать по фиолетовому цвету с оттенками от светло-розового до тёмно-фиолетового. Окраска кристалла особенно интенсивна на концах из-за наличий примесей желе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 flipV="1" rot="10765200">
            <a:off x="539280" y="2996280"/>
            <a:ext cx="81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етист издревле пользовался большой популярностью, его высоко ценили ещё ювелиры Древнего Егип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382920" cy="292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331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лагодарю з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7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СПАСИБО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                 З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        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87640" y="4653000"/>
            <a:ext cx="585792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у выполн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ца 4 «Б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зьмина Анастас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2:39:21Z</dcterms:created>
  <dc:creator>User</dc:creator>
  <dc:description/>
  <dc:language>en-US</dc:language>
  <cp:lastModifiedBy>User</cp:lastModifiedBy>
  <dcterms:modified xsi:type="dcterms:W3CDTF">2011-12-01T18:08:52Z</dcterms:modified>
  <cp:revision>4</cp:revision>
  <dc:subject/>
  <dc:title>Минералы</dc:title>
</cp:coreProperties>
</file>