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E00FE-8361-47D5-BC33-E080D2A20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63093-9BEA-40F5-A6BB-42831F14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709EF-884F-41B8-B16B-D48F84328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9A804-7234-4E9A-B607-5DB065F6C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0FB12-AA2B-49F7-B15F-83D5AA159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C974-A634-471F-ABA0-6F3225CFF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F14B5-2D43-48A1-869C-EC12A80CC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2F23F-FEB0-48A4-9AF9-040011034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E2C4-BF4A-4F0D-BC93-A53D7BD8F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EF9B-F9A8-46DF-96BA-2031AA5BE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194F-ED82-44A1-BA9F-4AF8117DD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6A2C-E802-4CB8-91BE-D0A09112C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8F4F-8C4C-48B4-A94A-30FEC714E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1" name=""/>
          <p:cNvSpPr txBox="1"/>
          <p:nvPr/>
        </p:nvSpPr>
        <p:spPr>
          <a:xfrm>
            <a:off x="476280" y="324000"/>
            <a:ext cx="5905440" cy="19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rPr>
              <a:t>Отдых с детьми </a:t>
            </a:r>
            <a:endPar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rPr>
              <a:t>на природе в </a:t>
            </a:r>
            <a:endPar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rPr>
              <a:t>зимние дни</a:t>
            </a:r>
            <a:endParaRPr b="0" lang="en-US" sz="1800" spc="1" strike="noStrike">
              <a:ln w="31680">
                <a:solidFill>
                  <a:srgbClr val="000000"/>
                </a:solidFill>
                <a:miter/>
              </a:ln>
              <a:gradFill rotWithShape="0">
                <a:gsLst>
                  <a:gs pos="0">
                    <a:srgbClr val="3399ff"/>
                  </a:gs>
                  <a:gs pos="50000">
                    <a:srgbClr val="ffffff"/>
                  </a:gs>
                  <a:gs pos="100000">
                    <a:srgbClr val="3399ff"/>
                  </a:gs>
                </a:gsLst>
                <a:lin ang="5400000"/>
              </a:gradFill>
              <a:effectLst>
                <a:outerShdw dist="17819" dir="2700000" blurRad="0" rotWithShape="0">
                  <a:srgbClr val="990000"/>
                </a:outerShdw>
              </a:effectLst>
              <a:latin typeface="Impact"/>
              <a:ea typeface="Impact"/>
            </a:endParaRPr>
          </a:p>
        </p:txBody>
      </p:sp>
      <p:sp>
        <p:nvSpPr>
          <p:cNvPr id="42" name=""/>
          <p:cNvSpPr/>
          <p:nvPr/>
        </p:nvSpPr>
        <p:spPr>
          <a:xfrm>
            <a:off x="260280" y="6372360"/>
            <a:ext cx="633744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Это недолгое время в году искрится необыкновенной радостью. Вспомните, как радовались мы первому снегу, пытаясь ладошкой, одетую в пушистую варежку, поймать падающие снежинки. С каким удивлением, восхищенно рассматривали мы удивительный рисунок благосклонно посетившей нас небесной странниц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А морозные узоры на окнах, этот необыкновенный подарок зимы, который мы изо всех сил старались запомнить, и, водя застывшим пальчиком по стеклу, пытались повторить его замысловатые изгибы... </a:t>
            </a:r>
            <a:endParaRPr b="0" lang="en-US" sz="1600" spc="-1" strike="noStrike">
              <a:solidFill>
                <a:srgbClr val="000000"/>
              </a:solidFill>
              <a:latin typeface="Arial"/>
            </a:endParaRPr>
          </a:p>
        </p:txBody>
      </p:sp>
      <p:sp>
        <p:nvSpPr>
          <p:cNvPr id="43" name=""/>
          <p:cNvSpPr/>
          <p:nvPr/>
        </p:nvSpPr>
        <p:spPr>
          <a:xfrm>
            <a:off x="3429000" y="2627280"/>
            <a:ext cx="317016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Вспомните ПУШКИНСКОЕ: "Мороз и солнце, день чудесн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Вот,     наконец-то, и пришла она - долгожданная русская зима. Что может быть лучше морозного зимнего дня со сверкающим на солнышке снегом?    </a:t>
            </a:r>
            <a:endParaRPr b="0" lang="en-US" sz="1600" spc="-1" strike="noStrike">
              <a:solidFill>
                <a:srgbClr val="000000"/>
              </a:solidFill>
              <a:latin typeface="Arial"/>
            </a:endParaRPr>
          </a:p>
        </p:txBody>
      </p:sp>
      <p:pic>
        <p:nvPicPr>
          <p:cNvPr id="44" name="" descr="Отдых с детьми на природе в зимние дни"/>
          <p:cNvPicPr/>
          <p:nvPr/>
        </p:nvPicPr>
        <p:blipFill>
          <a:blip r:embed="rId1"/>
          <a:stretch/>
        </p:blipFill>
        <p:spPr>
          <a:xfrm>
            <a:off x="5445000" y="4859280"/>
            <a:ext cx="1078200" cy="1441440"/>
          </a:xfrm>
          <a:prstGeom prst="rect">
            <a:avLst/>
          </a:prstGeom>
          <a:ln w="9360">
            <a:solidFill>
              <a:srgbClr val="000000"/>
            </a:solidFill>
            <a:miter/>
          </a:ln>
        </p:spPr>
      </p:pic>
      <p:pic>
        <p:nvPicPr>
          <p:cNvPr id="45" name="Рисунок 66" descr="C:\Documents and Settings\Наталья\Local Settings\Temporary Internet Files\Content.IE5\1X6OI7DA\MPj04229690000[1].jpg"/>
          <p:cNvPicPr/>
          <p:nvPr/>
        </p:nvPicPr>
        <p:blipFill>
          <a:blip r:embed="rId2"/>
          <a:stretch/>
        </p:blipFill>
        <p:spPr>
          <a:xfrm>
            <a:off x="260280" y="2771640"/>
            <a:ext cx="3119400" cy="2095560"/>
          </a:xfrm>
          <a:prstGeom prst="rect">
            <a:avLst/>
          </a:prstGeom>
          <a:ln w="9360">
            <a:solidFill>
              <a:srgbClr val="000000"/>
            </a:solidFill>
            <a:miter/>
          </a:ln>
        </p:spPr>
      </p:pic>
      <p:sp>
        <p:nvSpPr>
          <p:cNvPr id="46" name=""/>
          <p:cNvSpPr/>
          <p:nvPr/>
        </p:nvSpPr>
        <p:spPr>
          <a:xfrm>
            <a:off x="260280" y="5219640"/>
            <a:ext cx="5112000" cy="1437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Такую погоду можно назвать "зимней романтикой средних широт" - хорошо знакомая и любимая многими картина, знакомая еще со времен далекого детства.</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7" name=""/>
          <p:cNvSpPr/>
          <p:nvPr/>
        </p:nvSpPr>
        <p:spPr>
          <a:xfrm>
            <a:off x="260280" y="324000"/>
            <a:ext cx="6335640" cy="81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Современные стеклопакеты, это не только гарантия тепла в вашем доме, но так же и того, что ваши дети никогда не увидят зимней сказки на своем окне, подаренной самой природой. Нет, мы не против комфорта, просто нам  есть с чем сравнивать, и мы совершенно уверены в том, что с его приходом, романтика навсегда покидает наши жилища. Но нам также известна особенность каждого ребенка - находить сказку во всем. Так давайте же поможем в этом нашим детям.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Многие из нас, живущих в больших городах, лишены элементарной возможности поиграть в снежки, вдоволь повозиться в снегу, слепить из снега несложную скульптуру или построить снежный городок. А ведь это всегда было традиционной русской забавой в зимнее время год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Сегодня картина иная. С работы возвращаемся поздно, сильно устаем, а надо еще зайти в садик за ребенком, успеть купить продуктов в магазине, да что-то приготовить на ужин. С утра дворники разметут весь снег, и к следующему вечеру на чистом асфальте от него не останется и следа. Какие уж тут снежки и игры. Но не забывайте, что у вас остаются еще и ваши законные выходные. И если они пришлись на ясный, солнечный, погожий, зимний денек, не раздумывайте ни секунду - поскорее вытаскивайте запылившиеся лыжи, собирайте все необходимое, и - в лес, на природ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Вряд ли стоит забираться слишком далеко, тратя на дорогу драгоценное время. Вполне достаточно парковой зоны, расположившейся неподалеку от вашего дома или просто небольшой горки поблизости... да все, что угодно, выбирайте любые, даже самые непритязательные условия, лишь бы не сидеть дома в выходные, уныло глядя в телевизор, да изредка выглядывая в окно.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8" name=""/>
          <p:cNvSpPr/>
          <p:nvPr/>
        </p:nvSpPr>
        <p:spPr>
          <a:xfrm>
            <a:off x="260280" y="0"/>
            <a:ext cx="6264360" cy="499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Вариантов может быть огромное множество, в зависимости от ваших возможностей и желаний. Зимой самое время поучить малыша кататься на коньках. Для этого вовсе не обязательно записывать его в спортивный клуб, если, конечно, Вы не рассчитываете в будущем увидеть вашего ребенка в составе олимпийской сборной. В некоторых двориках зимой заливают катки. И для малыша будет огромной радостью, если первым шагам на льду его научите именно в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Зимние прогулки должны быть насыщены активной физической деятельностью, движением. Даже если вы решили просто расчистить во дворе дорожки от снега, ребенок не должен неподвижно наблюдать за вами. Вручите и ему маленький совочек - пусть помогает в силу своих возможносте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Самой большой радостью для детей во время зимних прогулок, конечно же, является лепка снежной бабы или снеговика. Не упустите того момента, когда снег отлично лепится - собирайтесь, и бегом во двор вместе с ребенком. Только не забудьте заранее прихватить морковку. </a:t>
            </a:r>
            <a:endParaRPr b="0" lang="en-US" sz="1600" spc="-1" strike="noStrike">
              <a:solidFill>
                <a:srgbClr val="000000"/>
              </a:solidFill>
              <a:latin typeface="Arial"/>
            </a:endParaRPr>
          </a:p>
        </p:txBody>
      </p:sp>
      <p:sp>
        <p:nvSpPr>
          <p:cNvPr id="49" name=""/>
          <p:cNvSpPr/>
          <p:nvPr/>
        </p:nvSpPr>
        <p:spPr>
          <a:xfrm>
            <a:off x="260280" y="5219640"/>
            <a:ext cx="3889440" cy="3775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0000"/>
                </a:solidFill>
                <a:latin typeface="Arial"/>
              </a:rPr>
              <a:t>Попробуйте изобразить из снега нечто более сложное. При помощи стеки из обычного пластилинового набора, перочинного ножика или обычной чайной ложки, можно попытаться вылепить настоящую снегурочку с чертами лица, как у человека, с длинной косой, в шапочке, длинной шубке и варежках. Это совсем не так сложно. Вообще из снега можно слепить все, что угодно – самых разнообразных животных, какие только придут в голову, небольшое креслице, маленькие домики и т.д.</a:t>
            </a:r>
            <a:endParaRPr b="0" lang="en-US" sz="1600" spc="-1" strike="noStrike">
              <a:solidFill>
                <a:srgbClr val="000000"/>
              </a:solidFill>
              <a:latin typeface="Arial"/>
            </a:endParaRPr>
          </a:p>
        </p:txBody>
      </p:sp>
      <p:pic>
        <p:nvPicPr>
          <p:cNvPr id="50" name="" descr=""/>
          <p:cNvPicPr/>
          <p:nvPr/>
        </p:nvPicPr>
        <p:blipFill>
          <a:blip r:embed="rId1"/>
          <a:stretch/>
        </p:blipFill>
        <p:spPr>
          <a:xfrm>
            <a:off x="4149720" y="5148360"/>
            <a:ext cx="2424240" cy="37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51" name=""/>
          <p:cNvSpPr/>
          <p:nvPr/>
        </p:nvSpPr>
        <p:spPr>
          <a:xfrm>
            <a:off x="260280" y="250920"/>
            <a:ext cx="6335640" cy="490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Arial"/>
              </a:rPr>
              <a:t>Главное - это свежий воздух и общая атмосфера радости и весель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А ваш малыш будет просто счастлив покататься на санках, даже с самого незначительного бугорка. "Вечный двигатель", который сидит в каждом ребенке, постоянно заставляет его двигаться, искать выход накопившейся энергии. Детям тесно в квартирах, и, хотя бы иногда, нужно проводить с ними весь день на воздух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Малыш наберется впечатлений, которые можно использовать во время индивидуальных занятий с ним. Спустя какое - то время, он с удовольствием изобразит на бумаге самые яркие моменты выходного дня, напишет сочинение, небольшой рассказ, ему будет, чем поделиться со сверстникам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К тому же, после такой прогулки ребенка точно не придется уговаривать съесть еще ложечку за папу или за бабушку. На свежем воздухе у детей, да и у взрослых, развивается завидный аппетит. </a:t>
            </a:r>
            <a:endParaRPr b="0" lang="en-US" sz="1600" spc="-1" strike="noStrike">
              <a:solidFill>
                <a:srgbClr val="000000"/>
              </a:solidFill>
              <a:latin typeface="Arial"/>
            </a:endParaRPr>
          </a:p>
        </p:txBody>
      </p:sp>
      <p:pic>
        <p:nvPicPr>
          <p:cNvPr id="52" name="" descr=""/>
          <p:cNvPicPr/>
          <p:nvPr/>
        </p:nvPicPr>
        <p:blipFill>
          <a:blip r:embed="rId1"/>
          <a:srcRect l="0" t="1591" r="0" b="4157"/>
          <a:stretch/>
        </p:blipFill>
        <p:spPr>
          <a:xfrm>
            <a:off x="0" y="5292720"/>
            <a:ext cx="6858000" cy="3851280"/>
          </a:xfrm>
          <a:prstGeom prst="rect">
            <a:avLst/>
          </a:prstGeom>
          <a:ln w="9360">
            <a:solidFill>
              <a:srgbClr val="000000"/>
            </a:solidFill>
            <a:miter/>
          </a:ln>
        </p:spPr>
      </p:pic>
      <p:sp>
        <p:nvSpPr>
          <p:cNvPr id="53" name=""/>
          <p:cNvSpPr/>
          <p:nvPr/>
        </p:nvSpPr>
        <p:spPr>
          <a:xfrm>
            <a:off x="1557360" y="5867280"/>
            <a:ext cx="45356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Устройте ребенку и себе настоящий зимний праздник.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А уж воспоминаний после такого выходного дня у него хватит надолго, может быть на всю жизн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30T10:27:59Z</dcterms:created>
  <dc:creator>САД № 20</dc:creator>
  <dc:description/>
  <dc:language>en-US</dc:language>
  <cp:lastModifiedBy>САД № 20</cp:lastModifiedBy>
  <dcterms:modified xsi:type="dcterms:W3CDTF">2011-11-30T10:58:08Z</dcterms:modified>
  <cp:revision>2</cp:revision>
  <dc:subject/>
  <dc:title>Слайд 1</dc:title>
</cp:coreProperties>
</file>