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FD0-5E89-4DC1-8DBB-4EA355FD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302E-C2A5-431A-A57E-0ECC33C8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D9D-4380-47C3-9290-CD90C649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6D0-928A-49EF-88C8-E9F35E42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3F43-CE04-43FB-81A5-C07885C3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4124-B784-455C-AD6C-28A1F37B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A791-55BF-4A53-9552-3F917373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1ADB-BA81-4F3D-8A6D-7E4B1B20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D024-9B7C-4691-94EF-E6331299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41F4-B6BD-4970-B0D2-AC082DA5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1FAD-4092-4319-BD64-EA1ABC6A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376-CC6F-4F47-A4D4-D2D1F8F4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2DBA-8FDA-431A-BAF4-C572EE4A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B25E-A669-4996-8B19-D01CD760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4926-EEA5-44EF-A9E1-9D5DDE85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4E65-4A25-412A-AAF2-B42FEBC0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C75F-2E6C-4605-ADB9-8D1BD289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B6032-D824-4C7E-B201-3E535C4B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E087D-290D-4741-B672-A5F3B461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CE0E6-E4DA-4780-AF82-3E1F4F66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CC52D-EE50-42F7-8619-F58C7824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14FAD-7EA2-49CD-B5DC-A85F4DE2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272-E3F9-4B5B-B439-E25EC4C1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A5503-4D70-453A-B82D-B55CD480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844C-AFA3-475A-A50B-2BB900E6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DCF78-E476-4E52-9448-FC0C3F43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970CA-4613-48F2-A5C9-1F6155DC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A4322-AD06-451A-A1E0-4892DEB0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F8BDC-FC85-4FB4-A06E-85C00893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149E2-5A92-4B9D-88B4-71A9DF9F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9EC25-33EB-427F-9E73-3A235E18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B4C03-03B3-4192-BBB0-E057B10E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7F1BA-BA9C-4D99-8F38-25B3DDEC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129-1BF7-4C16-B7B2-AF52FAE5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B8868-8C24-4048-A837-7E223629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4FE31-A153-441B-8911-3B2D9957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27801-D561-4E84-B4D5-C1D590F3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FBDD6-D103-4C3A-B253-F32D54CC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C852B-C6A1-4FEC-94CB-D242B103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5DADE-30C5-4D6A-B722-B6B65EFB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1332C-22E6-4256-B798-9904CD06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6785A-687C-4688-9B1A-57DD38BE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29874-3EBA-49C2-8190-E3FF0AF8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E5FB5-0F2E-4D41-8053-7C86AC52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FF36-3326-4910-8F1C-55DAD34A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0801A-408F-4153-B604-80B4EC61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7BDF5-0332-46AC-86DE-AFE5D2D1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0D4A9-2937-4A8D-99C9-27980401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8EC6B-6148-4683-8896-C8F96B54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AC192-DB20-45E9-AF04-4E629826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08B46-D5E9-4D11-A8E7-AF00EBD2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1D0A5-9755-47DB-B27D-0FB389EB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63534-488C-4EC2-9C93-B1EF9016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81D42-87EE-4C91-9C22-97EF6E89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613C8-178B-4343-911D-C5EA8E00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9BA-6122-470A-BAD4-EB2E82D3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64C41-1648-4FEF-8FCC-CCBBEEAF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3EAA6-19C5-482D-8B28-88D1266F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B5D9E-0F87-4224-9025-47C52BC3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8FE34-ABD6-415B-9707-16D216FF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0BE64-D153-4B3C-B11F-3D0ABEE6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AB322-03B3-4569-8B2E-E0E3D97F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F7B7D-9E60-44B4-8F99-8755ABBA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EE206-FCA1-475E-837C-F054A16B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EA257-EBAB-464E-8191-E7839D51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3BCBF-6FE2-44D2-AA88-CCA30C4E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37B-B80A-4294-80BF-8B4EC32D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DC8DE-36B5-406B-AD6E-20A98E94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E706C-F9C9-4627-BE5F-08AEB46F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A2A80-95BE-46AD-8052-CF78951C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9E6EC-93BF-4A40-9B91-63628143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279AF-414B-4D3E-9707-D9394ED9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F0B99-D596-41DA-B16B-06A2492F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E7355-440C-4F00-9674-985D9733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B1EAC-5741-48D5-89D0-DBAC1A9A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D5B92-1001-4821-8310-A6916EB4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F60B8-DBC9-4890-AA22-211CB0B8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34A-8BEC-47E5-842F-F6FA3CCB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4FFC1-2C39-489C-8C48-B36FAA74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B869B-9FE6-48F6-9B91-8017E7E8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15500-0F2F-4D5D-B428-701B0853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C30B7-ACA7-432C-8E78-644E3A31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31A4F-D716-480D-9DE3-858395D0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3CD-5B4D-40CA-ABFC-02976202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0563-2AF3-4C5C-B186-A83AE72ACA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0EFA-353B-4E86-8DBF-1CA8AAF5FC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E29C-2DBA-4677-8DA4-42A7F7DB3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9C1E-7708-4191-80A5-F10B3628D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3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4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5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F8EF-08B4-4D65-A0E6-68FF3B403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30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31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3BB2-E568-4F31-9648-78E3F666091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7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8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C715-1112-4163-A4D1-66C2065DA8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720" y="25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Edwardian Script ITC"/>
              </a:rPr>
              <a:t>Первое декабр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7448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cc"/>
                </a:solidFill>
                <a:latin typeface="Script MT Bold"/>
              </a:rPr>
              <a:t>Классная рабо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группы несклоняемых существительны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75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ена, фамилии, назван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билиси, Конго, Токио, Сочи, А. Дюма, Чиполлино, Пеппи, Маугли, Бурати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группы несклоняемых существительны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2. Заимствованные существительные, обозначающие лиц женского пола и  оканчивающиеся на согласный: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исс, мадам, Э.Войнич, М.Поппинс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группы несклоняемых существительны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2017440"/>
            <a:ext cx="877572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3. Русские и украинские фамилии   на –О и –ЫХ(-ИХ)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Рудых, Малых, Левченко, Дайнеко, Головных, Тихих, Т.Г. Шевченоко, А.Н.Приходьк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86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группы несклоняемых существительны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75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4. Сложносокращённые слова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МТС, ТЮЗ, ООН, ГИБДД, СМИ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9280" y="214200"/>
            <a:ext cx="87645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группы несклоняемых существительны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Заимствованные существительные с конечным гласным   -О, - Е, -И,-У, -Ю и конечным ударным гласным – А (нарицательные и собственные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Заимствованные существительные, обозначающие лиц женского пола и            оканчивающиеся на согласны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Русские и украинские фамилии   на –О и –ЫХ(-ИХ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 Сложносокращённые слов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альто                   каш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скимо                   портмо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Фортепьяно            фой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етро                     сал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аду                    кашп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либри                 цун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анно                    б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ВЦ                       С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Найдите в тексте несклоняемые существ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шлой весной мадам Анна Викторовна Осипенко ездила на экскурсию по странам Европы. Она побывала в Париже, Хельсинки, США, Копенгаг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мчится по шоссе автобус, а Анна Викторовна вспоминает о своем путешествии. Об этом турне она узнала от своей подруги Белых Зинаиды Сергеевны. На пути из Финляндии в Швецию она узнала о страшном цунами, произошедшем на Кап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огромный пароход подходил к Стокгольму, Анна Викторовна стояла на палубе. Даже в манто и в кашне было прохладно. Ее поразили нарядные, будто сделанные из папье-маше башенки «города веселого Карлсона». В обед она с удовольствием поела в кафе филе осетра с пюре, выпила стаканчик пеп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ром в каюте под светом бра она уже читала в путеводителе о городе Осло – столице Норвегии и мечтала о том, как на будущий год побывает в Монако или в Май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прове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шлой весной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мадам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на Викторовна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Осипенко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здила на экскурсию по странам Европы. Она побывала в Париже,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Хельсинки, СШ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пенгаг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мчится по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шосс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бус, а Анна Викторовна вспоминает о своем путешествии. Об этом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тур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на узнала от своей подруги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Белых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наиды Сергеевны. На пути из Финляндии в Швецию она узнала о страшном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цунам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изошедшем на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Кап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огромный пароход подходил к Стокгольму, Анна Викторовна стояла на палубе. Даже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в ман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кашн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 прохладно. Ее поразили нарядные, будто сделанные из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апье-маш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ашенки «города веселого Карлсона». В обед она с удовольствием поела в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кафе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фи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етра с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ю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ыпила стаканчик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еп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ром в каюте под светом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б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на уже читала в путеводителе о городе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О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толице Норвегии и мечтала о том, как на будущий год побывает в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Монако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в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Май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34920" y="190080"/>
            <a:ext cx="66992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00"/>
                </a:solidFill>
                <a:latin typeface="Arial"/>
              </a:rPr>
              <a:t>Исправьте ошибки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Как-то рано поут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С другом сели мы в мет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И поехали в мет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Фильм смотреть о кенгур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Вот сидим мы с ним в ки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Без пальта и без кашн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А вернее, я и 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Без кашны и без пальт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Любит кины детвор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Если в кинах кенгур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Ходит – бродит по шосс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Носит в сумке шимпанз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Кенгура в кафу зашел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Занял там свободный сто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И сидит за доми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С шимпанзой и какад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рафический диктант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Вставьте букв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стоять у знамен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находиться в вестибюл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постареть от времен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участвовать в экспедици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заботиться об урожа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. в пламен… кост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. отвечать по истори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. звать по имен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. проходить по алле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0. нога в стремен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Вдруг огромный обезья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Стал играть на фортепья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Тут и взрослый, сняв пенсню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Хохотал на всю кин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Интересное ки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Жаль окончилось о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В гардероб пора бежать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Будут польта выдава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Укажите несклоняемые существительны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) сани      В) облако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Б) жюри     Г) пианин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71160" y="120600"/>
            <a:ext cx="819468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ыделите словосочетания, в которых несклоняемые существительные употреблены неправильно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) появилось на табле            В) еду в метр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) по широкой Миссисипи      Г) об умном шимпанз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дведение итог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11360" indent="-711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 нового вы узнали на уроке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11360" indent="-711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 понравилось на уроке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11360" indent="-711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 было самым интересным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11360" indent="-711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 было самым трудным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омашнее зад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спользуя несклоняемые существительные, составить 5-8 предложений или текст на тему  «Кругосветное путешествие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пр. 222  п.3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авайте проверим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    2     3     4     5     6     7      8      9   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ahoma"/>
              </a:rPr>
              <a:t>и     е     и     и     е     и     и      и      е    и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468360" y="4313160"/>
            <a:ext cx="47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177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Оцени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177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0 ошибок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  -      «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177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1-2 ошибки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 -      «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177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3-4 ошибки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 -      «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177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5 и более ошибо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«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7040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нс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эм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н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ш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ф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бура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и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н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оч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ир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Несклоняемые существитель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омство с несклоняемыми существительными, их группа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Несклоняемые существительные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это существительные, которые во всех падежах имеют форму только именительного падеж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росклоняем одно из несклоняемых существительных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И.п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троено метр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Р.п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ою у метр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Д.п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ду по метр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.п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ижу метр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Т.п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схищаюсь метр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.п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еду в метр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группы несклоняемых существительных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955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1.Заимствованные существительные с конечным гласным   -О, - Е, -И,-У, -Ю и конечным ударным гласным – А (нарицательные и собственные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ивотный мир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енгуру, какаду, шимпанзе, колибри, пон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ежда, пища и жилище человека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шне, трико, пенсне, манто, портмоне, хаки, пальто, манго, какао, кофе, эскимо, салями, иваси, филе, жалюзи, фойе, трюмо, пианино, кашпо, домино, фортепьяно, ради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Город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авеню, шоссе, табло, шоу, панно, ателье, кафе, метро, такси, кин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8:02:19Z</dcterms:created>
  <dc:creator>Наташа</dc:creator>
  <dc:description/>
  <dc:language>en-US</dc:language>
  <cp:lastModifiedBy>Наташа</cp:lastModifiedBy>
  <dcterms:modified xsi:type="dcterms:W3CDTF">2011-11-30T20:20:28Z</dcterms:modified>
  <cp:revision>3</cp:revision>
  <dc:subject/>
  <dc:title>Тема урока</dc:title>
</cp:coreProperties>
</file>