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483-68A7-46E7-9CFB-9F6AE44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DA8-7E82-4E1A-8173-4930C66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858-0451-48F8-92C1-7C44310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06B0-0607-4047-A006-30684BD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64B-8809-411E-B3C9-4D8E1B4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49E4-1995-4E42-8AD9-6FE01E9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B5B-62AE-4F31-B62E-EB87F8A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3B02-8D2F-4EA4-A522-B04729F3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B66-2902-4C0F-AF22-754C485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5E6-7B7B-4841-8A2A-BF55729D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C19-D3B4-441C-A6DA-F57E0AA2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00D-87E1-4743-8905-2C57518D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A794-E4D2-4B9A-97AA-584DE4D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8C78-042F-4A5D-AEF4-6659B4CA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6ED0-4D41-4917-A9BC-CB71D927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153-B4CF-4E7D-9EDE-9AC0138B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3B41-4B6F-4B83-BD86-A79E4DA2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F1FB-F412-4A0E-AFA7-94A6FD6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45F3-15E2-4BC1-A8A3-F2366F9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DCE3-C4DF-46D3-AADD-79B6A22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156C-50BB-49CB-9D4B-3D63120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75E7-5EE7-45DB-AA70-2A9FC8E0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090-6866-4C71-B29F-9EA0DB4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786F-A0F2-4C77-B51C-4643003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3AE1-729B-4F63-958C-B6881DE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68B7-9208-450D-A3D1-E2658C6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F88C-B1A1-4282-A50C-49565AD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47C2-62D3-47A1-AB57-1B4B672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2497-82B2-4103-971F-DD016E1C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8A14-1DF9-4F51-8BE0-FE0848C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9196-1C96-4B08-9FBE-E3EF330F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A3A4-C0A1-45B0-AFE3-1A40B350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DF83-9FA4-40FC-B06F-BD9282C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01F-DC27-49A2-B878-A610435D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2B23-0561-4300-A431-F2C3BAC8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F58C-340E-48CE-851A-9D0C074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B1AF-AE10-47F4-BCD8-2AF996DA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4D3C9-13D8-4130-A94F-BFF1DC0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27CD-A34B-4CD1-B2C9-7755B70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2145-D3DA-4FE7-9940-B1106F9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165C-53A9-4E10-AC73-516DE8CE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855F-D7A5-4314-8D6D-F8FB5BBB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3330-B2A7-417C-918B-88D90898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0B31-9A99-4448-80CA-39202374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BA2-F8FF-4486-AB94-FC1CEAA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F2F8-CD06-4251-871F-8E25C6E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DAA9F-E70F-4361-9FAB-1475A4B6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34F8-9177-455B-BD96-9579B07E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D16A-FC57-47E3-9C3A-1C3DF481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847C-EA65-4D3D-A4A2-1195EDB5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F704-92E0-46E1-A6F0-C8B6495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8418-56AF-4EE0-9FC9-DDE1751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676B-FEC8-4F55-A731-9B93E218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0729-C1EC-4BEC-BC34-90A3BD4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E42D-AF36-4D4C-A0CE-BFAD707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218-528A-43E3-8681-2E6EE25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87A6-2048-4D92-9D61-B64FBF18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6F2C-1472-4076-9E6E-B34F1AB1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9A78-2BE8-4011-9939-A82290FC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C60B-79F7-4867-A3C3-9185052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E865-ACCC-431F-9080-5D32A30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AE50B-771F-49A4-B8B7-7952D3D0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9146-3A50-4542-9FC7-4B12A9E9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FAC8-168F-43DC-B86D-38B228B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60BF-B2E6-4A5F-B563-B20302D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CB49-EB67-48E4-BB5A-0B6A512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F67-5245-44F8-87AA-C2A1002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E675-C8A3-42C3-8F75-F23D94FE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4118-DC46-4E10-AA7C-5AA801C0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AA91-AFB5-4F82-8512-4FBCE67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9C65-8C53-4C95-91F3-4446A39E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42587-8723-42D0-B83E-3CDFD941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FCC16-29F3-489E-9129-7EA5DBAE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FEC70-29FF-4B13-8213-F506D44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15AC8-CAD4-46CE-A613-BF2CAB0D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C85C-2E10-4F6E-8B61-D3C25EF8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7D1E-BCEF-48E1-BAA5-3D73C38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00D-C68C-4F83-8012-889381BB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2BA2-041F-4762-9E29-CAEC284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7A39-5A74-41B8-9A50-5A790BD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DEA4-8956-447F-8439-6A51F2B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9D2B-1B2D-48BE-85FB-2FEF1ECC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5A1E-C6E6-4E58-89BB-D8F8D816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D93-30CA-43DB-A62A-97605A4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C551-75BF-4439-8EDE-CA4EC2C064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D20F-103D-4052-BAD7-2A6E604F4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CBF-B02B-4DB5-872B-63FA20E06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F39-AD02-4C7A-94D2-40F4FF333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9BCE-D2B5-4D63-9E90-8418A557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3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6BEA-0276-459D-85DB-6CC7ABA2CD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8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26A-A593-429B-BA9B-2CA3539445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Edwardian Script ITC"/>
              </a:rPr>
              <a:t>Первое декабр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4484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cc"/>
                </a:solidFill>
                <a:latin typeface="Script MT Bold"/>
              </a:rPr>
              <a:t>Классная рабо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, фамилии, наз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билиси, Конго, Токио, Сочи, А. Дюма, Чиполлино, Пеппи, Маугли, Бурати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2. Заимствованные существительные, обозначающие лиц женского пола и  оканчивающиеся на согласный: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исс, мадам, Э.Войнич, М.Поппин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3. Русские и украинские фамилии   на –О и –ЫХ(-ИХ)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Рудых, Малых, Левченко, Дайнеко, Головных, Тихих, Т.Г. Шевченоко, А.Н.Приходьк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7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4. Сложносокращённые слова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ТС, ТЮЗ, ООН, ГИБДД, СМ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214200"/>
            <a:ext cx="876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Заимствованные существительные с конечным гласным   -О, - Е, -И,-У, -Ю и конечным ударным гласным – А (нарицательные и собственные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Заимствованные существительные, обозначающие лиц женского пола и            оканчивающиеся на согласный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Русские и украинские фамилии   на –О и –ЫХ(-И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Сложносокращённые слов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льто                   каш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скимо                   портм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ортепьяно            фой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тро                     са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ду                    кашп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либри                 цун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анно                    б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ВЦ                       С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Найдите в тексте несклоняемые существ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лой весной мадам Анна Викторовна Осипенко ездила на экскурсию по странам Европы. Она побывала в Париже, Хельсинки, США, Копенгаг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мчится по шоссе автобус, а Анна Викторовна вспоминает о своем путешествии. Об этом турне она узнала от своей подруги Белых Зинаиды Сергеевны. На пути из Финляндии в Швецию она узнала о страшном цунами, произошедшем на Кап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громный пароход подходил к Стокгольму, Анна Викторовна стояла на палубе. Даже в манто и в кашне было прохладно. Ее поразили нарядные, будто сделанные из папье-маше башенки «города веселого Карлсона». В обед она с удовольствием поела в кафе филе осетра с пюре, выпила стаканчик пеп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в каюте под светом бра она уже читала в путеводителе о городе Осло – столице Норвегии и мечтала о том, как на будущий год побывает в Монако или в Май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прове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лой весной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да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а Викторовна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Осипенко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дила на экскурсию по странам Европы. Она побывала в Париже,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Хельсинки, С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пенгаг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мчится по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шосс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бус, а Анна Викторовна вспоминает о своем путешествии. Об эт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у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а узнала от своей подруги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Белых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наиды Сергеевны. На пути из Финляндии в Швецию она узнала о страшн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цун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изошедшем на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п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громный пароход подходил к Стокгольму, Анна Викторовна стояла на палубе. Даж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в ман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ш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прохладно. Ее поразили нарядные, будто сделанные из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апье-ма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ашенки «города веселого Карлсона». В обед она с удовольствием поела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афе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фи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етра с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ю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пила стаканчик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еп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в каюте под светом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а уже читала в путеводителе о город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О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олице Норвегии и мечтала о том, как на будущий год побывает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онако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й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4920" y="190080"/>
            <a:ext cx="66992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Исправьте ошибки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ак-то рано поут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 другом сели мы в мет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 поехали в мет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Фильм смотреть о кенгур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от сидим мы с ним в к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пальта и без каш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А вернее, я и 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кашны и без паль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Любит кины детвор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Если в кинах кенгур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Ходит – бродит по шос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осит в сумке шимпан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енгура в кафу зашел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Занял там свободный сто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 сидит за доми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 шимпанзой и какад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рафический диктант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ставьте букв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стоять у зна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находиться в вестибюл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постареть от вре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участвовать в экспедиц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ботиться об урож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в пламен… кост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отвечать по истори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 звать по имен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. проходить по алле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. нога в стремен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друг огромный обезья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Стал играть на фортепья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Тут и взрослый, сняв пенсню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Хохотал на всю кин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нтересное ки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Жаль окончилось о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 гардероб пора бежать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удут польта выдав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кажите несклоняемые существительны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) сани      В) облако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) жюри     Г) пиани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1160" y="120600"/>
            <a:ext cx="819468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ыделите словосочетания, в которых несклоняемые существительные употреблены неправильно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) появилось на табле            В) еду в мет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) по широкой Миссисипи      Г) об умном шимпанз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ведение итог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понравилось на урок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было самым интерес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было самым труд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спользуя несклоняемые существительные, составить 5-8 предложений или текст на тему  «Кругосветное путешестви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пр. 222  п.3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авайте проверим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    2     3     4     5     6     7      8      9  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и     е     и     и     е     и     и      и      е    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4313160"/>
            <a:ext cx="47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цени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0 ошибок 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 -     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1-2 ошибк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-     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-4 ошибк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    -     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177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5 и более ошибо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«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04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нс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эм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н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ш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ура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ен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ч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ир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есклоняемые существите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омство с несклоняемыми существительными, их групп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есклоняемые существительны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это существительные, которые во всех падежах имеют форму только именительного падеж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росклоняем одно из несклоняемых существительных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И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роено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ою у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ду по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ижу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.п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схищаюсь мет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.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еду в метр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группы несклоняемых существительных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955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1.Заимствованные существительные с конечным гласным   -О, - Е, -И,-У, -Ю и конечным ударным гласным – А (нарицательные и собственные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вотный ми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енгуру, какаду, шимпанзе, колибри, по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ежда, пища и жилище человек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шне, трико, пенсне, манто, портмоне, хаки, пальто, манго, какао, кофе, эскимо, салями, иваси, филе, жалюзи, фойе, трюмо, пианино, кашпо, домино, фортепьяно, рад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Город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авеню, шоссе, табло, шоу, панно, ателье, кафе, метро, такси, ки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8:02:19Z</dcterms:created>
  <dc:creator>Наташа</dc:creator>
  <dc:description/>
  <dc:language>en-US</dc:language>
  <cp:lastModifiedBy>Наташа</cp:lastModifiedBy>
  <dcterms:modified xsi:type="dcterms:W3CDTF">2011-11-30T20:20:28Z</dcterms:modified>
  <cp:revision>3</cp:revision>
  <dc:subject/>
  <dc:title>Тема урока</dc:title>
</cp:coreProperties>
</file>