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27815-575F-4E0C-B30D-E6422C79D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8EFB1-EB20-457B-9590-96D9EC6A6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5E085-A7B3-4C11-BFCF-C54DBF2D8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10A58-938F-40E4-8BEF-E5C5D124F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C29E6-9A20-411A-AEE0-98092CB2F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CF9B6-11FD-4227-8933-6484D57A5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48957-7E15-44C7-9726-94AB5DB2F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98248-F913-4392-91A7-671C4B5D8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626CC-3AEB-47DC-8A52-5B79FD134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D8539-EDDA-4048-8427-314C9E614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15B4D-986D-4F71-B059-E524C027E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BE8E1-48F9-429A-8183-77C5C46C3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9752D-A86E-41B4-A29C-E4483274ADB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360" y="333360"/>
            <a:ext cx="9320040" cy="194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 u="sng">
                <a:solidFill>
                  <a:srgbClr val="e5ffff"/>
                </a:solidFill>
                <a:uFillTx/>
                <a:latin typeface="Tahoma"/>
              </a:rPr>
              <a:t>Сталактиты и Сталагмиты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320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одготовила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Кузьмина Анастасия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ученица 4 класса «Б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3" name="Picture 5" descr=""/>
          <p:cNvPicPr/>
          <p:nvPr/>
        </p:nvPicPr>
        <p:blipFill>
          <a:blip r:embed="rId2"/>
          <a:stretch/>
        </p:blipFill>
        <p:spPr>
          <a:xfrm>
            <a:off x="1979640" y="1700280"/>
            <a:ext cx="475308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Сталактиты и Сталагмиты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332000" y="1980720"/>
            <a:ext cx="7354800" cy="101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 algn="ctr"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Tahoma"/>
              </a:rPr>
              <a:t>В пещерах очень часто встречаются сталактиты - свешивающиеся с потолка "сосульки" разных размеров, и сталагмиты - "сосульки", растущие из пола пещеры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6" name="Picture 5" descr=""/>
          <p:cNvPicPr/>
          <p:nvPr/>
        </p:nvPicPr>
        <p:blipFill>
          <a:blip r:embed="rId2"/>
          <a:stretch/>
        </p:blipFill>
        <p:spPr>
          <a:xfrm>
            <a:off x="1835280" y="2924280"/>
            <a:ext cx="6480000" cy="367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700360" y="260280"/>
            <a:ext cx="8229600" cy="1176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Сталактиты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Rectangle 8"/>
          <p:cNvSpPr/>
          <p:nvPr/>
        </p:nvSpPr>
        <p:spPr>
          <a:xfrm>
            <a:off x="2916360" y="1341360"/>
            <a:ext cx="2447640" cy="61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Слово "сталактит" в переводе с греческого обозначает "натёкший по капле". Дело в том, что даже самые высокие каменные горы на Земле не являются сплошным монолитом - в них есть микротрещены, через которые вода просачивается с поверхности горы в пещеры. Но в пещеры вода приходит сквозь толщу очень медлено - буквально редкими каплями. Эти капельки воды по чуть-чуть вымывают из горной породы кальций - так получаются сталактиты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9" name="Picture 9" descr=""/>
          <p:cNvPicPr/>
          <p:nvPr/>
        </p:nvPicPr>
        <p:blipFill>
          <a:blip r:embed="rId2"/>
          <a:stretch/>
        </p:blipFill>
        <p:spPr>
          <a:xfrm>
            <a:off x="5364000" y="3500280"/>
            <a:ext cx="3024360" cy="25750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0" descr=""/>
          <p:cNvPicPr/>
          <p:nvPr/>
        </p:nvPicPr>
        <p:blipFill>
          <a:blip r:embed="rId3"/>
          <a:stretch/>
        </p:blipFill>
        <p:spPr>
          <a:xfrm>
            <a:off x="324000" y="1341360"/>
            <a:ext cx="273528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Как растут сталагмиты и сталактиты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7686720" cy="87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Tahoma"/>
              </a:rPr>
              <a:t>И сталактиты, и сталагмиты растут очень медленно - сотни и тысячи лет. Если пещера не очень высокая, то сталагмиты  и сталактиты со временем срастаются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3" name="Picture 7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4103640" cy="36748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8" descr=""/>
          <p:cNvPicPr/>
          <p:nvPr/>
        </p:nvPicPr>
        <p:blipFill>
          <a:blip r:embed="rId3"/>
          <a:stretch/>
        </p:blipFill>
        <p:spPr>
          <a:xfrm>
            <a:off x="5435640" y="3141720"/>
            <a:ext cx="3135240" cy="33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11280" y="765000"/>
            <a:ext cx="8229600" cy="9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На отшлифованном срезе сталагмита отчетливо видны кольца нарастани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7" name="Picture 5" descr=""/>
          <p:cNvPicPr/>
          <p:nvPr/>
        </p:nvPicPr>
        <p:blipFill>
          <a:blip r:embed="rId2"/>
          <a:stretch/>
        </p:blipFill>
        <p:spPr>
          <a:xfrm>
            <a:off x="1332000" y="2133720"/>
            <a:ext cx="6408720" cy="41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95280" y="692280"/>
            <a:ext cx="8229600" cy="130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есть очень простой метод, как запомнить, что называть сталактитом, а что сталагмитом - в слове "сталагмит" есть буква М, как и в слове "земля". Значит, сталагмит - это то, что растёт на земле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0" name="Picture 4" descr=""/>
          <p:cNvPicPr/>
          <p:nvPr/>
        </p:nvPicPr>
        <p:blipFill>
          <a:blip r:embed="rId2"/>
          <a:stretch/>
        </p:blipFill>
        <p:spPr>
          <a:xfrm>
            <a:off x="1908000" y="2276640"/>
            <a:ext cx="540072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Спасибо за внимание!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62" name="Picture 3" descr=""/>
          <p:cNvPicPr/>
          <p:nvPr/>
        </p:nvPicPr>
        <p:blipFill>
          <a:blip r:embed="rId2"/>
          <a:stretch/>
        </p:blipFill>
        <p:spPr>
          <a:xfrm>
            <a:off x="539640" y="1852560"/>
            <a:ext cx="3527640" cy="24764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4" descr=""/>
          <p:cNvPicPr/>
          <p:nvPr/>
        </p:nvPicPr>
        <p:blipFill>
          <a:blip r:embed="rId3"/>
          <a:stretch/>
        </p:blipFill>
        <p:spPr>
          <a:xfrm>
            <a:off x="4932360" y="2997360"/>
            <a:ext cx="3311640" cy="360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1T02:39:21Z</dcterms:created>
  <dc:creator>User</dc:creator>
  <dc:description/>
  <dc:language>en-US</dc:language>
  <cp:lastModifiedBy>User</cp:lastModifiedBy>
  <dcterms:modified xsi:type="dcterms:W3CDTF">2011-12-01T18:04:15Z</dcterms:modified>
  <cp:revision>6</cp:revision>
  <dc:subject/>
  <dc:title>Минералы</dc:title>
</cp:coreProperties>
</file>