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8F0-B826-4560-A241-2C9C7366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195-C6F0-4AFC-95CF-BE7E41A4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E2F-1E3F-436A-A25C-4CF128B4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17D-A83D-4515-A834-E27BBABC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C37-0D77-49E7-8438-9BE10184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207-29A0-488B-88CB-202F13C9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E9A-2FE9-477A-B856-9869CDCC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A9F-4724-4849-B703-C6BC7BE6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7C9-83D2-498E-B426-7CBF48C2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5A7-1489-4DAB-A752-79C16C5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511-0503-465A-861E-236D362F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EB8-1F2A-45BD-BC45-00953D16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209B-68DC-4BC8-A264-2EEFEF833A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32004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Сталактиты и Сталагм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зьмина Анастас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ница 4 класса «Б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753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талактиты и Сталагм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980720"/>
            <a:ext cx="735480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В пещерах очень часто встречаются сталактиты - свешивающиеся с потолка "сосульки" разных размеров, и сталагмиты - "сосульки", растущие из пола пеще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6480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0360" y="2602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Сталакт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916360" y="1341360"/>
            <a:ext cx="24476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во "сталактит" в переводе с греческого обозначает "натёкший по капле". Дело в том, что даже самые высокие каменные горы на Земле не являются сплошным монолитом - в них есть микротрещены, через которые вода просачивается с поверхности горы в пещеры. Но в пещеры вода приходит сквозь толщу очень медлено - буквально редкими каплями. Эти капельки воды по чуть-чуть вымывают из горной породы кальций - так получаются сталакти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3024360" cy="257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2735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к растут сталагмиты и сталакти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8672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И сталактиты, и сталагмиты растут очень медленно - сотни и тысячи лет. Если пещера не очень высокая, то сталагмиты  и сталактиты со временем срастаю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4103640" cy="367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5435640" y="3141720"/>
            <a:ext cx="31352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отшлифованном срезе сталагмита отчетливо видны кольца нараст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6408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22960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ть очень простой метод, как запомнить, что называть сталактитом, а что сталагмитом - в слове "сталагмит" есть буква М, как и в слове "земля". Значит, сталагмит - это то, что растёт на земл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908000" y="2276640"/>
            <a:ext cx="54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39640" y="1852560"/>
            <a:ext cx="3527640" cy="247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932360" y="2997360"/>
            <a:ext cx="33116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2:39:21Z</dcterms:created>
  <dc:creator>User</dc:creator>
  <dc:description/>
  <dc:language>en-US</dc:language>
  <cp:lastModifiedBy>User</cp:lastModifiedBy>
  <dcterms:modified xsi:type="dcterms:W3CDTF">2011-12-01T18:04:15Z</dcterms:modified>
  <cp:revision>6</cp:revision>
  <dc:subject/>
  <dc:title>Минералы</dc:title>
</cp:coreProperties>
</file>