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DEB-E7E3-4DE8-B3B9-DDFAEFF3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4F9-55AD-4445-81D3-EB929E9E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D4D-2277-4889-A55D-FABD11F7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085-7C39-40A7-B6F1-D8797C6E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7C6-ED21-489D-A9DB-4C48829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526-65D7-4AED-944C-1574FFAC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CB5-C7B0-4523-8069-0C9B7CA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B80-5D33-41DE-96BE-A7DF9202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18F-EA2E-46C9-9968-BB54DDD0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B09-079D-4EE0-B700-624D19E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E35-565F-429B-8B37-C47E37A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44D-A27C-4896-8451-F68240D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0E8E-19A5-49AA-A4B2-A507687C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hyperlink" Target="file:///&#1060;&#1072;&#1088;&#1090;&#1091;&#1082;.ppt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следовательность изготовления пан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 примере изготовления панно «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тянутые капроном петли скручивают выступающими «лапками» проволоки между собой формируя цв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тупающие за контуры цветка куски проволоки обрезают кусачками и полученные формы приклеивают на основу (фон) по разм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03280" y="3789360"/>
            <a:ext cx="1081080" cy="601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492000" y="3789360"/>
            <a:ext cx="100836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14172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4572000">
            <a:off x="4482360" y="4023360"/>
            <a:ext cx="215640" cy="179280"/>
          </a:xfrm>
          <a:prstGeom prst="rect">
            <a:avLst/>
          </a:prstGeom>
          <a:solidFill>
            <a:srgbClr val="ffd5d5"/>
          </a:solidFill>
          <a:ln w="936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270828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321300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08360" y="386064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386064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84360" y="3716280"/>
            <a:ext cx="360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3716280"/>
            <a:ext cx="144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4797360"/>
            <a:ext cx="2232000" cy="172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4941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5877000"/>
            <a:ext cx="646200" cy="57636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5280" y="566100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494172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5157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059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дцевина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езается из кожезаменителя и приклеивается в завершении изделия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5877000"/>
            <a:ext cx="646200" cy="57636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35280" y="566100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08000" y="494172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4941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157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13"/>
          </p:cNvPr>
          <p:cNvSpPr/>
          <p:nvPr/>
        </p:nvSpPr>
        <p:spPr>
          <a:xfrm rot="16200000">
            <a:off x="4504680" y="5350680"/>
            <a:ext cx="566640" cy="244800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2448000"/>
              <a:gd name="textAreaBottom" fmla="*/ 2411280 h 2448000"/>
            </a:gdLst>
            <a:ahLst/>
            <a:rect l="textAreaLeft" t="textAreaTop" r="textAreaRight" b="textAreaBottom"/>
            <a:pathLst>
              <a:path w="21600" h="93271">
                <a:moveTo>
                  <a:pt x="0" y="0"/>
                </a:moveTo>
                <a:lnTo>
                  <a:pt x="21600" y="0"/>
                </a:lnTo>
                <a:lnTo>
                  <a:pt x="21600" y="93271"/>
                </a:lnTo>
                <a:lnTo>
                  <a:pt x="0" y="93271"/>
                </a:lnTo>
                <a:close/>
              </a:path>
              <a:path fill="lightenLess" w="21600" h="93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3271">
                <a:moveTo>
                  <a:pt x="21600" y="0"/>
                </a:moveTo>
                <a:lnTo>
                  <a:pt x="21600" y="93271"/>
                </a:lnTo>
                <a:lnTo>
                  <a:pt x="20200" y="91871"/>
                </a:lnTo>
                <a:lnTo>
                  <a:pt x="20200" y="1400"/>
                </a:lnTo>
                <a:close/>
              </a:path>
              <a:path fill="darkenLess" w="21600" h="93271">
                <a:moveTo>
                  <a:pt x="21600" y="93271"/>
                </a:moveTo>
                <a:lnTo>
                  <a:pt x="0" y="93271"/>
                </a:lnTo>
                <a:lnTo>
                  <a:pt x="1400" y="91871"/>
                </a:lnTo>
                <a:lnTo>
                  <a:pt x="20200" y="91871"/>
                </a:lnTo>
                <a:close/>
              </a:path>
              <a:path fill="lighten" w="21600" h="93271">
                <a:moveTo>
                  <a:pt x="0" y="93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91871"/>
                </a:lnTo>
                <a:close/>
              </a:path>
              <a:path fill="darken" w="21600" h="93271">
                <a:moveTo>
                  <a:pt x="3794" y="46635"/>
                </a:moveTo>
                <a:lnTo>
                  <a:pt x="17806" y="39629"/>
                </a:lnTo>
                <a:lnTo>
                  <a:pt x="17806" y="53642"/>
                </a:lnTo>
                <a:close/>
              </a:path>
            </a:pathLst>
          </a:custGeom>
          <a:solidFill>
            <a:srgbClr val="cd9b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87283E-006 L 0.57483 -0.37757 E">
                                      <p:cBhvr>
                                        <p:cTn id="30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08092E-006 L 0.52778 -0.28324 E">
                                      <p:cBhvr>
                                        <p:cTn id="304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1.50289E-006 L 0.52778 -0.32509 E">
                                      <p:cBhvr>
                                        <p:cTn id="30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21387E-006 L 0.51181 -0.14682 E">
                                      <p:cBhvr>
                                        <p:cTn id="312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58382E-006 L 0.50399 -0.22011 E">
                                      <p:cBhvr>
                                        <p:cTn id="316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4360" y="333360"/>
            <a:ext cx="6408720" cy="5759640"/>
          </a:xfrm>
          <a:prstGeom prst="rect">
            <a:avLst/>
          </a:prstGeom>
          <a:solidFill>
            <a:srgbClr val="a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5192000">
            <a:off x="7919640" y="1162080"/>
            <a:ext cx="720720" cy="1079280"/>
          </a:xfrm>
          <a:custGeom>
            <a:avLst/>
            <a:gdLst>
              <a:gd name="textAreaLeft" fmla="*/ 169200 w 720720"/>
              <a:gd name="textAreaRight" fmla="*/ 550800 w 720720"/>
              <a:gd name="textAreaTop" fmla="*/ 126720 h 1079280"/>
              <a:gd name="textAreaBottom" fmla="*/ 677160 h 10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076400">
            <a:off x="6107040" y="977040"/>
            <a:ext cx="720720" cy="1295640"/>
          </a:xfrm>
          <a:custGeom>
            <a:avLst/>
            <a:gdLst>
              <a:gd name="textAreaLeft" fmla="*/ 169200 w 720720"/>
              <a:gd name="textAreaRight" fmla="*/ 550800 w 72072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5067800">
            <a:off x="6878160" y="1986120"/>
            <a:ext cx="1038240" cy="1619280"/>
          </a:xfrm>
          <a:custGeom>
            <a:avLst/>
            <a:gdLst>
              <a:gd name="textAreaLeft" fmla="*/ 244080 w 1038240"/>
              <a:gd name="textAreaRight" fmla="*/ 793440 w 1038240"/>
              <a:gd name="textAreaTop" fmla="*/ 190440 h 1619280"/>
              <a:gd name="textAreaBottom" fmla="*/ 1015920 h 16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9736200">
            <a:off x="3923640" y="1988640"/>
            <a:ext cx="1422360" cy="2318040"/>
          </a:xfrm>
          <a:custGeom>
            <a:avLst/>
            <a:gdLst>
              <a:gd name="textAreaLeft" fmla="*/ 334080 w 1422360"/>
              <a:gd name="textAreaRight" fmla="*/ 1087200 w 1422360"/>
              <a:gd name="textAreaTop" fmla="*/ 272520 h 2318040"/>
              <a:gd name="textAreaBottom" fmla="*/ 1454040 h 2318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5331800">
            <a:off x="5743440" y="3625200"/>
            <a:ext cx="1328760" cy="1798560"/>
          </a:xfrm>
          <a:custGeom>
            <a:avLst/>
            <a:gdLst>
              <a:gd name="textAreaLeft" fmla="*/ 312120 w 1328760"/>
              <a:gd name="textAreaRight" fmla="*/ 1015560 w 1328760"/>
              <a:gd name="textAreaTop" fmla="*/ 211320 h 1798560"/>
              <a:gd name="textAreaBottom" fmla="*/ 1128240 h 17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7230600">
            <a:off x="553680" y="-442440"/>
            <a:ext cx="8988480" cy="38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30" y="607"/>
                </a:moveTo>
                <a:arcTo wR="10800" hR="10800" stAng="-6557984" swAng="6557984"/>
                <a:lnTo>
                  <a:pt x="10800" y="10800"/>
                </a:lnTo>
                <a:close/>
              </a:path>
              <a:path fill="none" w="21600" h="21600">
                <a:moveTo>
                  <a:pt x="7230" y="607"/>
                </a:moveTo>
                <a:arcTo wR="10800" hR="10800" stAng="-6557984" swAng="6557984"/>
              </a:path>
            </a:pathLst>
          </a:cu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78136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321300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284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350028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78136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141720"/>
            <a:ext cx="576000" cy="503280"/>
          </a:xfrm>
          <a:custGeom>
            <a:avLst/>
            <a:gdLst>
              <a:gd name="textAreaLeft" fmla="*/ 131400 w 576000"/>
              <a:gd name="textAreaRight" fmla="*/ 444600 w 576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2852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068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321300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350028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3645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1557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1557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060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060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349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4653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98900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28464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292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4581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5084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5084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1413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479736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170028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90792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341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1341360"/>
            <a:ext cx="576000" cy="503280"/>
          </a:xfrm>
          <a:custGeom>
            <a:avLst/>
            <a:gdLst>
              <a:gd name="textAreaLeft" fmla="*/ 131400 w 576000"/>
              <a:gd name="textAreaRight" fmla="*/ 444600 w 576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920" y="15508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П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ВЕС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ф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Фон – изготовляется из ДВП толщиной 3 мм, размером 250 Х 250 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Угольником проверить форму ф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окрасить фон в светло-голубой ц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ubL"/>
          <p:cNvSpPr/>
          <p:nvPr/>
        </p:nvSpPr>
        <p:spPr>
          <a:xfrm>
            <a:off x="755640" y="4869000"/>
            <a:ext cx="1181160" cy="1063440"/>
          </a:xfrm>
          <a:custGeom>
            <a:avLst/>
            <a:gdLst>
              <a:gd name="textAreaLeft" fmla="*/ 0 w 1181160"/>
              <a:gd name="textAreaRight" fmla="*/ 1181520 w 1181160"/>
              <a:gd name="textAreaTop" fmla="*/ 531720 h 1063440"/>
              <a:gd name="textAreaBottom" fmla="*/ 1063800 h 10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4624E-007 L 0.17952 0.11144 E">
                                      <p:cBhvr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1628640"/>
            <a:ext cx="5329080" cy="432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рам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мка изготовляется из реек сечением 10 Х 5 мм (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ки размечаются по размеру каждой стороны фона, распиливаются с помощью стусла под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еем ПВА рейки широкой стороной приклеиваются на лицевую сторону фона (углы в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оединяются всты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2349360"/>
            <a:ext cx="35856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32720" y="595008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987640" y="1412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532720" y="1412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ым твёрдо-мягким карандашом рисунок наносится тонкой линией на 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ху на рисунок накладывается калька и рисунок переводится на н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кальки копировальной бумагой элементы рисунка переносятся на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стья - кожезамен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ебель – мяг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волока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ветной пр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пестки – провол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а обтянут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пр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нтральная часть цветка - кожезамен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2060640"/>
            <a:ext cx="1727280" cy="2448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068640"/>
            <a:ext cx="1655640" cy="1944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4941720"/>
            <a:ext cx="1727280" cy="6480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524360" y="2637000"/>
            <a:ext cx="71640" cy="345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2808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детали приклеиваются к основе (фону) с помощью клея ПВ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еч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мягкой стальной проволоки сворачивают скрутить пет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х петель изготавливают пять ш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м окрашенным в нужный цвет капроном обтягивают каждую, закрепляя капрон на скрутке проволоки клеем и обрезая всё ли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0000" y="5778360"/>
            <a:ext cx="792000" cy="74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419280" y="5803920"/>
            <a:ext cx="1152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229360"/>
            <a:ext cx="914400" cy="914400"/>
          </a:xfrm>
          <a:prstGeom prst="ellipse">
            <a:avLst/>
          </a:prstGeom>
          <a:solidFill>
            <a:srgbClr val="ffd5d5"/>
          </a:solidFill>
          <a:ln w="5724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4572000">
            <a:off x="4408920" y="5752080"/>
            <a:ext cx="216000" cy="179280"/>
          </a:xfrm>
          <a:prstGeom prst="rect">
            <a:avLst/>
          </a:prstGeom>
          <a:solidFill>
            <a:srgbClr val="ffd5d5"/>
          </a:solidFill>
          <a:ln w="936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6:19:59Z</dcterms:created>
  <dc:creator>Татьяна</dc:creator>
  <dc:description/>
  <dc:language>en-US</dc:language>
  <cp:lastModifiedBy>Татьяна</cp:lastModifiedBy>
  <dcterms:modified xsi:type="dcterms:W3CDTF">2006-11-27T16:37:41Z</dcterms:modified>
  <cp:revision>5</cp:revision>
  <dc:subject/>
  <dc:title>Последовательность изготовления панно</dc:title>
</cp:coreProperties>
</file>