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189-3E84-42DC-B40D-BD4CEFD0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493-A4F3-4996-B232-DB2B2A32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599-E797-4CD9-91C8-76C15473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B4-7636-43DA-9245-15480775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FAA-2B36-43FC-9340-7E1B60B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68A-C48D-4F7C-93FB-9282682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C42-CE4C-46D6-82B3-918FB442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55E-94D1-4822-ACE1-DBC98D4B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4F5-DBA3-4046-8374-077B8AC6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0EC-C84A-48BB-BA28-4137DE55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67B-9CA9-41F4-9A21-30E59F73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9F7-F249-4E96-9F23-365A673B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CE33-994D-452A-AFB8-00E8F193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hyperlink" Target="file:///&#1060;&#1072;&#1088;&#1090;&#1091;&#1082;.ppt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Последовательность изготовления пан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 примере изготовления панно «ВЕС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тянутые капроном петли скручивают выступающими «лапками» проволоки между собой формируя цв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тупающие за контуры цветка куски проволоки обрезают кусачками и полученные формы приклеивают на основу (фон) по разм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03280" y="3789360"/>
            <a:ext cx="1081080" cy="601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492000" y="3789360"/>
            <a:ext cx="100836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314172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4572000">
            <a:off x="4482360" y="4023360"/>
            <a:ext cx="215640" cy="179280"/>
          </a:xfrm>
          <a:prstGeom prst="rect">
            <a:avLst/>
          </a:prstGeom>
          <a:solidFill>
            <a:srgbClr val="ffd5d5"/>
          </a:solidFill>
          <a:ln w="9360">
            <a:solidFill>
              <a:srgbClr val="ff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270828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321300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08360" y="386064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3860640"/>
            <a:ext cx="914400" cy="9144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84360" y="3716280"/>
            <a:ext cx="360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56000" y="3716280"/>
            <a:ext cx="144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4797360"/>
            <a:ext cx="2232000" cy="172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4941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5877000"/>
            <a:ext cx="646200" cy="57636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5280" y="566100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494172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5157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059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дцевина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езается из кожезаменителя и приклеивается в завершении изделия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5877000"/>
            <a:ext cx="646200" cy="57636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35280" y="566100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08000" y="494172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4941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15772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13"/>
          </p:cNvPr>
          <p:cNvSpPr/>
          <p:nvPr/>
        </p:nvSpPr>
        <p:spPr>
          <a:xfrm rot="16200000">
            <a:off x="4504680" y="5350680"/>
            <a:ext cx="566640" cy="244800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2448000"/>
              <a:gd name="textAreaBottom" fmla="*/ 2411280 h 2448000"/>
            </a:gdLst>
            <a:ahLst/>
            <a:rect l="textAreaLeft" t="textAreaTop" r="textAreaRight" b="textAreaBottom"/>
            <a:pathLst>
              <a:path w="21600" h="93271">
                <a:moveTo>
                  <a:pt x="0" y="0"/>
                </a:moveTo>
                <a:lnTo>
                  <a:pt x="21600" y="0"/>
                </a:lnTo>
                <a:lnTo>
                  <a:pt x="21600" y="93271"/>
                </a:lnTo>
                <a:lnTo>
                  <a:pt x="0" y="93271"/>
                </a:lnTo>
                <a:close/>
              </a:path>
              <a:path fill="lightenLess" w="21600" h="93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3271">
                <a:moveTo>
                  <a:pt x="21600" y="0"/>
                </a:moveTo>
                <a:lnTo>
                  <a:pt x="21600" y="93271"/>
                </a:lnTo>
                <a:lnTo>
                  <a:pt x="20200" y="91871"/>
                </a:lnTo>
                <a:lnTo>
                  <a:pt x="20200" y="1400"/>
                </a:lnTo>
                <a:close/>
              </a:path>
              <a:path fill="darkenLess" w="21600" h="93271">
                <a:moveTo>
                  <a:pt x="21600" y="93271"/>
                </a:moveTo>
                <a:lnTo>
                  <a:pt x="0" y="93271"/>
                </a:lnTo>
                <a:lnTo>
                  <a:pt x="1400" y="91871"/>
                </a:lnTo>
                <a:lnTo>
                  <a:pt x="20200" y="91871"/>
                </a:lnTo>
                <a:close/>
              </a:path>
              <a:path fill="lighten" w="21600" h="93271">
                <a:moveTo>
                  <a:pt x="0" y="93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91871"/>
                </a:lnTo>
                <a:close/>
              </a:path>
              <a:path fill="darken" w="21600" h="93271">
                <a:moveTo>
                  <a:pt x="3794" y="46635"/>
                </a:moveTo>
                <a:lnTo>
                  <a:pt x="17806" y="39629"/>
                </a:lnTo>
                <a:lnTo>
                  <a:pt x="17806" y="53642"/>
                </a:lnTo>
                <a:close/>
              </a:path>
            </a:pathLst>
          </a:custGeom>
          <a:solidFill>
            <a:srgbClr val="cd9b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87283E-006 L 0.57483 -0.37757 E">
                                      <p:cBhvr>
                                        <p:cTn id="30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2.08092E-006 L 0.52778 -0.28324 E">
                                      <p:cBhvr>
                                        <p:cTn id="304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1.50289E-006 L 0.52778 -0.32509 E">
                                      <p:cBhvr>
                                        <p:cTn id="30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21387E-006 L 0.51181 -0.14682 E">
                                      <p:cBhvr>
                                        <p:cTn id="312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58382E-006 L 0.50399 -0.22011 E">
                                      <p:cBhvr>
                                        <p:cTn id="316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4360" y="333360"/>
            <a:ext cx="6408720" cy="5759640"/>
          </a:xfrm>
          <a:prstGeom prst="rect">
            <a:avLst/>
          </a:prstGeom>
          <a:solidFill>
            <a:srgbClr val="a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5192000">
            <a:off x="7919640" y="1162080"/>
            <a:ext cx="720720" cy="1079280"/>
          </a:xfrm>
          <a:custGeom>
            <a:avLst/>
            <a:gdLst>
              <a:gd name="textAreaLeft" fmla="*/ 169200 w 720720"/>
              <a:gd name="textAreaRight" fmla="*/ 550800 w 720720"/>
              <a:gd name="textAreaTop" fmla="*/ 126720 h 1079280"/>
              <a:gd name="textAreaBottom" fmla="*/ 677160 h 10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076400">
            <a:off x="6107040" y="977040"/>
            <a:ext cx="720720" cy="1295640"/>
          </a:xfrm>
          <a:custGeom>
            <a:avLst/>
            <a:gdLst>
              <a:gd name="textAreaLeft" fmla="*/ 169200 w 720720"/>
              <a:gd name="textAreaRight" fmla="*/ 550800 w 72072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5067800">
            <a:off x="6878160" y="1986120"/>
            <a:ext cx="1038240" cy="1619280"/>
          </a:xfrm>
          <a:custGeom>
            <a:avLst/>
            <a:gdLst>
              <a:gd name="textAreaLeft" fmla="*/ 244080 w 1038240"/>
              <a:gd name="textAreaRight" fmla="*/ 793440 w 1038240"/>
              <a:gd name="textAreaTop" fmla="*/ 190440 h 1619280"/>
              <a:gd name="textAreaBottom" fmla="*/ 1015920 h 16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9736200">
            <a:off x="3923640" y="1988640"/>
            <a:ext cx="1422360" cy="2318040"/>
          </a:xfrm>
          <a:custGeom>
            <a:avLst/>
            <a:gdLst>
              <a:gd name="textAreaLeft" fmla="*/ 334080 w 1422360"/>
              <a:gd name="textAreaRight" fmla="*/ 1087200 w 1422360"/>
              <a:gd name="textAreaTop" fmla="*/ 272520 h 2318040"/>
              <a:gd name="textAreaBottom" fmla="*/ 1454040 h 2318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5331800">
            <a:off x="5743440" y="3625200"/>
            <a:ext cx="1328760" cy="1798560"/>
          </a:xfrm>
          <a:custGeom>
            <a:avLst/>
            <a:gdLst>
              <a:gd name="textAreaLeft" fmla="*/ 312120 w 1328760"/>
              <a:gd name="textAreaRight" fmla="*/ 1015560 w 1328760"/>
              <a:gd name="textAreaTop" fmla="*/ 211320 h 1798560"/>
              <a:gd name="textAreaBottom" fmla="*/ 1128240 h 17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7230600">
            <a:off x="553680" y="-442440"/>
            <a:ext cx="8988480" cy="38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30" y="607"/>
                </a:moveTo>
                <a:arcTo wR="10800" hR="10800" stAng="-6557984" swAng="6557984"/>
                <a:lnTo>
                  <a:pt x="10800" y="10800"/>
                </a:lnTo>
                <a:close/>
              </a:path>
              <a:path fill="none" w="21600" h="21600">
                <a:moveTo>
                  <a:pt x="7230" y="607"/>
                </a:moveTo>
                <a:arcTo wR="10800" hR="10800" stAng="-6557984" swAng="6557984"/>
              </a:path>
            </a:pathLst>
          </a:cu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278136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321300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3284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350028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278136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141720"/>
            <a:ext cx="576000" cy="503280"/>
          </a:xfrm>
          <a:custGeom>
            <a:avLst/>
            <a:gdLst>
              <a:gd name="textAreaLeft" fmla="*/ 131400 w 576000"/>
              <a:gd name="textAreaRight" fmla="*/ 444600 w 576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2852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068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321300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350028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364500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1557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1557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060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060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2349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465300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98900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28464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29264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4581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5084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508464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141300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479736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1700280"/>
            <a:ext cx="720720" cy="64908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90792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134136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907920"/>
            <a:ext cx="720720" cy="649440"/>
          </a:xfrm>
          <a:prstGeom prst="ellipse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1341360"/>
            <a:ext cx="576000" cy="503280"/>
          </a:xfrm>
          <a:custGeom>
            <a:avLst/>
            <a:gdLst>
              <a:gd name="textAreaLeft" fmla="*/ 131400 w 576000"/>
              <a:gd name="textAreaRight" fmla="*/ 444600 w 576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920" y="155088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Па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«ВЕС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cd9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ф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Фон – изготовляется из ДВП толщиной 3 мм, размером 250 Х 250 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Угольником проверить форму ф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окрасить фон в светло-голубой ц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ubL"/>
          <p:cNvSpPr/>
          <p:nvPr/>
        </p:nvSpPr>
        <p:spPr>
          <a:xfrm>
            <a:off x="755640" y="4869000"/>
            <a:ext cx="1181160" cy="1063440"/>
          </a:xfrm>
          <a:custGeom>
            <a:avLst/>
            <a:gdLst>
              <a:gd name="textAreaLeft" fmla="*/ 0 w 1181160"/>
              <a:gd name="textAreaRight" fmla="*/ 1181520 w 1181160"/>
              <a:gd name="textAreaTop" fmla="*/ 531720 h 1063440"/>
              <a:gd name="textAreaBottom" fmla="*/ 1063800 h 10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4624E-007 L 0.17952 0.11144 E">
                                      <p:cBhvr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1628640"/>
            <a:ext cx="5329080" cy="4321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рам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мка изготовляется из реек сечением 10 Х 5 мм (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ки размечаются по размеру каждой стороны фона, распиливаются с помощью стусла под 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еем ПВА рейки широкой стороной приклеиваются на лицевую сторону фона (углы в 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оединяются всты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2349360"/>
            <a:ext cx="358560" cy="1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32720" y="595008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987640" y="1412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532720" y="1412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Разметка рису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ым твёрдо-мягким карандашом рисунок наносится тонкой линией на 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Разметка рису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ху на рисунок накладывается калька и рисунок переводится на н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 кальки копировальной бумагой элементы рисунка переносятся на матер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стья - кожезамен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ебель – мяг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волока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ветной пр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пестки – проволо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а обтянут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пр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нтральная часть цветка - кожезамен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2060640"/>
            <a:ext cx="1727280" cy="2448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3068640"/>
            <a:ext cx="1655640" cy="1944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4941720"/>
            <a:ext cx="1727280" cy="6480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524360" y="2637000"/>
            <a:ext cx="71640" cy="345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Разметка рису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7640" y="1413000"/>
            <a:ext cx="5832360" cy="47527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1628640"/>
            <a:ext cx="540072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87640" y="5950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141300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8604000" y="141300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04360" y="595008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 rot="18719400">
            <a:off x="2677320" y="1707840"/>
            <a:ext cx="6193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3" y="936"/>
                </a:moveTo>
                <a:arcTo wR="10800" hR="10800" stAng="-6841511" swAng="6841511"/>
                <a:lnTo>
                  <a:pt x="10800" y="10800"/>
                </a:lnTo>
                <a:close/>
              </a:path>
              <a:path fill="none" w="21600" h="21600">
                <a:moveTo>
                  <a:pt x="6403" y="936"/>
                </a:moveTo>
                <a:arcTo wR="10800" hR="10800" stAng="-6841511" swAng="6841511"/>
              </a:path>
            </a:pathLst>
          </a:cu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620000">
            <a:off x="4930920" y="2847960"/>
            <a:ext cx="1017360" cy="1657440"/>
          </a:xfrm>
          <a:custGeom>
            <a:avLst/>
            <a:gdLst>
              <a:gd name="textAreaLeft" fmla="*/ 239040 w 1017360"/>
              <a:gd name="textAreaRight" fmla="*/ 777600 w 1017360"/>
              <a:gd name="textAreaTop" fmla="*/ 194760 h 1657440"/>
              <a:gd name="textAreaBottom" fmla="*/ 1039680 h 16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231600" y="3858120"/>
            <a:ext cx="1079640" cy="1662120"/>
          </a:xfrm>
          <a:custGeom>
            <a:avLst/>
            <a:gdLst>
              <a:gd name="textAreaLeft" fmla="*/ 253800 w 1079640"/>
              <a:gd name="textAreaRight" fmla="*/ 825120 w 1079640"/>
              <a:gd name="textAreaTop" fmla="*/ 195120 h 1662120"/>
              <a:gd name="textAreaBottom" fmla="*/ 1042560 h 16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5364800">
            <a:off x="7116840" y="2755440"/>
            <a:ext cx="842760" cy="1179720"/>
          </a:xfrm>
          <a:custGeom>
            <a:avLst/>
            <a:gdLst>
              <a:gd name="textAreaLeft" fmla="*/ 198000 w 842760"/>
              <a:gd name="textAreaRight" fmla="*/ 644040 w 842760"/>
              <a:gd name="textAreaTop" fmla="*/ 138600 h 1179720"/>
              <a:gd name="textAreaBottom" fmla="*/ 740160 h 1179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9744600">
            <a:off x="6466680" y="1983960"/>
            <a:ext cx="615960" cy="1008000"/>
          </a:xfrm>
          <a:custGeom>
            <a:avLst/>
            <a:gdLst>
              <a:gd name="textAreaLeft" fmla="*/ 144720 w 615960"/>
              <a:gd name="textAreaRight" fmla="*/ 470880 w 615960"/>
              <a:gd name="textAreaTop" fmla="*/ 118440 h 1008000"/>
              <a:gd name="textAreaBottom" fmla="*/ 632160 h 100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5051600">
            <a:off x="7621560" y="2179440"/>
            <a:ext cx="644400" cy="838080"/>
          </a:xfrm>
          <a:custGeom>
            <a:avLst/>
            <a:gdLst>
              <a:gd name="textAreaLeft" fmla="*/ 151200 w 644400"/>
              <a:gd name="textAreaRight" fmla="*/ 492480 w 64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4005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8360" y="486900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5229360"/>
            <a:ext cx="64764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515772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4653000"/>
            <a:ext cx="648000" cy="57636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4508640"/>
            <a:ext cx="648000" cy="57600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3357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3645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2060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3789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407664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393372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7080" y="3573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16720" y="3500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285264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2997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278136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2421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234936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4360" y="263700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51640" y="2492280"/>
            <a:ext cx="503280" cy="50508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80360" y="2133720"/>
            <a:ext cx="503280" cy="504720"/>
          </a:xfrm>
          <a:prstGeom prst="ellipse">
            <a:avLst/>
          </a:prstGeom>
          <a:solidFill>
            <a:srgbClr val="ffd5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4360" y="2421000"/>
            <a:ext cx="576360" cy="576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4869000"/>
            <a:ext cx="646200" cy="576000"/>
          </a:xfrm>
          <a:custGeom>
            <a:avLst/>
            <a:gdLst>
              <a:gd name="textAreaLeft" fmla="*/ 147600 w 646200"/>
              <a:gd name="textAreaRight" fmla="*/ 498600 w 64620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84720" y="270828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59640" y="3789360"/>
            <a:ext cx="503280" cy="433440"/>
          </a:xfrm>
          <a:custGeom>
            <a:avLst/>
            <a:gdLst>
              <a:gd name="textAreaLeft" fmla="*/ 114840 w 503280"/>
              <a:gd name="textAreaRight" fmla="*/ 388440 w 503280"/>
              <a:gd name="textAreaTop" fmla="*/ 99000 h 433440"/>
              <a:gd name="textAreaBottom" fmla="*/ 33444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9640" y="3645000"/>
            <a:ext cx="576360" cy="576000"/>
          </a:xfrm>
          <a:custGeom>
            <a:avLst/>
            <a:gdLst>
              <a:gd name="textAreaLeft" fmla="*/ 131400 w 576360"/>
              <a:gd name="textAreaRight" fmla="*/ 444960 w 576360"/>
              <a:gd name="textAreaTop" fmla="*/ 131400 h 576000"/>
              <a:gd name="textAreaBottom" fmla="*/ 444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2808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детали приклеиваются к основе (фону) с помощью клея ПВ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еч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Изготовление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мягкой стальной проволоки сворачивают скрутить пет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их петель изготавливают пять ш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ем окрашенным в нужный цвет капроном обтягивают каждую, закрепляя капрон на скрутке проволоки клеем и обрезая всё ли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80000" y="5778360"/>
            <a:ext cx="792000" cy="74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419280" y="5803920"/>
            <a:ext cx="1152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229360"/>
            <a:ext cx="914400" cy="914400"/>
          </a:xfrm>
          <a:prstGeom prst="ellipse">
            <a:avLst/>
          </a:prstGeom>
          <a:solidFill>
            <a:srgbClr val="ffd5d5"/>
          </a:solidFill>
          <a:ln w="57240">
            <a:solidFill>
              <a:srgbClr val="ff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4572000">
            <a:off x="4408920" y="5752080"/>
            <a:ext cx="216000" cy="179280"/>
          </a:xfrm>
          <a:prstGeom prst="rect">
            <a:avLst/>
          </a:prstGeom>
          <a:solidFill>
            <a:srgbClr val="ffd5d5"/>
          </a:solidFill>
          <a:ln w="9360">
            <a:solidFill>
              <a:srgbClr val="ffd5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6:19:59Z</dcterms:created>
  <dc:creator>Татьяна</dc:creator>
  <dc:description/>
  <dc:language>en-US</dc:language>
  <cp:lastModifiedBy>Татьяна</cp:lastModifiedBy>
  <dcterms:modified xsi:type="dcterms:W3CDTF">2006-11-27T16:37:41Z</dcterms:modified>
  <cp:revision>5</cp:revision>
  <dc:subject/>
  <dc:title>Последовательность изготовления панно</dc:title>
</cp:coreProperties>
</file>