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gif" ContentType="image/gif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5ca8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245ca8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0D73B-B47A-43FF-A8E6-7F723BF009F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4FE1F-DE57-4105-A195-D133DD81EF52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D900C-EFF0-49AA-AA57-BE2A3388D0C4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98E7D-4B12-47E5-966C-C34AE989934A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24A08-CFF9-4457-AE94-3F79EC07106B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F298-0E59-4C3B-9010-0E3643AE8212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45ca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76520" y="1143000"/>
            <a:ext cx="7162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676520" y="3729960"/>
            <a:ext cx="7162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45ca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76520" y="11430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47080" y="11430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676520" y="372996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47080" y="372996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45ca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76520" y="1143000"/>
            <a:ext cx="2306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098240" y="1143000"/>
            <a:ext cx="2306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20320" y="1143000"/>
            <a:ext cx="2306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676520" y="3729960"/>
            <a:ext cx="2306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098240" y="3729960"/>
            <a:ext cx="2306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20320" y="3729960"/>
            <a:ext cx="2306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45ca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676520" y="1143000"/>
            <a:ext cx="71625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45ca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520" y="1143000"/>
            <a:ext cx="7162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45ca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676520" y="1143000"/>
            <a:ext cx="3495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47080" y="1143000"/>
            <a:ext cx="3495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45ca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676520" y="228240"/>
            <a:ext cx="71625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45ca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76520" y="11430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47080" y="1143000"/>
            <a:ext cx="3495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676520" y="372996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45ca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676520" y="1143000"/>
            <a:ext cx="71625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45ca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676520" y="1143000"/>
            <a:ext cx="3495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347080" y="11430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47080" y="372996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45ca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676520" y="11430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47080" y="11430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676520" y="3729960"/>
            <a:ext cx="7162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45ca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676520" y="1143000"/>
            <a:ext cx="7162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676520" y="3729960"/>
            <a:ext cx="7162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45ca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76520" y="11430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47080" y="11430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676520" y="372996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347080" y="372996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45ca8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520" y="1143000"/>
            <a:ext cx="2306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98240" y="1143000"/>
            <a:ext cx="2306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20320" y="1143000"/>
            <a:ext cx="2306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676520" y="3729960"/>
            <a:ext cx="2306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098240" y="3729960"/>
            <a:ext cx="2306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20320" y="3729960"/>
            <a:ext cx="2306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45ca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76520" y="1143000"/>
            <a:ext cx="7162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45ca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76520" y="1143000"/>
            <a:ext cx="3495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47080" y="1143000"/>
            <a:ext cx="3495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45ca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76520" y="228240"/>
            <a:ext cx="71625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45ca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76520" y="11430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47080" y="1143000"/>
            <a:ext cx="3495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676520" y="372996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45ca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76520" y="1143000"/>
            <a:ext cx="3495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47080" y="11430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47080" y="372996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45ca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76520" y="11430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47080" y="11430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676520" y="3729960"/>
            <a:ext cx="7162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"/>
          <p:cNvPicPr/>
          <p:nvPr/>
        </p:nvPicPr>
        <p:blipFill>
          <a:blip r:embed="rId2"/>
          <a:srcRect l="1756" t="1136" r="0" b="0"/>
          <a:stretch/>
        </p:blipFill>
        <p:spPr>
          <a:xfrm>
            <a:off x="0" y="0"/>
            <a:ext cx="8534520" cy="6637320"/>
          </a:xfrm>
          <a:prstGeom prst="rect">
            <a:avLst/>
          </a:prstGeom>
          <a:ln w="0">
            <a:noFill/>
          </a:ln>
        </p:spPr>
      </p:pic>
      <p:sp>
        <p:nvSpPr>
          <p:cNvPr id="1" name="Rectangle 26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12600">
            <a:solidFill>
              <a:srgbClr val="aed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5ca8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245c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676520" y="1143000"/>
            <a:ext cx="7162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245ca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95240" indent="-338040">
              <a:spcBef>
                <a:spcPts val="499"/>
              </a:spcBef>
              <a:buClr>
                <a:srgbClr val="245ca8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03480" indent="-289080">
              <a:spcBef>
                <a:spcPts val="499"/>
              </a:spcBef>
              <a:buClr>
                <a:srgbClr val="245ca8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603440" indent="-228600">
              <a:spcBef>
                <a:spcPts val="499"/>
              </a:spcBef>
              <a:buClr>
                <a:srgbClr val="245c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245ca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Rectangle 21"/>
          <p:cNvSpPr/>
          <p:nvPr/>
        </p:nvSpPr>
        <p:spPr>
          <a:xfrm>
            <a:off x="8238960" y="6477120"/>
            <a:ext cx="5241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9bbbd9"/>
                </a:solidFill>
                <a:latin typeface="Arial"/>
              </a:rPr>
              <a:t>Стр.</a:t>
            </a:r>
            <a:r>
              <a:rPr b="0" lang="en-US" sz="900" spc="-1" strike="noStrike">
                <a:solidFill>
                  <a:srgbClr val="9bbbd9"/>
                </a:solidFill>
                <a:latin typeface="Arial"/>
              </a:rPr>
              <a:t> </a:t>
            </a:r>
            <a:fld id="{0E288B09-14A6-42CF-A6F3-C990FE98425F}" type="slidenum">
              <a:rPr b="0" lang="en-US" sz="900" spc="-1" strike="noStrike">
                <a:solidFill>
                  <a:srgbClr val="9bbbd9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Rectangle 22"/>
          <p:cNvSpPr/>
          <p:nvPr/>
        </p:nvSpPr>
        <p:spPr>
          <a:xfrm>
            <a:off x="304920" y="6477120"/>
            <a:ext cx="110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9bbbd9"/>
                </a:solidFill>
                <a:latin typeface="Arial"/>
              </a:rPr>
              <a:t>20.01.2006</a:t>
            </a:r>
            <a:endParaRPr b="1" lang="en-US" sz="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Rectangle 23"/>
          <p:cNvSpPr/>
          <p:nvPr/>
        </p:nvSpPr>
        <p:spPr>
          <a:xfrm>
            <a:off x="2438280" y="6477120"/>
            <a:ext cx="42674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9bbbd9"/>
                </a:solidFill>
                <a:latin typeface="Arial"/>
              </a:rPr>
              <a:t>Презентация</a:t>
            </a:r>
            <a:endParaRPr b="1" lang="en-US" sz="9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0" descr=""/>
          <p:cNvPicPr/>
          <p:nvPr/>
        </p:nvPicPr>
        <p:blipFill>
          <a:blip r:embed="rId2"/>
          <a:stretch/>
        </p:blipFill>
        <p:spPr>
          <a:xfrm>
            <a:off x="0" y="0"/>
            <a:ext cx="7894800" cy="6100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9" descr=""/>
          <p:cNvPicPr/>
          <p:nvPr/>
        </p:nvPicPr>
        <p:blipFill>
          <a:blip r:embed="rId3"/>
          <a:stretch/>
        </p:blipFill>
        <p:spPr>
          <a:xfrm>
            <a:off x="0" y="0"/>
            <a:ext cx="8686800" cy="671364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41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12600">
            <a:solidFill>
              <a:srgbClr val="aed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5ca8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245ca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676520" y="1143000"/>
            <a:ext cx="7162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245ca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95240" indent="-338040">
              <a:spcBef>
                <a:spcPts val="499"/>
              </a:spcBef>
              <a:buClr>
                <a:srgbClr val="245ca8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03480" indent="-289080">
              <a:spcBef>
                <a:spcPts val="499"/>
              </a:spcBef>
              <a:buClr>
                <a:srgbClr val="245ca8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603440" indent="-228600">
              <a:spcBef>
                <a:spcPts val="499"/>
              </a:spcBef>
              <a:buClr>
                <a:srgbClr val="245c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245ca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6"/>
          <p:cNvSpPr/>
          <p:nvPr/>
        </p:nvSpPr>
        <p:spPr>
          <a:xfrm>
            <a:off x="684360" y="585720"/>
            <a:ext cx="813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33"/>
                </a:solidFill>
                <a:latin typeface="Times New Roman"/>
              </a:rPr>
              <a:t>Предупредить – значит спасти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1"/>
          <a:srcRect l="0" t="0" r="0" b="26162"/>
          <a:stretch/>
        </p:blipFill>
        <p:spPr>
          <a:xfrm>
            <a:off x="3780000" y="2276640"/>
            <a:ext cx="323820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1700280"/>
            <a:ext cx="7162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45ca8"/>
                </a:solidFill>
                <a:latin typeface="Arial"/>
              </a:rPr>
              <a:t>Не оставляйте </a:t>
            </a:r>
            <a:br>
              <a:rPr sz="4000"/>
            </a:br>
            <a:r>
              <a:rPr b="1" lang="ru-RU" sz="4000" spc="-1" strike="noStrike">
                <a:solidFill>
                  <a:srgbClr val="245ca8"/>
                </a:solidFill>
                <a:latin typeface="Arial"/>
              </a:rPr>
              <a:t>своих детей </a:t>
            </a:r>
            <a:br>
              <a:rPr sz="4000"/>
            </a:br>
            <a:r>
              <a:rPr b="1" lang="ru-RU" sz="4000" spc="-1" strike="noStrike">
                <a:solidFill>
                  <a:srgbClr val="245ca8"/>
                </a:solidFill>
                <a:latin typeface="Arial"/>
              </a:rPr>
              <a:t>без внимания!</a:t>
            </a:r>
            <a:br>
              <a:rPr sz="4000"/>
            </a:br>
            <a:endParaRPr b="1" lang="en-US" sz="4000" spc="-1" strike="noStrike">
              <a:solidFill>
                <a:srgbClr val="245ca8"/>
              </a:solidFill>
              <a:latin typeface="Arial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3697200" y="3357720"/>
            <a:ext cx="289080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5ca8"/>
                </a:solidFill>
                <a:latin typeface="Arial"/>
              </a:rPr>
              <a:t>Цель собрания:</a:t>
            </a:r>
            <a:br>
              <a:rPr sz="2800"/>
            </a:br>
            <a:endParaRPr b="1" lang="en-US" sz="2800" spc="-1" strike="noStrike">
              <a:solidFill>
                <a:srgbClr val="245ca8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676520" y="1143000"/>
            <a:ext cx="71625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Привлечение внимания родительской общественности к проблемам сохранности жизни и здоровья детей, повышение эффективности профилактики детского травматизма и несчастных случаев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6659640" y="4437000"/>
            <a:ext cx="225432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179280" y="260280"/>
          <a:ext cx="8713800" cy="9166320"/>
        </p:xfrm>
        <a:graphic>
          <a:graphicData uri="http://schemas.openxmlformats.org/drawingml/2006/table">
            <a:tbl>
              <a:tblPr/>
              <a:tblGrid>
                <a:gridCol w="8713800"/>
              </a:tblGrid>
              <a:tr h="57308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Основные направления проведения собрания:</a:t>
                      </a:r>
                      <a:endParaRPr b="1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333333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О комплексных мерах по обеспечению безопасности, сохранности жизни и здоровья детей, недопущению гибели несовершеннолетних, повышение правовой культуры участников образовательного процесса.</a:t>
                      </a:r>
                      <a:endParaRPr b="1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spcAft>
                          <a:spcPts val="601"/>
                        </a:spcAft>
                        <a:buClr>
                          <a:srgbClr val="333333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Ознакомление родителей с возможными опасностями, подстерегающими детей и подростков:</a:t>
                      </a:r>
                      <a:endParaRPr b="1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а) самовольный уход из дома;</a:t>
                      </a:r>
                      <a:br>
                        <a:rPr sz="2400"/>
                      </a:br>
                      <a:r>
                        <a:rPr b="0" lang="ru-RU" sz="24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б) вредные привычки;</a:t>
                      </a:r>
                      <a:br>
                        <a:rPr sz="2400"/>
                      </a:br>
                      <a:r>
                        <a:rPr b="0" lang="ru-RU" sz="24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в) несоблюдение правил дорожного движения;</a:t>
                      </a:r>
                      <a:endParaRPr b="1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г) ) суицидальные наклонности;.</a:t>
                      </a:r>
                      <a:endParaRPr b="1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3. Рекомендации родителям </a:t>
                      </a:r>
                      <a:r>
                        <a:rPr b="0" i="1" lang="ru-RU" sz="24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по обеспечению безопасности, сохранности жизни и здоровья детей, недопущению гибели несовершеннолетних</a:t>
                      </a:r>
                      <a:r>
                        <a:rPr b="0" lang="ru-RU" sz="24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1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0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7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52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Прямоугольник 1" descr=""/>
          <p:cNvPicPr/>
          <p:nvPr/>
        </p:nvPicPr>
        <p:blipFill>
          <a:blip r:embed="rId1"/>
          <a:stretch/>
        </p:blipFill>
        <p:spPr>
          <a:xfrm>
            <a:off x="2517840" y="396720"/>
            <a:ext cx="4359240" cy="657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8587686c340ede07f0ca0974fce69553"/>
          <p:cNvPicPr/>
          <p:nvPr/>
        </p:nvPicPr>
        <p:blipFill>
          <a:blip r:embed="rId2"/>
          <a:stretch/>
        </p:blipFill>
        <p:spPr>
          <a:xfrm flipH="1">
            <a:off x="-52920" y="0"/>
            <a:ext cx="1816200" cy="184644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3"/>
          <p:cNvSpPr/>
          <p:nvPr/>
        </p:nvSpPr>
        <p:spPr>
          <a:xfrm>
            <a:off x="179280" y="1052640"/>
            <a:ext cx="8785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Причины, толкающие детей из благополучных семей на уход из дома:</a:t>
            </a:r>
            <a:endParaRPr b="1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Психологический дискомфорт от 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невнимания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, равнодушия взрослых.</a:t>
            </a:r>
            <a:endParaRPr b="1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Детская ревность.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 </a:t>
            </a:r>
            <a:endParaRPr b="1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Пренебрежение мнением ребёнка, неуважение его интересов.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4. 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Невыполнение своих обещаний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безо всяких объяснений. </a:t>
            </a:r>
            <a:endParaRPr b="1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5.Чужой человек в доме.</a:t>
            </a:r>
            <a:endParaRPr b="1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6. Постоянные ругань и скандалы дома. </a:t>
            </a:r>
            <a:endParaRPr b="1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7. Отсутствие контроля.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Text Box 4" descr=""/>
          <p:cNvPicPr/>
          <p:nvPr/>
        </p:nvPicPr>
        <p:blipFill>
          <a:blip r:embed="rId1"/>
          <a:stretch/>
        </p:blipFill>
        <p:spPr>
          <a:xfrm>
            <a:off x="152280" y="1341360"/>
            <a:ext cx="8253360" cy="2852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8587686c340ede07f0ca0974fce69553"/>
          <p:cNvPicPr/>
          <p:nvPr/>
        </p:nvPicPr>
        <p:blipFill>
          <a:blip r:embed="rId2"/>
          <a:stretch/>
        </p:blipFill>
        <p:spPr>
          <a:xfrm flipH="1">
            <a:off x="6803640" y="4437000"/>
            <a:ext cx="1816200" cy="18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ext Box 4" descr=""/>
          <p:cNvPicPr/>
          <p:nvPr/>
        </p:nvPicPr>
        <p:blipFill>
          <a:blip r:embed="rId1"/>
          <a:stretch/>
        </p:blipFill>
        <p:spPr>
          <a:xfrm>
            <a:off x="426960" y="189000"/>
            <a:ext cx="8167680" cy="5754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8587686c340ede07f0ca0974fce69553"/>
          <p:cNvPicPr/>
          <p:nvPr/>
        </p:nvPicPr>
        <p:blipFill>
          <a:blip r:embed="rId2"/>
          <a:stretch/>
        </p:blipFill>
        <p:spPr>
          <a:xfrm flipH="1">
            <a:off x="250920" y="171360"/>
            <a:ext cx="122544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84000" y="3711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5ca8"/>
                </a:solidFill>
                <a:latin typeface="Arial"/>
              </a:rPr>
              <a:t>НАРКОМАНИЯ</a:t>
            </a:r>
            <a:endParaRPr b="1" lang="en-US" sz="2800" spc="-1" strike="noStrike">
              <a:solidFill>
                <a:srgbClr val="245ca8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8360" y="1143000"/>
            <a:ext cx="8370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Первые признаки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 свидетельствующие о том, что ребенок начал принимать наркотики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245ca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- </a:t>
            </a:r>
            <a:r>
              <a:rPr b="0" lang="ru-RU" sz="3200" spc="-1" strike="noStrike" u="sng">
                <a:solidFill>
                  <a:srgbClr val="333333"/>
                </a:solidFill>
                <a:uFillTx/>
                <a:latin typeface="Arial"/>
              </a:rPr>
              <a:t>Резкие перепады настроения, не связанные с действительностью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245ca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- </a:t>
            </a:r>
            <a:r>
              <a:rPr b="0" lang="ru-RU" sz="3200" spc="-1" strike="noStrike" u="sng">
                <a:solidFill>
                  <a:srgbClr val="333333"/>
                </a:solidFill>
                <a:uFillTx/>
                <a:latin typeface="Arial"/>
              </a:rPr>
              <a:t>Изменение ритма сна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245ca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- </a:t>
            </a:r>
            <a:r>
              <a:rPr b="0" lang="ru-RU" sz="3200" spc="-1" strike="noStrike" u="sng">
                <a:solidFill>
                  <a:srgbClr val="333333"/>
                </a:solidFill>
                <a:uFillTx/>
                <a:latin typeface="Arial"/>
              </a:rPr>
              <a:t>Изменение аппетита и манеры употребления пищи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18194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5ca8"/>
                </a:solidFill>
                <a:latin typeface="Times New Roman"/>
                <a:ea typeface="Times New Roman"/>
              </a:rPr>
              <a:t>Безопасность на дорогах</a:t>
            </a:r>
            <a:endParaRPr b="1" lang="en-US" sz="2800" spc="-1" strike="noStrike">
              <a:solidFill>
                <a:srgbClr val="245ca8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4360" y="1143000"/>
            <a:ext cx="8154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Calibri"/>
              </a:rPr>
              <a:t> 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  <a:ea typeface="Calibri"/>
              </a:rPr>
              <a:t>В целях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Calibri"/>
              </a:rPr>
              <a:t>снижения уровня детского дорожно-транспортного травматизма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  <a:ea typeface="Calibri"/>
              </a:rPr>
              <a:t> в нашей школе ведётся целенаправленная работа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>
              <a:lnSpc>
                <a:spcPct val="100000"/>
              </a:lnSpc>
              <a:spcBef>
                <a:spcPts val="451"/>
              </a:spcBef>
              <a:buClr>
                <a:srgbClr val="245ca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  <a:ea typeface="Calibri"/>
              </a:rPr>
              <a:t>Созданы 2 отряда ЮИД «Светофор», «Перекрёсток»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>
              <a:lnSpc>
                <a:spcPct val="100000"/>
              </a:lnSpc>
              <a:spcBef>
                <a:spcPts val="451"/>
              </a:spcBef>
              <a:buClr>
                <a:srgbClr val="245ca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  <a:ea typeface="Calibri"/>
              </a:rPr>
              <a:t>На уроках ОБЖ проводятся занятия по ПДД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>
              <a:lnSpc>
                <a:spcPct val="100000"/>
              </a:lnSpc>
              <a:spcBef>
                <a:spcPts val="451"/>
              </a:spcBef>
              <a:buClr>
                <a:srgbClr val="245ca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  <a:ea typeface="Calibri"/>
              </a:rPr>
              <a:t>Организовано изучение правил безопасности дорожного движения  в каждом классе по 1 часу в месяц, созданы уголки по безопасности дорожного движения.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>
              <a:lnSpc>
                <a:spcPct val="100000"/>
              </a:lnSpc>
              <a:spcBef>
                <a:spcPts val="451"/>
              </a:spcBef>
              <a:buClr>
                <a:srgbClr val="245ca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аши дети принимают активное участие во  Всероссийской акции «Внимание – дети», в «Днях безопасности дорожного движения»; в декадниках «За безопасность на дорогах», в соревнованиях «Безопасное колесо»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>
              <a:lnSpc>
                <a:spcPct val="100000"/>
              </a:lnSpc>
              <a:spcBef>
                <a:spcPts val="451"/>
              </a:spcBef>
              <a:buClr>
                <a:srgbClr val="245ca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  смотре готовности отрядов ЮИД мы заняли 1 место по нашей зоне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3564000" y="4941720"/>
            <a:ext cx="219852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8920" y="115920"/>
            <a:ext cx="180036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5ca8"/>
                </a:solidFill>
                <a:latin typeface="Arial"/>
              </a:rPr>
              <a:t>СУИЦИД</a:t>
            </a:r>
            <a:endParaRPr b="1" lang="en-US" sz="2800" spc="-1" strike="noStrike">
              <a:solidFill>
                <a:srgbClr val="245ca8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24000" y="1197000"/>
            <a:ext cx="8640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45ca8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5432f"/>
                </a:solidFill>
                <a:latin typeface="Times New Roman"/>
                <a:ea typeface="Times New Roman"/>
              </a:rPr>
              <a:t>Появление у ребенка литературы о суицидах, просмотр соответствующей информации в интернете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45ca8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5432f"/>
                </a:solidFill>
                <a:latin typeface="Times New Roman"/>
                <a:ea typeface="Times New Roman"/>
              </a:rPr>
              <a:t>Разговоры ребенка о самоубийстве, нездоровые фантазии на эту тему, акцентирование внимания на эпизодах суицидов в фильмах, новостях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45ca8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5432f"/>
                </a:solidFill>
                <a:latin typeface="Times New Roman"/>
                <a:ea typeface="Times New Roman"/>
              </a:rPr>
              <a:t>Попытки ребенка уединиться.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45ca8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5432f"/>
                </a:solidFill>
                <a:latin typeface="Times New Roman"/>
                <a:ea typeface="Times New Roman"/>
              </a:rPr>
              <a:t>Разговоры и размышления ребенка о том, что он абсолютно никому не нужен, что в том случае, если он исчезнет, его никто не будет искать, и даже не заметит его отсутствия.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45ca8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5432f"/>
                </a:solidFill>
                <a:latin typeface="Times New Roman"/>
                <a:ea typeface="Times New Roman"/>
              </a:rPr>
              <a:t>Даже музыка или живопись могут послужить симптомами для родителей о том, что что-то не так. Обращайте внимание на то, какую музыку слушает ваш ребенок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45ca8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5432f"/>
                </a:solidFill>
                <a:latin typeface="Times New Roman"/>
                <a:ea typeface="Times New Roman"/>
              </a:rPr>
              <a:t>Тщательно маскируемые попытки ребенка попрощаться с вами – непривычные разговоры о любви к вам, попытки закончить все свои дела как можно быстрее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45ca8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5432f"/>
                </a:solidFill>
                <a:latin typeface="Times New Roman"/>
                <a:ea typeface="Times New Roman"/>
              </a:rPr>
              <a:t>Дарение своих любимых и наиболее ценных вещей, с которыми он раньше не расставался, друзьям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" name="Прямоугольник 3" descr=""/>
          <p:cNvPicPr/>
          <p:nvPr/>
        </p:nvPicPr>
        <p:blipFill>
          <a:blip r:embed="rId1"/>
          <a:stretch/>
        </p:blipFill>
        <p:spPr>
          <a:xfrm>
            <a:off x="2414520" y="262080"/>
            <a:ext cx="6553440" cy="7808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3780000" y="5589720"/>
            <a:ext cx="1428480" cy="10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6T10:05:03Z</dcterms:created>
  <dc:creator>user</dc:creator>
  <dc:description/>
  <cp:keywords/>
  <dc:language>en-US</dc:language>
  <cp:lastModifiedBy>User</cp:lastModifiedBy>
  <dcterms:modified xsi:type="dcterms:W3CDTF">2011-12-01T12:27:36Z</dcterms:modified>
  <cp:revision>29</cp:revision>
  <dc:subject/>
  <dc:title>Заголовок презента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020421049</vt:lpwstr>
  </property>
</Properties>
</file>