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ca8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FD96-6F47-408E-9338-A58A00AF26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81A8-7BEA-4297-A977-BAEE8C01E50D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36F9-4E37-470F-8C1B-B87797CB885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883B-3787-48D6-BC3E-F8FF15724B4A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FDA1-543D-4D1F-BF42-91373F2CA18B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7CFA-08CC-4098-99C2-1C4BBCF06866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520" y="372996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708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824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032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52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824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032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708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6520" y="372996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708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9824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0320" y="114300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7652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9824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0320" y="3729960"/>
            <a:ext cx="230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7080" y="372996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7080" y="11430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520" y="3729960"/>
            <a:ext cx="7162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rcRect l="1756" t="1136" r="0" b="0"/>
          <a:stretch/>
        </p:blipFill>
        <p:spPr>
          <a:xfrm>
            <a:off x="0" y="0"/>
            <a:ext cx="8534520" cy="6637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6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2600">
            <a:solidFill>
              <a:srgbClr val="a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ca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95240" indent="-338040">
              <a:spcBef>
                <a:spcPts val="499"/>
              </a:spcBef>
              <a:buClr>
                <a:srgbClr val="245ca8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03480" indent="-289080">
              <a:spcBef>
                <a:spcPts val="499"/>
              </a:spcBef>
              <a:buClr>
                <a:srgbClr val="245ca8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3440" indent="-228600">
              <a:spcBef>
                <a:spcPts val="499"/>
              </a:spcBef>
              <a:buClr>
                <a:srgbClr val="245c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45c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8238960" y="6477120"/>
            <a:ext cx="52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9bbbd9"/>
                </a:solidFill>
                <a:latin typeface="Arial"/>
              </a:rPr>
              <a:t>Стр.</a:t>
            </a:r>
            <a:r>
              <a:rPr b="0" lang="en-US" sz="900" spc="-1" strike="noStrike">
                <a:solidFill>
                  <a:srgbClr val="9bbbd9"/>
                </a:solidFill>
                <a:latin typeface="Arial"/>
              </a:rPr>
              <a:t> </a:t>
            </a:r>
            <a:fld id="{1D129C43-DD3F-4570-97C2-C6BBD4A1821B}" type="slidenum">
              <a:rPr b="0" lang="en-US" sz="900" spc="-1" strike="noStrike">
                <a:solidFill>
                  <a:srgbClr val="9bbbd9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Rectangle 22"/>
          <p:cNvSpPr/>
          <p:nvPr/>
        </p:nvSpPr>
        <p:spPr>
          <a:xfrm>
            <a:off x="304920" y="6477120"/>
            <a:ext cx="110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9bbbd9"/>
                </a:solidFill>
                <a:latin typeface="Arial"/>
              </a:rPr>
              <a:t>20.01.2006</a:t>
            </a:r>
            <a:endParaRPr b="1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Rectangle 23"/>
          <p:cNvSpPr/>
          <p:nvPr/>
        </p:nvSpPr>
        <p:spPr>
          <a:xfrm>
            <a:off x="2438280" y="6477120"/>
            <a:ext cx="4267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9bbbd9"/>
                </a:solidFill>
                <a:latin typeface="Arial"/>
              </a:rPr>
              <a:t>Презентация</a:t>
            </a:r>
            <a:endParaRPr b="1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0" descr=""/>
          <p:cNvPicPr/>
          <p:nvPr/>
        </p:nvPicPr>
        <p:blipFill>
          <a:blip r:embed="rId2"/>
          <a:stretch/>
        </p:blipFill>
        <p:spPr>
          <a:xfrm>
            <a:off x="0" y="0"/>
            <a:ext cx="7894800" cy="6100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9" descr=""/>
          <p:cNvPicPr/>
          <p:nvPr/>
        </p:nvPicPr>
        <p:blipFill>
          <a:blip r:embed="rId3"/>
          <a:stretch/>
        </p:blipFill>
        <p:spPr>
          <a:xfrm>
            <a:off x="0" y="0"/>
            <a:ext cx="8686800" cy="6713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1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2600">
            <a:solidFill>
              <a:srgbClr val="a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ca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95240" indent="-338040">
              <a:spcBef>
                <a:spcPts val="499"/>
              </a:spcBef>
              <a:buClr>
                <a:srgbClr val="245ca8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03480" indent="-289080">
              <a:spcBef>
                <a:spcPts val="499"/>
              </a:spcBef>
              <a:buClr>
                <a:srgbClr val="245ca8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3440" indent="-228600">
              <a:spcBef>
                <a:spcPts val="499"/>
              </a:spcBef>
              <a:buClr>
                <a:srgbClr val="245ca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45ca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684360" y="585720"/>
            <a:ext cx="81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Times New Roman"/>
              </a:rPr>
              <a:t>Предупредить – значит спасти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rcRect l="0" t="0" r="0" b="26162"/>
          <a:stretch/>
        </p:blipFill>
        <p:spPr>
          <a:xfrm>
            <a:off x="3780000" y="2276640"/>
            <a:ext cx="32382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170028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45ca8"/>
                </a:solidFill>
                <a:latin typeface="Arial"/>
              </a:rPr>
              <a:t>Не оставляйте </a:t>
            </a:r>
            <a:br>
              <a:rPr sz="4000"/>
            </a:br>
            <a:r>
              <a:rPr b="1" lang="ru-RU" sz="4000" spc="-1" strike="noStrike">
                <a:solidFill>
                  <a:srgbClr val="245ca8"/>
                </a:solidFill>
                <a:latin typeface="Arial"/>
              </a:rPr>
              <a:t>своих детей </a:t>
            </a:r>
            <a:br>
              <a:rPr sz="4000"/>
            </a:br>
            <a:r>
              <a:rPr b="1" lang="ru-RU" sz="4000" spc="-1" strike="noStrike">
                <a:solidFill>
                  <a:srgbClr val="245ca8"/>
                </a:solidFill>
                <a:latin typeface="Arial"/>
              </a:rPr>
              <a:t>без внимания!</a:t>
            </a:r>
            <a:br>
              <a:rPr sz="4000"/>
            </a:br>
            <a:endParaRPr b="1" lang="en-US" sz="4000" spc="-1" strike="noStrike">
              <a:solidFill>
                <a:srgbClr val="245ca8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3697200" y="3357720"/>
            <a:ext cx="28908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5ca8"/>
                </a:solidFill>
                <a:latin typeface="Arial"/>
              </a:rPr>
              <a:t>Цель собрания:</a:t>
            </a:r>
            <a:br>
              <a:rPr sz="2800"/>
            </a:b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ривлечение внимания родительской общественности к проблемам сохранности жизни и здоровья детей, повышение эффективности профилактики детского травматизма и несчастных случаев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659640" y="4437000"/>
            <a:ext cx="2254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79280" y="260280"/>
          <a:ext cx="8713800" cy="916632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573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сновные направления проведения собрания: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 комплексных мерах по обеспечению безопасности, сохранности жизни и здоровья детей, недопущению гибели несовершеннолетних, повышение правовой культуры участников образовательного процесса.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spcAft>
                          <a:spcPts val="601"/>
                        </a:spcAft>
                        <a:buClr>
                          <a:srgbClr val="333333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знакомление родителей с возможными опасностями, подстерегающими детей и подростков: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) самовольный уход из дома;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) вредные привычки;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) несоблюдение правил дорожного движения;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г) ) суицидальные наклонности;.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. Рекомендации родителям </a:t>
                      </a:r>
                      <a:r>
                        <a:rPr b="0" i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 обеспечению безопасности, сохранности жизни и здоровья детей, недопущению гибели несовершеннолетних</a:t>
                      </a:r>
                      <a:r>
                        <a:rPr b="0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2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1"/>
          <a:stretch/>
        </p:blipFill>
        <p:spPr>
          <a:xfrm>
            <a:off x="2517840" y="396720"/>
            <a:ext cx="4359240" cy="65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8587686c340ede07f0ca0974fce69553"/>
          <p:cNvPicPr/>
          <p:nvPr/>
        </p:nvPicPr>
        <p:blipFill>
          <a:blip r:embed="rId2"/>
          <a:stretch/>
        </p:blipFill>
        <p:spPr>
          <a:xfrm flipH="1">
            <a:off x="-52920" y="0"/>
            <a:ext cx="1816200" cy="18464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179280" y="1052640"/>
            <a:ext cx="878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ричины, толкающие детей из благополучных семей на уход из дома: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сихологический дискомфорт от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евнимания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равнодушия взрослых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Детская ревность.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ренебрежение мнением ребёнка, неуважение его интересов.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4.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евыполнение своих обещаний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безо всяких объяснений. 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5.Чужой человек в доме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6. Постоянные ругань и скандалы дома. 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7. Отсутствие контроля.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ext Box 4" descr=""/>
          <p:cNvPicPr/>
          <p:nvPr/>
        </p:nvPicPr>
        <p:blipFill>
          <a:blip r:embed="rId1"/>
          <a:stretch/>
        </p:blipFill>
        <p:spPr>
          <a:xfrm>
            <a:off x="152280" y="1341360"/>
            <a:ext cx="8253360" cy="28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8587686c340ede07f0ca0974fce69553"/>
          <p:cNvPicPr/>
          <p:nvPr/>
        </p:nvPicPr>
        <p:blipFill>
          <a:blip r:embed="rId2"/>
          <a:stretch/>
        </p:blipFill>
        <p:spPr>
          <a:xfrm flipH="1">
            <a:off x="6803640" y="4437000"/>
            <a:ext cx="18162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Box 4" descr=""/>
          <p:cNvPicPr/>
          <p:nvPr/>
        </p:nvPicPr>
        <p:blipFill>
          <a:blip r:embed="rId1"/>
          <a:stretch/>
        </p:blipFill>
        <p:spPr>
          <a:xfrm>
            <a:off x="426960" y="189000"/>
            <a:ext cx="8167680" cy="575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8587686c340ede07f0ca0974fce69553"/>
          <p:cNvPicPr/>
          <p:nvPr/>
        </p:nvPicPr>
        <p:blipFill>
          <a:blip r:embed="rId2"/>
          <a:stretch/>
        </p:blipFill>
        <p:spPr>
          <a:xfrm flipH="1">
            <a:off x="250920" y="171360"/>
            <a:ext cx="122544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4000" y="3711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5ca8"/>
                </a:solidFill>
                <a:latin typeface="Arial"/>
              </a:rPr>
              <a:t>НАРКОМАНИЯ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43000"/>
            <a:ext cx="8370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Первые признаки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свидетельствующие о том, что ребенок начал принимать наркотики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Резкие перепады настроения, не связанные с действительностью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Изменение ритма сн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45ca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333333"/>
                </a:solidFill>
                <a:uFillTx/>
                <a:latin typeface="Arial"/>
              </a:rPr>
              <a:t>Изменение аппетита и манеры употребления пищ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1819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5ca8"/>
                </a:solidFill>
                <a:latin typeface="Times New Roman"/>
                <a:ea typeface="Times New Roman"/>
              </a:rPr>
              <a:t>Безопасность на дорогах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1143000"/>
            <a:ext cx="8154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В целях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нижения уровня детского дорожно-транспортного травматизм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в нашей школе ведётся целенаправленная работа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озданы 2 отряда ЮИД «Светофор», «Перекрёсток»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На уроках ОБЖ проводятся занятия по ПДД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Организовано изучение правил безопасности дорожного движения  в каждом классе по 1 часу в месяц, созданы уголки по безопасности дорожного движения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ши дети принимают активное участие во  Всероссийской акции «Внимание – дети», в «Днях безопасности дорожного движения»; в декадниках «За безопасность на дорогах», в соревнованиях «Безопасное колесо»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 смотре готовности отрядов ЮИД мы заняли 1 место по нашей зоне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564000" y="4941720"/>
            <a:ext cx="21985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1800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5ca8"/>
                </a:solidFill>
                <a:latin typeface="Arial"/>
              </a:rPr>
              <a:t>СУИЦИД</a:t>
            </a:r>
            <a:endParaRPr b="1" lang="en-US" sz="2800" spc="-1" strike="noStrike">
              <a:solidFill>
                <a:srgbClr val="245ca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197000"/>
            <a:ext cx="8640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Появление у ребенка литературы о суицидах, просмотр соответствующей информации в интернете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Разговоры ребенка о самоубийстве, нездоровые фантазии на эту тему, акцентирование внимания на эпизодах суицидов в фильмах, новостях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Попытки ребенка уединиться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Разговоры и размышления ребенка о том, что он абсолютно никому не нужен, что в том случае, если он исчезнет, его никто не будет искать, и даже не заметит его отсутствия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Даже музыка или живопись могут послужить симптомами для родителей о том, что что-то не так. Обращайте внимание на то, какую музыку слушает ваш ребенок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Тщательно маскируемые попытки ребенка попрощаться с вами – непривычные разговоры о любви к вам, попытки закончить все свои дела как можно быстрее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45ca8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5432f"/>
                </a:solidFill>
                <a:latin typeface="Times New Roman"/>
                <a:ea typeface="Times New Roman"/>
              </a:rPr>
              <a:t>Дарение своих любимых и наиболее ценных вещей, с которыми он раньше не расставался, друзьям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" name="Прямоугольник 3" descr=""/>
          <p:cNvPicPr/>
          <p:nvPr/>
        </p:nvPicPr>
        <p:blipFill>
          <a:blip r:embed="rId1"/>
          <a:stretch/>
        </p:blipFill>
        <p:spPr>
          <a:xfrm>
            <a:off x="2414520" y="262080"/>
            <a:ext cx="6553440" cy="780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780000" y="5589720"/>
            <a:ext cx="142848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0:05:03Z</dcterms:created>
  <dc:creator>user</dc:creator>
  <dc:description/>
  <cp:keywords/>
  <dc:language>en-US</dc:language>
  <cp:lastModifiedBy>User</cp:lastModifiedBy>
  <dcterms:modified xsi:type="dcterms:W3CDTF">2011-12-01T12:27:36Z</dcterms:modified>
  <cp:revision>29</cp:revision>
  <dc:subject/>
  <dc:title>Заголовок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20421049</vt:lpwstr>
  </property>
</Properties>
</file>