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DA8-7923-45DE-879F-32A7E615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F88-E1EB-4E03-81BD-FDD1D58E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7F6-DD5A-4427-8864-1B3C86CB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80F-B09E-48F2-B660-19945161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30FD-2901-46C1-AB8A-F2FAD033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A04A-BFCF-4150-B0A6-D41FEFA0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FA89-388F-4366-AE85-E3AFFB20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E4B9-6D68-4B54-BD88-D1C7BC56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D7E7-68E6-419D-B544-CD8BC00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5D3D-04FB-45B0-BDD1-33BD5C8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0CB2-A41E-4EF7-A016-B332CF4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4B4-1822-4E85-8830-ADDE0DD3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4DFC-6F95-4CEE-8201-EF3271FE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1D6E-3F30-465A-8CC5-B13CCFC3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5BC9-AA3F-4A3D-868E-B7C49D1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3B46-65E4-444F-A67D-8B26AFE5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3FC1-3672-4226-B827-CE24D8D2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9AAA-4FB7-413D-97A0-F4306396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CB216-8097-443F-9355-4F7F8CD7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CA99-CED8-43E3-AECE-9085B308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A709A-238D-4BC3-9D57-9B6109B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E915-5510-4FE6-84AA-AC27C5B5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AAA-8806-44F9-8859-E209EC7B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13AC-FBDB-4021-9706-3F9CCCC9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09A7-5D4B-42F4-A10F-5B23FC6A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62D6-4586-4F85-AB26-9B9119E9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B2473-8A08-4880-9B16-2E3F48F4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467B-9EE7-474D-B4C0-0109F7B5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5D03-B3C1-4ED2-973A-1957F677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8ACF-E33B-4CC6-9D9A-D1555497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E576-F3B6-416E-80DC-F99B571E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EC38-1936-4C97-8D74-F4750A6B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08D0-61FE-45A0-9F40-667D490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ACA-CA8A-49EB-8747-BEA15E84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78A4-7182-44C6-85FB-1E982474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3AE0-892A-42BC-826D-487E6294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67AC-9F73-40AA-AF51-69D100A3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6A81-7235-4FD0-B0B6-3683B936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38063-9DD2-494B-BCF0-EB1CE770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00FD-3D80-4AB8-9E30-EA7DE3B6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F374-04C9-4F5F-92B4-99AAF1DF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D6A7-4108-42A7-8FB4-23CF6533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CAEE-A3B2-4FEA-B399-80B0D36C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49D-214B-4B81-982A-8920275B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282-C295-408E-A9D2-5D14E26E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4F6-E9AE-434B-95AE-25F3CC8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BFA-908C-477F-9AF3-D803D387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C0F-7E5E-4185-9979-8F0375F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6B55-2D0A-4223-BC3D-5F34B92FF1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F2B-F70F-4DA9-83A1-39C8621A9F7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13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FBE3-67BB-4ADD-B1AD-E4CD7C1504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3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4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5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A84C-71F5-4273-A2C5-C51697C70AD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38280"/>
            <a:ext cx="6053040" cy="18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Линейная функция и </a:t>
            </a: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ее график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94920" y="693360"/>
            <a:ext cx="75819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Функции бывают различные.  Линейную</a:t>
            </a: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функцию можно задать формулой у=кх+вх.  Графиком линейной функции является прямая, обязательно проходящая через начало координат. Для построения графика функции надо найти координаты нескольких точек, отметить их на координатной прямой и соединить эти точки отрезком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5313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рименение знаний  о линейной функции на практик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4040" y="1593360"/>
            <a:ext cx="8229600" cy="52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 Велосипедист движется со скоростью 10 км/ч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 формулу его пу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время движ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При начале нагревания вода в кипятильнике имела  температуру 6 градусов. При нагревании температура воды повышалась каждую минуту на 2 градусов. Напишите формулу, выражающую изменение температур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ы в зависимости от времен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ее нагр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 Скорость распространения звука в воздухе в зависимости от температуры может быть найдена по формуле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331 +0,6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г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рость ( в м/с) 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температура ( в градусах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вет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898560" y="1576440"/>
          <a:ext cx="7362720" cy="2795400"/>
        </p:xfrm>
        <a:graphic>
          <a:graphicData uri="http://schemas.openxmlformats.org/drawingml/2006/table">
            <a:tbl>
              <a:tblPr/>
              <a:tblGrid>
                <a:gridCol w="3681360"/>
                <a:gridCol w="368136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вариан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 вариан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0,5;  4,5)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 1/3; -2/3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1)=-4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2)=-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2)=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-1)=-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2"/>
          <p:cNvSpPr/>
          <p:nvPr/>
        </p:nvSpPr>
        <p:spPr>
          <a:xfrm>
            <a:off x="2095560" y="33465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2103480" y="43257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Назовите координаты точек пересечения графика данной функции с осями координат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5" name="Picture 4" descr="koord"/>
          <p:cNvPicPr/>
          <p:nvPr/>
        </p:nvPicPr>
        <p:blipFill>
          <a:blip r:embed="rId1"/>
          <a:stretch/>
        </p:blipFill>
        <p:spPr>
          <a:xfrm>
            <a:off x="3432240" y="169704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306" name="Line 5"/>
          <p:cNvSpPr/>
          <p:nvPr/>
        </p:nvSpPr>
        <p:spPr>
          <a:xfrm flipV="1">
            <a:off x="3703680" y="2081160"/>
            <a:ext cx="3556080" cy="357048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6599160" y="3056040"/>
          <a:ext cx="1263600" cy="44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99160" y="3056040"/>
                    <a:ext cx="12636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7"/>
          <p:cNvSpPr/>
          <p:nvPr/>
        </p:nvSpPr>
        <p:spPr>
          <a:xfrm>
            <a:off x="525960" y="341460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284560" y="340668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-3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90600" y="26193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ый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29200" y="44100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2321640" y="44020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0;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095560" y="33465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2103480" y="43257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Назовите координаты точек пересечения графика данной функции с осями координат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7" name="Picture 5" descr="koord"/>
          <p:cNvPicPr/>
          <p:nvPr/>
        </p:nvPicPr>
        <p:blipFill>
          <a:blip r:embed="rId1"/>
          <a:stretch/>
        </p:blipFill>
        <p:spPr>
          <a:xfrm>
            <a:off x="3352680" y="19810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318" name="Line 6"/>
          <p:cNvSpPr/>
          <p:nvPr/>
        </p:nvSpPr>
        <p:spPr>
          <a:xfrm>
            <a:off x="3673440" y="3813120"/>
            <a:ext cx="4210200" cy="207648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7"/>
          <p:cNvGraphicFramePr/>
          <p:nvPr/>
        </p:nvGraphicFramePr>
        <p:xfrm>
          <a:off x="3703680" y="3287880"/>
          <a:ext cx="1660320" cy="39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3680" y="3287880"/>
                    <a:ext cx="16603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8"/>
          <p:cNvSpPr/>
          <p:nvPr/>
        </p:nvSpPr>
        <p:spPr>
          <a:xfrm>
            <a:off x="525960" y="341460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2280600" y="340668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-4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90600" y="26193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ый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29200" y="44100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2256840" y="4402080"/>
            <a:ext cx="867960" cy="398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0;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095560" y="33465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2103480" y="43257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Назовите координаты точек пересечения графика данной функции с осями координат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9" name="Picture 5" descr="koord"/>
          <p:cNvPicPr/>
          <p:nvPr/>
        </p:nvPicPr>
        <p:blipFill>
          <a:blip r:embed="rId1"/>
          <a:stretch/>
        </p:blipFill>
        <p:spPr>
          <a:xfrm>
            <a:off x="3352680" y="19810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330" name="Line 6"/>
          <p:cNvSpPr/>
          <p:nvPr/>
        </p:nvSpPr>
        <p:spPr>
          <a:xfrm flipV="1">
            <a:off x="5530680" y="2319480"/>
            <a:ext cx="1379880" cy="41796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7"/>
          <p:cNvGraphicFramePr/>
          <p:nvPr/>
        </p:nvGraphicFramePr>
        <p:xfrm>
          <a:off x="5983200" y="5103720"/>
          <a:ext cx="120024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83200" y="5103720"/>
                    <a:ext cx="12002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8"/>
          <p:cNvSpPr/>
          <p:nvPr/>
        </p:nvSpPr>
        <p:spPr>
          <a:xfrm>
            <a:off x="525960" y="341460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266920" y="34066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2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390600" y="26193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ый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529200" y="44100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2274120" y="440208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0; 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РЕНЕ    ДЕ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9" name="Рисунок 2" descr=""/>
          <p:cNvPicPr/>
          <p:nvPr/>
        </p:nvPicPr>
        <p:blipFill>
          <a:blip r:embed="rId1"/>
          <a:stretch/>
        </p:blipFill>
        <p:spPr>
          <a:xfrm>
            <a:off x="2771640" y="1752480"/>
            <a:ext cx="34498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74320" y="290160"/>
            <a:ext cx="779292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ы графики функций ви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пределите по графику знаки коэффициент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070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719280" y="1203480"/>
            <a:ext cx="2239920" cy="2100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2"/>
          <a:srcRect l="36587" t="33859" r="51785" b="47867"/>
          <a:stretch/>
        </p:blipFill>
        <p:spPr>
          <a:xfrm>
            <a:off x="3963960" y="1314360"/>
            <a:ext cx="2070000" cy="2038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3"/>
          <a:stretch/>
        </p:blipFill>
        <p:spPr>
          <a:xfrm>
            <a:off x="647640" y="3879720"/>
            <a:ext cx="2541600" cy="2259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"/>
          <p:cNvPicPr/>
          <p:nvPr/>
        </p:nvPicPr>
        <p:blipFill>
          <a:blip r:embed="rId4"/>
          <a:srcRect l="36587" t="32858" r="51785" b="50503"/>
          <a:stretch/>
        </p:blipFill>
        <p:spPr>
          <a:xfrm>
            <a:off x="6392880" y="2625840"/>
            <a:ext cx="2090880" cy="1903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"/>
          <p:cNvPicPr/>
          <p:nvPr/>
        </p:nvPicPr>
        <p:blipFill>
          <a:blip r:embed="rId5"/>
          <a:stretch/>
        </p:blipFill>
        <p:spPr>
          <a:xfrm>
            <a:off x="4281480" y="3954600"/>
            <a:ext cx="22604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61920" y="5481720"/>
            <a:ext cx="77961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4708440" y="458640"/>
            <a:ext cx="2832120" cy="4318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809640" y="465120"/>
            <a:ext cx="28195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597960" y="633240"/>
            <a:ext cx="7463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йте функцию, график кот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араллелен прямой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 = - 8х +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араллелен прямой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 =  5х +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ходит через начало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ересекает прямую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 = - 2х -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1720" y="122400"/>
            <a:ext cx="6929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координаты точки пересечения графиков линейных функций: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11200" y="1727280"/>
            <a:ext cx="6958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 =  х + 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и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 =  7- 2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ОТВЕТ:   (1; 5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3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</cp:lastModifiedBy>
  <dcterms:modified xsi:type="dcterms:W3CDTF">2011-11-16T13:03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