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458-CADF-4118-B45F-D4776FF0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F08-55B5-490E-A6DC-522B8AD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AC6-A428-442F-8999-B08DFA4A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2B5-D2F7-4133-95E1-DB08E0B8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EC54-15CD-4400-8739-D3D66B52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B921-C6E0-468F-9D74-9CE347C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E3D1-733C-40EE-9A85-1709458E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55E3-3C67-42E8-866F-8B069692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05BC-B3B0-4794-8EC9-D40A8EB5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284-D1B5-4F18-AF37-4052E98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9A9-BFA6-4F4B-BAF9-B58C908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3B1-21F5-4C8D-B369-E41CC07A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8A41-1843-43DB-A16B-3A392D3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D0CC-91EB-4E62-8C9F-86DB42C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83C-EA1B-4D6C-ADEF-7AD241B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E9F4-EB12-4797-B101-0F699696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1593-FA7C-46F4-98A7-C5E5AE36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FB27-44CC-4755-A3C0-B3ACB18D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4E39-D605-4213-B904-03429771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F39C-10BF-4CF4-8B41-1BA080A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A002-B417-4818-A7FD-63FC2A8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4B6E-659A-48C0-933D-64A719F6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BA2-3CBC-4124-9230-28F63B4B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0C05-7EBB-4AF2-AE80-9458A6E6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F69A-5B10-4F21-BE46-14F63F4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AA5B-A171-4399-8354-1D8F22A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FA4A-8549-4F66-B24C-157D802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32CC-B351-4BDB-9E42-189D663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2824F-0423-4D63-A1D4-E895D37D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38BE-DBA2-45A5-931F-B5FB08B0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0BAA-008D-42A2-AED7-C737EC22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9A14-193F-417D-8CEC-87BE26A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A0F4-8666-4319-8DED-B7B9566C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01F-66C9-448E-9E35-6FD2BEA9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5C7D-8720-420D-8E4C-65D3278F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FC23C-593A-4E2E-9359-14F5BC7A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802F-E84F-42A2-82A2-2820BA24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50D1-9462-4BFD-9EB6-6AF47A1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7733-49A9-47A7-8EC8-5364E0C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5C49-5435-4E30-892B-3439E6F0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67F0-20E1-4BEB-A8E1-980E1FEE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D037-6641-4811-9F43-6465D077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D57F-A62F-4420-B222-ECE0A0C5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CC9-4B74-4B1F-BCE6-BABC2AB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E86-99CD-4291-BDAB-22C876BC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7B1-A407-468E-92AB-5528236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D04-11C8-41C3-A2A7-11ACD40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46B-FA36-491E-BD8C-F48D29E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8289-35BC-4AA9-B110-2DA8EED61B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960-6CF3-415E-98C1-FDA5CB917D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4D5D-F986-4881-ACD3-CA68FAA9C0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3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4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5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4894-18EB-475D-A2F0-0B5B774912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38280"/>
            <a:ext cx="6053040" cy="18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Линейная функция и </a:t>
            </a: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ее график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94920" y="693360"/>
            <a:ext cx="75819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Функции бывают различные.  Линейную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функцию можно задать формулой у=кх+вх.  Графиком линейной функции является прямая, обязательно проходящая через начало координат. Для построения графика функции надо найти координаты нескольких точек, отметить их на координатной прямой и соединить эти точки отрезком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5313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рименение знаний  о линейной функции на практик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4040" y="1593360"/>
            <a:ext cx="82296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 Велосипедист движется со скоростью 10 км/ч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 формулу его пу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время движ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При начале нагревания вода в кипятильнике имела  температуру 6 градусов. При нагревании температура воды повышалась каждую минуту на 2 градусов. Напишите формулу, выражающую изменение температур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ды в зависимости от времен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ее нагр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)  Скорость распространения звука в воздухе в зависимости от температуры может быть найдена по формуле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331 +0,6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рость ( в м/с) 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температура ( в градусах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вет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98560" y="1576440"/>
          <a:ext cx="7362720" cy="2795400"/>
        </p:xfrm>
        <a:graphic>
          <a:graphicData uri="http://schemas.openxmlformats.org/drawingml/2006/table">
            <a:tbl>
              <a:tblPr/>
              <a:tblGrid>
                <a:gridCol w="3681360"/>
                <a:gridCol w="368136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вари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 вариан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0,5;  4,5)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 1/3; -2/3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1)=-4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2)=-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2)=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-1)=-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2095560" y="33465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2103480" y="43257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овите координаты точек пересечения графика данной функции с осями координат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5" name="Picture 4" descr="koord"/>
          <p:cNvPicPr/>
          <p:nvPr/>
        </p:nvPicPr>
        <p:blipFill>
          <a:blip r:embed="rId1"/>
          <a:stretch/>
        </p:blipFill>
        <p:spPr>
          <a:xfrm>
            <a:off x="3432240" y="169704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306" name="Line 5"/>
          <p:cNvSpPr/>
          <p:nvPr/>
        </p:nvSpPr>
        <p:spPr>
          <a:xfrm flipV="1">
            <a:off x="3703680" y="2081160"/>
            <a:ext cx="3556080" cy="357048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6599160" y="3056040"/>
          <a:ext cx="1263600" cy="4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99160" y="3056040"/>
                    <a:ext cx="12636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7"/>
          <p:cNvSpPr/>
          <p:nvPr/>
        </p:nvSpPr>
        <p:spPr>
          <a:xfrm>
            <a:off x="525960" y="34146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284560" y="34066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-3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90600" y="2619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29200" y="44100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2321640" y="44020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0;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095560" y="33465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2103480" y="43257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овите координаты точек пересечения графика данной функции с осями координат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7" name="Picture 5" descr="koord"/>
          <p:cNvPicPr/>
          <p:nvPr/>
        </p:nvPicPr>
        <p:blipFill>
          <a:blip r:embed="rId1"/>
          <a:stretch/>
        </p:blipFill>
        <p:spPr>
          <a:xfrm>
            <a:off x="3352680" y="19810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318" name="Line 6"/>
          <p:cNvSpPr/>
          <p:nvPr/>
        </p:nvSpPr>
        <p:spPr>
          <a:xfrm>
            <a:off x="3673440" y="3813120"/>
            <a:ext cx="4210200" cy="2076480"/>
          </a:xfrm>
          <a:prstGeom prst="line">
            <a:avLst/>
          </a:prstGeom>
          <a:ln w="284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7"/>
          <p:cNvGraphicFramePr/>
          <p:nvPr/>
        </p:nvGraphicFramePr>
        <p:xfrm>
          <a:off x="3703680" y="3287880"/>
          <a:ext cx="1660320" cy="39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3680" y="3287880"/>
                    <a:ext cx="16603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8"/>
          <p:cNvSpPr/>
          <p:nvPr/>
        </p:nvSpPr>
        <p:spPr>
          <a:xfrm>
            <a:off x="525960" y="34146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2280600" y="34066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-4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90600" y="2619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529200" y="44100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256840" y="4402080"/>
            <a:ext cx="867960" cy="398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0;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095560" y="33465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2103480" y="4325760"/>
            <a:ext cx="1117440" cy="581040"/>
          </a:xfrm>
          <a:prstGeom prst="rect">
            <a:avLst/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Назовите координаты точек пересечения графика данной функции с осями координат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Picture 5" descr="koord"/>
          <p:cNvPicPr/>
          <p:nvPr/>
        </p:nvPicPr>
        <p:blipFill>
          <a:blip r:embed="rId1"/>
          <a:stretch/>
        </p:blipFill>
        <p:spPr>
          <a:xfrm>
            <a:off x="3352680" y="19810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330" name="Line 6"/>
          <p:cNvSpPr/>
          <p:nvPr/>
        </p:nvSpPr>
        <p:spPr>
          <a:xfrm flipV="1">
            <a:off x="5530680" y="2319480"/>
            <a:ext cx="1379880" cy="41796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7"/>
          <p:cNvGraphicFramePr/>
          <p:nvPr/>
        </p:nvGraphicFramePr>
        <p:xfrm>
          <a:off x="5983200" y="5103720"/>
          <a:ext cx="120024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3200" y="5103720"/>
                    <a:ext cx="12002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8"/>
          <p:cNvSpPr/>
          <p:nvPr/>
        </p:nvSpPr>
        <p:spPr>
          <a:xfrm>
            <a:off x="525960" y="34146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266920" y="34066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2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390600" y="26193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29200" y="44100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сью О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2274120" y="440208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(0; 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РЕНЕ    ДЕ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Рисунок 2" descr=""/>
          <p:cNvPicPr/>
          <p:nvPr/>
        </p:nvPicPr>
        <p:blipFill>
          <a:blip r:embed="rId1"/>
          <a:stretch/>
        </p:blipFill>
        <p:spPr>
          <a:xfrm>
            <a:off x="2771640" y="1752480"/>
            <a:ext cx="3449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4320" y="290160"/>
            <a:ext cx="77929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ы графики функций ви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пределите по графику знаки коэффициент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070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719280" y="1203480"/>
            <a:ext cx="2239920" cy="2100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rcRect l="36587" t="33859" r="51785" b="47867"/>
          <a:stretch/>
        </p:blipFill>
        <p:spPr>
          <a:xfrm>
            <a:off x="3963960" y="1314360"/>
            <a:ext cx="2070000" cy="2038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3"/>
          <a:stretch/>
        </p:blipFill>
        <p:spPr>
          <a:xfrm>
            <a:off x="647640" y="3879720"/>
            <a:ext cx="2541600" cy="2259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"/>
          <p:cNvPicPr/>
          <p:nvPr/>
        </p:nvPicPr>
        <p:blipFill>
          <a:blip r:embed="rId4"/>
          <a:srcRect l="36587" t="32858" r="51785" b="50503"/>
          <a:stretch/>
        </p:blipFill>
        <p:spPr>
          <a:xfrm>
            <a:off x="6392880" y="2625840"/>
            <a:ext cx="2090880" cy="1903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"/>
          <p:cNvPicPr/>
          <p:nvPr/>
        </p:nvPicPr>
        <p:blipFill>
          <a:blip r:embed="rId5"/>
          <a:stretch/>
        </p:blipFill>
        <p:spPr>
          <a:xfrm>
            <a:off x="4281480" y="3954600"/>
            <a:ext cx="22604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61920" y="5481720"/>
            <a:ext cx="77961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4708440" y="458640"/>
            <a:ext cx="2832120" cy="4318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809640" y="465120"/>
            <a:ext cx="28195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97960" y="633240"/>
            <a:ext cx="7463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йте функцию, график кот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ллелен прямой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= - 8х +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ллелен прямой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=  5х +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ходит через начало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ересекает прямую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= - 2х -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720" y="122400"/>
            <a:ext cx="6929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координаты точки пересечения графиков линейных функций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11200" y="1727280"/>
            <a:ext cx="6958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=  х + 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и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=  7- 2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ОТВЕТ:   (1; 5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3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</cp:lastModifiedBy>
  <dcterms:modified xsi:type="dcterms:W3CDTF">2011-11-16T13:03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