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2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7.jpeg" ContentType="image/jpeg"/>
  <Override PartName="/ppt/media/image18.png" ContentType="image/pn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1F49-94EE-4D5A-9739-5DB6DC593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D61C-3216-45A2-A3E2-F30A7EF4E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3807-EC77-4596-9B44-1FDAEBABB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8A0C-ED1B-4A26-A24C-C504539F0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C657-DEE6-4B84-BC05-8B9DC7540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9AB9-A1C6-40EA-B292-26C561968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672A-9B1D-4825-B96A-87677718E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C868-EBDE-402E-AE41-6D68E6F60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22AF-97D3-4335-BFBB-B16226B39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2F1F-8B54-4F11-B3B6-82A9AFD9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D5B7-D495-4B4D-8A32-70122420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7677-3FD3-4B33-B7B4-5E00C536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93D7B-A2EB-4B65-B90F-FD3AFE08EF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898920" y="260280"/>
            <a:ext cx="743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цессы видообраз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C:\Users\user\Desktop\видообразование\слайд1.jpg"/>
          <p:cNvPicPr/>
          <p:nvPr/>
        </p:nvPicPr>
        <p:blipFill>
          <a:blip r:embed="rId1"/>
          <a:stretch/>
        </p:blipFill>
        <p:spPr>
          <a:xfrm>
            <a:off x="1763640" y="1009800"/>
            <a:ext cx="568800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614160" y="260280"/>
            <a:ext cx="81709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РАССЕЛЕНИЕ ВИДА НА БОЛЬШУЮ ТЕРРИТОР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1114560" y="6021360"/>
            <a:ext cx="215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дуванчи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карстве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5939280" y="5950080"/>
            <a:ext cx="163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дуванчи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к-сагы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C:\Users\user\Desktop\видообразование\3.jpg"/>
          <p:cNvPicPr/>
          <p:nvPr/>
        </p:nvPicPr>
        <p:blipFill>
          <a:blip r:embed="rId1"/>
          <a:stretch/>
        </p:blipFill>
        <p:spPr>
          <a:xfrm>
            <a:off x="755640" y="692280"/>
            <a:ext cx="3676680" cy="5352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C:\Users\user\Desktop\видообразование\4.jpg"/>
          <p:cNvPicPr/>
          <p:nvPr/>
        </p:nvPicPr>
        <p:blipFill>
          <a:blip r:embed="rId2"/>
          <a:stretch/>
        </p:blipFill>
        <p:spPr>
          <a:xfrm>
            <a:off x="4788000" y="765000"/>
            <a:ext cx="37908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"/>
          <p:cNvSpPr/>
          <p:nvPr/>
        </p:nvSpPr>
        <p:spPr>
          <a:xfrm>
            <a:off x="4144320" y="1413360"/>
            <a:ext cx="444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иологичеко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(симпатрическое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идообразовани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755640" y="260280"/>
            <a:ext cx="504720" cy="48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C:\Users\user\Desktop\видообразование\5.jpg"/>
          <p:cNvPicPr/>
          <p:nvPr/>
        </p:nvPicPr>
        <p:blipFill>
          <a:blip r:embed="rId1"/>
          <a:stretch/>
        </p:blipFill>
        <p:spPr>
          <a:xfrm>
            <a:off x="539640" y="404640"/>
            <a:ext cx="3543480" cy="613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1742040" y="160200"/>
            <a:ext cx="553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КОЛОГИЧЕСКИЕ РА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395280" y="5732640"/>
            <a:ext cx="326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лгонос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льшой соснов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9" descr=""/>
          <p:cNvPicPr/>
          <p:nvPr/>
        </p:nvPicPr>
        <p:blipFill>
          <a:blip r:embed="rId1"/>
          <a:srcRect l="0" t="0" r="64846" b="9724"/>
          <a:stretch/>
        </p:blipFill>
        <p:spPr>
          <a:xfrm>
            <a:off x="6012000" y="1052640"/>
            <a:ext cx="2087280" cy="48243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0"/>
          <p:cNvSpPr/>
          <p:nvPr/>
        </p:nvSpPr>
        <p:spPr>
          <a:xfrm>
            <a:off x="5365440" y="6020280"/>
            <a:ext cx="351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лгоносик дубов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7524720" y="1125360"/>
            <a:ext cx="647640" cy="10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C:\Users\user\Desktop\видообразование\Untitled-6.jpg"/>
          <p:cNvPicPr/>
          <p:nvPr/>
        </p:nvPicPr>
        <p:blipFill>
          <a:blip r:embed="rId2"/>
          <a:stretch/>
        </p:blipFill>
        <p:spPr>
          <a:xfrm>
            <a:off x="1187280" y="907920"/>
            <a:ext cx="249084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539640" y="218160"/>
            <a:ext cx="793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ЫСТРОЕ ИЗМЕНЕНИЕ ГЕНОТИ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Плоды сливы"/>
          <p:cNvPicPr/>
          <p:nvPr/>
        </p:nvPicPr>
        <p:blipFill>
          <a:blip r:embed="rId1"/>
          <a:stretch/>
        </p:blipFill>
        <p:spPr>
          <a:xfrm>
            <a:off x="6419880" y="2276640"/>
            <a:ext cx="2724120" cy="2943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6"/>
          <p:cNvSpPr/>
          <p:nvPr/>
        </p:nvSpPr>
        <p:spPr>
          <a:xfrm>
            <a:off x="468360" y="907920"/>
            <a:ext cx="7920000" cy="10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бридизации с последующе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иплоиди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тем гибридизации терна и алычи с последующей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иплоиди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возникла культурная сли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6373080" y="5661000"/>
            <a:ext cx="23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оды слив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Плоды алычи"/>
          <p:cNvPicPr/>
          <p:nvPr/>
        </p:nvPicPr>
        <p:blipFill>
          <a:blip r:embed="rId2"/>
          <a:stretch/>
        </p:blipFill>
        <p:spPr>
          <a:xfrm>
            <a:off x="2843280" y="2924280"/>
            <a:ext cx="3097080" cy="22636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9"/>
          <p:cNvSpPr/>
          <p:nvPr/>
        </p:nvSpPr>
        <p:spPr>
          <a:xfrm>
            <a:off x="3132000" y="5373720"/>
            <a:ext cx="23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оды алыч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" descr="Плоды терна"/>
          <p:cNvPicPr/>
          <p:nvPr/>
        </p:nvPicPr>
        <p:blipFill>
          <a:blip r:embed="rId3"/>
          <a:stretch/>
        </p:blipFill>
        <p:spPr>
          <a:xfrm>
            <a:off x="324000" y="2133720"/>
            <a:ext cx="2016000" cy="367344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11"/>
          <p:cNvSpPr/>
          <p:nvPr/>
        </p:nvSpPr>
        <p:spPr>
          <a:xfrm>
            <a:off x="468720" y="5877000"/>
            <a:ext cx="22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оды тер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1910160" y="314172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5869440" y="321300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600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800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8000"/>
                            </p:stCondLst>
                            <p:childTnLst>
                              <p:par>
                                <p:cTn id="2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179280" y="5157720"/>
            <a:ext cx="8640720" cy="13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дообразование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качественный этап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волюционного процесс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179280" y="260280"/>
            <a:ext cx="878544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дообразова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цесс возникнов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вых ви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1"/>
          <a:srcRect l="0" t="0" r="3512" b="4503"/>
          <a:stretch/>
        </p:blipFill>
        <p:spPr>
          <a:xfrm>
            <a:off x="179280" y="1916280"/>
            <a:ext cx="2881440" cy="2592360"/>
          </a:xfrm>
          <a:prstGeom prst="rect">
            <a:avLst/>
          </a:prstGeom>
          <a:ln w="76320">
            <a:solidFill>
              <a:srgbClr val="663300"/>
            </a:solidFill>
            <a:miter/>
          </a:ln>
        </p:spPr>
      </p:pic>
      <p:pic>
        <p:nvPicPr>
          <p:cNvPr id="46" name="Picture 7" descr=""/>
          <p:cNvPicPr/>
          <p:nvPr/>
        </p:nvPicPr>
        <p:blipFill>
          <a:blip r:embed="rId2"/>
          <a:srcRect l="0" t="0" r="0" b="4165"/>
          <a:stretch/>
        </p:blipFill>
        <p:spPr>
          <a:xfrm>
            <a:off x="6084720" y="1916280"/>
            <a:ext cx="2862360" cy="2592360"/>
          </a:xfrm>
          <a:prstGeom prst="rect">
            <a:avLst/>
          </a:prstGeom>
          <a:ln w="76320">
            <a:solidFill>
              <a:srgbClr val="663300"/>
            </a:solidFill>
            <a:miter/>
          </a:ln>
        </p:spPr>
      </p:pic>
      <p:pic>
        <p:nvPicPr>
          <p:cNvPr id="47" name="Picture 9" descr=""/>
          <p:cNvPicPr/>
          <p:nvPr/>
        </p:nvPicPr>
        <p:blipFill>
          <a:blip r:embed="rId3"/>
          <a:srcRect l="2552" t="0" r="0" b="0"/>
          <a:stretch/>
        </p:blipFill>
        <p:spPr>
          <a:xfrm>
            <a:off x="3203640" y="1916280"/>
            <a:ext cx="2730600" cy="2577960"/>
          </a:xfrm>
          <a:prstGeom prst="rect">
            <a:avLst/>
          </a:prstGeom>
          <a:ln w="7632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1045440" y="187920"/>
            <a:ext cx="74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Эрнст Вальтер Майр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324000" y="509076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мериканский ученный эволюционист, который в 1964 году в книге “Популяция, виды, эволюция” выделил основные пути видообраз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C:\Users\user\Desktop\видообразование\слайд2.jpg"/>
          <p:cNvPicPr/>
          <p:nvPr/>
        </p:nvPicPr>
        <p:blipFill>
          <a:blip r:embed="rId1"/>
          <a:stretch/>
        </p:blipFill>
        <p:spPr>
          <a:xfrm>
            <a:off x="1908000" y="1197000"/>
            <a:ext cx="5688360" cy="38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0" y="217080"/>
            <a:ext cx="91440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ВЫЙ ПУТЬ ВИДО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процесс превращения одного вида в другой, трансформация вида-предка в вид-потомок в течение больших отрезков времени без формирования дочерних вид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6012000" y="4149720"/>
            <a:ext cx="2665440" cy="2185920"/>
          </a:xfrm>
          <a:prstGeom prst="rect">
            <a:avLst/>
          </a:prstGeom>
          <a:ln w="76320">
            <a:solidFill>
              <a:srgbClr val="663300"/>
            </a:solidFill>
            <a:miter/>
          </a:ln>
        </p:spPr>
      </p:pic>
      <p:sp>
        <p:nvSpPr>
          <p:cNvPr id="53" name="AutoShape 13"/>
          <p:cNvSpPr/>
          <p:nvPr/>
        </p:nvSpPr>
        <p:spPr>
          <a:xfrm flipV="1">
            <a:off x="1547640" y="4580640"/>
            <a:ext cx="4321440" cy="1295640"/>
          </a:xfrm>
          <a:custGeom>
            <a:avLst/>
            <a:gdLst>
              <a:gd name="textAreaLeft" fmla="*/ 2486160 w 4321440"/>
              <a:gd name="textAreaRight" fmla="*/ 3646800 w 4321440"/>
              <a:gd name="textAreaTop" fmla="*/ 174240 h 1295640"/>
              <a:gd name="textAreaBottom" fmla="*/ 55440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663300"/>
          </a:solidFill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C:\Users\user\Desktop\видообразование\Untitled-9.jpg"/>
          <p:cNvPicPr/>
          <p:nvPr/>
        </p:nvPicPr>
        <p:blipFill>
          <a:blip r:embed="rId2"/>
          <a:stretch/>
        </p:blipFill>
        <p:spPr>
          <a:xfrm>
            <a:off x="395280" y="1989000"/>
            <a:ext cx="3722760" cy="26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611280" y="189000"/>
            <a:ext cx="79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ТОРОЙ ПУТЬ ВИДООБРАЗОВАНИЯ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1423800" y="1125360"/>
            <a:ext cx="6304320" cy="1739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дивергентное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видообразов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410400" y="4005360"/>
            <a:ext cx="4222440" cy="119124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ллопатрическ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географическо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5019480" y="4005360"/>
            <a:ext cx="3980160" cy="1191240"/>
          </a:xfrm>
          <a:prstGeom prst="rect">
            <a:avLst/>
          </a:prstGeom>
          <a:solidFill>
            <a:srgbClr val="ff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импатрическ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биологическ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8"/>
          <p:cNvSpPr/>
          <p:nvPr/>
        </p:nvSpPr>
        <p:spPr>
          <a:xfrm>
            <a:off x="611280" y="1773360"/>
            <a:ext cx="790560" cy="2376360"/>
          </a:xfrm>
          <a:custGeom>
            <a:avLst/>
            <a:gdLst>
              <a:gd name="textAreaLeft" fmla="*/ 105840 w 790560"/>
              <a:gd name="textAreaRight" fmla="*/ 684720 w 790560"/>
              <a:gd name="textAreaTop" fmla="*/ 517320 h 2376360"/>
              <a:gd name="textAreaBottom" fmla="*/ 1859040 h 23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403" stAng="-5400000" swAng="-5400000"/>
                <a:lnTo>
                  <a:pt x="0" y="12197"/>
                </a:lnTo>
                <a:arcTo wR="21600" hR="9403" stAng="10800000" swAng="-1041727"/>
                <a:lnTo>
                  <a:pt x="4056" y="17682"/>
                </a:lnTo>
                <a:lnTo>
                  <a:pt x="21600" y="20203"/>
                </a:lnTo>
                <a:lnTo>
                  <a:pt x="4056" y="14888"/>
                </a:lnTo>
                <a:lnTo>
                  <a:pt x="4056" y="14888"/>
                </a:lnTo>
                <a:arcTo wR="21600" hR="9403" stAng="9758273" swAng="817213"/>
                <a:lnTo>
                  <a:pt x="240" y="10800"/>
                </a:lnTo>
                <a:arcTo wR="21600" hR="9403" stAng="-10575485" swAng="5175485"/>
                <a:close/>
              </a:path>
              <a:path fill="darkenLess" w="21600" h="21600">
                <a:moveTo>
                  <a:pt x="21600" y="0"/>
                </a:moveTo>
                <a:arcTo wR="21600" hR="9403" stAng="-5400000" swAng="-5400000"/>
                <a:lnTo>
                  <a:pt x="0" y="9403"/>
                </a:lnTo>
                <a:arcTo wR="21600" hR="9403" stAng="10800000" swAng="-224515"/>
                <a:lnTo>
                  <a:pt x="240" y="10800"/>
                </a:lnTo>
                <a:arcTo wR="21600" hR="9403" stAng="-10575485" swAng="517548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9"/>
          <p:cNvSpPr/>
          <p:nvPr/>
        </p:nvSpPr>
        <p:spPr>
          <a:xfrm flipH="1">
            <a:off x="7740720" y="1773360"/>
            <a:ext cx="1008000" cy="2376360"/>
          </a:xfrm>
          <a:custGeom>
            <a:avLst/>
            <a:gdLst>
              <a:gd name="textAreaLeft" fmla="*/ 135000 w 1008000"/>
              <a:gd name="textAreaRight" fmla="*/ 873000 w 1008000"/>
              <a:gd name="textAreaTop" fmla="*/ 517320 h 2376360"/>
              <a:gd name="textAreaBottom" fmla="*/ 1859040 h 23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403" stAng="-5400000" swAng="-5400000"/>
                <a:lnTo>
                  <a:pt x="0" y="12197"/>
                </a:lnTo>
                <a:arcTo wR="21600" hR="9403" stAng="10800000" swAng="-1041727"/>
                <a:lnTo>
                  <a:pt x="4056" y="17682"/>
                </a:lnTo>
                <a:lnTo>
                  <a:pt x="21600" y="20203"/>
                </a:lnTo>
                <a:lnTo>
                  <a:pt x="4056" y="14888"/>
                </a:lnTo>
                <a:lnTo>
                  <a:pt x="4056" y="14888"/>
                </a:lnTo>
                <a:arcTo wR="21600" hR="9403" stAng="9758273" swAng="817213"/>
                <a:lnTo>
                  <a:pt x="240" y="10800"/>
                </a:lnTo>
                <a:arcTo wR="21600" hR="9403" stAng="-10575485" swAng="5175485"/>
                <a:close/>
              </a:path>
              <a:path fill="darkenLess" w="21600" h="21600">
                <a:moveTo>
                  <a:pt x="21600" y="0"/>
                </a:moveTo>
                <a:arcTo wR="21600" hR="9403" stAng="-5400000" swAng="-5400000"/>
                <a:lnTo>
                  <a:pt x="0" y="9403"/>
                </a:lnTo>
                <a:arcTo wR="21600" hR="9403" stAng="10800000" swAng="-224515"/>
                <a:lnTo>
                  <a:pt x="240" y="10800"/>
                </a:lnTo>
                <a:arcTo wR="21600" hR="9403" stAng="-10575485" swAng="517548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6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8000"/>
                            </p:stCondLst>
                            <p:childTnLst>
                              <p:par>
                                <p:cTn id="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2068200" y="260280"/>
            <a:ext cx="4862520" cy="22269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ИКРОЭВОЛЮЦ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волюционные процесс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текающие в популяция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осно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405360" y="3357720"/>
            <a:ext cx="3670560" cy="106884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следствен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менчив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5148360" y="3357720"/>
            <a:ext cx="3671640" cy="106884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тествен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б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2937960" y="4941720"/>
            <a:ext cx="3507480" cy="17398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тог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разо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овых вид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9"/>
          <p:cNvSpPr/>
          <p:nvPr/>
        </p:nvSpPr>
        <p:spPr>
          <a:xfrm flipV="1">
            <a:off x="2268360" y="2492280"/>
            <a:ext cx="2087640" cy="865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0"/>
          <p:cNvSpPr/>
          <p:nvPr/>
        </p:nvSpPr>
        <p:spPr>
          <a:xfrm flipH="1" flipV="1">
            <a:off x="5003640" y="2492280"/>
            <a:ext cx="1944720" cy="865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1"/>
          <p:cNvSpPr/>
          <p:nvPr/>
        </p:nvSpPr>
        <p:spPr>
          <a:xfrm>
            <a:off x="2268360" y="4437000"/>
            <a:ext cx="223236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2"/>
          <p:cNvSpPr/>
          <p:nvPr/>
        </p:nvSpPr>
        <p:spPr>
          <a:xfrm flipH="1">
            <a:off x="4858920" y="4437000"/>
            <a:ext cx="223380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5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6500"/>
                            </p:stCondLst>
                            <p:childTnLst>
                              <p:par>
                                <p:cTn id="1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700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75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rcRect l="0" t="0" r="52392" b="0"/>
          <a:stretch/>
        </p:blipFill>
        <p:spPr>
          <a:xfrm>
            <a:off x="539640" y="333360"/>
            <a:ext cx="3456000" cy="630864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3"/>
          <p:cNvSpPr/>
          <p:nvPr/>
        </p:nvSpPr>
        <p:spPr>
          <a:xfrm>
            <a:off x="4354200" y="944640"/>
            <a:ext cx="4577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еографическо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(аллопатрическое)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идообразов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т латинских сл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allo - раз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 patria - роди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468360" y="404640"/>
            <a:ext cx="503280" cy="5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Oval 14"/>
          <p:cNvSpPr/>
          <p:nvPr/>
        </p:nvSpPr>
        <p:spPr>
          <a:xfrm>
            <a:off x="5508720" y="2205000"/>
            <a:ext cx="2665440" cy="93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27600" y="189000"/>
            <a:ext cx="8661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СТРАНСТВЕННО-ТЕРРИТОРИАЛЬНАЯ ИЗОЛЯ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6"/>
          <p:cNvSpPr/>
          <p:nvPr/>
        </p:nvSpPr>
        <p:spPr>
          <a:xfrm>
            <a:off x="5508720" y="907920"/>
            <a:ext cx="266544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6732720" y="1916280"/>
            <a:ext cx="28872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178920" y="981000"/>
            <a:ext cx="445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ходная популя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470160" y="2205000"/>
            <a:ext cx="420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чало видообразов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ирование барь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16"/>
          <p:cNvSpPr/>
          <p:nvPr/>
        </p:nvSpPr>
        <p:spPr>
          <a:xfrm>
            <a:off x="5580000" y="3500280"/>
            <a:ext cx="266544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2"/>
          <p:cNvSpPr/>
          <p:nvPr/>
        </p:nvSpPr>
        <p:spPr>
          <a:xfrm>
            <a:off x="6659640" y="3357720"/>
            <a:ext cx="43164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7"/>
          <p:cNvSpPr/>
          <p:nvPr/>
        </p:nvSpPr>
        <p:spPr>
          <a:xfrm>
            <a:off x="180720" y="3500280"/>
            <a:ext cx="512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никновение репродуктив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оля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18"/>
          <p:cNvSpPr/>
          <p:nvPr/>
        </p:nvSpPr>
        <p:spPr>
          <a:xfrm>
            <a:off x="6227640" y="5013360"/>
            <a:ext cx="2665440" cy="9144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9"/>
          <p:cNvSpPr/>
          <p:nvPr/>
        </p:nvSpPr>
        <p:spPr>
          <a:xfrm>
            <a:off x="4788000" y="5013360"/>
            <a:ext cx="266544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0"/>
          <p:cNvSpPr/>
          <p:nvPr/>
        </p:nvSpPr>
        <p:spPr>
          <a:xfrm>
            <a:off x="682560" y="4941720"/>
            <a:ext cx="3819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верш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до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1"/>
          <p:cNvSpPr/>
          <p:nvPr/>
        </p:nvSpPr>
        <p:spPr>
          <a:xfrm>
            <a:off x="4643280" y="126828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2"/>
          <p:cNvSpPr/>
          <p:nvPr/>
        </p:nvSpPr>
        <p:spPr>
          <a:xfrm>
            <a:off x="4716360" y="263700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3"/>
          <p:cNvSpPr/>
          <p:nvPr/>
        </p:nvSpPr>
        <p:spPr>
          <a:xfrm>
            <a:off x="4716360" y="4005360"/>
            <a:ext cx="790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4"/>
          <p:cNvSpPr/>
          <p:nvPr/>
        </p:nvSpPr>
        <p:spPr>
          <a:xfrm>
            <a:off x="3924360" y="5445000"/>
            <a:ext cx="79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7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90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70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9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1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1" descr=""/>
          <p:cNvPicPr/>
          <p:nvPr/>
        </p:nvPicPr>
        <p:blipFill>
          <a:blip r:embed="rId1"/>
          <a:srcRect l="49140" t="56573" r="4221" b="18952"/>
          <a:stretch/>
        </p:blipFill>
        <p:spPr>
          <a:xfrm>
            <a:off x="6478560" y="5516640"/>
            <a:ext cx="2665440" cy="934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"/>
          <p:cNvPicPr/>
          <p:nvPr/>
        </p:nvPicPr>
        <p:blipFill>
          <a:blip r:embed="rId2"/>
          <a:srcRect l="48346" t="0" r="0" b="52870"/>
          <a:stretch/>
        </p:blipFill>
        <p:spPr>
          <a:xfrm>
            <a:off x="5003640" y="4365720"/>
            <a:ext cx="2162160" cy="1319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"/>
          <p:cNvPicPr/>
          <p:nvPr/>
        </p:nvPicPr>
        <p:blipFill>
          <a:blip r:embed="rId3"/>
          <a:srcRect l="0" t="59231" r="55919" b="6814"/>
          <a:stretch/>
        </p:blipFill>
        <p:spPr>
          <a:xfrm>
            <a:off x="2124000" y="4221000"/>
            <a:ext cx="2519280" cy="1297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"/>
          <p:cNvPicPr/>
          <p:nvPr/>
        </p:nvPicPr>
        <p:blipFill>
          <a:blip r:embed="rId4"/>
          <a:srcRect l="0" t="0" r="50866" b="41570"/>
          <a:stretch/>
        </p:blipFill>
        <p:spPr>
          <a:xfrm>
            <a:off x="324000" y="3645000"/>
            <a:ext cx="2016000" cy="16034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12"/>
          <p:cNvSpPr/>
          <p:nvPr/>
        </p:nvSpPr>
        <p:spPr>
          <a:xfrm>
            <a:off x="181800" y="476280"/>
            <a:ext cx="3382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нообраз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рвиновск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ьюрк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Галапагосск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тров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C:\Users\user\Desktop\видообразование\Untitled-8.jpg"/>
          <p:cNvPicPr/>
          <p:nvPr/>
        </p:nvPicPr>
        <p:blipFill>
          <a:blip r:embed="rId5"/>
          <a:stretch/>
        </p:blipFill>
        <p:spPr>
          <a:xfrm>
            <a:off x="3635280" y="549360"/>
            <a:ext cx="52596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40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60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5T16:00:47Z</dcterms:created>
  <dc:creator>Лариса</dc:creator>
  <dc:description/>
  <dc:language>en-US</dc:language>
  <cp:lastModifiedBy>user</cp:lastModifiedBy>
  <dcterms:modified xsi:type="dcterms:W3CDTF">2011-11-30T17:39:36Z</dcterms:modified>
  <cp:revision>26</cp:revision>
  <dc:subject/>
  <dc:title>Слайд 1</dc:title>
</cp:coreProperties>
</file>