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5F1-DF1E-4843-82D3-9DB6789A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E70-C07B-4B68-AD9C-75B5727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33F-3356-4FBC-BAE3-D7FD2428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509-96C7-435E-953E-461E45C3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8FC-7266-492B-8FB4-11AB9637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DAB-EAAA-4A4C-B41D-F40AF455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A94-DEFE-4F2F-A170-B3DDC6FE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77C-807E-4EC1-8DDE-F609F6C9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F5D-964C-402D-8154-90AFF0F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3B7-EDE8-44C8-9D65-4C3A4E7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D8F-7F1F-4D65-ABB9-FE39967C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493-E154-40AE-8CDB-A6E7738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8A79-32E8-40E3-9BA5-53A568828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7;&#1086;&#1076;&#1077;&#1088;&#1078;&#1072;&#1085;&#1080;&#1077;.ppt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64008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Понятие – «проекц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ОО Технология,  5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1989000"/>
            <a:ext cx="756108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Элементы  графиче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рамот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" name="Homepage"/>
          <p:cNvSpPr/>
          <p:nvPr/>
        </p:nvSpPr>
        <p:spPr>
          <a:xfrm>
            <a:off x="7093080" y="4437000"/>
            <a:ext cx="1361880" cy="1876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4508640"/>
            <a:ext cx="1368720" cy="720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нятие «проекция» произошло от латинского слова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ojecti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бросание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екцией называется изображение какого – либо предмета на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5157720"/>
            <a:ext cx="1441440" cy="1224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5805360"/>
            <a:ext cx="358560" cy="576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797360"/>
            <a:ext cx="1368360" cy="720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411280" y="4508640"/>
            <a:ext cx="36036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58920" y="522936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158000">
            <a:off x="2700000" y="4581360"/>
            <a:ext cx="493560" cy="87480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4581360"/>
            <a:ext cx="142920" cy="432000"/>
          </a:xfrm>
          <a:prstGeom prst="cube">
            <a:avLst>
              <a:gd name="adj" fmla="val 25000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797360"/>
            <a:ext cx="358920" cy="35892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cument"/>
          <p:cNvSpPr/>
          <p:nvPr/>
        </p:nvSpPr>
        <p:spPr>
          <a:xfrm>
            <a:off x="4859280" y="4508640"/>
            <a:ext cx="1382760" cy="1871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Homepage"/>
          <p:cNvSpPr/>
          <p:nvPr/>
        </p:nvSpPr>
        <p:spPr>
          <a:xfrm>
            <a:off x="4859280" y="4508640"/>
            <a:ext cx="1362240" cy="1876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502000">
            <a:off x="2916360" y="5661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9306E-006 L 0.1592 -0.07722 E">
                                      <p:cBhvr>
                                        <p:cTn id="211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Проек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правилам черчения предметы изображают с помощью проекций, которые называют видами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вный вид (чаще всего – вид спереди); вид сверху; вид снизу; вид слева; вид спра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чертеже следует поместить столько проекций (видов), сколько необходимо для полного представления о форме и строении изображаемого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2781360"/>
            <a:ext cx="1224000" cy="0"/>
          </a:xfrm>
          <a:prstGeom prst="line">
            <a:avLst/>
          </a:prstGeom>
          <a:ln cap="rnd" w="3816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5472720" y="4975920"/>
            <a:ext cx="934920" cy="288720"/>
          </a:xfrm>
          <a:prstGeom prst="flowChartInputOutpu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Расположение видов на чертеже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(деталь призматической фор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Главный вид (вид спере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Вид сверх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557360"/>
            <a:ext cx="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3789360"/>
            <a:ext cx="820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 rot="10800000">
            <a:off x="5724360" y="4364640"/>
            <a:ext cx="1873440" cy="1368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341360"/>
            <a:ext cx="6120000" cy="0"/>
          </a:xfrm>
          <a:prstGeom prst="line">
            <a:avLst/>
          </a:prstGeom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4724280"/>
            <a:ext cx="1440000" cy="9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4869000"/>
            <a:ext cx="719280" cy="50472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2060640"/>
            <a:ext cx="15825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4000" y="2421000"/>
            <a:ext cx="719280" cy="50472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4646000">
            <a:off x="6200640" y="3887640"/>
            <a:ext cx="846360" cy="1224000"/>
          </a:xfrm>
          <a:prstGeom prst="parallelogram">
            <a:avLst>
              <a:gd name="adj" fmla="val 6856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4437000"/>
            <a:ext cx="1008360" cy="21600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4581360"/>
            <a:ext cx="1584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4653000"/>
            <a:ext cx="1008000" cy="72072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3141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314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959800">
            <a:off x="5724360" y="4652640"/>
            <a:ext cx="287640" cy="7700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206064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959800">
            <a:off x="5866920" y="2276640"/>
            <a:ext cx="790560" cy="60156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162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Вид с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06064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141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2948E-006 L -0.48038 -0.36716 E">
                                      <p:cBhvr>
                                        <p:cTn id="29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46458 0.07352 E">
                                      <p:cBhvr>
                                        <p:cTn id="33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3988E-006 L 0.04723 -0.36161 E">
                                      <p:cBhvr>
                                        <p:cTn id="38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48360" y="4005360"/>
            <a:ext cx="93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Расположение видов на чертеже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(деталь призматической фор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Обратит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 сверху располагается снизу от вида сперед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Вид спе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43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35733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803280" y="4076640"/>
            <a:ext cx="1081080" cy="720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00000">
            <a:off x="6840000" y="2456640"/>
            <a:ext cx="863280" cy="503280"/>
          </a:xfrm>
          <a:custGeom>
            <a:avLst/>
            <a:gdLst>
              <a:gd name="textAreaLeft" fmla="*/ 107640 w 863280"/>
              <a:gd name="textAreaRight" fmla="*/ 755640 w 863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4365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2637000"/>
            <a:ext cx="93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2781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4076640"/>
            <a:ext cx="576360" cy="14436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4076640"/>
            <a:ext cx="576360" cy="35892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3999800">
            <a:off x="7561080" y="5481360"/>
            <a:ext cx="1008000" cy="36036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32948E-006 L -0.05121 -0.08393 E">
                                      <p:cBhvr>
                                        <p:cTn id="47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8.67052E-007 L 0.00417 0.13642 E">
                                      <p:cBhvr>
                                        <p:cTn id="51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48360" y="4005360"/>
            <a:ext cx="93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Расположение видов на чертеже</a:t>
            </a:r>
            <a:br>
              <a:rPr sz="3200"/>
            </a:br>
            <a:r>
              <a:rPr b="0" i="1" lang="en-US" sz="3200" spc="-1" strike="noStrike">
                <a:solidFill>
                  <a:srgbClr val="990000"/>
                </a:solidFill>
                <a:latin typeface="Arial"/>
              </a:rPr>
              <a:t>(деталь призматической фор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Обратит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 сверху располагается снизу от вида сперед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ид сле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рава от вида спере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Вид спе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57336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3280" y="4076640"/>
            <a:ext cx="1081080" cy="720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4365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2637000"/>
            <a:ext cx="93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2781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ffe5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4076640"/>
            <a:ext cx="576360" cy="14436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4076640"/>
            <a:ext cx="576360" cy="358920"/>
          </a:xfrm>
          <a:prstGeom prst="star5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247800">
            <a:off x="6773400" y="4322520"/>
            <a:ext cx="285840" cy="22536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4508640"/>
            <a:ext cx="976320" cy="360360"/>
          </a:xfrm>
          <a:custGeom>
            <a:avLst/>
            <a:gdLst>
              <a:gd name="textAreaLeft" fmla="*/ 122040 w 976320"/>
              <a:gd name="textAreaRight" fmla="*/ 854280 w 9763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7080" y="2637000"/>
            <a:ext cx="50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247800">
            <a:off x="6908040" y="2748600"/>
            <a:ext cx="434880" cy="3542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10800"/>
                </a:moveTo>
                <a:lnTo>
                  <a:pt x="24649" y="3794"/>
                </a:lnTo>
                <a:lnTo>
                  <a:pt x="246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6.7052E-006 L 0.29133 -0.02103 E">
                                      <p:cBhvr>
                                        <p:cTn id="56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17:02Z</dcterms:created>
  <dc:creator>Татьяна</dc:creator>
  <dc:description/>
  <dc:language>en-US</dc:language>
  <cp:lastModifiedBy>Татьяна</cp:lastModifiedBy>
  <dcterms:modified xsi:type="dcterms:W3CDTF">2006-11-27T16:08:46Z</dcterms:modified>
  <cp:revision>5</cp:revision>
  <dc:subject/>
  <dc:title>Слайд 1</dc:title>
</cp:coreProperties>
</file>