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E54-E6D1-47A2-8CD2-7EA57D1A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E18-4C8F-4BDE-BD07-A07DCA89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6D4-A34F-49E1-9B4E-19D27A8C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42A-5E9C-4C5E-A268-30E42EBE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4E0-B591-41C6-BA25-7901ECC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826-C37D-4DE3-A7DC-730A662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35B-BCE4-43A6-87E7-E5C4D3A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095-194A-47D8-B45A-E322843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6C8-B7CE-4BD2-A305-67764F1D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682-C279-4C9A-918C-A3F7B99E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82A-ADF6-4D4D-B264-8434B712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37C-B776-49F8-8B07-CD6DE7C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5A8-2762-4DDF-825B-94FDE6543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7;&#1086;&#1076;&#1077;&#1088;&#1078;&#1072;&#1085;&#1080;&#1077;.ppt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Понятие – «проекц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ОО Технология,  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989000"/>
            <a:ext cx="756108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Элементы  графиче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рамот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Homepage"/>
          <p:cNvSpPr/>
          <p:nvPr/>
        </p:nvSpPr>
        <p:spPr>
          <a:xfrm>
            <a:off x="7093080" y="4437000"/>
            <a:ext cx="1361880" cy="1876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4508640"/>
            <a:ext cx="1368720" cy="720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нятие «проекция» произошло от латинского слова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ojecti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бросание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екцией называется изображение какого – либо предмета на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5157720"/>
            <a:ext cx="1441440" cy="1224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5805360"/>
            <a:ext cx="358560" cy="576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797360"/>
            <a:ext cx="1368360" cy="720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411280" y="4508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58920" y="522936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158000">
            <a:off x="2700000" y="4581360"/>
            <a:ext cx="493560" cy="87480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4581360"/>
            <a:ext cx="142920" cy="432000"/>
          </a:xfrm>
          <a:prstGeom prst="cube">
            <a:avLst>
              <a:gd name="adj" fmla="val 2500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797360"/>
            <a:ext cx="358920" cy="3589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cument"/>
          <p:cNvSpPr/>
          <p:nvPr/>
        </p:nvSpPr>
        <p:spPr>
          <a:xfrm>
            <a:off x="4859280" y="4508640"/>
            <a:ext cx="1382760" cy="1871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Homepage"/>
          <p:cNvSpPr/>
          <p:nvPr/>
        </p:nvSpPr>
        <p:spPr>
          <a:xfrm>
            <a:off x="4859280" y="4508640"/>
            <a:ext cx="1362240" cy="1876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502000">
            <a:off x="2916360" y="5661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9306E-006 L 0.1592 -0.07722 E">
                                      <p:cBhvr>
                                        <p:cTn id="211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Проек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правилам черчения предметы изображают с помощью проекций, которые называют видам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вный вид (чаще всего – вид спереди); вид сверху; вид снизу; вид слева; вид спра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чертеже следует поместить столько проекций (видов), сколько необходимо для полного представления о форме и строении изображаемог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2781360"/>
            <a:ext cx="1224000" cy="0"/>
          </a:xfrm>
          <a:prstGeom prst="line">
            <a:avLst/>
          </a:prstGeom>
          <a:ln cap="rnd" w="381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5472720" y="4975920"/>
            <a:ext cx="934920" cy="288720"/>
          </a:xfrm>
          <a:prstGeom prst="flowChartInputOutpu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Расположение видов на чертеже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деталь призматической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Главный вид (вид спере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ид свер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557360"/>
            <a:ext cx="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789360"/>
            <a:ext cx="820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5724360" y="4364640"/>
            <a:ext cx="1873440" cy="1368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341360"/>
            <a:ext cx="6120000" cy="0"/>
          </a:xfrm>
          <a:prstGeom prst="line">
            <a:avLst/>
          </a:prstGeom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4724280"/>
            <a:ext cx="144000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4869000"/>
            <a:ext cx="719280" cy="50472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2060640"/>
            <a:ext cx="158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2421000"/>
            <a:ext cx="719280" cy="50472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4646000">
            <a:off x="6200640" y="3887640"/>
            <a:ext cx="846360" cy="1224000"/>
          </a:xfrm>
          <a:prstGeom prst="parallelogram">
            <a:avLst>
              <a:gd name="adj" fmla="val 6856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4437000"/>
            <a:ext cx="1008360" cy="21600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458136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653000"/>
            <a:ext cx="1008000" cy="7207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3141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314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959800">
            <a:off x="5724360" y="4652640"/>
            <a:ext cx="287640" cy="7700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206064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959800">
            <a:off x="5866920" y="2276640"/>
            <a:ext cx="790560" cy="60156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Вид с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06064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141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948E-006 L -0.48038 -0.36716 E">
                                      <p:cBhvr>
                                        <p:cTn id="29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6458 0.07352 E">
                                      <p:cBhvr>
                                        <p:cTn id="33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3988E-006 L 0.04723 -0.36161 E">
                                      <p:cBhvr>
                                        <p:cTn id="38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48360" y="4005360"/>
            <a:ext cx="93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Расположение видов на чертеже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деталь призматической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Обратит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 сверху располагается снизу от вида сперед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Вид сп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43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5733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03280" y="4076640"/>
            <a:ext cx="108108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00000">
            <a:off x="6840000" y="2456640"/>
            <a:ext cx="863280" cy="503280"/>
          </a:xfrm>
          <a:custGeom>
            <a:avLst/>
            <a:gdLst>
              <a:gd name="textAreaLeft" fmla="*/ 107640 w 863280"/>
              <a:gd name="textAreaRight" fmla="*/ 755640 w 86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4365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2637000"/>
            <a:ext cx="93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2781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076640"/>
            <a:ext cx="576360" cy="14436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4076640"/>
            <a:ext cx="576360" cy="3589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3999800">
            <a:off x="7561080" y="5481360"/>
            <a:ext cx="1008000" cy="36036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32948E-006 L -0.05121 -0.08393 E">
                                      <p:cBhvr>
                                        <p:cTn id="47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8.67052E-007 L 0.00417 0.13642 E">
                                      <p:cBhvr>
                                        <p:cTn id="51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48360" y="4005360"/>
            <a:ext cx="93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Расположение видов на чертеже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деталь призматической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Обратит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 сверху располагается снизу от вида сперед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 сле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рава от вида спере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Вид сп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5733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3280" y="4076640"/>
            <a:ext cx="108108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4365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637000"/>
            <a:ext cx="93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2781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4076640"/>
            <a:ext cx="576360" cy="14436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4076640"/>
            <a:ext cx="576360" cy="3589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247800">
            <a:off x="6773400" y="4322520"/>
            <a:ext cx="285840" cy="22536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4508640"/>
            <a:ext cx="976320" cy="360360"/>
          </a:xfrm>
          <a:custGeom>
            <a:avLst/>
            <a:gdLst>
              <a:gd name="textAreaLeft" fmla="*/ 122040 w 976320"/>
              <a:gd name="textAreaRight" fmla="*/ 854280 w 9763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2637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247800">
            <a:off x="6908040" y="2748600"/>
            <a:ext cx="434880" cy="354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10800"/>
                </a:moveTo>
                <a:lnTo>
                  <a:pt x="24649" y="3794"/>
                </a:lnTo>
                <a:lnTo>
                  <a:pt x="246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7052E-006 L 0.29133 -0.02103 E">
                                      <p:cBhvr>
                                        <p:cTn id="56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17:02Z</dcterms:created>
  <dc:creator>Татьяна</dc:creator>
  <dc:description/>
  <dc:language>en-US</dc:language>
  <cp:lastModifiedBy>Татьяна</cp:lastModifiedBy>
  <dcterms:modified xsi:type="dcterms:W3CDTF">2006-11-27T16:08:46Z</dcterms:modified>
  <cp:revision>5</cp:revision>
  <dc:subject/>
  <dc:title>Слайд 1</dc:title>
</cp:coreProperties>
</file>